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93D-C3C6-415F-87ED-7C557332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27B-7D5C-4833-8B8B-18B48FF7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D09-AD75-4415-B57C-3784AE9F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A3F-EAB3-47C4-BDB2-3661B019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7774-D9B4-4CA3-9B21-2AFE2ADD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0C9E-A1E7-400C-A4C6-B940655B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1626-7887-4676-93E2-3056A8F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66A3-CE8E-4BE3-A6AE-1BB0746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BFDF-EDDC-4385-BF21-7D9FE30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247-88A2-4986-8D6B-0D8BBEC2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B6BD-EA45-4836-A7DD-60CB391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BE3-6353-4985-8BE6-9DF045A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3A0E-32BA-4079-8368-3F7B2CF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A2F1-EB27-4BE4-B2FE-C09E5CF6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A455-D84D-4A80-B9A9-2FB27767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388A-33CB-4479-93CD-69661F61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EFC3-ECC8-497C-91FC-F07BBDE3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7B4-432C-4570-9315-2A129DC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EAD-3EAE-4E28-96B0-A684522C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DA7-4E9C-408D-838A-80C4221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813-68A6-4E8D-831E-5E629760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D93-63FC-489D-8B97-708869D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052-2218-497F-86EA-CBF79CD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C8D-9324-4011-8020-161B5111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EF6-6E44-4C43-9BA1-2E658DEC54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28F7-0C14-4591-A7EB-92E2691DE8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День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родного языка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Стенка на стенк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025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ле этого он выполнил упражнени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.е. вставил гласные буквы вместо точек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рядом написал проверочные слова. Вот что у него получилос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81360"/>
            <a:ext cx="769608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ратарь ВЫТАЛКНУЛ (выт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кивать) мяч НОГОЙ (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ка). Брат ОПАЗДАЛ (оп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ывать) к ВЕЧЕРНЕМУ (в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) ПОЕЗДУ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ить). Мы внимательно РАССМАТРЕЛИ (рассм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ивать) ДОМАШНЕЕ (д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) зад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том Миша обратился к свое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ршей сестре, семикласснице Лиде, чтобы она проверила, правильно л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полнена раб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Ты все глаголы написал с ошибками, -сердито сказала Лида, заглянув в тетрадь. –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Выт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лкну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т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л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оп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зда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п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здн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рассм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тр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от слова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см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Comic Sans MS"/>
              </a:rPr>
              <a:t>о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три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Вот как нужно проверять ударение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иша вытаращил глаза от удивления и воскликну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631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т так номер! Ты поставила под                ударение – у тебя везде о получилось, где у меня а написано. Но я ведь тоже проверял ударением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Значит, неправильно проверял! – возразила Ли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4581360"/>
            <a:ext cx="769608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А как бы вы решили этот спор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02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Задание №2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очему ребята не поняли друг друг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бята в лагере участвовали в военной игре. Миша был назначен разведчиком. В дупле старого дуба он оставил записку, в которой был зашифрованны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кст, а внизу припис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Спишите. Бегите к огородам, там в шалаше будет кот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025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бята принялись переписывать текст, потом побежали к шалашу, стали искать кота, но не нашли, потеряли много времени и проиграли игру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3284640"/>
            <a:ext cx="769608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чером у костра они напали на Миш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все ты! Заставил нас списывать текст, искать какого-то к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02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го кота? – оправдывался Миша. – Я хотел только сказать, чтобы вы поторопились и что в шалаше находится шифр к моей записк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бята все поняли и расхохотали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69608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Какие ошибки допустил Миша в своей записк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Кулачный бой.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Иллюстрация Виктора Васнецова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к поэме М.Лермонтова 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«Песнь о купце Калашникове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89240" y="1828800"/>
            <a:ext cx="268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Один на один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Битва капитанов коман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диктанте по русскому языку ученики написали одно и то же предложение по-раз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дни написали так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Перед школой на клумбе росли 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вперемежку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астры и маргаритки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угие написали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Перед школой на клумбе росли 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вперемешку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астры и маргарит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веряя работы, учитель никому в выделенных словах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одчеркнул ошиб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328464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Докажите, что никт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из писавших не ошиб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рекрестный б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ждая из команд задает по три вопроса своим соперник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1 коман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корень в словах разуть, обу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вы думаете, слова ведьма и невежда имеют один и тот же корен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ть ли окончание в слове сара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Широкая Маслен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72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В Древней Руси часто проводились кулачные бои. Существовали они в России, начиная с глубокой древности до начала XX века. Помимо развлечения, кулачный бой был своеобразной школой войны, развивающей у народа навыки, необходимые для защиты Родины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94400" y="1828800"/>
            <a:ext cx="360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корень в словах  приучить, нау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вы думаете, слова нос и поднос имеют один и тот же корен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ть ли суффикс в слове побережь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312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Ближний б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Правила бо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ы получают одно задание. Первой отвечает та команда, которая быстрее найдет ответ на вопрос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Какой глагол в русском языке употребляется с приставкам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Comic Sans MS"/>
              </a:rPr>
              <a:t>при-, до-, за-, над-, от-, с-, из-, раз-,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но без приставки не может жить самостоятельно и не имеет смысл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укопашная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то и как прочте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зьмем прилагательное </a:t>
            </a:r>
            <a:r>
              <a:rPr b="0" lang="ru-RU" sz="4000" spc="-1" strike="noStrike">
                <a:solidFill>
                  <a:srgbClr val="990033"/>
                </a:solidFill>
                <a:latin typeface="Comic Sans MS"/>
              </a:rPr>
              <a:t>под…о…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Уче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подроб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Лесник и смолоку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подсоч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 надрез на дереве для добывания сока или смолы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Учетчик, финансовый инспектор, секретарь сельсове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подвор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учет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Торговый работ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подвоз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товар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ак, по вашему мнению, прочтут сло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33"/>
                </a:solidFill>
                <a:latin typeface="Comic Sans MS"/>
              </a:rPr>
              <a:t>под…о…ны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рач  -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кожный (нарыв, слой жир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курор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лож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озяйственник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соб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ивотновод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сосный (поросенок, теленок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знец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ковный (гвозд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елезнодорожник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ходный (пут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пер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копный (хо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узчик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носный (крюк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итель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подпорный (бру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ряк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одводный (риф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стух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одножный (корм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граф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одгорный (родник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пожник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одбойный (гвоздь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как войны на Руси были частым явлением, каждому мужчине следовало владеть ратными навык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чиная с самого раннего возраста, дети с помощью разнообразных игр, таких как «Царь горы», «На ледяной горке» и «Куча-мала», борьбы и метания постепенно приучались к тому, что нужно уметь постоять за Родину, семью и самих себ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дети становились взрослыми, игры перерастали в настоящие поединки, известные как «кулачные бо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зведка бо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Правила бо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гроки обеих команд поочередно отвечают на вопросы ведущего. Выигрывает команда, набравшая большее количество очков. Она и получает право первой ответить в следующем «бою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опрос - 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окончани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основа слов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ень слова – эт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ставка – эт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ффиксом называе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нокоренными словами называю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квариум, аквамарин, акваланг, акварель. Что общего в этих слов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63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опрос - 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) Определите, какие из данных слов имеют приставку по-, приставку под- или приставку подо- и какие вовсе не имеют приставки: подосинови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) подорожни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) подоконни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) подосадоват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) подошв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) подолбит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) подождат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опрос - отв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) подовый (пирог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) подоит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) подоходн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) подозрени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) пододеяльни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) Подберите родственные слова для проверки непроизносимых согласных 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не следующих слов: праздн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) окрестны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2) присутствов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рвый б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Бой» начинает та команда, которая выиграла в предыдущем туре иг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Задание №1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Кто же из них прав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6000" y="1844280"/>
            <a:ext cx="65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иша, ученик 5 класса, учил правило о правописании безударных гласны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буква глас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звала сомнени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ы немедленно 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вь под удар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9:19:55Z</dcterms:created>
  <dc:creator>***</dc:creator>
  <dc:description/>
  <dc:language>en-US</dc:language>
  <cp:lastModifiedBy>***</cp:lastModifiedBy>
  <dcterms:modified xsi:type="dcterms:W3CDTF">2012-02-26T15:34:47Z</dcterms:modified>
  <cp:revision>9</cp:revision>
  <dc:subject/>
  <dc:title>День  родного языка</dc:title>
</cp:coreProperties>
</file>