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1B5-D9B4-45AE-B649-88B3EAFF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1BE-3834-45F4-9072-7DABC603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980-35DF-4214-AAC0-670BB099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BB6-8C82-4B6E-9370-0D223072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35A-B78E-4458-9A2C-DBE912B2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8E7-8DAE-44EE-B1D0-640D0A6B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12E-1782-436B-A210-49B034D6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C27-7BDE-44AD-B542-2CF2AA2F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A17-E2D7-4FC3-884D-5AFE144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E12-9426-4066-A62E-FD6CBE99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8C4-2E1A-4F6D-B238-C60E6523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CA8-A84C-4795-B0E1-14ACC723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D950-BFD9-4234-9AE1-9325DFBFA3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тро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СТА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к разработала учитель МБОУСОШ №1 им. Колесника А.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евич Наталья Анатольев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. Отрадной Отрадненского района Краснодарского кр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1371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2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60948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м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0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м/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ка знаний обучающихся по теме «Электростатик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ка учащихся к сдаче ЕГЭ по физ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1371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2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61960" y="60948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Две сферы равного радиуса имеют заряды +10Кл и –2 Кл соответственно. Сферы привели во взаимодействие и развели в стороны. Каков заряд на каждой из сфер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заряды на сферах  не изменят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по 6 Кл на каждо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на первой 2 Кл, на второй  -- 10 К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по 4 Кл на кажд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Двум соединенным нейтральным стержням сообщили  заряд –16 Кл и развели в стороны. Каков заряд на каждом стержн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на первой 16 Кл, на второй  -- 16 К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по каждом по -16 Кл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по –8 Кл на кажд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заряды нейтрализовали друг друга, т.к. в начала стержни были электронейтраль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1371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2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6248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акова сила притяжения точечных заря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мКл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4 мКл, находящихся на расстоянии 12 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1000 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600 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900 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750 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 какой силой взаимодействуют  два заряда по 2 Кл каждый, находящиеся на расстоянии 6 км друг от друга в вакуум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1 к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18000 Н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9 к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4000 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12952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3200" y="533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Два разноименных заря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Q, q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q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агаются на некотором расстоянии друг от дру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3200400" y="1219320"/>
          <a:ext cx="472428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19320"/>
                    <a:ext cx="472428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21"/>
          <p:cNvSpPr/>
          <p:nvPr/>
        </p:nvSpPr>
        <p:spPr>
          <a:xfrm>
            <a:off x="2743200" y="25146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кую точку надо поместить третий отрицательный заряд, чтобы он находился в равновес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1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2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3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4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514600" y="3809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Электрон движется между противоположно заряженными металлическими пластинами. Какая из стрелок указывает направление силы, действующие на электрон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666880" y="59436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Б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6"/>
          <p:cNvGraphicFramePr/>
          <p:nvPr/>
        </p:nvGraphicFramePr>
        <p:xfrm>
          <a:off x="3200400" y="1219320"/>
          <a:ext cx="4724280" cy="11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219320"/>
                    <a:ext cx="472428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46"/>
          <p:cNvGraphicFramePr/>
          <p:nvPr/>
        </p:nvGraphicFramePr>
        <p:xfrm>
          <a:off x="4191120" y="4724280"/>
          <a:ext cx="3581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4724280"/>
                    <a:ext cx="3581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1371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2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6248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Какая из приведенных ниже физических величин является скалярной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напряженность по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Б) Сила Кул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Потенциа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Г) Скор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        В международной системе единиц (СИ) единица измерения заряда определяется по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…силе взаимодействия двух неподвижных заря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…величине отклонения движущегося заряда в магнитном по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…ускорению, приобретаемому зарядом в электрическом по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…силе тока и времени, в течение которого он протекал через проводни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1371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2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5120" y="3805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работу электрического поля при перемещении заряда из точки А в точки В, С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Работы на отрезках АВ, АС,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, так как точ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 С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випотенциальной поверх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на всех отрезках равны нулю, т.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очки лежат на одной эквипотенциальной поверх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Работы соответствует отрезкам АВ и АЕ равны, так как эти отрезки имеют одинаковую длин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боты на отрезках АВ  и АС равны, так одинаковы длины этих отрез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ть работу электрического поля при перемещении заряда из точки А в точки В, С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Наибольшая работа соответствует отрезку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этот отрезок самый длинн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именьшая работа на отрезке АВ, так как этот отрезок самый коротк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Работы на отрезках АВ, АС,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, так как точки В, С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т эквипотенциальной поверх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боты на отрезках АВ  и АС равны, так одинаковы длины этих отрезк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609480" y="990720"/>
          <a:ext cx="222912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2229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"/>
          <p:cNvGraphicFramePr/>
          <p:nvPr/>
        </p:nvGraphicFramePr>
        <p:xfrm>
          <a:off x="609480" y="3962520"/>
          <a:ext cx="207180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962520"/>
                    <a:ext cx="2071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1371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2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120" y="3805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акой величины заряд сосредоточен на каждой обкладке конденсатора емкостью 10 мк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яженного до напряжения 100В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онденсатор емкостью 0,5 мкФ накопил на каждой обкладке заряд  0,6 мкКл. Какова разность потенциалов между обкладками этого конденсатор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1371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№2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120" y="3805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мещении положительного электрического заряда 0,2 Кл в однородном электрическом поле напряженностью 250 В/м по направлению вектора напряженности из точки А в точку В это поле совершает работу 100 Дж. Каково расстояние между точками А и В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им ускорением начнет двигаться пылинка массой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6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, попавшая в однородное электрическое поле напряженностью 1000 В/м, если на ней находится заряд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? Ответ выразить в единицах 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7:31:32Z</dcterms:created>
  <dc:creator>Наталья</dc:creator>
  <dc:description/>
  <dc:language>en-US</dc:language>
  <cp:lastModifiedBy>кабинет11</cp:lastModifiedBy>
  <dcterms:modified xsi:type="dcterms:W3CDTF">2013-02-26T14:57:40Z</dcterms:modified>
  <cp:revision>4</cp:revision>
  <dc:subject/>
  <dc:title>Контрольная работа</dc:title>
</cp:coreProperties>
</file>