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ACD-1956-44F8-9969-5791534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E49-E238-4B10-B13D-705C28C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738-5312-499A-B780-F03C3F3B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B5E-2180-4297-BB88-AA43AB9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D6B1-BC86-4D3C-9CE0-4DC46DDE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59C-C3A6-4D98-B9E8-5BC45B4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859-27B8-4E23-8890-350FE26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418-947E-4D71-BA55-74A8FBC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20D-2D0B-4F24-AF64-DFEDADA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0E1F-DECF-4E77-B392-2F4F7D5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293-EC79-49E8-903C-2B48711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622-833A-4539-82AA-5A53AE1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9C1-B2A2-412C-8CA6-65B9268D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6E53-01CC-4B74-86E9-DE89678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BC07-9DAC-4EA0-B575-224F265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1E71-19A7-49BD-860B-556CD0DD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6C51-AC67-4B75-BB1D-9B04271F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174-02DE-481F-B650-23B093F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AD1-106F-440B-8082-45ED8FA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1BB-6CDD-4D64-A113-D41A337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F3B-DD96-4D1D-A0D6-5368E228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E7E-3831-4A79-B7EC-270AA71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E01-8785-44C1-A3D8-1E899C5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376-1563-4C24-9EB1-8848810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CDD-DAFA-44B5-95D1-503038A375E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62F-A8E9-40F3-9B7D-33A96CFD556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4000" y="981000"/>
            <a:ext cx="85820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50000">
                      <a:srgbClr val="00172f"/>
                    </a:gs>
                    <a:gs pos="100000">
                      <a:srgbClr val="003366"/>
                    </a:gs>
                  </a:gsLst>
                  <a:lin ang="13500000"/>
                </a:gradFill>
                <a:latin typeface="Bookman Old Style"/>
              </a:rPr>
              <a:t>ФОРМИР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50000">
                    <a:srgbClr val="00172f"/>
                  </a:gs>
                  <a:gs pos="100000">
                    <a:srgbClr val="003366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50000">
                      <a:srgbClr val="00172f"/>
                    </a:gs>
                    <a:gs pos="100000">
                      <a:srgbClr val="003366"/>
                    </a:gs>
                  </a:gsLst>
                  <a:lin ang="13500000"/>
                </a:gradFill>
                <a:latin typeface="Bookman Old Style"/>
              </a:rPr>
              <a:t>ДРЕВНЕРУССКОГО ГОСУДАР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50000">
                    <a:srgbClr val="00172f"/>
                  </a:gs>
                  <a:gs pos="100000">
                    <a:srgbClr val="003366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32400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134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39" h="21600">
                <a:moveTo>
                  <a:pt x="134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39" h="21600">
                <a:moveTo>
                  <a:pt x="10893" y="8224"/>
                </a:moveTo>
                <a:lnTo>
                  <a:pt x="14758" y="8224"/>
                </a:lnTo>
                <a:lnTo>
                  <a:pt x="14758" y="15221"/>
                </a:lnTo>
                <a:lnTo>
                  <a:pt x="16046" y="15221"/>
                </a:lnTo>
                <a:lnTo>
                  <a:pt x="16046" y="16144"/>
                </a:lnTo>
                <a:lnTo>
                  <a:pt x="10893" y="16144"/>
                </a:lnTo>
                <a:lnTo>
                  <a:pt x="10893" y="15221"/>
                </a:lnTo>
                <a:lnTo>
                  <a:pt x="12182" y="15221"/>
                </a:lnTo>
                <a:lnTo>
                  <a:pt x="12182" y="9129"/>
                </a:lnTo>
                <a:lnTo>
                  <a:pt x="10893" y="9129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e4f2"/>
                                      </p:to>
                                    </p:animClr>
                                    <p:set>
                                      <p:cBhvr>
                                        <p:cTn id="1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2746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КНЯЗЬ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3933360"/>
            <a:ext cx="822960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 процессе формирования раннефеодального государства у славян происходило постепенное объединение прежних племенных княжеств под единой княжеской властью. Княжеская власть, первоначально выборная из представителей родоплеменной знати, постепенно сосредотачивается в руках представителей одного род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981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Глава государства у славян и некоторых других народов, позднее – дворянский титу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2" name="Скругленный прямоугольник 5"/>
          <p:cNvGrpSpPr/>
          <p:nvPr/>
        </p:nvGrpSpPr>
        <p:grpSpPr>
          <a:xfrm>
            <a:off x="5508720" y="404640"/>
            <a:ext cx="2792160" cy="3529080"/>
            <a:chOff x="5508720" y="404640"/>
            <a:chExt cx="2792160" cy="3529080"/>
          </a:xfrm>
        </p:grpSpPr>
        <p:pic>
          <p:nvPicPr>
            <p:cNvPr id="173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508720" y="404640"/>
              <a:ext cx="27921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653440" y="559800"/>
              <a:ext cx="2502000" cy="32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23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Первоначально князь являлся племенным вождем, предводителем племени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56000" y="259920"/>
            <a:ext cx="38876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Путь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«из варяг в греки»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03280" y="1052640"/>
            <a:ext cx="3961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«…и из Грек по Днепру, и верх Днепра волок по Ловоти, и по Ловоти внити в Илмерь озеро великое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з него же озера потечеть Волхов и втечеть в озеро великое Нево и того озера внидеть устье в море Варяжское;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потому морю внити даже и до Рима, а от Рима прити по тому же морю к Царюграду и от Царяграда прити в Понт море, в неже втечеть Днепр река.»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"Ипатьевская летопись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59280" y="55166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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229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спользуя текст документа и карту,  составь путеводитель торгового пути «из варяг в гре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781200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9569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7724" y="3794"/>
                </a:lnTo>
                <a:lnTo>
                  <a:pt x="7724" y="17806"/>
                </a:lnTo>
                <a:lnTo>
                  <a:pt x="6061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7358" y="10800"/>
                </a:moveTo>
                <a:lnTo>
                  <a:pt x="6852" y="17806"/>
                </a:lnTo>
                <a:lnTo>
                  <a:pt x="6852" y="3794"/>
                </a:lnTo>
                <a:close/>
              </a:path>
              <a:path fill="darken" w="27718" h="21600">
                <a:moveTo>
                  <a:pt x="19203" y="3794"/>
                </a:moveTo>
                <a:lnTo>
                  <a:pt x="19203" y="17806"/>
                </a:lnTo>
                <a:lnTo>
                  <a:pt x="20865" y="17806"/>
                </a:lnTo>
                <a:lnTo>
                  <a:pt x="20865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ВНУТРЕННЯЯ ОРГАНИЗАЦИЯ ДРЕВНЕРУССКОГО ГОСУДАРСТВА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1557360"/>
            <a:ext cx="3887640" cy="459720"/>
          </a:xfrm>
          <a:prstGeom prst="rect">
            <a:avLst/>
          </a:prstGeom>
          <a:noFill/>
          <a:ln w="2844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904"/>
                </a:solidFill>
                <a:latin typeface="Times New Roman"/>
              </a:rPr>
              <a:t>КНЯЗ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2276640"/>
            <a:ext cx="3024000" cy="459720"/>
          </a:xfrm>
          <a:prstGeom prst="rect">
            <a:avLst/>
          </a:prstGeom>
          <a:noFill/>
          <a:ln w="2844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ДРУЖ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3141720"/>
            <a:ext cx="2016360" cy="45972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МЛАДШ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41720"/>
            <a:ext cx="2016000" cy="45972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ТАРШ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365720"/>
            <a:ext cx="5256360" cy="459720"/>
          </a:xfrm>
          <a:prstGeom prst="rect">
            <a:avLst/>
          </a:prstGeom>
          <a:noFill/>
          <a:ln w="2844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ВЕЧЕ – НАРОДНОЕ СОБР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5084640"/>
            <a:ext cx="1656000" cy="64260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НАРОДНОЕ ОПОЛЧ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5229360"/>
            <a:ext cx="1655640" cy="36828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ТЫСЯЦ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5084640"/>
            <a:ext cx="1729080" cy="64260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СТАРЕЙ -ШИ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229360"/>
            <a:ext cx="1511280" cy="368280"/>
          </a:xfrm>
          <a:prstGeom prst="rect">
            <a:avLst/>
          </a:prstGeom>
          <a:noFill/>
          <a:ln w="9360">
            <a:solidFill>
              <a:srgbClr val="2a5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ОЕВ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371628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олюдье, военные пох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11640" y="2060640"/>
            <a:ext cx="0" cy="216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03280" y="2781360"/>
            <a:ext cx="431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2781360"/>
            <a:ext cx="43200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1844640"/>
            <a:ext cx="13687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6360" y="1844640"/>
            <a:ext cx="0" cy="27367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019640" y="4581360"/>
            <a:ext cx="57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0560" y="4869000"/>
            <a:ext cx="289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486900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486900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869000"/>
            <a:ext cx="5032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81200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9569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7724" y="3794"/>
                </a:lnTo>
                <a:lnTo>
                  <a:pt x="7724" y="17806"/>
                </a:lnTo>
                <a:lnTo>
                  <a:pt x="6061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7358" y="10800"/>
                </a:moveTo>
                <a:lnTo>
                  <a:pt x="6852" y="17806"/>
                </a:lnTo>
                <a:lnTo>
                  <a:pt x="6852" y="3794"/>
                </a:lnTo>
                <a:close/>
              </a:path>
              <a:path fill="darken" w="27718" h="21600">
                <a:moveTo>
                  <a:pt x="19203" y="3794"/>
                </a:moveTo>
                <a:lnTo>
                  <a:pt x="19203" y="17806"/>
                </a:lnTo>
                <a:lnTo>
                  <a:pt x="20865" y="17806"/>
                </a:lnTo>
                <a:lnTo>
                  <a:pt x="20865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ОБЪЕДИНЕНИЕ КИЕВА И НОВГОРОДА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1197000"/>
            <a:ext cx="19432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ОВГОР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862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1197000"/>
            <a:ext cx="1656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ИЕ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ве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2421000"/>
            <a:ext cx="172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РЮРИ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862-87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515772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АСКОЛЬ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ДИ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5013360"/>
            <a:ext cx="1368360" cy="64764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УБИ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5084640"/>
            <a:ext cx="172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ЛЕ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879-9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24000" y="4221000"/>
            <a:ext cx="1804680" cy="21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50920" y="2162160"/>
            <a:ext cx="1765080" cy="1735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5640" y="3645000"/>
            <a:ext cx="1296720" cy="1224000"/>
          </a:xfrm>
          <a:prstGeom prst="downArrowCallout">
            <a:avLst>
              <a:gd name="adj1" fmla="val 26488"/>
              <a:gd name="adj2" fmla="val 2648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ереда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ла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rcRect l="0" t="0" r="37100" b="0"/>
          <a:stretch/>
        </p:blipFill>
        <p:spPr>
          <a:xfrm>
            <a:off x="6084720" y="2060640"/>
            <a:ext cx="2808360" cy="3065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76720" y="981000"/>
            <a:ext cx="3024000" cy="51134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a0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лег объедини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Киев и Новгоро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904"/>
                </a:solidFill>
                <a:latin typeface="Times New Roman"/>
              </a:rPr>
              <a:t>882 г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Итог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было образован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государств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Киевская Ру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7451640" y="6308640"/>
            <a:ext cx="649440" cy="549360"/>
          </a:xfrm>
          <a:custGeom>
            <a:avLst/>
            <a:gdLst>
              <a:gd name="textAreaLeft" fmla="*/ 35280 w 649440"/>
              <a:gd name="textAreaRight" fmla="*/ 614160 w 649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16258" y="10800"/>
                </a:moveTo>
                <a:lnTo>
                  <a:pt x="5753" y="17806"/>
                </a:lnTo>
                <a:lnTo>
                  <a:pt x="5753" y="3794"/>
                </a:lnTo>
                <a:close/>
              </a:path>
              <a:path fill="darken" w="25518" h="21600">
                <a:moveTo>
                  <a:pt x="18103" y="3794"/>
                </a:moveTo>
                <a:lnTo>
                  <a:pt x="18103" y="17806"/>
                </a:lnTo>
                <a:lnTo>
                  <a:pt x="19766" y="17806"/>
                </a:lnTo>
                <a:lnTo>
                  <a:pt x="19766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ВЫВОДЫ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 конце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X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ека на землях восточных славян сложилось государство получившее название Русь. Оно появилось как закономерный результат изменений, произошедших во внутренней жизни восточнославянских племен. В древнерусском государстве сменились элементы родоплеменного у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6308640"/>
            <a:ext cx="649440" cy="549360"/>
          </a:xfrm>
          <a:custGeom>
            <a:avLst/>
            <a:gdLst>
              <a:gd name="textAreaLeft" fmla="*/ 35280 w 649440"/>
              <a:gd name="textAreaRight" fmla="*/ 614160 w 649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35328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2243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РЮРИК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082960" cy="2046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9640" y="836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imes New Roman"/>
              </a:rPr>
              <a:t>Легендарный варяг, призванный на княжение cлoвeнaми, кривичами, чудью и весью. Родоначальник Рюриковичей. Кн. Новгородский в 862-879 гг. + 879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88928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«Повесть временных лет» рассказывает так о Рюрике: В 859 году варяги из заморья брали дань с чуди, и со словен, и с кривичей, и с веси, а хазары брали дань с полян, северян и с вятичей. В 862 году изгнали варяг за море и не дали им дани, но начали сами собой владеть. И не было среди них правды, и встал род на род, и была у них усобица, и стали воевать сами с собой, и сказали они' себе: "Поищем себе князя, который бы владел нами и судил по праву". И пошли за море к варягам, к руси. Те варяги назывались-русью, подобно тому, как другие назывались свей (шведы), а иные - норманны и англы, а еще иные готландцы, -вот так и эти назывались. Сказали руси чудь, славяне, кривичи и весь: "Земля наша велика и обильна, а порядку в ней нет. Приходите княжишь и владеть нами". И избрались трое братьев со своими родами, и взяли с собой всю русь, и пришли к славянам. И сел старший Рюрик в Ладоге, а другой - Синеус - на Белоозере, а третий Трувор - в Изборске. И от тех варягов прозвалась Русская зем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1708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9260" y="10800"/>
                </a:moveTo>
                <a:lnTo>
                  <a:pt x="19766" y="3794"/>
                </a:lnTo>
                <a:lnTo>
                  <a:pt x="19766" y="17806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7415" y="3794"/>
                </a:lnTo>
                <a:lnTo>
                  <a:pt x="7415" y="17806"/>
                </a:lnTo>
                <a:lnTo>
                  <a:pt x="5753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ОЛЕГ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1708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9260" y="10800"/>
                </a:moveTo>
                <a:lnTo>
                  <a:pt x="19766" y="3794"/>
                </a:lnTo>
                <a:lnTo>
                  <a:pt x="19766" y="17806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7415" y="3794"/>
                </a:lnTo>
                <a:lnTo>
                  <a:pt x="7415" y="17806"/>
                </a:lnTo>
                <a:lnTo>
                  <a:pt x="5753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1863720" cy="2232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71640" y="134136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Первый исторический достоверный князь Киевской Руси. </a:t>
            </a: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(ум. 912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2766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 летописной легенде, родственник или воевода Рюрика. После смерти последнего стал новгородским князем в 879 и должен был позаботиться о малолетнем князе Игоре. В 882 хитростью овладел Киевом, убив правивших там Аскольда и Дира, сделав город столицей ("материю градом русским"). Подчинил многих славянских князей, установив им постоянную дань; успешно воевал с хазарами. В 907 совершил успешный поход на столицу Византии Константинополь. Византийский император заплатил О. огромный выкуп и заключил выгодный для Руси догов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16000" y="260280"/>
            <a:ext cx="2530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КИЙ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98100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й - легендарный основатель города Киева. Начальная летопись рассказывает, что в племени полян были три брата, Кий, Щек и Хорив и сестра их Лыбедва. Братья сидели на трех горах, построили город и назвали его, в честь старшего, Киевом. Далее, летопись передает другую легенду, будто Кий был перевозчиком на Днепре, и имя Киев произошло оттого, что говорили: "на перевоз на Киев". Летописец отвергает вторую легенду на том основании, что если бы Кий был перевозчиком, то не ходил бы к царю в Царьград, где он принял великую честь. Умер Кий по преданию в Киеве. Легенда о Кие возникла для объяснения происхождения названия Киев; некоторые, впрочем, готовы были видеть в Кие даже историческое лиц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608360" cy="2529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31708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9260" y="10800"/>
                </a:moveTo>
                <a:lnTo>
                  <a:pt x="19766" y="3794"/>
                </a:lnTo>
                <a:lnTo>
                  <a:pt x="19766" y="17806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7415" y="3794"/>
                </a:lnTo>
                <a:lnTo>
                  <a:pt x="7415" y="17806"/>
                </a:lnTo>
                <a:lnTo>
                  <a:pt x="5753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АСКОЛЬД И ДИР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125360"/>
            <a:ext cx="4464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кольд и Дир, первые киевские князья. Они были дружинниками Рюрика, ушли от него в Царьград вниз по Днепру, завладели по дороге Киевом и остались там княжить (862); в 866 году пошли на Царьград, но буря, поднявшаяся на море около города, благодаря молитве царя и патриарха Богородице, заставила их вернуться в Киев. В 882 году к Киеву с Севера пришел Олег  с Игорем, обманом захватил и убил А. и Д., оправдывая свой поступок тем, что они не принадлежат к княжескому ро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. был похоронен на горе Угорьской, Д. - у церкви св. Ири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>
            <a:lum contrast="24000"/>
          </a:blip>
          <a:srcRect l="0" t="0" r="37100" b="0"/>
          <a:stretch/>
        </p:blipFill>
        <p:spPr>
          <a:xfrm>
            <a:off x="4788000" y="1341360"/>
            <a:ext cx="4024080" cy="4392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72436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Аскольд и Дир в Киев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9260" y="10800"/>
                </a:moveTo>
                <a:lnTo>
                  <a:pt x="19766" y="3794"/>
                </a:lnTo>
                <a:lnTo>
                  <a:pt x="19766" y="17806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7415" y="3794"/>
                </a:lnTo>
                <a:lnTo>
                  <a:pt x="7415" y="17806"/>
                </a:lnTo>
                <a:lnTo>
                  <a:pt x="5753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55640" y="1125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Проверь себя! Выполни тест!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.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о главе тюркского Каганата находился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Цар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ага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мперато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.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бога грома Перуна верил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ун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иноугр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киф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.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вары в основном занимались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котоводство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орговле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оенными походам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0" y="1052280"/>
            <a:ext cx="435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Г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Столицей византийской империи был город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Константинопо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Казан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Рим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Е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Религия иудаизм получила распространени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 Тюркском каганат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 Визант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 Хаза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Ж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Язычниками был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Тюрк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олжские булгар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хазар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1052640"/>
            <a:ext cx="0" cy="5256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16258" y="10800"/>
                </a:moveTo>
                <a:lnTo>
                  <a:pt x="5753" y="17806"/>
                </a:lnTo>
                <a:lnTo>
                  <a:pt x="5753" y="3794"/>
                </a:lnTo>
                <a:close/>
              </a:path>
              <a:path fill="darken" w="25518" h="21600">
                <a:moveTo>
                  <a:pt x="18103" y="3794"/>
                </a:moveTo>
                <a:lnTo>
                  <a:pt x="18103" y="17806"/>
                </a:lnTo>
                <a:lnTo>
                  <a:pt x="19766" y="17806"/>
                </a:lnTo>
                <a:lnTo>
                  <a:pt x="19766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6308640"/>
            <a:ext cx="649440" cy="549360"/>
          </a:xfrm>
          <a:custGeom>
            <a:avLst/>
            <a:gdLst>
              <a:gd name="textAreaLeft" fmla="*/ 35280 w 649440"/>
              <a:gd name="textAreaRight" fmla="*/ 614160 w 649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ПРЕДПОСЫЛКИ ФОРМИРОВАНИЯ ДРЕВНЕРУССКОГО ГОСУДАРСТВА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Экономически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увеличение производительности труда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накопление богатств;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развитие торговл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Социальны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возникновение имущественного неравенства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ыделение знати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Политически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усиление роли военной знати - князь, дружина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Внешне политически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постоянное военное давление соседей - кочевники, варяг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451640" y="6308640"/>
            <a:ext cx="649440" cy="549360"/>
          </a:xfrm>
          <a:custGeom>
            <a:avLst/>
            <a:gdLst>
              <a:gd name="textAreaLeft" fmla="*/ 35280 w 649440"/>
              <a:gd name="textAreaRight" fmla="*/ 614160 w 649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16258" y="10800"/>
                </a:moveTo>
                <a:lnTo>
                  <a:pt x="5753" y="17806"/>
                </a:lnTo>
                <a:lnTo>
                  <a:pt x="5753" y="3794"/>
                </a:lnTo>
                <a:close/>
              </a:path>
              <a:path fill="darken" w="25518" h="21600">
                <a:moveTo>
                  <a:pt x="18103" y="3794"/>
                </a:moveTo>
                <a:lnTo>
                  <a:pt x="18103" y="17806"/>
                </a:lnTo>
                <a:lnTo>
                  <a:pt x="19766" y="17806"/>
                </a:lnTo>
                <a:lnTo>
                  <a:pt x="19766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2421000"/>
            <a:ext cx="215640" cy="358560"/>
          </a:xfrm>
          <a:prstGeom prst="downArrow">
            <a:avLst>
              <a:gd name="adj1" fmla="val 50000"/>
              <a:gd name="adj2" fmla="val 41569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78936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4869000"/>
            <a:ext cx="215640" cy="358560"/>
          </a:xfrm>
          <a:prstGeom prst="downArrow">
            <a:avLst>
              <a:gd name="adj1" fmla="val 50000"/>
              <a:gd name="adj2" fmla="val 41569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ТЕОРИИ ВОЗНИКНОВЕНИЯ ДРЕВНЕРУССКОГО ГОСУДАРСТВА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8353440" cy="53784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451640" y="6308640"/>
            <a:ext cx="649440" cy="549360"/>
          </a:xfrm>
          <a:custGeom>
            <a:avLst/>
            <a:gdLst>
              <a:gd name="textAreaLeft" fmla="*/ 35280 w 649440"/>
              <a:gd name="textAreaRight" fmla="*/ 614160 w 649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24400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16258" y="10800"/>
                </a:moveTo>
                <a:lnTo>
                  <a:pt x="5753" y="17806"/>
                </a:lnTo>
                <a:lnTo>
                  <a:pt x="5753" y="3794"/>
                </a:lnTo>
                <a:close/>
              </a:path>
              <a:path fill="darken" w="25518" h="21600">
                <a:moveTo>
                  <a:pt x="18103" y="3794"/>
                </a:moveTo>
                <a:lnTo>
                  <a:pt x="18103" y="17806"/>
                </a:lnTo>
                <a:lnTo>
                  <a:pt x="19766" y="17806"/>
                </a:lnTo>
                <a:lnTo>
                  <a:pt x="19766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ОБРАЗОВАНИЕ ЦЕНТРОВ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ДРЕВНЕРУССКОГО  ГОСУДАРСТВА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59636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9260" y="10800"/>
                </a:moveTo>
                <a:lnTo>
                  <a:pt x="19766" y="3794"/>
                </a:lnTo>
                <a:lnTo>
                  <a:pt x="19766" y="17806"/>
                </a:lnTo>
                <a:close/>
              </a:path>
              <a:path fill="darken" w="25518" h="21600">
                <a:moveTo>
                  <a:pt x="5753" y="3794"/>
                </a:moveTo>
                <a:lnTo>
                  <a:pt x="7415" y="3794"/>
                </a:lnTo>
                <a:lnTo>
                  <a:pt x="7415" y="17806"/>
                </a:lnTo>
                <a:lnTo>
                  <a:pt x="5753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317080" y="6308640"/>
            <a:ext cx="649080" cy="549360"/>
          </a:xfrm>
          <a:custGeom>
            <a:avLst/>
            <a:gdLst>
              <a:gd name="textAreaLeft" fmla="*/ 35280 w 649080"/>
              <a:gd name="textAreaRight" fmla="*/ 613800 w 649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518" h="21600">
                <a:moveTo>
                  <a:pt x="0" y="0"/>
                </a:moveTo>
                <a:lnTo>
                  <a:pt x="25518" y="0"/>
                </a:lnTo>
                <a:lnTo>
                  <a:pt x="25518" y="21600"/>
                </a:lnTo>
                <a:lnTo>
                  <a:pt x="0" y="21600"/>
                </a:lnTo>
                <a:close/>
              </a:path>
              <a:path fill="lightenLess" w="25518" h="21600">
                <a:moveTo>
                  <a:pt x="0" y="0"/>
                </a:moveTo>
                <a:lnTo>
                  <a:pt x="25518" y="0"/>
                </a:lnTo>
                <a:lnTo>
                  <a:pt x="24118" y="1400"/>
                </a:lnTo>
                <a:lnTo>
                  <a:pt x="1400" y="1400"/>
                </a:lnTo>
                <a:close/>
              </a:path>
              <a:path fill="darken" w="25518" h="21600">
                <a:moveTo>
                  <a:pt x="25518" y="0"/>
                </a:moveTo>
                <a:lnTo>
                  <a:pt x="25518" y="21600"/>
                </a:lnTo>
                <a:lnTo>
                  <a:pt x="24118" y="20200"/>
                </a:lnTo>
                <a:lnTo>
                  <a:pt x="24118" y="1400"/>
                </a:lnTo>
                <a:close/>
              </a:path>
              <a:path fill="darkenLess" w="25518" h="21600">
                <a:moveTo>
                  <a:pt x="25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8" y="20200"/>
                </a:lnTo>
                <a:close/>
              </a:path>
              <a:path fill="lighten" w="25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8" h="21600">
                <a:moveTo>
                  <a:pt x="16258" y="10800"/>
                </a:moveTo>
                <a:lnTo>
                  <a:pt x="5753" y="17806"/>
                </a:lnTo>
                <a:lnTo>
                  <a:pt x="5753" y="3794"/>
                </a:lnTo>
                <a:close/>
              </a:path>
              <a:path fill="darken" w="25518" h="21600">
                <a:moveTo>
                  <a:pt x="18103" y="3794"/>
                </a:moveTo>
                <a:lnTo>
                  <a:pt x="18103" y="17806"/>
                </a:lnTo>
                <a:lnTo>
                  <a:pt x="19766" y="17806"/>
                </a:lnTo>
                <a:lnTo>
                  <a:pt x="19766" y="3794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916280"/>
            <a:ext cx="19429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ОВГОР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862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1916280"/>
            <a:ext cx="1656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ИЕ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ве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1628640"/>
            <a:ext cx="17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РЮРИ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АСКОЛЬ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ДИ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628640"/>
            <a:ext cx="129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К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ЩЕ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ХОРИ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4176720" cy="3282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156360" y="2997360"/>
            <a:ext cx="2527200" cy="3311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95640" y="2060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2060640"/>
            <a:ext cx="360360" cy="216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62373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А. Васнецов «Призвание варяг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133720"/>
            <a:ext cx="216000" cy="7189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2133720"/>
            <a:ext cx="1512720" cy="64764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УБИЛ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ГОСУДАРСТВО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Государство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– особая организация обществ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Предпосылками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для образования государства являются общественное разделение труда, появления частной собственности, имущественное и социальное неравенств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Признаками государства являются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3571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наличие определенной территории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3571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органов управления и контроля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3571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право, закрепляющее определенную систему норм, санкционированных государством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3571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налоговая система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3571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для государства в форме монархии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характерно наличие правящей династии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6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АНТИНОРМАНИСТЫ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58327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ченые, противник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ормандской теори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возникновения Древнерусского государства.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ервым антинорманистом был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М.В. Ломоносов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. Опираясь на легенду, изложенную Нестором в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вести временных лет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он сделал вывод о том, что первым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славянским князем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был Кий , который жил с братьями и сестрой в Киеве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78920" y="3500280"/>
            <a:ext cx="8496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нализируя легенду о призвании варягов в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862 г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М.В. Ломоносов на основании сделанного Нестором перевода имен скандинавских князей (возможно неточного), считал, что Синеуса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рувора на самом деле не существовало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то же время ряд исследователей признают, что в основе легенды лежит исторический факт вокняжения в Новгороде скандинава, положившего начало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инастии Рюриковичей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которая вскоре ассимилировалась с местным населением. Вполне возможен был и насильственный захват власти варягами с последующим оформлением акта «добровольного» их призвания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3" name="Прямоугольник 5"/>
          <p:cNvGrpSpPr/>
          <p:nvPr/>
        </p:nvGrpSpPr>
        <p:grpSpPr>
          <a:xfrm>
            <a:off x="6084720" y="404640"/>
            <a:ext cx="2519640" cy="3095640"/>
            <a:chOff x="6084720" y="404640"/>
            <a:chExt cx="2519640" cy="3095640"/>
          </a:xfrm>
        </p:grpSpPr>
        <p:pic>
          <p:nvPicPr>
            <p:cNvPr id="15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6084720" y="404640"/>
              <a:ext cx="25196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092640" y="413280"/>
              <a:ext cx="2502000" cy="30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ВАРЯГ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619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По одной из версий –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воины-дружинники из скандинавских стран, которых нередко именовали норманнами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По  другой версии – выходцы с побережья Балтийского моря, родственные славянским племенам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2744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ВЕЧЕ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4652640"/>
            <a:ext cx="84358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(Слав. «вет» - совет) -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одное собрание на Руси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вече обсуждались вопросы войны и мира, кандидатуры князей , посадников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093000" cy="4292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ДРУЖИ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Отряд воинов, объединившихся вокруг племенного вождя в период разложения родового строя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ооруженные отряды при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князе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Киевской Руси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частвовавшие в войнах, управлении княжеством и личным хозяйством князя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оставляли привилегированный слой обществ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845160" cy="489744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a9be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6:02Z</dcterms:created>
  <dc:creator>-</dc:creator>
  <dc:description/>
  <dc:language>en-US</dc:language>
  <cp:lastModifiedBy>люба</cp:lastModifiedBy>
  <dcterms:modified xsi:type="dcterms:W3CDTF">2013-01-13T13:07:57Z</dcterms:modified>
  <cp:revision>54</cp:revision>
  <dc:subject/>
  <dc:title>Слайд 1</dc:title>
</cp:coreProperties>
</file>