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465-3E9F-4FEB-8C28-2CF36E04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899-AFB2-46EA-B766-BD737D0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D0A-4F5D-40E2-8E31-E3B9C996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E87-5C90-4083-AF9E-4A577A34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765-E779-46F0-9577-9CA4FAEB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E7C-0954-4116-A4A2-54A363B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A56-D9C3-466F-8C4C-294947A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3F0-B8F1-4E94-B975-8EA6CEB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A5D8-4EB9-42DA-AA98-0CE87A28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7EBD-DC9A-471D-9EA0-E736D026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471-AC75-41A2-987A-7C11899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E3C-E589-410A-B4E2-3EAEAD6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C99-6931-424E-BBBA-6B707F2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2E72-880F-46E5-8EFD-5A5C33E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2774-FA12-4F9F-96CE-6881CBC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CBF-F9F6-4F28-AE8D-04EC1925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2B2-65CA-4337-BA1A-492AB4C2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6045-F870-48E5-A823-7B5192FA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92B4-260A-4F73-BA7C-CAB9BD2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432B-98C4-4DC6-A4E0-A5C8319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758E-5971-4590-8EC8-B2FF7D0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8827-F598-499F-83D8-29FEE25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121-5CB6-4A84-897F-52AD65A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2FD3-7025-4C23-9EE4-726123EC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7B38-8B90-4794-AD5F-C6C0956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9103-2551-43F9-9F12-03921EE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C0E5-08CF-4416-B398-E7304BB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2522-4AFA-4DBF-96C1-E53AA372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D8AB-4481-4773-9B84-492B451B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A31A-60AE-483F-8963-E1587DDB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B076-EDEC-4C31-BB0D-68A9D5E4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BC47-F9EF-408B-BB82-FBD54481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4404-EB01-4475-A94A-252B581E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B67-268B-47C5-8446-E25D670E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CC8A-01F0-48D8-BDDF-7AD878B1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26D2E-335C-404C-9934-7E14F099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D293-C2AC-4FB4-AA9C-601CB3E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1E41-1789-4CC7-8628-38CAEB3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11F7-651A-406A-8D68-DAF1851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3D6A-3941-4C86-A805-F86353A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50BFE-C3A9-4B24-B558-D62447A5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5BBD-194B-40E8-BCF2-68E83D9C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D629-FC2F-40CE-A0D2-432B2FF6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C9D-4A7B-4716-BA94-EB72144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033-FA9D-4841-A6EB-4D1818BB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C16-B468-4BBB-B90B-2548D89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443-DD7F-4EC5-9D95-F8363D4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930-7633-4C57-9DDB-7587452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9D01-8E1D-48BA-868D-0CDCEC662D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5927-6390-4077-9AC5-034AC2144EB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C41-C958-4F83-B3DF-E50FAF4612F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0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0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0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BA0-17B9-4842-AAFE-220D01C0ABB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umkino.com/wp-content/uploads/2010/09/IMG_3638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Comic Sans MS"/>
              </a:rPr>
              <a:t>Горная местность Казахстан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638320" y="48769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mic Sans MS"/>
              </a:rPr>
              <a:t>Дюсенова Айл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mic Sans MS"/>
              </a:rPr>
              <a:t>4“С”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0" r="13636" b="0"/>
          <a:stretch/>
        </p:blipFill>
        <p:spPr>
          <a:xfrm>
            <a:off x="0" y="0"/>
            <a:ext cx="4343400" cy="37720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19360" y="6858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Жунгарский Алатау - расположен в восточной части Казахстана и имеет протяжение с запада-юго-запада на восток-северо-восток вдоль границы Казахстана и Китая между рекой Или и озером Алакол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899172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ысокогорная область - Жунгарский Алатау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На востоке он отграничен Жунгарскскими воротами от находящихся на территории Китая хребтов Барлык и Майли, на юге - отделен от  Тянь-Шаня долиной реки Или. Общая протяженность Жунгарскского Алатау около 40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724640" cy="4038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181480" y="1143000"/>
            <a:ext cx="3657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ahoma"/>
              </a:rPr>
              <a:t>Средняя высота Жунгарсккого Алатау 3580 м. Основные хребты Жунгарсккого Алатау поднимаются выше 4000 м, северная, главная цепь - до 4560 м (гора Семенова-Тян-Шанского в истоках рек Большой и Малый Баскан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105520"/>
            <a:ext cx="800100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Эта территория удивительно богата памятниками древности: в горах масса наскальных рисунков, требующие всемирной охраны, в подгорной равнине – множество курганов и сложенных из громадных камней ритуальных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28600"/>
            <a:ext cx="899172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ысокогорная область - Жунгарский Алатау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Высокогорная область</a:t>
            </a:r>
            <a:r>
              <a:rPr b="1" i="1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Тянь-Ша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Тянь-Шаньская горная страна занимает юго-восток Казахстан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В пределы республики входят части Центрального и Западного Тянь-Шаня и почти весь Северный Тянь-Шань.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3352680"/>
            <a:ext cx="7848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Центральный Тянь-Шань начинается на стыке государственных границ Китая, Казахстана и Кыргызстана. В этом месте расположена самая высокая точка Казахстана– пик Хан-Тенгри (6995 м)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05080" y="918720"/>
            <a:ext cx="33591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Хан-Тенгр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724280" y="17521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Хан-Тенгри (Повелитель духов), наивысшая точка  Казахстана (6995 м), считается одной из красивейших вершин Центрального Тянь-Шан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Мраморная вершина в виде остроконечной пирамиды видна почти отовсюду. Гора издревле окутана легендами. Ее еще называют Тенгритау (Гора Бога) или Кантау (Кровавая гора), за красный оттенок, который вершина приобретает в часы заката. Это самый северный семитысячник ми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8600"/>
            <a:ext cx="7792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Высокогорная область</a:t>
            </a:r>
            <a:r>
              <a:rPr b="1" i="1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Тянь-Ш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72000" y="30481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На запад от массива Хан-Тенгри отходит целый ряд хребтов. Наиболее крупный из них – Терскей Алатау. По его восточной ветви Казахстан граничит с Кыргызст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В северный Тянь-Шань входят хребты 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Кетмень, Кунгей Алатау, Заилийский Алатау, Чу-Илийские горы (Жельтау, Айтау), Кыргызский Алата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5720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Хан-Тенгри труднодоступен, поэтому чрезвычайно интересен как для альпинистов, так и для любителей приключенческого туризма. Казахстану принадлежит северная часть горы. Восхождение по «Северной Стене Хан-Тенгри» является заветной мечтой многих альпин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Гора Белу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ahoma"/>
              </a:rPr>
              <a:t>Гора Белуха (4506 м) - высочайшая вершина Алтая и Сибири располагается на северо-востоке Восточного Казахстана на границе Казахстана и Росс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ahoma"/>
              </a:rPr>
              <a:t>Склоны ее двуглавой вершины покрыты вечными снегами и ледниками (Берельский, Катунский и др.) на площади около 70 км</a:t>
            </a:r>
            <a:r>
              <a:rPr b="1" lang="ru-RU" sz="2000" spc="-1" strike="noStrike" baseline="30000">
                <a:solidFill>
                  <a:srgbClr val="6600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6600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6483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Белуха представляет собой интересный объект для альпинизма и горного туризма. В то же время это, по многим легендам, - священная гора. Здесь, по преданиям буддистов, располагалась легендарная заоблачная страна богов Шамбала и отсюда великий Будда - Гаутама пришел в Инд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Белуха является символом Ал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Тургеньское ущель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81120" y="76212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ahoma"/>
              </a:rPr>
              <a:t>Тургеньское ущелье богат горячими источниками, водопадами,  хвойными и смешанными лесами, альпийскими и субальпийскими лугами, озерами и родниками, лекарственными растениями и ягод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4876920"/>
            <a:ext cx="8229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Comic Sans MS"/>
              </a:rPr>
              <a:t>Оно уходит вглубь на 44 км до огромного плато Ассы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cc"/>
                </a:solidFill>
                <a:latin typeface="Comic Sans MS"/>
              </a:rPr>
              <a:t>Самое популярное место в ущелье – Ботан- егерская станция. Здесь, при слиянии трех рек, Тургенское ущелье достигает наибольшей глубины – 920 м.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2743200"/>
            <a:ext cx="8458200" cy="15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4572000" y="3429000"/>
          <a:ext cx="4572000" cy="35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429000"/>
                    <a:ext cx="457200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арыарка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 (Казахский мелкосопочник) -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место расположения  Центральный Казахстан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протяженность с запада на восток 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м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средняя высота гор 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00-600 м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на западе ширина мелкосопочника достигает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00 км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на востоке 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50 км</a:t>
            </a:r>
            <a:r>
              <a:rPr b="1" i="1" lang="ru-RU" sz="2400" spc="-1" strike="noStrike">
                <a:solidFill>
                  <a:srgbClr val="6600ff"/>
                </a:solidFill>
                <a:latin typeface="Times New Roman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28600"/>
            <a:ext cx="7772400" cy="860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Comic Sans MS"/>
              </a:rPr>
              <a:t>Низкогорные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indent="3571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На </a:t>
            </a:r>
            <a:r>
              <a:rPr b="1" i="1" lang="ru-RU" sz="1600" spc="-1" strike="noStrike">
                <a:solidFill>
                  <a:srgbClr val="00cc00"/>
                </a:solidFill>
                <a:latin typeface="Comic Sans MS"/>
              </a:rPr>
              <a:t>севере</a:t>
            </a: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 Сарыарка граничит с </a:t>
            </a: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Западно-Сибирской равниной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3571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на </a:t>
            </a:r>
            <a:r>
              <a:rPr b="1" i="1" lang="ru-RU" sz="1600" spc="-1" strike="noStrike">
                <a:solidFill>
                  <a:srgbClr val="00cc00"/>
                </a:solidFill>
                <a:latin typeface="Comic Sans MS"/>
              </a:rPr>
              <a:t>юге</a:t>
            </a: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 - с озером Балхаш и пустыней Бетпак-Дала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3571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на </a:t>
            </a:r>
            <a:r>
              <a:rPr b="1" i="1" lang="ru-RU" sz="1600" spc="-1" strike="noStrike">
                <a:solidFill>
                  <a:srgbClr val="00cc00"/>
                </a:solidFill>
                <a:latin typeface="Comic Sans MS"/>
              </a:rPr>
              <a:t>востоке</a:t>
            </a: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 сливается с горной системой Саур-Тарбагатай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3571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на </a:t>
            </a:r>
            <a:r>
              <a:rPr b="1" i="1" lang="ru-RU" sz="1600" spc="-1" strike="noStrike">
                <a:solidFill>
                  <a:srgbClr val="00cc00"/>
                </a:solidFill>
                <a:latin typeface="Comic Sans MS"/>
              </a:rPr>
              <a:t>западе</a:t>
            </a: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 примыкает к тургайскому плато.</a:t>
            </a:r>
            <a:br>
              <a:rPr sz="1600"/>
            </a:br>
            <a:r>
              <a:rPr b="1" i="1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267080" y="2362320"/>
          <a:ext cx="45720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362320"/>
                    <a:ext cx="4572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8600" y="304920"/>
            <a:ext cx="876312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Comic Sans MS"/>
              </a:rPr>
              <a:t>Низкогорная область Сары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819520"/>
            <a:ext cx="4114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0000"/>
                </a:solidFill>
                <a:latin typeface="Comic Sans MS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ff33cc"/>
                </a:solidFill>
                <a:latin typeface="Comic Sans MS"/>
              </a:rPr>
              <a:t>К числу наиболее высоких гор Казахского мелкосопочника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Comic Sans MS"/>
              </a:rPr>
              <a:t>- Аксорган (1565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Comic Sans MS"/>
              </a:rPr>
              <a:t>- Каркаралинские (1403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Comic Sans MS"/>
              </a:rPr>
              <a:t>- Чингизтау (1305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Comic Sans MS"/>
              </a:rPr>
              <a:t>- Улытау (1133 м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>
            <a:hlinkClick r:id="rId2"/>
          </p:cNvPr>
          <p:cNvPicPr/>
          <p:nvPr/>
        </p:nvPicPr>
        <p:blipFill>
          <a:blip r:embed="rId3"/>
          <a:srcRect l="0" t="0" r="13329" b="4930"/>
          <a:stretch/>
        </p:blipFill>
        <p:spPr>
          <a:xfrm>
            <a:off x="0" y="0"/>
            <a:ext cx="9296280" cy="6935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Жемчужиной Сарыарки являет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Щучинско- Боровская курортная зон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Местные жители не без основания называют этот край «казахстанской Швейцарией», так как здесь в окружении красивейших гор Казахского мелкосопочника располагаются прозрачные голубые озера, являющиеся излюбленным местом отдыха туристов из стран СН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10280" cy="106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Низкогорная область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арыар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2182680"/>
            <a:ext cx="5943600" cy="4675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19920" y="2133720"/>
            <a:ext cx="3124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Наивысшая точка Мугоджар - гора Большой Боктыбай (657 м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Протяженность Мугоджар составляет 450 км с севера на юг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На западных склонах Мугоджар берут свое начало реки Шийли и Терисбутак, которые в дальнейшем при слиянии образуют реку Орь (левый приток Урала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</a:rPr>
              <a:t>К югу от гор простирается песчаная пустыня Большие Барсуки, отделяющая Мугоджары от Аральского мор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761760" y="2286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Низкогорная область Мугоджа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8380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</a:rPr>
              <a:t>Мугоджары </a:t>
            </a: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- невысокая каменная гря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являющаяся южным отрогом Уральских г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5633" t="7511" r="5633" b="6103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mic Sans MS"/>
              </a:rPr>
              <a:t>Низкогорная область - Мангыстауские г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3760" y="39621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В южной части Мангыстауских гор расположена впадина Карагие, или Батыр (- 132 м). Это самая низкая точка в Казахстан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Находится на пятом месте в мире после</a:t>
            </a:r>
            <a:r>
              <a:rPr b="1" i="1" lang="en-CA" sz="1400" spc="-1" strike="noStrike">
                <a:solidFill>
                  <a:srgbClr val="6600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- Мертвого моря (-395 м) в Израиле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- Турфанской котловины (-154 м) в Китае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- озера Ассаль(-150 м) в Джибути (Африка)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- безводной впадины Каттара (-133 м) в Египт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9051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Протяженность Каратау 117 км, Актау – 70км. Они расчленены логами, оврагами и узкими ущельями. Самая высокая точка Мангыстауских гор в хребте – Каратау – Бесшокы (556 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Times New Roman"/>
              </a:rPr>
              <a:t>Эти горы сложены песчаниками, кристаллическими сланцами, черными (Каратау) и белыми (Актау) известня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3581280"/>
          <a:ext cx="5181480" cy="337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81280"/>
                    <a:ext cx="518148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876920" y="60948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Comic Sans MS"/>
              </a:rPr>
              <a:t>Мангыстауские горы находятся на Мангыстауском полуострове  Каспийского моря. В них входят западные и восточные хребты Каратау, а также южные и северные хребты Акта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105520" cy="3513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105520" y="11430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Tahoma"/>
              </a:rPr>
              <a:t>Алтай - часть самой крупной горной системы, называемой Алтай-Саянские  горы, границы которой простираются от озера Зайсан до озера Байка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Tahoma"/>
              </a:rPr>
              <a:t>В Казахстан входит только его юго-западная окраина. Южной границей является бассейн реки Черный Иртыш и озеро Зайсан, а западной - Калбинский хребе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Высокогорная область Алтай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5334120"/>
            <a:ext cx="8305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Comic Sans MS"/>
              </a:rPr>
              <a:t>По особенностям рельефа Алтай Казахстанский делится на три района: Южный Алтай, Рудный Алтай и Калбинский хребе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620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ahoma"/>
              </a:rPr>
              <a:t>Южный Алтай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 расположен между рекой Бухтарма на севере, озером Зайсан и рекой Черный Иртыш на юге. Иртышская долина разделяет его с западной стороны от Калбинского хреб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На востоке он граничит с плоскогорьем Уко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К западу и юго-западу от этого места протянулись две цепи горных хребтов. Их разделяют реки Курчум и Каракоб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Высокогорная область Алтай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-838080" y="-82440"/>
            <a:ext cx="10744200" cy="6973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Высокогорная область Алтай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828800"/>
            <a:ext cx="4419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орные хребты Тарбагатай (2739 м), Сарымсакты (3373 м), Нарын (2400 м) входят в северную горную часть, а хребты Южный Алтай (3483 м), Сарытау (3300 м), Курчум (2644 м) образуют южную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Между хребтами Азутау и Сарытау на высоте 1449 м расположена Маркакольская котлов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495680" y="1981080"/>
          <a:ext cx="5181840" cy="3861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518184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09:34:32Z</dcterms:created>
  <dc:creator>User</dc:creator>
  <dc:description/>
  <dc:language>en-US</dc:language>
  <cp:lastModifiedBy>User</cp:lastModifiedBy>
  <dcterms:modified xsi:type="dcterms:W3CDTF">2013-02-10T17:16:0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