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9BED-836E-4434-A779-DA9BCE060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2915-E2D4-4DC7-BB70-9016D45339BD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04E0-B719-4846-AEFA-BB82E644827E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412D-E850-4D89-930A-C88625B4D644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77EB-94E9-40FF-8CFF-68EF0587500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5D86-C907-42DA-BB83-604321804765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717C-72B7-4A42-A301-3EE0A38355D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87E5-835C-4ED8-BB87-ADA0888D5042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C6E6-74DF-43FF-80E8-311CEABD159E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08B6-2970-4B1D-B5DB-81E42CDFE6C5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8AEB-478C-4B1B-ABCB-3BC456542E56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FE11-3304-423E-93A7-E7514D96FCA5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FA4A-1C3A-450B-BA2D-FB48BE02A31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2E90-1364-48F7-BC4B-1BF8EFD1D8CB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1C2-85F2-4B2E-AD78-F3EE4599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467-FD8C-49EF-A9C6-70419225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9DA-EF24-476E-9A2F-5038AA68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CB8-48E4-4169-92E6-DC0306C9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92BC-B42E-47E5-B169-DAFC0923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DAB7-F342-4735-8EBB-DCE52436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608E-6CFE-4A23-A875-AB715197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1427-5808-4211-8C1F-E616C3B1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BE30-224C-4EAF-9512-42AB6C2B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7342-9C99-4577-81A2-7FE2133F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123A-393E-4C3B-8BD3-88F6108B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574-8124-4DCC-9EAA-94EBB248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3B28-D571-42EE-9A22-F1BA221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A9B3-8BB6-47F3-8D3A-78AAED7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4341-8650-4E42-86A6-58F21225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C08E-5953-4A62-9DCA-8D05E278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B47C-D0C5-4D9E-AAE4-734620A2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A59-3A8D-4819-95E2-0191469D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69C-915F-4AF3-B976-C63EDDCF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29F-FD71-45D5-95B4-13088619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99B-1858-4781-8863-38AAAA21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5E3-C432-4B0D-BCA2-743DBFF1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8F9-5DA0-44FC-BBD0-45A0C9F3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2A6-3A2C-476C-8268-027058E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154E-E6F7-4EB6-8BC7-CED1E8584C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D254-CAB6-4C58-9BE9-25B336F8E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ipi.ru/" TargetMode="External"/><Relationship Id="rId2" Type="http://schemas.openxmlformats.org/officeDocument/2006/relationships/hyperlink" Target="http://www.fipi.ru/" TargetMode="External"/><Relationship Id="rId3" Type="http://schemas.openxmlformats.org/officeDocument/2006/relationships/hyperlink" Target="http://www.fipi.ru/" TargetMode="External"/><Relationship Id="rId4" Type="http://schemas.openxmlformats.org/officeDocument/2006/relationships/hyperlink" Target="http://www.fipi.ru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ветская средняя общеобразовательная школ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Родительское собрание в 9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Ваш ребёнок сдаёт экзамен за курс основной школ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5480" y="5084640"/>
            <a:ext cx="391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Онипченко Ольг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 9 клас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460046"/>
                </a:solidFill>
                <a:latin typeface="Arial"/>
              </a:rPr>
              <a:t>Повторная сдача экзамен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Выпускники 9 классов, получившие на государственной (итоговой) аттестации </a:t>
            </a: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н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оле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вух неудовлетворительных отметок,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 допускаются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к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овторной   государственной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итоговой) аттестаци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о этим предметам.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460046"/>
                </a:solidFill>
                <a:latin typeface="Arial"/>
              </a:rPr>
              <a:t>Выдача аттестат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ыпускникам, прошедшим государственную (итоговую) аттестацию, выдаётся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аттестат об основном общем образ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 аттестат выставляются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итоговые отметки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по предметам, изучавшимся в классах второй ступени обще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800000"/>
                </a:solidFill>
                <a:latin typeface="Arial"/>
              </a:rPr>
              <a:t>Выдача аттестатов особого образц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Выпускникам 9 класса, имеющим годовые, экзаменационные и итоговые отметки «5», выдаётся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аттестат особого образ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800000"/>
                </a:solidFill>
                <a:latin typeface="Arial"/>
              </a:rPr>
              <a:t>В каких случаях выпускнику не выдаётся аттеста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е выдаётся аттестат об основном общем образ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Если учащийся не был допущен к государственной(итоговой) аттес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- если учащийся не прошёл государственную(итоговую) аттес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В этом случае учащийся по усмотрению родителей оставляется на повторное обучение или получает справку об обуч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993300"/>
                </a:solidFill>
                <a:latin typeface="Arial"/>
              </a:rPr>
              <a:t>Выбор экзамен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35280" y="2276280"/>
            <a:ext cx="597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Обществознание – </a:t>
            </a:r>
            <a:r>
              <a:rPr b="0" lang="en-US" sz="2800" spc="-1" strike="noStrike">
                <a:solidFill>
                  <a:srgbClr val="460046"/>
                </a:solidFill>
                <a:latin typeface="Arial"/>
              </a:rPr>
              <a:t>5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Биология – </a:t>
            </a:r>
            <a:r>
              <a:rPr b="0" lang="en-US" sz="2800" spc="-1" strike="noStrike">
                <a:solidFill>
                  <a:srgbClr val="460046"/>
                </a:solidFill>
                <a:latin typeface="Arial"/>
              </a:rPr>
              <a:t>14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Arial"/>
              </a:rPr>
              <a:t>Физика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460046"/>
                </a:solidFill>
                <a:latin typeface="Arial"/>
              </a:rPr>
              <a:t>9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дготовка к экзаменам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Еженедельные консультации во второй половине дня(по распис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Подготовка на у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Индивидуальные консультации(по желанию учащихся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Русский язык: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заменационная работа состоит из трёх частей, которые последовательно выполняются учениками. Выполнение трёх частей обязательно для всех экзаменуемых. На выполнение экзаменационной работы отводи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часа (240 мин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Математика: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заменационная работа состоит из двух частей, на выполнение работы отводитс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40 мину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труктур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асть 1 - 90 мин., содержит 18 заданий (8 баллов, минимальный балл 4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а часть работы содержит 10 заданий с выбором ответа, 8 заданий с кратким ответом и задание на соотношение. Часть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150мин. Содержит 5 задания разного уровня сложности, требующих развернутого ответа (с записью решения)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симальный балл - 30 (Часть 1- 8, Часть 2 - 22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Биология: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ыполнение экзаменационной работы отводи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0 мину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руктур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ь 1 - 25 заданий (25 баллов); часть 2 - 4 задания (8 баллов); часть 3 - 3 задания (8 баллов). Всего:32 задания (41 бал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Обществознание: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остоит из трех частей, которые различаются по содержанию, степени сложности и количеству заданий. Определяющим признаком для каждой части работы является форма заданий: часть 1 содержит задания с выбором ответа; часть 2 содержит задания с кратким ответом; часть 3 содержит задания с развернутым отве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1125000"/>
            <a:ext cx="779148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584d89"/>
                </a:solidFill>
                <a:uFillTx/>
                <a:latin typeface="Arial"/>
              </a:rPr>
              <a:t>Государственная (итоговая) аттестация выпускников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01720" y="3608280"/>
            <a:ext cx="6526080" cy="18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овестка: прохождение государственной (итоговой) аттестации выпуск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9-х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Физика: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заменационная работа по физике содержит 26 заданий, которые выполняются в течение 2,5 часов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0 мину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ающиеся могут завершить работу досроч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екомендации родителям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Мы вместе помогаем нашим детям подготовиться к экзамену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родителей в подготовке девятиклассников к ГИА включает в себя не только конкретные действия по поддержке ребенка в период экзаменов, но и создание условий для развития здоровой, успешной, психологически зрелой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ект постановления родительского собрани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ять к сведению полученную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уществлять контроль за детьми по систематическому посещению дополнительных занятий по предметам по выбору согласно граф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сть рекомендации и советы заведующего учебной части школы при подготовке к экза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­дарта общего образования. Часть 1. Начальное общее образование. Основное общее образование/Министер­ство образования Российской Федерации. — М.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­дарта общего образования. Часть 2. Среднее (полное) общее образование/Министерство образования Рос­сийской Федерации. — М.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www.fipi.ru</a:t>
            </a: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ЕДЕРАЛЬНЫЙ ИНСТИТУТ ПЕДАГОГИЧЕСКИХ ИЗМЕР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480048"/>
                </a:solidFill>
                <a:latin typeface="Arial"/>
              </a:rPr>
              <a:t>Нормативные доку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оложение о государственной (итоговой) аттестации выпускников 9 и 11 (12) классов общеобразовательных учреждений РФ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в редакции приказов Минобразования России от 16.03.2001 г. № 1022, от25.06.2002 г. № 2398, от 21.01.2003 № 13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en-US" sz="2100" spc="-1" strike="noStrike">
                <a:solidFill>
                  <a:srgbClr val="480048"/>
                </a:solidFill>
                <a:latin typeface="Arial"/>
              </a:rPr>
              <a:t>Допуск учащихся 9-х классов к прохождению государственной (итоговой) аттестации</a:t>
            </a:r>
            <a:br>
              <a:rPr sz="21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К государственной (итоговой) аттестации допускаются</a:t>
            </a: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обучающиеся 9-х классов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своившие образовательные программы основного общего образования и имеющие положительные годовые отметки по всем предметам учебного пла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480048"/>
                </a:solidFill>
                <a:latin typeface="Arial"/>
              </a:rPr>
              <a:t>имеющие неудовлетворительную годовую отметку по одному предмету </a:t>
            </a:r>
            <a:r>
              <a:rPr b="0" lang="en-US" sz="2400" spc="-1" strike="noStrike" u="sng">
                <a:solidFill>
                  <a:srgbClr val="480048"/>
                </a:solidFill>
                <a:uFillTx/>
                <a:latin typeface="Arial"/>
              </a:rPr>
              <a:t>с обязательной сдачей экзамена по этому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6000" y="233280"/>
            <a:ext cx="79423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Количество экзамен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язательные письменные экзамены – 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русский язык, алгеб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замены по выбору учащихся – 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2 любых предмета, изучавшихся в 9 класс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480048"/>
                </a:solidFill>
                <a:latin typeface="Arial"/>
              </a:rPr>
              <a:t>Сдача обязательных письменных экзамен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82"/>
                </a:solidFill>
                <a:latin typeface="Arial"/>
              </a:rPr>
              <a:t>Экзамены проводятся в ПП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Начало экзамена – </a:t>
            </a:r>
            <a:r>
              <a:rPr b="1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10.0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82"/>
                </a:solidFill>
                <a:latin typeface="Arial"/>
              </a:rPr>
              <a:t>Сбор учащихся в ППЭ – в 8.00 ч. (организованно доставляют учащихся сопровождающ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Опаздывать на экзамены нельз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0033"/>
                </a:solidFill>
                <a:latin typeface="Arial"/>
              </a:rPr>
              <a:t>Сдача обязательных письменных экзаме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ff"/>
                </a:solidFill>
                <a:uFillTx/>
                <a:latin typeface="Arial"/>
              </a:rPr>
              <a:t>С собой им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аспорт или ученический билет или иной документ с фотограф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гелевую ручку чёрного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бутылку с питьевой в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820082"/>
                </a:solidFill>
                <a:latin typeface="Arial"/>
              </a:rPr>
              <a:t>Аттестационный период для выпускников 9-х класс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Начало экзам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124000" y="32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–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в 10.00 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820082"/>
                </a:solidFill>
                <a:latin typeface="Arial"/>
              </a:rPr>
              <a:t>Аттестация детей, обучавшихся на дому и детей-инвалид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В обстановке, исключающей влияние негативных факторов на состояние их здоровья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проходят  государственную  (итоговую) аттестацию выпускники 9-х классов,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обучавшиеся по состоянию здоровья на дому и дети-инвал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0:56:47Z</dcterms:created>
  <dc:creator>Онипченко ОП</dc:creator>
  <dc:description/>
  <dc:language>en-US</dc:language>
  <cp:lastModifiedBy>Онипченко ОП</cp:lastModifiedBy>
  <dcterms:modified xsi:type="dcterms:W3CDTF">2011-03-02T07:44:47Z</dcterms:modified>
  <cp:revision>6</cp:revision>
  <dc:subject/>
  <dc:title>Государственная (итоговая) аттестация выпускников </dc:title>
</cp:coreProperties>
</file>