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4470-2B4B-4591-96AE-C2949578B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5707-D32A-4C46-BFFF-AC6DCA3D9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99E4-92FE-47FC-A743-3B87EA019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DCD7-51C0-4498-BD95-799983D7F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8448A2-4BA5-4FE3-8DB1-AFF435C3C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2E53F6-06A5-46CD-A7F2-B7A1043D5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2CCE23-F98D-4F3E-B680-35BEE4DB2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55D760-53A1-4E76-8778-AC26A26D2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0DBDF3-2B36-42FB-8E7F-9F230E829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850F1A-3D2B-439E-8BE8-11C075634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7E10D0-A197-4516-8122-AC5EABD2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0FAE-FD3D-4652-948F-0E0BB730E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715754-965A-4972-83AE-D055F090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FF7020-21F2-43DA-81E6-4826940F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22404C-DBD9-423B-8911-525992DC8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A26763-A82B-49E3-A348-EF0932332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013E6F-C0EA-43FB-B315-C77E04F58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50704-E247-4995-B3E5-0AD1B69CD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139E1-90D9-480A-A35D-713C3DCCD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176A9-D87C-404B-8085-F3F5DBFC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02BAA-AB8A-4E17-A95C-9533830DF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AA665-49F6-4550-BA4D-FFD8D4ED7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4255-FF45-47A4-B314-22DAB45E7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F4552-4A27-4061-85A2-85E3C8FFB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BFB8E-AC10-4F6A-B424-6E2ACE98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E9A55-AAD5-41EC-90B7-BF82116F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3731A-7E74-4DDC-A28F-9787CF07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C29EA-C2B1-4878-83ED-3A226A9E0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98A9E-9589-49C6-9904-E3E8A22B2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EA28E-8800-4C2F-A8E6-413236A02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0C7E27-0481-46E2-84BE-75AF645D0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EB86A8-6923-4D7F-915D-5429C670C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E234E8-FC81-4C48-81C8-5556C1146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B918-4AE2-45D8-8BD9-77B969228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C0298F-4FF8-44C6-BC36-DBC29A525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CB0851-66EA-4164-B689-A3C40D401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6BC1C4-F58B-43C5-87DE-703B0B17A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810475-003C-469B-9748-178058EA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875989-325E-4DB2-8B88-22F7F6A4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F556C1-D201-4F88-B4E3-D81A5409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03F934-F568-4018-84D7-5E91BD955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5822E3-45E2-4034-8213-E278E797D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ACE829-89D3-4748-B6C3-4861D089B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8A0745-A3AD-484C-84F1-BC1509332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55A8-2904-4849-878B-0F512D65A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11E041-3B81-47A2-B67D-2501181CB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D0FD81-A96D-4AD5-B39F-8F0A6139F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3BD509-BC0E-4759-BBC1-1ECEEDA4D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1F9C87-1BC4-4F82-8B93-3B0A320EC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FAB9D4-E8EB-486D-834B-0A95983CB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F85979-BE70-465F-9320-9629EED6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7F7CD2-488F-4288-AB88-5DE0C1A9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D9432E-ACE0-46B8-9481-0C5675D5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B19115-8DDB-4941-8645-2AB26798D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5BABF0-2583-4237-BDC0-3FFAA295D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1775-05DF-420B-9159-416F5D143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397627-A420-46FB-B52A-3F6DD715B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0C2C9F-D2B1-47AA-9B24-175A45E33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DDE9B7-E6FA-463A-AB06-493DEDC2A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768939-D558-4ECB-8427-107505FDF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1FB796-A420-4BC9-AB6B-8ECA522B0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1EE021-FFD0-478E-8BA2-FE025BC99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FA5C17-41A5-4DBE-86A7-C15939AC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95B2F6-E3FE-4A02-8E9F-47DA6511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4B53C5-1131-4A35-BFA9-A10DEA7E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1B8F8C-3133-41C1-8F4C-31840468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D168-FC08-494B-A82E-62AD3E4F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12978C-B28D-4E13-9B99-9E1F858D0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9CC364-C31A-4458-B100-27004975D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6C9BF2-EE19-4029-BDEB-00556BFEF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E0A7-2E2D-42CF-8142-A9D72DA2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FC28-8B33-4983-B67E-A5A5B879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0BCC0-C895-4A42-A9E1-2CF0931F8ED5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9A4E9-AE63-4010-81D9-0AF2E2B7226F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AB2CD-8FA8-4E89-B789-212F0D6A45B2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B7260-AF0C-4835-98C6-15690C2C8782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FDE7B-AE26-4CE6-82FC-B6860C836F68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C30BA-D968-43BA-BC39-1CD09A9C2AA3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fac9"/>
                </a:solidFill>
                <a:latin typeface="Constantia"/>
              </a:rPr>
              <a:t>«Шекспир на все времена»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3" name="Заголовок 1" descr=""/>
          <p:cNvPicPr/>
          <p:nvPr/>
        </p:nvPicPr>
        <p:blipFill>
          <a:blip r:embed="rId1"/>
          <a:stretch/>
        </p:blipFill>
        <p:spPr>
          <a:xfrm>
            <a:off x="450720" y="1231920"/>
            <a:ext cx="8321760" cy="21877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C:\Users\скорость\Desktop\Documents\портрет.jpg"/>
          <p:cNvPicPr/>
          <p:nvPr/>
        </p:nvPicPr>
        <p:blipFill>
          <a:blip r:embed="rId2"/>
          <a:stretch/>
        </p:blipFill>
        <p:spPr>
          <a:xfrm>
            <a:off x="714240" y="2000160"/>
            <a:ext cx="2643480" cy="32148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4647960" y="1523880"/>
            <a:ext cx="405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ильям Шекспир родился 23 апреля 1564 года в Стрэтфорд – на – Эйвоне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pull dir="l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37240" indent="-237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1. 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William Shakespeare was born in …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37240" indent="-237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a)1560       b) 1564     c) 1574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37240" indent="-237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2. William Shakespeare left school when he was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… 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37240" indent="-237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a) 15           b) 12          c) 13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37240" indent="-237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3. When Shakespeare was …, he went to London and became … 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37240" indent="-237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a) 18, a writer      b) 21, an actor    c) 20, a glove –maker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37240" indent="-237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4. William and Anne had … children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37240" indent="-237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a) 1                    b) 2                   c) 3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37240" indent="-237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5. Shakespeare wrote … plays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37240" indent="-23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a) 37                 b) 17               c) 18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37240" indent="-23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8" name="Заголовок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6. Shakespeare died … 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) on the same date as his birthda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) in 1617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) the 25</a:t>
            </a:r>
            <a:r>
              <a:rPr b="0" lang="en-US" sz="2600" spc="-1" strike="noStrike" baseline="30000">
                <a:solidFill>
                  <a:srgbClr val="ffffff"/>
                </a:solidFill>
                <a:latin typeface="Constantia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of April 1616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7. A monument was opened … 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) near the theatre “Globe”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) in Westminster Abbe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) in Stratford – on - Av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transition spd="slow"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стория сонета начинается с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XIII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века. Родился он в Италии. Создателем является адвокат, поэт Якопо да Лентини, живший в Палермо в первой половине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XIII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век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нглийский сонет был создан поэтом Г. Сари в первой половине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XVI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века, но прославил эту форму В.Шекспир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2" name="Заголовок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Заголовок 1" descr=""/>
          <p:cNvPicPr/>
          <p:nvPr/>
        </p:nvPicPr>
        <p:blipFill>
          <a:blip r:embed="rId1"/>
          <a:stretch/>
        </p:blipFill>
        <p:spPr>
          <a:xfrm>
            <a:off x="268200" y="146160"/>
            <a:ext cx="8437680" cy="12319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тальянский сонет состоит из двух четверостиший (катренов) и двух трехстиший (терцетов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647960" y="1523880"/>
            <a:ext cx="405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нглийский сонет состоит из трех четверостиший и одного двустиши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Её глаза на звезды не похожи,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Нельзя уста кораллами назвать,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Не белоснежна плеч открытых кожа,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И черной проволокой вьется прядь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С дамасской розой, алой или белой,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Нельзя сравнить оттенок этих щек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А тело пахнет так, как пахнет тело,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Не как фиалки нежной лепесток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Ты не найдешь в ней совершенных линий,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Особенного света на челе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Не знаю я, как шествуют богини,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Но милая ступает по земле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И все ж она уступит тем едва ли,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Кого в сравненьях пышных оболгали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7" name="Заголовок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Shall I compare thee to a summer`s day?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Thou art more lovely and more temperate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Rough winds do shake the darling buds of May,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And summer`s lease hath all too short a date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Sometime too hot the eye of heaven shines,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And often in his gold complection dimm`d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And every fair from fair sometime declines,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By chance or nature`s changing course untrimm`d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But thy eternal summer shall not fade,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Nor lose possession of that fair thou owest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Nor shall death brag thou wander`st in his shade,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When in eternal lines to time thou growest: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So long as men can breath or eyes can see,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So long lives this and this gives life to thee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9" name="Заголовок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Заголовок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Вариант №1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С погожим летним днем сравнить ли мне тебя?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Но ты стократ умеренней и краше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Так ветры буйные бутоны теребят,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И так же кратко, к сожаленью, лето наше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Сиянье неба то, как золото, так ярко,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То дымкой затуманит нежный лик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рекрасное с прекрасным спорит жарко,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Когда природа изменяется вся вмиг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И красота твоя цвести здесь будет бесконечно,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И смерть в свои объятья тебя не заберет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ока же дышит грудь, и очи могут зрить,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Останется Земля, и ты тут будешь жить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647960" y="1523880"/>
            <a:ext cx="405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Вариант №2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Хочу сравнить тебя я с летним днем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Что может быть прекрасней и нежнее,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Чем майский ветер, так играющий цветком?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И дни идут быстрее…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Небесные глаза порой палят нещадно,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А через миг тускнеют, лишь едва видны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Зачем же верим мы столь безоглядно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Изменчивой природе в облике весны?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Лишь у тебя все время будет лето,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Не потеряешь ты своих владений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Тень смерти, пролетя, исчезнет где-то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Ты будешь вечно жить в строках стихотворений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ока живут и дышат люди на земле,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Ты будешь часто сниться им во сне!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0T14:07:43Z</dcterms:created>
  <dc:creator>скорость</dc:creator>
  <dc:description/>
  <dc:language>en-US</dc:language>
  <cp:lastModifiedBy>скорость</cp:lastModifiedBy>
  <dcterms:modified xsi:type="dcterms:W3CDTF">2010-02-20T15:15:03Z</dcterms:modified>
  <cp:revision>8</cp:revision>
  <dc:subject/>
  <dc:title>Интегрированный урок английский и литература.</dc:title>
</cp:coreProperties>
</file>