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E3C-B0EF-4D9E-BEE7-3E3A4C09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4E9-1F77-49CE-B4A1-70703830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875-1C80-415F-B6EB-8FBF2E28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DEE-6767-4450-A537-4E615915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A3BE-CA7D-4503-A252-218C56D5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ED4AF-FA6D-454B-862D-294BBA7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6001E-BB93-4D86-AF6D-AED1272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72A77-703D-4D1D-9B11-0D48FFBE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8678C-1ED7-4151-92C5-316F44E6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C481B-A93B-4D58-83DB-4DAD6189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B400-BD28-41CD-8E8A-70CFC3A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D93-AFB9-4739-8FC2-4A900B63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D98BE-19F5-4665-904F-C14DC43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F8136-23FC-485A-8673-A3D9E2C6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8C24B-571F-4667-BBC4-4B91BFA1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C430-E41E-4787-AA5F-C348F7E0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4AF1F-7EE8-4AAA-9ECC-571AA052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992B-3C01-41BC-93F3-DF762E52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E349-F90B-4DE5-B664-4B65995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B881-D272-458D-B3C4-6DEEFB52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F712-C9A8-48C2-A668-BC2BF332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47F2-5CF5-424E-BB00-7B02F224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2CC-90AE-4D46-807E-71D5A522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9C38-F33B-4FC6-AA5E-CCFE9371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C385-0F17-41BD-A979-160BDBC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12AB-9B3A-4A69-9CAA-22E9274A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E739-D533-44E0-A6DE-9EC7A4D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BBD4F-1AC2-46CC-9BC1-E358C9CD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E05A-9D41-4019-B25A-6B2A6800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CE4D-1781-4077-B5AE-F099B83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84E37-13A6-4CF3-8555-FD5F3541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B8692-5C2E-44C7-BB8E-8CFF1FA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C63D0-4BD9-41FC-A152-C86439DE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E5C-3D16-430B-94D1-B7C882C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77247-2C1C-46B2-B5C7-C5C6DDE5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30194-F8AF-4E51-998A-AD655E6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CC8BE-62B6-4DA0-8B6D-A776E2B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4C679-C3A5-41B3-9137-1C64A12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5B720-A2C8-4BA9-8977-47FE02C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87B95-C960-4785-8750-6177E6A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E6498-1FE8-4B62-9958-D3D2572A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7FC6F-EABD-401B-B158-48EFB5AA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7D690-4E10-4E50-8E99-ECBEDD7B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051DA-26F7-4B65-ABA8-1FA605E6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CDC-4A87-42BA-82BE-E2D7FB8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D9A70-5F4B-412F-89FB-8ED9CA6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67720-5EEA-4EED-BCA6-38640FDB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62438-F6C3-40BA-9D35-080936C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215B5-275E-42E8-9672-650EFE1D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01B17-E61C-4FCF-AC8B-BEA0D570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108A9-27DA-4FE4-8452-0FD5D45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56C32-B79C-42B7-94B1-AF843151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5F94A-DCE6-4558-9C5A-149B404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A7D70-7E1A-4387-B9C9-307A1AF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51F87-E6D8-4E2F-BC01-B77D63AE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9F0-A197-472D-9D01-681999C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1747B-1583-4416-9698-FA44FECB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071A5-3114-455B-B9D1-FA562A04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FC31A-98E6-48FE-A1ED-11FEA4CD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9DF5A-2ECF-4D24-B494-17EC34F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9E1F9-FCAF-470B-9202-2A25FEF7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29241-4EA9-41B7-8C82-A1FDF38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EA8C7-060F-4BA8-8866-1EF45F14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BCF5E-CB66-463B-B05F-8B67965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1553E-708B-432A-A955-5B1F89D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BD716-377B-496D-8924-D6F24B5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421-CC45-46CC-8F58-58B15F5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4FF69-7013-4BCB-81E1-306997A8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13C1B-FB7A-484C-B5D8-AD541B6A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4728D-F48E-41B8-8158-0F383B2A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CF1-8375-44EB-99E3-2F8190FB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D8F-657D-4704-B4D5-9849F53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796-4D67-435B-8279-600D917F9C1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80DB-7C06-45AB-ADB9-AF9B73DF88E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C906-CC54-4E7D-8A08-AC3E088BBF3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5E8-9BB1-466F-B1A8-A349806360A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D2E2-F58A-424A-8CAC-B50D7138181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E7B6-8F59-4F41-A91C-A30A58679A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fac9"/>
                </a:solidFill>
                <a:latin typeface="Constantia"/>
              </a:rPr>
              <a:t>«Шекспир на все времена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231920"/>
            <a:ext cx="832176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скорость\Desktop\Documents\портрет.jpg"/>
          <p:cNvPicPr/>
          <p:nvPr/>
        </p:nvPicPr>
        <p:blipFill>
          <a:blip r:embed="rId2"/>
          <a:stretch/>
        </p:blipFill>
        <p:spPr>
          <a:xfrm>
            <a:off x="714240" y="2000160"/>
            <a:ext cx="2643480" cy="321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льям Шекспир родился 23 апреля 1564 года в Стрэтфорд – на – Эйвон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illiam Shakespeare was born in 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1560       b) 1564     c) 157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. William Shakespeare left school when he was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15           b) 12          c) 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. When Shakespeare was …, he went to London and became …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18, a writer      b) 21, an actor    c) 20, a glove –maker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. William and Anne had … childre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1                    b) 2                   c) 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. Shakespeare wrote … play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) 37                 b) 17               c) 18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6. Shakespeare died …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on the same date as his birth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in 161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the 2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pril 16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7. A monument was opened …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) near the theatre “Glob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) in Westminster Abbe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) in Stratford – on - Av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рия сонета начинается с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II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ека. Родился он в Италии. Создателем является адвокат, поэт Якопо да Лентини, живший в Палермо в первой половине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II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глийский сонет был создан поэтом Г. Сари в первой половине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XVI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ека, но прославил эту форму В.Шекспи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3768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тальянский сонет состоит из двух четверостиший (катренов) и двух трехстиший (терцет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глийский сонет состоит из трех четверостиший и одного двустиш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Её глаза на звезды не похож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льзя уста кораллами назвать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белоснежна плеч открытых кож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 черной проволокой вьется пряд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дамасской розой, алой или бел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льзя сравнить оттенок этих ще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тело пахнет так, как пахнет тело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как фиалки нежной лепесто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ы не найдешь в ней совершенных линий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обенного света на че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знаю я, как шествуют богин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 милая ступает по зем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 все ж она уступит тем едва л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го в сравненьях пышных оболгал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all I compare thee to a summer`s day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ou art more lovely and more temperat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ough winds do shake the darling buds of May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d summer`s lease hath all too short a dat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ometime too hot the eye of heaven shines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d often in his gold complection dimm`d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d every fair from fair sometime declines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y chance or nature`s changing course untrimm`d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ut thy eternal summer shall not fade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Nor lose possession of that fair thou owest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Nor shall death brag thou wander`st in his shade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When in eternal lines to time thou growest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o long as men can breath or eyes can see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o long lives this and this gives life to the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ариант №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 погожим летним днем сравнить ли мне тебя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о ты стократ умеренней и краш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ак ветры буйные бутоны теребят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так же кратко, к сожаленью, лето наш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иянье неба то, как золото, так ярк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о дымкой затуманит нежный лик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екрасное с прекрасным спорит жарко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огда природа изменяется вся вмиг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красота твоя цвести здесь будет бесконечно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смерть в свои объятья тебя не забере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ка же дышит грудь, и очи могут зри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танется Земля, и ты тут будешь жит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Вариант №2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Хочу сравнить тебя я с летним дне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Что может быть прекрасней и нежне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Чем майский ветер, так играющий цветком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дни идут быстрее…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бесные глаза порой палят нещадн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А через миг тускнеют, лишь едва вид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Зачем же верим мы столь безогляд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зменчивой природе в облике весны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Лишь у тебя все время будет лето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 потеряешь ты своих владе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ень смерти, пролетя, исчезнет где-т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ы будешь вечно жить в строках стихотворе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ка живут и дышат люди на земл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ы будешь часто сниться им во сне!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07:43Z</dcterms:created>
  <dc:creator>скорость</dc:creator>
  <dc:description/>
  <dc:language>en-US</dc:language>
  <cp:lastModifiedBy>скорость</cp:lastModifiedBy>
  <dcterms:modified xsi:type="dcterms:W3CDTF">2010-02-20T15:15:03Z</dcterms:modified>
  <cp:revision>8</cp:revision>
  <dc:subject/>
  <dc:title>Интегрированный урок английский и литература.</dc:title>
</cp:coreProperties>
</file>