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CAF-2278-48A1-8E8A-44D5E561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801-3FC3-4710-902B-D03BCBEE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404-AE57-48A2-A41A-E30AC426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078-89A7-4481-BDF5-DE33C390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D84-290B-4048-8B6E-E1D9288A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3EF-C87B-497A-866C-266A9772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858-B7DA-4B72-8932-7E64BBE2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CDC-7DBB-468C-B1B1-13F1E777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F0F-8251-453D-9554-97C4CF45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F5C-FB02-49D3-8C7B-7ED12DA2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6B9-4EC6-4772-BDDE-F5BE2CD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C73-317C-4851-87BC-299730C8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CDA8-3DD4-4575-94A5-86A42A725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3.xml"/><Relationship Id="rId7" Type="http://schemas.openxmlformats.org/officeDocument/2006/relationships/slide" Target="slide11.xml"/><Relationship Id="rId8" Type="http://schemas.openxmlformats.org/officeDocument/2006/relationships/slide" Target="slide17.xml"/><Relationship Id="rId9" Type="http://schemas.openxmlformats.org/officeDocument/2006/relationships/slide" Target="slide15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3.xml"/><Relationship Id="rId13" Type="http://schemas.openxmlformats.org/officeDocument/2006/relationships/slide" Target="slide25.xml"/><Relationship Id="rId14" Type="http://schemas.openxmlformats.org/officeDocument/2006/relationships/image" Target="../media/image4.png"/><Relationship Id="rId15" Type="http://schemas.openxmlformats.org/officeDocument/2006/relationships/slide" Target="slide4.xm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hyperlink" Target="http://sibmama.ru/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ibmama.ru/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sibmama.ru/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sibmama.ru/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http://sibmama.ru/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зентация</a:t>
            </a: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Интересное рисова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6438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1484280"/>
            <a:ext cx="1295280" cy="96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P1080668"/>
          <p:cNvPicPr/>
          <p:nvPr/>
        </p:nvPicPr>
        <p:blipFill>
          <a:blip r:embed="rId3"/>
          <a:stretch/>
        </p:blipFill>
        <p:spPr>
          <a:xfrm>
            <a:off x="755640" y="141300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1080670"/>
          <p:cNvPicPr/>
          <p:nvPr/>
        </p:nvPicPr>
        <p:blipFill>
          <a:blip r:embed="rId4"/>
          <a:stretch/>
        </p:blipFill>
        <p:spPr>
          <a:xfrm>
            <a:off x="3132000" y="256536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1080671"/>
          <p:cNvPicPr/>
          <p:nvPr/>
        </p:nvPicPr>
        <p:blipFill>
          <a:blip r:embed="rId5"/>
          <a:stretch/>
        </p:blipFill>
        <p:spPr>
          <a:xfrm>
            <a:off x="6084720" y="3068640"/>
            <a:ext cx="2409840" cy="3213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684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D21309_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971640" y="112536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187280" y="1268280"/>
            <a:ext cx="685800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ебе потребуется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Лист бумаги формат 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такан 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артошка, соломинка, луко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Акварельные краски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ли гуа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Как рисов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КАМЕШКИ. Разрежьте картофелину пополам. Проведите зубцами вилки несколько раз, создав на разрезе рельеф. Окуните картофель в краску и сделайте отпеча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РЫБКИ. Подушечкой большого пальца напечатайте тело, а кончиком указательного пальца -- хвост. Фломастером дорисуйте глаза и 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ПУЗЫРЬКИ. Отпечатайте концом пластмассовой солом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РАСТЕНИЯ. Разрежьте луковицу и сделайте отпеча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857160" y="836640"/>
            <a:ext cx="82868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Рисуем картошкой, пальцем, луковицей</a:t>
            </a:r>
            <a:endParaRPr b="0" lang="en-US" sz="2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pic>
        <p:nvPicPr>
          <p:cNvPr id="108" name="Picture 9" descr="mozaika-1159288412_i_7328_full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948360" y="1773360"/>
            <a:ext cx="1297080" cy="97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1700280"/>
            <a:ext cx="1297080" cy="97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P1080682"/>
          <p:cNvPicPr/>
          <p:nvPr/>
        </p:nvPicPr>
        <p:blipFill>
          <a:blip r:embed="rId3"/>
          <a:stretch/>
        </p:blipFill>
        <p:spPr>
          <a:xfrm>
            <a:off x="4643280" y="2349360"/>
            <a:ext cx="2880000" cy="388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P1080681"/>
          <p:cNvPicPr/>
          <p:nvPr/>
        </p:nvPicPr>
        <p:blipFill>
          <a:blip r:embed="rId4"/>
          <a:stretch/>
        </p:blipFill>
        <p:spPr>
          <a:xfrm>
            <a:off x="1042920" y="2205000"/>
            <a:ext cx="302436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25092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395280" y="1052640"/>
            <a:ext cx="820116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Мыльными пузырями</a:t>
            </a:r>
            <a:endParaRPr b="0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15640" y="141264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ебе потребуется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ст бумаги формат 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Стакан 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Небольшое стек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Кисти беличьи №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мыло, краски аквар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На стекло нанести рисунок акварельными красками с добавлением мыльных пузырей. На стекло с еще невысохшим рисунком накладывается лист с волшебными словами "крекс, фекс, пекс" проведите пальцем от центра к краям. Уберите стекло. После высыхания фломастером дорисуйте мелкие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948360" y="1844640"/>
            <a:ext cx="136872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1773360"/>
            <a:ext cx="1511280" cy="1131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P1080710"/>
          <p:cNvPicPr/>
          <p:nvPr/>
        </p:nvPicPr>
        <p:blipFill>
          <a:blip r:embed="rId3"/>
          <a:stretch/>
        </p:blipFill>
        <p:spPr>
          <a:xfrm>
            <a:off x="5508720" y="400536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P1080708"/>
          <p:cNvPicPr/>
          <p:nvPr/>
        </p:nvPicPr>
        <p:blipFill>
          <a:blip r:embed="rId4"/>
          <a:stretch/>
        </p:blipFill>
        <p:spPr>
          <a:xfrm>
            <a:off x="755640" y="1682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1080709"/>
          <p:cNvPicPr/>
          <p:nvPr/>
        </p:nvPicPr>
        <p:blipFill>
          <a:blip r:embed="rId5"/>
          <a:stretch/>
        </p:blipFill>
        <p:spPr>
          <a:xfrm>
            <a:off x="3059280" y="2997360"/>
            <a:ext cx="2734920" cy="205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mozaika-1159288412_i_7328_full"/>
          <p:cNvPicPr/>
          <p:nvPr/>
        </p:nvPicPr>
        <p:blipFill>
          <a:blip r:embed="rId2"/>
          <a:stretch/>
        </p:blipFill>
        <p:spPr>
          <a:xfrm>
            <a:off x="6948360" y="1197000"/>
            <a:ext cx="1368720" cy="1027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627280" y="476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2484360" y="692280"/>
            <a:ext cx="403380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коллаж</a:t>
            </a:r>
            <a:endParaRPr b="0" i="1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116000" y="1413000"/>
            <a:ext cx="626436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ебе потребуется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ст бумаги формат 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Клей П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Открытки, фотографии, цветные вырезки из журн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В доме всегда найдутся ненужные открытки, фотографии, цветные вырезки из журналов, которые можно соединить в большой коллаж. Когда с помощью клея и ножниц вы создадите свое полотно, можете подкрасить фон или части картины краской. Должно получиться что-то очень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1773360"/>
            <a:ext cx="1295280" cy="96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1080726"/>
          <p:cNvPicPr/>
          <p:nvPr/>
        </p:nvPicPr>
        <p:blipFill>
          <a:blip r:embed="rId3"/>
          <a:stretch/>
        </p:blipFill>
        <p:spPr>
          <a:xfrm>
            <a:off x="4932360" y="2852640"/>
            <a:ext cx="3024360" cy="267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1080722"/>
          <p:cNvPicPr/>
          <p:nvPr/>
        </p:nvPicPr>
        <p:blipFill>
          <a:blip r:embed="rId4"/>
          <a:stretch/>
        </p:blipFill>
        <p:spPr>
          <a:xfrm>
            <a:off x="1258920" y="2781360"/>
            <a:ext cx="3097080" cy="2754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547640" y="907920"/>
            <a:ext cx="6620040" cy="1105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Волшебная свеча</a:t>
            </a:r>
            <a:endParaRPr b="0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900000" y="1557360"/>
            <a:ext cx="7272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ебе потребуется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ст бумаги формат 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Стакан 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Кисти беличьи №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Свеча, краски акварельные (гуаш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Восковой свечой нарисуйте на плотной бумаге елочку или домик. Затем с помощью поролона начинайте наносить на всю поверхность бумаги краску. Так как домик, нарисованный свечой, будет жирным, краска на него не ляжет, и рисунок внезапно проявится. Такой же эффект можно получить, вначале рисуя канцелярским клее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1557360"/>
            <a:ext cx="136692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4360" y="18446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1080720"/>
          <p:cNvPicPr/>
          <p:nvPr/>
        </p:nvPicPr>
        <p:blipFill>
          <a:blip r:embed="rId3"/>
          <a:stretch/>
        </p:blipFill>
        <p:spPr>
          <a:xfrm>
            <a:off x="2627280" y="2133720"/>
            <a:ext cx="4103640" cy="3105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9"/>
          <p:cNvSpPr/>
          <p:nvPr/>
        </p:nvSpPr>
        <p:spPr>
          <a:xfrm>
            <a:off x="61128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948360" y="1484280"/>
            <a:ext cx="1301760" cy="97488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826920" y="620640"/>
            <a:ext cx="7269480" cy="23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Потрескавшийся воск</a:t>
            </a:r>
            <a:endParaRPr b="0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826920" y="692280"/>
            <a:ext cx="655344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Простой рисунок можно превратить в полотно художника прошлых веков. Для этого необходимо рисовать восковыми карандашами. Главное - сильно нажимать на карандаш и покрыть рисунком и фоном всю поверхность бумаги, не оставив просветов. Затем аккуратно сминаем рисунок, начиная с краев. Разворачиваем и повторяем еще раз, чтобы получилось побольше трещин. Берем темную жидкую краску и заливаем ее во все трещинки, а затем промываем рисунок с обеих сторон под краном и даем высохнуть. Если ваша картина получилась слишком измятой, ее можно прогладить, положив между двух газетных л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324000" y="404640"/>
            <a:ext cx="8496000" cy="5618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Интересное рисование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едназначен для знакомства детей младшего школьного возраста с нетрадиционными техниками рисования на уроках ИЗО. Проект предполагает также наличие самостоятельных творческих работ. Работа проводится на уроках под руководством педагога, вне занятий с родителями. По окончании выполнения организуется выставка «Юных художников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ozaika-1159288412_i_7328_ful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67280" y="3716280"/>
            <a:ext cx="2598840" cy="194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619280" y="4292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Script MT Bold"/>
              </a:rPr>
              <a:t>Для смены слайдов пожми лапку помощ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948360" y="1628640"/>
            <a:ext cx="1301760" cy="974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1080698"/>
          <p:cNvPicPr/>
          <p:nvPr/>
        </p:nvPicPr>
        <p:blipFill>
          <a:blip r:embed="rId3"/>
          <a:stretch/>
        </p:blipFill>
        <p:spPr>
          <a:xfrm>
            <a:off x="5940360" y="2997360"/>
            <a:ext cx="2430360" cy="324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1080695"/>
          <p:cNvPicPr/>
          <p:nvPr/>
        </p:nvPicPr>
        <p:blipFill>
          <a:blip r:embed="rId4"/>
          <a:stretch/>
        </p:blipFill>
        <p:spPr>
          <a:xfrm>
            <a:off x="826920" y="1628640"/>
            <a:ext cx="2251080" cy="302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P1080694"/>
          <p:cNvPicPr/>
          <p:nvPr/>
        </p:nvPicPr>
        <p:blipFill>
          <a:blip r:embed="rId5"/>
          <a:stretch/>
        </p:blipFill>
        <p:spPr>
          <a:xfrm>
            <a:off x="3348000" y="2276640"/>
            <a:ext cx="2214720" cy="2952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2"/>
          <p:cNvSpPr/>
          <p:nvPr/>
        </p:nvSpPr>
        <p:spPr>
          <a:xfrm>
            <a:off x="53964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1187280" y="1125360"/>
            <a:ext cx="7193160" cy="52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Выдуваем рисунки</a:t>
            </a:r>
            <a:endParaRPr b="0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26920" y="1341360"/>
            <a:ext cx="7705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ебе потребуется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ст бумаги формат 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Стакан 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Трубочка, краски акварельные или ту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Разводим водой до очень жидкого состояния краски двух цветов. Оба цвета вплотную друг к другу наливаем на лист плотной бумаги. В центр опускаем соломинку для коктейлей и, направляя ее в разные стороны, начинаем сильно дуть. Получаются разноцветные ветвистые отростки. Если в средине рисунка круговыми движениями мокрой тряпочки создать "лицо", а после высыхания нанести на него глаза, рот, нос и уши, то получится веселый челове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733400" cy="1298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948360" y="1484280"/>
            <a:ext cx="1301760" cy="97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klaksa1"/>
          <p:cNvPicPr/>
          <p:nvPr/>
        </p:nvPicPr>
        <p:blipFill>
          <a:blip r:embed="rId3"/>
          <a:stretch/>
        </p:blipFill>
        <p:spPr>
          <a:xfrm>
            <a:off x="468360" y="148428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klaksa2"/>
          <p:cNvPicPr/>
          <p:nvPr/>
        </p:nvPicPr>
        <p:blipFill>
          <a:blip r:embed="rId4"/>
          <a:stretch/>
        </p:blipFill>
        <p:spPr>
          <a:xfrm>
            <a:off x="3564000" y="2276640"/>
            <a:ext cx="2840040" cy="2130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normal_klaksa3"/>
          <p:cNvPicPr/>
          <p:nvPr/>
        </p:nvPicPr>
        <p:blipFill>
          <a:blip r:embed="rId5"/>
          <a:stretch/>
        </p:blipFill>
        <p:spPr>
          <a:xfrm>
            <a:off x="6084720" y="450864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9"/>
          <p:cNvSpPr/>
          <p:nvPr/>
        </p:nvSpPr>
        <p:spPr>
          <a:xfrm>
            <a:off x="684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633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Можно сделать картину, рисуя клеем ПВА, который оставляет выпуклую линию. Затем этот рисунок нужно покрыть золотой краской и слегка протереть черным кремом для обуви, создав эффект "старого золот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948360" y="1628640"/>
            <a:ext cx="1301760" cy="974880"/>
          </a:xfrm>
          <a:prstGeom prst="rect">
            <a:avLst/>
          </a:prstGeom>
          <a:ln w="0">
            <a:noFill/>
          </a:ln>
        </p:spPr>
      </p:pic>
      <p:sp>
        <p:nvSpPr>
          <p:cNvPr id="178" name="WordArt 6"/>
          <p:cNvSpPr txBox="1"/>
          <p:nvPr/>
        </p:nvSpPr>
        <p:spPr>
          <a:xfrm>
            <a:off x="395280" y="981000"/>
            <a:ext cx="6761160" cy="45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Старое золото</a:t>
            </a:r>
            <a:endParaRPr b="0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04000" y="1628640"/>
            <a:ext cx="1301760" cy="974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P1080693"/>
          <p:cNvPicPr/>
          <p:nvPr/>
        </p:nvPicPr>
        <p:blipFill>
          <a:blip r:embed="rId3"/>
          <a:stretch/>
        </p:blipFill>
        <p:spPr>
          <a:xfrm>
            <a:off x="755640" y="1341360"/>
            <a:ext cx="2717640" cy="2521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P1080700"/>
          <p:cNvPicPr/>
          <p:nvPr/>
        </p:nvPicPr>
        <p:blipFill>
          <a:blip r:embed="rId4"/>
          <a:stretch/>
        </p:blipFill>
        <p:spPr>
          <a:xfrm>
            <a:off x="3276720" y="2781360"/>
            <a:ext cx="2590560" cy="237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P1080705"/>
          <p:cNvPicPr/>
          <p:nvPr/>
        </p:nvPicPr>
        <p:blipFill>
          <a:blip r:embed="rId5"/>
          <a:stretch/>
        </p:blipFill>
        <p:spPr>
          <a:xfrm>
            <a:off x="5724360" y="4076640"/>
            <a:ext cx="2374920" cy="2200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53964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1700280"/>
            <a:ext cx="1230120" cy="922320"/>
          </a:xfrm>
          <a:prstGeom prst="rect">
            <a:avLst/>
          </a:prstGeom>
          <a:ln w="0">
            <a:noFill/>
          </a:ln>
        </p:spPr>
      </p:pic>
      <p:sp>
        <p:nvSpPr>
          <p:cNvPr id="189" name="WordArt 6"/>
          <p:cNvSpPr txBox="1"/>
          <p:nvPr/>
        </p:nvSpPr>
        <p:spPr>
          <a:xfrm>
            <a:off x="1116000" y="981000"/>
            <a:ext cx="6761160" cy="45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Акварель с солью</a:t>
            </a:r>
            <a:endParaRPr b="0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116000" y="1413000"/>
            <a:ext cx="532764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 Если еще не высохший акварельный рисунок посыпать солью, то соль прилипнет к краске и при высыхании создаст эффект зернист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ozaika-1159288412_i_7328_full"/>
          <p:cNvPicPr/>
          <p:nvPr/>
        </p:nvPicPr>
        <p:blipFill>
          <a:blip r:embed="rId2"/>
          <a:stretch/>
        </p:blipFill>
        <p:spPr>
          <a:xfrm>
            <a:off x="6084720" y="1844640"/>
            <a:ext cx="1733760" cy="129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P1080686"/>
          <p:cNvPicPr/>
          <p:nvPr/>
        </p:nvPicPr>
        <p:blipFill>
          <a:blip r:embed="rId3"/>
          <a:stretch/>
        </p:blipFill>
        <p:spPr>
          <a:xfrm>
            <a:off x="900000" y="1700280"/>
            <a:ext cx="2968560" cy="39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j0301252"/>
          <p:cNvPicPr/>
          <p:nvPr/>
        </p:nvPicPr>
        <p:blipFill>
          <a:blip r:embed="rId4"/>
          <a:stretch/>
        </p:blipFill>
        <p:spPr>
          <a:xfrm>
            <a:off x="5940360" y="386064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24000" y="404640"/>
            <a:ext cx="8496000" cy="5618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Times New Roman"/>
              </a:rPr>
              <a:t>Мы очень любим рисовать и решили узнать об этом поподробнее!</a:t>
            </a:r>
            <a:br>
              <a:rPr sz="32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Как можно рисовать в необычных техниках?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Изучили литературу по этому вопросу и предлагаем тебе посмотреть что у нас получилось и попробовать самому это необычное рис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mozaika-1159288412_i_7328_ful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67280" y="3716280"/>
            <a:ext cx="2598840" cy="1944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619280" y="4292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Script MT Bold"/>
              </a:rPr>
              <a:t>Для смены слайдов пожми лапку помощ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BD21309_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4"/>
          <p:cNvSpPr/>
          <p:nvPr/>
        </p:nvSpPr>
        <p:spPr>
          <a:xfrm>
            <a:off x="539640" y="333360"/>
            <a:ext cx="8064720" cy="60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Моноти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ра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олшебные ни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Мыльными пузыр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Рисуем картошкой, пальцем, луков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олшебная св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Колл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Потрескавшийся во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ыдуваем рису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тарое з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Акварель с сол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104292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 познакомились с вот такими техникам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Picture 15" descr="urok3b"/>
          <p:cNvPicPr/>
          <p:nvPr/>
        </p:nvPicPr>
        <p:blipFill>
          <a:blip r:embed="rId14"/>
          <a:stretch/>
        </p:blipFill>
        <p:spPr>
          <a:xfrm>
            <a:off x="4427640" y="3567240"/>
            <a:ext cx="3889440" cy="281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mozaika-1159288412_i_7328_full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516720" y="168264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BD21309_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560" y="1412640"/>
            <a:ext cx="727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ебе потребуется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ст бумаги формат 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Стакан 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Кисти беличьи №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Акварельные краски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или гуа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ст белой бумаги согните и разогните пополам. Поставьте на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нии сгиба 2-3 разноцветных пятна гуаши. Сложите лист пополам и с волшебными словами "крекс, фекс, пекс" проведите пальцем от центра к краям. Откройте лист и получите бабочку или цветочек! После высыхания фломастером дорисуйте мелкие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mozaika-1159288412_i_7328_full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948360" y="1844640"/>
            <a:ext cx="1297080" cy="971640"/>
          </a:xfrm>
          <a:prstGeom prst="rect">
            <a:avLst/>
          </a:prstGeom>
          <a:ln w="0">
            <a:noFill/>
          </a:ln>
        </p:spPr>
      </p:pic>
      <p:sp>
        <p:nvSpPr>
          <p:cNvPr id="64" name="WordArt 13"/>
          <p:cNvSpPr txBox="1"/>
          <p:nvPr/>
        </p:nvSpPr>
        <p:spPr>
          <a:xfrm>
            <a:off x="2268360" y="836640"/>
            <a:ext cx="454356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Монотипия</a:t>
            </a:r>
            <a:endParaRPr b="0" i="1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179280" y="189000"/>
            <a:ext cx="2016360" cy="792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Щелкнув по слову моноти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ы узнаешь что оно 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179280" y="189000"/>
            <a:ext cx="2016360" cy="792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Щелкнув по слову моноти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ы узнаешь что оно 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BD21309_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ozaika-1159288412_i_7328_full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1628640"/>
            <a:ext cx="1517400" cy="113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normal_monotipia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191628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normal_monotipia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19162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normal_monotipia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00000" y="386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normal_monotipia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132000" y="3860640"/>
            <a:ext cx="1874880" cy="140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normal_monotipia_kartink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364000" y="1746360"/>
            <a:ext cx="204480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BD21309_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58920" y="1484280"/>
            <a:ext cx="68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ебе потребуется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ст бумаги формат 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Стакан 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Кисти беличьи №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Свеча, мыло, краски аквар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Лист белой бумаги раскрасьте акварельными красками. Потом покройте свечой. Закрасьте черной гуашью( если краска плохо ложиться, добавьте в нее мыльной пены). Затем после того как лист бумаги высохнет  с помощью ручки вы можете выцарапать рису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04000" y="1557360"/>
            <a:ext cx="1368360" cy="1027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2627280" y="476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2484360" y="1125360"/>
            <a:ext cx="353376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Граттаж</a:t>
            </a:r>
            <a:endParaRPr b="0" i="1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179280" y="189000"/>
            <a:ext cx="2016360" cy="792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Щелкнув по слову гратт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ы узнаешь что оно 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D21309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826920" y="549360"/>
            <a:ext cx="7272360" cy="482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ozaika-1159288412_i_7328_full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1080716"/>
          <p:cNvPicPr/>
          <p:nvPr/>
        </p:nvPicPr>
        <p:blipFill>
          <a:blip r:embed="rId3"/>
          <a:stretch/>
        </p:blipFill>
        <p:spPr>
          <a:xfrm>
            <a:off x="3059280" y="299736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1080718"/>
          <p:cNvPicPr/>
          <p:nvPr/>
        </p:nvPicPr>
        <p:blipFill>
          <a:blip r:embed="rId4"/>
          <a:stretch/>
        </p:blipFill>
        <p:spPr>
          <a:xfrm>
            <a:off x="5364000" y="4329000"/>
            <a:ext cx="288000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P1080715"/>
          <p:cNvPicPr/>
          <p:nvPr/>
        </p:nvPicPr>
        <p:blipFill>
          <a:blip r:embed="rId5"/>
          <a:stretch/>
        </p:blipFill>
        <p:spPr>
          <a:xfrm>
            <a:off x="900000" y="1628640"/>
            <a:ext cx="2448000" cy="1700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395280" y="3333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 нас получились вот таки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j0299611"/>
          <p:cNvPicPr/>
          <p:nvPr/>
        </p:nvPicPr>
        <p:blipFill>
          <a:blip r:embed="rId1"/>
          <a:stretch/>
        </p:blipFill>
        <p:spPr>
          <a:xfrm>
            <a:off x="3666960" y="3191040"/>
            <a:ext cx="1810080" cy="134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BD21309_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971640" y="981000"/>
            <a:ext cx="7272360" cy="48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258920" y="1268280"/>
            <a:ext cx="6694560" cy="744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Script MT Bold"/>
              </a:rPr>
              <a:t>Волшебные ниточки</a:t>
            </a:r>
            <a:endParaRPr b="0" i="1" lang="en-US" sz="4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Script MT Bold"/>
              <a:ea typeface="Script MT Bold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042920" y="1989000"/>
            <a:ext cx="6481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ебе по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Лист бумаги формат 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такан 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Н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уа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к рис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Согните и разогните лист белого картона. Окуните толстую шерстяную нитку в краску и положите ее между двумя половинками листа. Слегка надавив на лист, водите ниткой. Скажите волшебные слова и посмотрите, что получилось. Дорисуйте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mozaika-1159288412_i_7328_full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77080" y="2133720"/>
            <a:ext cx="1224000" cy="91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07:21:53Z</dcterms:created>
  <dc:creator>1</dc:creator>
  <dc:description/>
  <dc:language>en-US</dc:language>
  <cp:lastModifiedBy>BEST</cp:lastModifiedBy>
  <dcterms:modified xsi:type="dcterms:W3CDTF">2013-02-26T12:51:38Z</dcterms:modified>
  <cp:revision>27</cp:revision>
  <dc:subject/>
  <dc:title>Нетрадиционные техники рисования</dc:title>
</cp:coreProperties>
</file>