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B8D-F963-4ADD-B73E-E199A615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37F-E02A-4600-B424-15C0E14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8E9-B66B-475B-A791-7D2A6309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DBD-1273-44F1-ACE8-7E5857F2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6F3-C926-4755-8D6E-FAF01FBA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B95-CEC1-4AEC-AB8D-EB69E6FA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51A-A814-4150-9D2C-B04228B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51D-9AC8-4FBE-80D2-20C615C6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F38-B291-4800-B5D6-8EC830A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C73-2314-45D0-AEAC-E3D14D02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D23-6C5A-4776-9007-CE3B92EE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D29-44C8-4091-9576-F40F694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c0"/>
            </a:gs>
            <a:gs pos="50000">
              <a:srgbClr val="6695c8"/>
            </a:gs>
            <a:gs pos="100000">
              <a:srgbClr val="0080c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F54-3D57-4C1F-939B-998B0C1E7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-66600"/>
            <a:ext cx="7785360" cy="225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99760" y="5105520"/>
            <a:ext cx="7643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:Меликян Аб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Чуприна Татья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158760" y="2054160"/>
            <a:ext cx="65167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282760" cy="373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79280" y="5013360"/>
            <a:ext cx="3240360" cy="64260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бита кометы по рисунку Исаака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560680" cy="1530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03" name="Text Box 7"/>
          <p:cNvSpPr/>
          <p:nvPr/>
        </p:nvSpPr>
        <p:spPr>
          <a:xfrm>
            <a:off x="3348000" y="1700280"/>
            <a:ext cx="2390760" cy="1465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й телескоп-рефлектор был построен Исааком Ньютоном в 1668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3744720" cy="2664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05" name="WordArt 11"/>
          <p:cNvSpPr txBox="1"/>
          <p:nvPr/>
        </p:nvSpPr>
        <p:spPr>
          <a:xfrm>
            <a:off x="900000" y="260280"/>
            <a:ext cx="741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000099"/>
                    </a:gs>
                    <a:gs pos="100000">
                      <a:srgbClr val="0066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 ГИПОТЕЗ  НЕ  ИЗМЫШЛЯЮ"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000099"/>
                  </a:gs>
                  <a:gs pos="100000">
                    <a:srgbClr val="006699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5724360" y="573408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Надгробие на могиле Ньютона</a:t>
            </a:r>
            <a:r>
              <a:rPr b="1" lang="ru-RU" sz="14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9280" y="2205000"/>
            <a:ext cx="438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Исаак Ньютон был торжественно похоронен в Вестминстерском аббатстве. Над его могилой высится памятник с бюстом и эпитафией: 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«Здесь покоится сэр Исаак Ньютон, дворянин, который почти божественным разумом первый доказал с факелом математики движение планет, пути комет и приливы океанов. Он исследовал различие световых лучей и проявляющиеся при этом различные свойства цветов... Пусть смертные радуются, что существует такое украшение рода человече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4035600" cy="53722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10" name="AutoShape 8"/>
          <p:cNvSpPr/>
          <p:nvPr/>
        </p:nvSpPr>
        <p:spPr>
          <a:xfrm rot="10800000">
            <a:off x="5651640" y="5733720"/>
            <a:ext cx="2016000" cy="609480"/>
          </a:xfrm>
          <a:prstGeom prst="wedgeRoundRectCallout">
            <a:avLst>
              <a:gd name="adj1" fmla="val -115356"/>
              <a:gd name="adj2" fmla="val 63800"/>
              <a:gd name="adj3" fmla="val 16667"/>
            </a:avLst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95280" y="333360"/>
            <a:ext cx="433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ьютон умер в Кенсингтоне, под Лондоном, в марте 1727 года. Каменная болезнь жестоко мучила его, но здесь как будто утихла; он смеялся, беседовал с врачом, читал газеты. А ночью тихо ум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65360" cy="3513240"/>
          </a:xfrm>
          <a:prstGeom prst="rect">
            <a:avLst/>
          </a:prstGeom>
          <a:ln w="19080">
            <a:solidFill>
              <a:srgbClr val="cccc00"/>
            </a:solidFill>
            <a:miter/>
          </a:ln>
        </p:spPr>
      </p:pic>
      <p:sp>
        <p:nvSpPr>
          <p:cNvPr id="45" name="WordArt 5"/>
          <p:cNvSpPr txBox="1"/>
          <p:nvPr/>
        </p:nvSpPr>
        <p:spPr>
          <a:xfrm>
            <a:off x="1835280" y="189000"/>
            <a:ext cx="547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cc6600"/>
                    </a:gs>
                    <a:gs pos="100000">
                      <a:srgbClr val="cc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ААК  НЬЮТО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cc6600"/>
                  </a:gs>
                  <a:gs pos="100000">
                    <a:srgbClr val="cc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7960" y="486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1643-17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048480" y="1484280"/>
            <a:ext cx="5643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Е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МОЛОДЫ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«Я ГИПОТЕЗ НЕ ИЗМЫШЛЯ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МЕРТЬ НЬЮ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65360" cy="3513240"/>
          </a:xfrm>
          <a:prstGeom prst="rect">
            <a:avLst/>
          </a:prstGeom>
          <a:ln w="19080">
            <a:solidFill>
              <a:srgbClr val="cccc00"/>
            </a:solidFill>
            <a:miter/>
          </a:ln>
        </p:spPr>
      </p:pic>
      <p:sp>
        <p:nvSpPr>
          <p:cNvPr id="50" name="WordArt 6"/>
          <p:cNvSpPr txBox="1"/>
          <p:nvPr/>
        </p:nvSpPr>
        <p:spPr>
          <a:xfrm>
            <a:off x="1835280" y="189000"/>
            <a:ext cx="5472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cc6600"/>
                    </a:gs>
                    <a:gs pos="100000">
                      <a:srgbClr val="cc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ААК  НЬЮТО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cc6600"/>
                  </a:gs>
                  <a:gs pos="100000">
                    <a:srgbClr val="cc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51480" y="2055960"/>
            <a:ext cx="326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716360" y="1052640"/>
            <a:ext cx="42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ВЕЛИЧАЙШИЙ МАТЕМАТИК ВСЕХ ВРЕМЕН И НАРОД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ылов А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a3"/>
          <p:cNvPicPr/>
          <p:nvPr/>
        </p:nvPicPr>
        <p:blipFill>
          <a:blip r:embed="rId2"/>
          <a:stretch/>
        </p:blipFill>
        <p:spPr>
          <a:xfrm>
            <a:off x="6732720" y="515772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8"/>
          <p:cNvSpPr/>
          <p:nvPr/>
        </p:nvSpPr>
        <p:spPr>
          <a:xfrm>
            <a:off x="3203640" y="213372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тот человек сформулировал основные законы механики, открыл закон всемирного тяготения, открыл законы разложения белого света и выдвинул корпускулярно-волновую теорию света, разработал дифференциальное и интегральное исчисления, открыл закон охлаждения нагретого тела, открыл закон сопротивления движению в вязкой жидкости, сконструировал один из первых термометров, впервые построил отражательный телеско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7960" y="486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1643-17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900000" y="5589720"/>
            <a:ext cx="55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Он самый счастливый — систему мира можно установить только один раз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Arial"/>
              </a:rPr>
              <a:t>Лагран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119700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Исаак Ньютон родился        в небольшом селении Вульстор примерно в 200 километрах от Лондона. Родился недоноском, поразительно маленьким и хи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059280" y="1773360"/>
            <a:ext cx="45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763640" y="1484280"/>
            <a:ext cx="638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5111640" cy="298152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62" name="Text Box 8"/>
          <p:cNvSpPr/>
          <p:nvPr/>
        </p:nvSpPr>
        <p:spPr>
          <a:xfrm>
            <a:off x="250920" y="3429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«Отец Ньютона, также Исаак Ньютон, только за несколько месяцев до своей кончины женился на Анне Эйскоу. Таким образом, Ньютон не видал своего отца. Известно лишь, что отец умер в возрасте 37 лет и «был диким, чудным и слабым человеко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13200" y="4365720"/>
            <a:ext cx="523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«Мать Ньютона, происходившая из уважаемой в округе семьи, по-видимому, тоже фермерской, наоборот, в воспоминаниях характеризуется как «женщина исключительных достоинств и доброт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125892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Е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1258920" y="350028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"/>
              </a:rPr>
              <a:t>Дом в Вульсторпе, где родился Ньюто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258920" y="3500280"/>
            <a:ext cx="1873080" cy="505080"/>
          </a:xfrm>
          <a:prstGeom prst="wedgeRectCallout">
            <a:avLst>
              <a:gd name="adj1" fmla="val -96777"/>
              <a:gd name="adj2" fmla="val -65092"/>
            </a:avLst>
          </a:prstGeom>
          <a:noFill/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2989080" cy="224604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68" name="Text Box 11"/>
          <p:cNvSpPr/>
          <p:nvPr/>
        </p:nvSpPr>
        <p:spPr>
          <a:xfrm>
            <a:off x="5580000" y="5589720"/>
            <a:ext cx="35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 легенде, эта яблоня выращена из семечка яблока, упавшего на голову Иса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79280" y="414972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12 лет Ньютона поместили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ролевскую школу в Грэнтэм — маленький городок в десяти километрах от родной деревуш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Жил он на квартире у аптекаря Кларка, общение с которым возбудило в нем влечение к химическим опытам; что касается школьных предметов, то они не давались е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851280" y="98100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ебольшой двухэтажный домик находился в уютной долине, где бьют чистые ключи. Небольшой спуск из дома вел к речке Битам. Из окон открывался живописный вид сада, где Ньютон любил сидеть. Может быть, именно в этом саду упало знаменитое яблоко, "подсказавшее" Ньютону закон всемирного тяго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133200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Е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5"/>
          <a:stretch/>
        </p:blipFill>
        <p:spPr>
          <a:xfrm>
            <a:off x="395280" y="1052640"/>
            <a:ext cx="3263760" cy="2349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25892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Е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50920" y="3284640"/>
            <a:ext cx="5111640" cy="2981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250920" y="90792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ьютон решил: нужно опередить своего обидчика в учебе. Мальчик стал усиленно заниматься по всем предметам и вскоре сделался первым уче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580000" y="5157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вечерам Ньютон запускал воздушные змеи с прикрепленными к ним небольшими фонар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50920" y="184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н построил миниатюрную ветряную мельницу, возбуждавшую восхищение не только детей, но и взрослых. При ветре мельница могла смолоть даже горсть зерна. А в безветренную погоду мельницу двигал живой "мельник": эту роль выполняла мышь, которая двигала кол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 flipV="1" rot="10800000">
            <a:off x="5506560" y="3139560"/>
            <a:ext cx="36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четырнадцатилетнем возрасте Ньютон изобрел водяные часы и своеобразный самок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асы были настолько верны, что семейство аптекаря пользовалось только и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8"/>
          <p:cNvSpPr txBox="1"/>
          <p:nvPr/>
        </p:nvSpPr>
        <p:spPr>
          <a:xfrm>
            <a:off x="1332000" y="260280"/>
            <a:ext cx="648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Times New Roman"/>
              </a:rPr>
              <a:t>МОЛОДЫЕ 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816360" cy="26762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82" name="Text Box 10"/>
          <p:cNvSpPr/>
          <p:nvPr/>
        </p:nvSpPr>
        <p:spPr>
          <a:xfrm>
            <a:off x="250920" y="4076640"/>
            <a:ext cx="3816360" cy="3373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ость школы в Грэнтэ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500720" y="119700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56 г. мать Ньютона овдовела второй раз и с тремя детьми, братом и сестрами Исаака, вернулась в Вульстор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211640" y="270828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приучить Ньютона к хозяйству, она каждую субботу посылала его на рынок в Грэнтэм со старым служителем, где они должны были продавать продукты фермы и покупать нужные для семьи това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95280" y="4797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жды дядя Ньютона увидел, как мальчик с увлечением решал математические задачи. Пораженный этим, он решил уговорить мать Ньютона не противиться желанию сына продолжать образование. Мать сама скоро убедилась, что ее сын не рожден фермером, и отослала его опять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743280" cy="28080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87" name="WordArt 5"/>
          <p:cNvSpPr txBox="1"/>
          <p:nvPr/>
        </p:nvSpPr>
        <p:spPr>
          <a:xfrm>
            <a:off x="1332000" y="260280"/>
            <a:ext cx="648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33cccc"/>
                    </a:gs>
                  </a:gsLst>
                  <a:lin ang="2700000"/>
                </a:gradFill>
                <a:latin typeface="Times New Roman"/>
              </a:rPr>
              <a:t>МОЛОДЫЕ 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33cccc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480680" y="383364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Кембрид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427640" y="1125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енью 1660 г. Ньютон снова  в грэнтэмской школе, где спешно готовится к поступлению в Кембриджский университет. 5 июня 1661 г. он принят в Тринити-колледж (коллегия Троицы) в Кембрид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0920" y="4508640"/>
            <a:ext cx="417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фессор Барроу, выступая перед студентами, публично объявил его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"мужем славным и выдающихся знаний"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2387520" cy="35431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92" name="Text Box 10"/>
          <p:cNvSpPr/>
          <p:nvPr/>
        </p:nvSpPr>
        <p:spPr>
          <a:xfrm>
            <a:off x="6877080" y="3357720"/>
            <a:ext cx="226692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атуя сэра Исаака Ньютона над входом в Тринити-колледж, Кембрид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 статуе высечены слова Лукре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«Разумом он превосходил род человече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1332000" y="260280"/>
            <a:ext cx="648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Times New Roman"/>
              </a:rPr>
              <a:t>МОЛОДЫЕ 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3171600" cy="219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95" name="Text Box 7"/>
          <p:cNvSpPr/>
          <p:nvPr/>
        </p:nvSpPr>
        <p:spPr>
          <a:xfrm>
            <a:off x="826920" y="1413000"/>
            <a:ext cx="44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64–1667 годах, спасаясь от ужасов чумы (в одном  только Лондоне сожгли 31 тысячу трупов), он уезжает на два года в родную деревуш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3961080" cy="3294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97" name="Text Box 9"/>
          <p:cNvSpPr/>
          <p:nvPr/>
        </p:nvSpPr>
        <p:spPr>
          <a:xfrm>
            <a:off x="5148360" y="378936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ыли годы поистине титанической творческ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19640" y="4941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аак Ньютон заложил основы классической механики и сформулировал закон всемирного тяго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53272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12179" y="3837"/>
                </a:moveTo>
                <a:lnTo>
                  <a:pt x="14755" y="6448"/>
                </a:ln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lnTo>
                  <a:pt x="19142" y="10800"/>
                </a:lnTo>
                <a:lnTo>
                  <a:pt x="17488" y="10800"/>
                </a:lnTo>
                <a:lnTo>
                  <a:pt x="17488" y="17989"/>
                </a:lnTo>
                <a:lnTo>
                  <a:pt x="6869" y="17989"/>
                </a:lnTo>
                <a:lnTo>
                  <a:pt x="6869" y="10800"/>
                </a:lnTo>
                <a:lnTo>
                  <a:pt x="5216" y="10800"/>
                </a:lnTo>
                <a:close/>
              </a:path>
              <a:path fill="darkenLess" w="24357" h="21600">
                <a:moveTo>
                  <a:pt x="14755" y="6448"/>
                </a:moveTo>
                <a:lnTo>
                  <a:pt x="14755" y="4707"/>
                </a:lnTo>
                <a:lnTo>
                  <a:pt x="16531" y="4707"/>
                </a:lnTo>
                <a:lnTo>
                  <a:pt x="16531" y="8224"/>
                </a:lnTo>
                <a:close/>
              </a:path>
              <a:path fill="darkenLess" w="24357" h="21600">
                <a:moveTo>
                  <a:pt x="11256" y="14299"/>
                </a:moveTo>
                <a:lnTo>
                  <a:pt x="13101" y="14299"/>
                </a:lnTo>
                <a:lnTo>
                  <a:pt x="13101" y="17989"/>
                </a:lnTo>
                <a:lnTo>
                  <a:pt x="17488" y="17989"/>
                </a:lnTo>
                <a:lnTo>
                  <a:pt x="17488" y="10800"/>
                </a:lnTo>
                <a:lnTo>
                  <a:pt x="6869" y="10800"/>
                </a:lnTo>
                <a:lnTo>
                  <a:pt x="6869" y="17989"/>
                </a:lnTo>
                <a:lnTo>
                  <a:pt x="11256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1:20:07Z</dcterms:created>
  <dc:creator>Димон</dc:creator>
  <dc:description/>
  <dc:language>en-US</dc:language>
  <cp:lastModifiedBy>Татьяна</cp:lastModifiedBy>
  <dcterms:modified xsi:type="dcterms:W3CDTF">2013-02-26T18:23:34Z</dcterms:modified>
  <cp:revision>79</cp:revision>
  <dc:subject/>
  <dc:title>Биография Ньют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7000000000001024140</vt:lpwstr>
  </property>
</Properties>
</file>