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whoosh.wav" ContentType="audio/x-wav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drumroll.wav" ContentType="audio/x-wav"/>
  <Override PartName="/ppt/media/image5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12.png" ContentType="image/png"/>
  <Override PartName="/ppt/media/image17.jpeg" ContentType="image/jpeg"/>
  <Override PartName="/ppt/media/gunshot.wav" ContentType="audio/x-wav"/>
  <Override PartName="/ppt/media/image3.png" ContentType="image/png"/>
  <Override PartName="/ppt/media/image2.png" ContentType="image/png"/>
  <Override PartName="/ppt/media/image4.jpeg" ContentType="image/jpeg"/>
  <Override PartName="/ppt/media/ricochet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217-A2B5-4B7E-88BF-B59A7F8C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7AC-8CB0-4668-BAF5-D3161C3C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927-34BB-485F-A570-25F01B0D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397-8534-43E6-A78A-6A6927EA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E6F0C-8653-4D34-947A-40D60E0B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D63B6-1CA3-438A-BECE-210E6FAA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F6CF6-3F43-4CF8-A42F-9D278B7F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AB61C-FC1F-461A-AC01-2255072F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523B0-B52C-4E05-81A9-4135DB27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93B65-0ABB-4EFF-9B78-5155D57D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1EE7E-BAF0-4896-9CBC-72451D36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6CD-223A-4384-85F9-AB70F807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31E1D-DFDB-468B-BE7F-EC762DD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05AA3-CFA4-4B1D-BF65-AB11E410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128ED-BB45-4BDB-A4A6-A6E448CD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01061-0639-403A-825B-A5A78059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58910-D485-4017-BAA9-59381BB9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7B8-47C2-4F26-9124-37FEBF41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593-628E-4B9F-BC86-E54FF83C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230-A1DE-47CF-9A87-0B5176AE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2EA-F07C-4C1F-9FE1-68656D4C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E8E-FD01-4B4A-B303-D455029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A57-C218-4CDA-8828-596A01F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DAF-42BE-400D-9F47-D69B7124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85BB-EBB5-4D1F-A5C2-4BDC41B77C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6BE1-F1E9-4CAA-B171-BDAA30EA2E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audio" Target="../media/whoosh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меры использования инноваций в подготовке специалистов по техническим специальностя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4356000" y="5950080"/>
            <a:ext cx="15843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13 год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5" descr="e_1"/>
          <p:cNvPicPr/>
          <p:nvPr/>
        </p:nvPicPr>
        <p:blipFill>
          <a:blip r:embed="rId3"/>
          <a:stretch/>
        </p:blipFill>
        <p:spPr>
          <a:xfrm>
            <a:off x="0" y="1844640"/>
            <a:ext cx="9144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0720" y="306360"/>
            <a:ext cx="770400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1a09"/>
                </a:solidFill>
                <a:latin typeface="Times New Roman"/>
              </a:rPr>
              <a:t>Точечный мет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250920" y="765000"/>
          <a:ext cx="419076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419076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87640" y="907920"/>
            <a:ext cx="3809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именяется для расчета общего равномерного, общего локализованного и местного освещения при наличии или отсутствии затенений и при любом расположении освещаемых поверхностей, но как правило, только при светильниках прямого све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Этот метод применяется так же при расчете наружного освещен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2" descr="http://www.geipel.ru/image/products/luminaires_22.jpg"/>
          <p:cNvPicPr/>
          <p:nvPr/>
        </p:nvPicPr>
        <p:blipFill>
          <a:blip r:embed="rId3"/>
          <a:stretch/>
        </p:blipFill>
        <p:spPr>
          <a:xfrm>
            <a:off x="250920" y="3500280"/>
            <a:ext cx="4176720" cy="335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8400" y="306360"/>
            <a:ext cx="77263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1a09"/>
                </a:solidFill>
                <a:latin typeface="Times New Roman"/>
              </a:rPr>
              <a:t>Расчет размещения осветительной арма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324000" y="1700280"/>
          <a:ext cx="426708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42670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3280" y="2322000"/>
            <a:ext cx="4245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грамма позволяет произвести расчет размещения осветительной арматуры с учетом нормативных требований в течении трех секунд, на что даже  проектировщику с опытом работы требуется не менее ча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пользования данной программой необходимо знать габариты помещения и количество световых точек, рассчитанных при помощи выше представленных программ П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0" descr="http://eurolamp.ru/images/20061006214422.jpg"/>
          <p:cNvPicPr/>
          <p:nvPr/>
        </p:nvPicPr>
        <p:blipFill>
          <a:blip r:embed="rId3"/>
          <a:stretch/>
        </p:blipFill>
        <p:spPr>
          <a:xfrm>
            <a:off x="250920" y="4405320"/>
            <a:ext cx="439236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ограммы ПК для расчетов электрического освещ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http://www.id4.ru/wp-content/uploads/2008/01/nlamp.jpg"/>
          <p:cNvPicPr/>
          <p:nvPr/>
        </p:nvPicPr>
        <p:blipFill>
          <a:blip r:embed="rId1"/>
          <a:srcRect l="9169" t="0" r="9169" b="0"/>
          <a:stretch/>
        </p:blipFill>
        <p:spPr>
          <a:xfrm>
            <a:off x="1332000" y="1484280"/>
            <a:ext cx="684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23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6920" y="0"/>
            <a:ext cx="77724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ограммы ПК  применяемые для расчета и проектирования электрического освещения по дисциплине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e709"/>
                </a:solidFill>
                <a:latin typeface="Monotype Corsiva"/>
              </a:rPr>
              <a:t>«</a:t>
            </a:r>
            <a:r>
              <a:rPr b="1" lang="ru-RU" sz="3600" spc="-1" strike="noStrike">
                <a:solidFill>
                  <a:srgbClr val="19e709"/>
                </a:solidFill>
                <a:latin typeface="Monotype Corsiva"/>
              </a:rPr>
              <a:t>Электрическое и электромеханическое оборудование</a:t>
            </a:r>
            <a:r>
              <a:rPr b="0" lang="ru-RU" sz="3200" spc="-1" strike="noStrike">
                <a:solidFill>
                  <a:srgbClr val="19e709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2" descr="http://divine-light.ru/images/stories/svetilniki-dekorativnye-swarovski-big.jpg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3059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верное размещение светильников в помещении может привести к недостаточному или неправильному освещению рабочих мест и всей рабочей зоны, вызовет преждевременное утомление человека и может быть причиной не только снижения производительности труда, но и несчастного случ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того что бы это не произошло применяется программа ПК «Расчет размещения осветительной арматуры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http://www.berezka.info/tradeImages/73.jpg"/>
          <p:cNvPicPr/>
          <p:nvPr/>
        </p:nvPicPr>
        <p:blipFill>
          <a:blip r:embed="rId1"/>
          <a:stretch/>
        </p:blipFill>
        <p:spPr>
          <a:xfrm>
            <a:off x="0" y="4005360"/>
            <a:ext cx="4788000" cy="2852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static.novate.ru/files/novate/occhio-sento-verticale-3.jpg"/>
          <p:cNvPicPr/>
          <p:nvPr/>
        </p:nvPicPr>
        <p:blipFill>
          <a:blip r:embed="rId2"/>
          <a:stretch/>
        </p:blipFill>
        <p:spPr>
          <a:xfrm>
            <a:off x="4859280" y="4005360"/>
            <a:ext cx="4284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d1a09"/>
                </a:solidFill>
                <a:latin typeface="Tahoma"/>
                <a:ea typeface="Times New Roman"/>
              </a:rPr>
              <a:t>Программа</a:t>
            </a:r>
            <a:br>
              <a:rPr sz="3600"/>
            </a:br>
            <a:r>
              <a:rPr b="1" lang="ru-RU" sz="3600" spc="-1" strike="noStrike">
                <a:solidFill>
                  <a:srgbClr val="fd1a09"/>
                </a:solidFill>
                <a:latin typeface="Tahoma"/>
                <a:ea typeface="Times New Roman"/>
              </a:rPr>
              <a:t>Расчёт количества и мощности световых точек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120" y="1773360"/>
            <a:ext cx="8534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Открытие программы производится двойным щелчком мыши п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ярл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Сразу после нажатия появится форма с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кнопками, каждая кнопка   соответствует формуле, также ниже есть ещё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кнопка «Выход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http://www.intdesignmebel.ru/bimages/Ball-up-SP-R.jpg"/>
          <p:cNvPicPr/>
          <p:nvPr/>
        </p:nvPicPr>
        <p:blipFill>
          <a:blip r:embed="rId1"/>
          <a:stretch/>
        </p:blipFill>
        <p:spPr>
          <a:xfrm>
            <a:off x="1476360" y="4149720"/>
            <a:ext cx="5904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d1a09"/>
                </a:solidFill>
                <a:latin typeface="Tahoma"/>
                <a:ea typeface="Times New Roman"/>
              </a:rPr>
              <a:t>Программа</a:t>
            </a:r>
            <a:br>
              <a:rPr sz="4400"/>
            </a:br>
            <a:r>
              <a:rPr b="1" lang="ru-RU" sz="4400" spc="-1" strike="noStrike">
                <a:solidFill>
                  <a:srgbClr val="fd1a09"/>
                </a:solidFill>
                <a:latin typeface="Tahoma"/>
                <a:ea typeface="Times New Roman"/>
              </a:rPr>
              <a:t>Расчёт количества и мощности световых точек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560" y="2057040"/>
            <a:ext cx="8381880" cy="25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Нажмите на кнопку нужной вам формуле, появится форма с «Введите исходные данные» вам нужно ввести значения и нажать кнопку «Расчёт», вы получите ответ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его нужно будет округлить самостоятель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вод данных происходит с помощью цифр или стрелок на клавиату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После получения ответа, если требуется посчитать еще, то не нужно выходить из программы, а просто ввести новые данны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http://www.landsvet.kiev.ua/files/images/land1.jpg"/>
          <p:cNvPicPr/>
          <p:nvPr/>
        </p:nvPicPr>
        <p:blipFill>
          <a:blip r:embed="rId1"/>
          <a:stretch/>
        </p:blipFill>
        <p:spPr>
          <a:xfrm>
            <a:off x="971640" y="4076640"/>
            <a:ext cx="7056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720" y="306360"/>
            <a:ext cx="770400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1a09"/>
                </a:solidFill>
                <a:latin typeface="Times New Roman"/>
              </a:rPr>
              <a:t>Программы расчет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324000" y="836640"/>
          <a:ext cx="434340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434340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00360" y="1527120"/>
            <a:ext cx="43923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Эти программы очень удобны и просты в использовании. Программы  позволяют значительно сократить время расчетов и не требует от пользователя ПК глубоких знаний в области информационных технологи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Для производства расчетов с помощью представленных  программ необходимо соблюдать последовательность действий при вводе исходных данных и иметь предварительно теоретическую подготовку по расчету и проектированию электрического освещения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осле ввода данных требуется нажать кнопку </a:t>
            </a:r>
            <a:r>
              <a:rPr b="0" lang="ru-RU" sz="1900" spc="-1" strike="noStrike">
                <a:solidFill>
                  <a:srgbClr val="fd1a09"/>
                </a:solidFill>
                <a:latin typeface="Times New Roman"/>
              </a:rPr>
              <a:t>«расчет»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и легко и быстро получить рассчитываемые параметры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" descr="http://www.td7.ru/catalog/img/small/Foto_GC_029.jpg"/>
          <p:cNvPicPr/>
          <p:nvPr/>
        </p:nvPicPr>
        <p:blipFill>
          <a:blip r:embed="rId3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6000" y="306360"/>
            <a:ext cx="77770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d1a09"/>
                </a:solidFill>
                <a:latin typeface="Times New Roman"/>
              </a:rPr>
              <a:t>Метод коэффициента использования светового пото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8360" y="1341360"/>
          <a:ext cx="426708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4267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2451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т метод дает возможность определить световой поток лампы, необходимый для создания заданной освещенности горизонтальной поверхности при общем равномерном освещении с учетом света отраженного стенами, потолком и по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т метод не пригоден для расчета локализованного местного и наружного освещения, а так же негоризонтальных рабочих поверхнос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http://www.unipack.ru/user_files/file5874.jpg"/>
          <p:cNvPicPr/>
          <p:nvPr/>
        </p:nvPicPr>
        <p:blipFill>
          <a:blip r:embed="rId3"/>
          <a:stretch/>
        </p:blipFill>
        <p:spPr>
          <a:xfrm>
            <a:off x="468360" y="4581360"/>
            <a:ext cx="4319640" cy="2276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0720" y="306000"/>
            <a:ext cx="77040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1a09"/>
                </a:solidFill>
                <a:latin typeface="Times New Roman"/>
              </a:rPr>
              <a:t>Метод удельной мощ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250920" y="836640"/>
          <a:ext cx="426708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426708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3280" y="907920"/>
            <a:ext cx="424512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тод удельной мощности применяется для расчета общего равномерного освещения при отсутствии требующих учета затенений и в пределах тех паспортных данных для которых составлены таблиц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т метод не применяется для расчета малых помещ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 же он используется для оценки экономических решений, для самоконтроля расчетов и для предварительного определения осветительной нагрузки на начальных стадиях проектиро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http://tehpoisk.ru/images/00002057.jpg"/>
          <p:cNvPicPr/>
          <p:nvPr/>
        </p:nvPicPr>
        <p:blipFill>
          <a:blip r:embed="rId3"/>
          <a:stretch/>
        </p:blipFill>
        <p:spPr>
          <a:xfrm>
            <a:off x="0" y="3933720"/>
            <a:ext cx="4716360" cy="292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75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75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75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$$$</cp:lastModifiedBy>
  <dcterms:modified xsi:type="dcterms:W3CDTF">2013-02-26T18:31:57Z</dcterms:modified>
  <cp:revision>33</cp:revision>
  <dc:subject/>
  <dc:title>Презентация PowerPoint</dc:title>
</cp:coreProperties>
</file>