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A357-BA85-4A49-9748-3E0F20D11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80BF-C548-4118-AB95-B651862D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1E0E-D1C4-4FB3-B91B-E7CC3A843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CD90-E3B2-4396-89AD-2694D8486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81F5-FA84-4F66-A841-1071AE41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4796-D53E-4760-84F8-8510B4E5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9803-D7C6-4FC0-8407-EA8DFBB1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E5DB-8B40-4D3A-815B-EB64CEE0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C902-FEC4-4409-86EF-1C3206ED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7408-EEC0-4B7A-A3FF-E79C18AC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4676-2F2D-472E-9C1D-75B656A4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9D22-8EF9-4B4B-8788-3070D3E0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051B-BD47-4293-84F8-227449BB2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erbalist.ru/ill47.html#anchor_3" TargetMode="External"/><Relationship Id="rId3" Type="http://schemas.openxmlformats.org/officeDocument/2006/relationships/hyperlink" Target="http://www.dnaekb.ru/statmain/statboleznim/127-lib-pizhev.html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Заболевания пищеварительной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71640" y="1844640"/>
            <a:ext cx="3429000" cy="4286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076720" y="4724280"/>
            <a:ext cx="390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езентацию подготови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дария Гоча ученик 8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читель биолог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Яндышев Г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Холецист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Это воспаление желч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узыря острого характе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провоцирова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бразованием кам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епосредственно в желч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узыре. При холецист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оисходит застой желчи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аражение ее кишеч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крофлор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356000" y="1844640"/>
            <a:ext cx="417672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Язва желудка и двенадцатиперстной киш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453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Язвенная болезнь желудка,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акже двенадцатиперстной ки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едставляет собой хрон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аболевание, при кото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блюдается формирование яз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или дефектов слизистой оболочк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Язвы образуются вследств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исутствия особе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кроорганизмов, а именно бактерий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licobacter pylo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роме того, неправильное пита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трессы, курение, чрезмер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потребление алкоголя и пр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екоторых лекарственных средст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оздают благоприятные условия д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азвития болез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932360" y="1773360"/>
            <a:ext cx="360036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Заболевания пищеварительной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это целый комплекс характерных, постоянных либо периодически появляющихся симптомов, свидетельствующих о нарушениях функционирования системы пищеварения либо отдельного ее органа. Изучением такого рода заболеваний занимается наука «гастроэнтерология»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писок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herbalist.ru/ill47.html#anchor_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www.dnaekb.ru/statmain/statboleznim/127-lib-pizhev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бщие сведения о пищеварительной систе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ичины расстройства пищеварительн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иды заболе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писок литератур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Общие свед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410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Пищеварительная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человека осуществля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ереваривание пищи путём е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физической и химиче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бработки, всасывание проду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асщепления через слизист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болочку в кровь и лимфу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ыведение непереработ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стат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Основные функци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–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асщепление, переваривание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сасывание питательных вещест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торые содержатся в пищ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менно посредством да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истемы из организма выводя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бочные продукты пищевар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торые еще называют шлак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0" y="1700280"/>
            <a:ext cx="424800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Причины расстройства пищеварительной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рожденные либо наследственные заболе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правильное пит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падание в организм человека возбудителей боле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рессы. Неблагоприятное психоэмоциональное состояние может спровоцировать образование или возобновление болезней Ж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Виды заболев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настоящее время существует достаточно м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болеваний желудочно-кишечного тракта, но наибо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спространенными являются язва желудка и яз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олезни двенадцатиперстной кишки, хрониче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астрит и хронический колит и, наиболее ча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стречающийся (до 80%), дисбактерио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Гастр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324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Это воспаление слизис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или внутренней) обол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тенок желудка. Гастр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ожет быть острым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хроническим. Ост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форма болезни возник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первые и протек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остаточно бурно, тогда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ля хронической фор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войствен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вторяющиеся присту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овремя не вылеч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стрый гастрит со времен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ереходит в хроническ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тадию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995280" y="16002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95640" y="1844640"/>
            <a:ext cx="46958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Дисбактерио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9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Это заболевание, при кото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оисходит качестве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зменение типич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идового состава бактерий (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кробиоты) кишеч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427640" y="1600200"/>
            <a:ext cx="446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4248000" cy="37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Кол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Это воспаление, поражающ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лизистую оболочку толс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ишки и распространяющее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 на все отделы толст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ишечника, так и на отд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его составляющ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356000" y="1700280"/>
            <a:ext cx="4392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Панкреат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Это группа заболеваний,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акже синдромов, при котор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азвивается воспа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джелудочной желе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сновной причиной боле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является чрезмер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потребление алкоголя. Кро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ого, панкреатит мо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ыступать в каче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сложнения желчнокаме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олезн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540320" y="1557360"/>
            <a:ext cx="40640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17:28:36Z</dcterms:created>
  <dc:creator>WiZaRd</dc:creator>
  <dc:description/>
  <dc:language>en-US</dc:language>
  <cp:lastModifiedBy>SEC</cp:lastModifiedBy>
  <dcterms:modified xsi:type="dcterms:W3CDTF">2013-02-26T16:09:45Z</dcterms:modified>
  <cp:revision>6</cp:revision>
  <dc:subject/>
  <dc:title>Заболевания пищеварительной системы</dc:title>
</cp:coreProperties>
</file>