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830-820B-481C-8E28-D7BBA665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8F47-C99A-424D-AFE6-464B0F71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F64-2577-4F3F-AADA-5ADFD68A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EF0F-EA73-4101-9648-5C411971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4AAF-09FD-4CB1-A29D-C6F317A1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2531-2D97-4C4D-9285-1DAB6906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D93D-4ED0-4887-8625-17A3B786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8492-4BB6-4F1E-A3DA-6C25685A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440A-B6BA-46B2-ADC5-D60456BD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9902-0289-47FA-9D53-79ABA697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C577-4154-4618-9209-25B52785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90C-D9C4-4D14-81B4-C927ADF6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32B2-3CF6-4FED-9258-52174FEF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5F59-2874-4906-88C3-D1C26CB4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702A-CAE6-45E4-B24E-5D0F31DA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3899-D16C-4B47-9BE4-A4828387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C851-9433-456A-A3E4-4584B3FE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E6F8-AE41-4D10-903A-E9074E33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851D-7DF2-4D70-910B-F4342C1C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2777-48F6-45D0-AA14-78D821B0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9641-BB6D-4486-986C-CAC0AAA5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950A-AE95-490B-A1B5-8DF7244C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38FF-D906-4C15-96F7-C9F5DDBB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F9D6-545E-4C16-A8B2-01F0B41C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1357-0AAF-46C4-8DD6-FB266F95820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EC1D-C8C6-4DBC-A7A3-FBB11F5419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upload.wikimedia.org/wikipedia/uk/a/a7/Jan_Zeh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Старинная керосиновая лампа"/>
          <p:cNvPicPr/>
          <p:nvPr/>
        </p:nvPicPr>
        <p:blipFill>
          <a:blip r:embed="rId2"/>
          <a:stretch/>
        </p:blipFill>
        <p:spPr>
          <a:xfrm>
            <a:off x="1763640" y="1844640"/>
            <a:ext cx="5545080" cy="4078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11280" y="18900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800"/>
                </a:solidFill>
                <a:latin typeface="Arial"/>
              </a:rPr>
              <a:t>Муниципальное автономное образовательное учрежд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8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1800"/>
                </a:solidFill>
                <a:latin typeface="Arial"/>
              </a:rPr>
              <a:t>начальная общеобразовательная школа</a:t>
            </a:r>
            <a:r>
              <a:rPr b="1" lang="en-US" sz="1600" spc="-1" strike="noStrike">
                <a:solidFill>
                  <a:srgbClr val="0018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1800"/>
                </a:solidFill>
                <a:latin typeface="Arial"/>
              </a:rPr>
              <a:t>№</a:t>
            </a:r>
            <a:r>
              <a:rPr b="1" lang="en-US" sz="1600" spc="-1" strike="noStrike">
                <a:solidFill>
                  <a:srgbClr val="001800"/>
                </a:solidFill>
                <a:latin typeface="Tahoma"/>
              </a:rPr>
              <a:t> 5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4149720"/>
            <a:ext cx="208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роверила преподаватель: Белова О.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ченицы 3 «А» клас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Тарабанько Поли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90792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ЕРОСИНОВАЯ ЛАМ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4880" y="630864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лининград, 2012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6920" y="1341360"/>
            <a:ext cx="637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нтересные факты из истории керосиновой лам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26920" y="2205000"/>
            <a:ext cx="2592720" cy="4319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87280" y="6922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ероси́новая ла́мп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981000"/>
            <a:ext cx="422280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етильник на основ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9600" y="227664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ду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4520" y="2637000"/>
            <a:ext cx="19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го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58520" y="299736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ф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92680" y="1844640"/>
            <a:ext cx="37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горания керосина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22160" y="3573360"/>
            <a:ext cx="258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кономич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90480" y="4221000"/>
            <a:ext cx="42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рче горит, чем свеч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3240" y="4869000"/>
            <a:ext cx="337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рючие для не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ло дешев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3640" y="3860640"/>
            <a:ext cx="2087640" cy="0"/>
          </a:xfrm>
          <a:prstGeom prst="line">
            <a:avLst/>
          </a:prstGeom>
          <a:ln w="442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3860640"/>
            <a:ext cx="1079280" cy="648000"/>
          </a:xfrm>
          <a:prstGeom prst="line">
            <a:avLst/>
          </a:prstGeom>
          <a:ln w="442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3640" y="3860640"/>
            <a:ext cx="1366920" cy="1368720"/>
          </a:xfrm>
          <a:prstGeom prst="line">
            <a:avLst/>
          </a:prstGeom>
          <a:ln w="442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88520" y="5803920"/>
            <a:ext cx="347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явилась в Росс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861 го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3860640"/>
            <a:ext cx="934920" cy="2089440"/>
          </a:xfrm>
          <a:prstGeom prst="line">
            <a:avLst/>
          </a:prstGeom>
          <a:ln w="442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5805000"/>
            <a:ext cx="2962440" cy="6238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66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Georgia"/>
              </a:rPr>
              <a:t>Игнаций Лукасевич</a:t>
            </a:r>
            <a:r>
              <a:rPr b="0" lang="ru-RU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ffffb7"/>
                </a:solidFill>
                <a:latin typeface="Arial Black"/>
              </a:rPr>
              <a:t>(1822-1882)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384360" cy="4416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6120" y="281160"/>
            <a:ext cx="5465880" cy="520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1853 году в городе Львов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93840" y="6021360"/>
            <a:ext cx="1570680" cy="703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н Зе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7-189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32720" y="1700280"/>
            <a:ext cx="2220840" cy="41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зобрели керосиновую лампу, которая чуть ли не столетие обслуживала человечество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Файл:Jan Zeh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1628640"/>
            <a:ext cx="3311640" cy="4348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6320" y="836640"/>
            <a:ext cx="35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льские аптека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724000" y="476280"/>
            <a:ext cx="29624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мориальная композиция в честь создателей керосиновой лампы в городе Льво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400720" cy="6524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84720" y="5229360"/>
            <a:ext cx="2675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а скульптора Владимира Цисарыка. 2008г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50560" y="4508640"/>
            <a:ext cx="460836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гнатий Лукасевич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4572000" cy="3789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84720" y="2492280"/>
            <a:ext cx="4572000" cy="4149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228720" y="1707480"/>
            <a:ext cx="170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Ян Зе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00720" y="907560"/>
            <a:ext cx="41860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Реконструкция первой керосиновой лампы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753080" cy="6480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292720" y="5229360"/>
            <a:ext cx="26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Экспонат аптеки-музея во Льво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47960" y="623664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птека № 24 (2009 г.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г. Льв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1080" y="404640"/>
            <a:ext cx="80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В этой аптеке была изобретена керосиновая лам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8:26:19Z</dcterms:created>
  <dc:creator>александр</dc:creator>
  <dc:description/>
  <dc:language>en-US</dc:language>
  <cp:lastModifiedBy>александр</cp:lastModifiedBy>
  <dcterms:modified xsi:type="dcterms:W3CDTF">2013-02-26T09:34:59Z</dcterms:modified>
  <cp:revision>6</cp:revision>
  <dc:subject/>
  <dc:title>Слайд 1</dc:title>
</cp:coreProperties>
</file>