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E36-6DDE-4793-94C2-E280C94F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CDD-4CB8-4EF0-AA19-BC74C47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38B-B887-4598-ABD8-C189059E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49A-C007-43D2-8404-EDD52926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C385-752E-4AA6-A267-A59E0306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30D1-E296-42BD-809C-D7B08B7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1258-AA8B-402E-AB32-1407728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723E-C531-4838-ADAF-D1B4AC4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18D-1240-470C-AF79-FE9EDCC9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BD9-1DB4-47EB-96E9-27DC69F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B9FA-A13E-4B61-AB22-21261069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D37-5F7A-47C9-B4AE-7D29FB57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82D-5333-4590-9BB8-2D05F908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E0B-0E41-437B-8F31-F784572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7544-CCC0-4235-B251-8206C298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6C21-0E0C-416D-B483-86F7292E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39B-35DF-49C5-AACA-271DA7F1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886-9574-432B-9C1D-6C6BB920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2CA-AE5C-4BF5-AC04-2DFFFA9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530-B9D2-4D59-87BD-EA7AAEF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B0F-936C-4C44-AC07-770FD87F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69C-0CF3-431C-A211-EA8F138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443-D5F2-45EA-8271-D6465E7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052-EF86-43E2-8765-6F1650AC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BAA-8427-406B-A9D3-BC5BD7F07B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84BA-14C9-4ED5-85C1-743C6ACF1F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modellmix.su/_images/photos/products/102/1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zhaba.ru/_pics/s50ve1q6ciplekq6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84720" cy="427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549360"/>
            <a:ext cx="36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Юбилей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7080" y="131436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н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72428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 150-лет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30064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фтян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5950080"/>
            <a:ext cx="26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мыс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32108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920" y="244440"/>
            <a:ext cx="6842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овременные керосиновые     лампы,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00720" y="1341360"/>
            <a:ext cx="2689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используются,в основном в российской глубинке, где часто отключают электричество, а также дачниками и турист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купают и собирают коллекцион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http://www.zhaba.ru/_pics/1cvg0b74ktwl6sw5.jpg"/>
          <p:cNvPicPr/>
          <p:nvPr/>
        </p:nvPicPr>
        <p:blipFill>
          <a:blip r:embed="rId1"/>
          <a:stretch/>
        </p:blipFill>
        <p:spPr>
          <a:xfrm>
            <a:off x="0" y="836640"/>
            <a:ext cx="2200320" cy="428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ttp://i.i.ua/photo/images/pic/6/7/5599176_e2002843.jpg"/>
          <p:cNvPicPr/>
          <p:nvPr/>
        </p:nvPicPr>
        <p:blipFill>
          <a:blip r:embed="rId2"/>
          <a:stretch/>
        </p:blipFill>
        <p:spPr>
          <a:xfrm>
            <a:off x="179280" y="836640"/>
            <a:ext cx="3024360" cy="465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ttp://s005.radikal.ru/i211/1009/e1/32f8b8dd8751.jpg"/>
          <p:cNvPicPr/>
          <p:nvPr/>
        </p:nvPicPr>
        <p:blipFill>
          <a:blip r:embed="rId3"/>
          <a:stretch/>
        </p:blipFill>
        <p:spPr>
          <a:xfrm>
            <a:off x="395280" y="836640"/>
            <a:ext cx="3867120" cy="51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s52.radikal.ru/i135/1009/87/ca157cd46b56.jpg"/>
          <p:cNvPicPr/>
          <p:nvPr/>
        </p:nvPicPr>
        <p:blipFill>
          <a:blip r:embed="rId4"/>
          <a:stretch/>
        </p:blipFill>
        <p:spPr>
          <a:xfrm>
            <a:off x="684360" y="836640"/>
            <a:ext cx="386712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ttp://www.russian-souvenirs.ru/foto/product/foto803.jpg"/>
          <p:cNvPicPr/>
          <p:nvPr/>
        </p:nvPicPr>
        <p:blipFill>
          <a:blip r:embed="rId5"/>
          <a:stretch/>
        </p:blipFill>
        <p:spPr>
          <a:xfrm>
            <a:off x="1042920" y="907920"/>
            <a:ext cx="3995640" cy="486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2000" y="907920"/>
            <a:ext cx="3816360" cy="465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92360" y="907920"/>
            <a:ext cx="3744720" cy="443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1908000" y="1989000"/>
            <a:ext cx="3672000" cy="486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2050920" y="1989000"/>
            <a:ext cx="3745080" cy="486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2268360" y="1989000"/>
            <a:ext cx="4104000" cy="486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2484360" y="1989000"/>
            <a:ext cx="4094280" cy="486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2843280" y="1989000"/>
            <a:ext cx="373860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360" y="836640"/>
            <a:ext cx="7570800" cy="40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836640"/>
            <a:ext cx="7570800" cy="40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8:26:19Z</dcterms:created>
  <dc:creator>александр</dc:creator>
  <dc:description/>
  <dc:language>en-US</dc:language>
  <cp:lastModifiedBy>александр</cp:lastModifiedBy>
  <dcterms:modified xsi:type="dcterms:W3CDTF">2013-02-26T09:36:17Z</dcterms:modified>
  <cp:revision>6</cp:revision>
  <dc:subject/>
  <dc:title>Слайд 1</dc:title>
</cp:coreProperties>
</file>