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C28-2ED1-4D45-982B-9D809E42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738-F973-4EC8-91D7-2FDFDCAB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126-AA86-4229-A279-BDF30DAA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F53-9567-47A9-B59C-1BA83EF2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5FFA-4B6B-4207-A3DA-0366B3DA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C2C0-88D9-4AF2-AC87-494B1BC8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FA74-5EC5-4EBE-B4AB-097C963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0AA8-E9A0-46AC-BC4A-2ACC54E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E915-12D6-4BA2-9975-85667F3C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AECE-D690-40F3-8759-D6CDF0C4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3ED9-C9BE-44CF-A686-88F2EC20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40F-CEF4-4E1F-A2E7-D419339B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0F8-463D-4D78-8831-3FE614D6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5836-AA6B-4710-817F-C2282AF7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60C4-4303-47D0-ABE4-0EC61415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8077-824C-45D3-83DC-ED18E994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3043-2E7E-4D39-84C4-59904F6B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DC7-60C8-4855-96A5-8075C4CE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20D-E678-411A-AEF7-BAA7B58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95B-CC7B-4A89-A638-05078FC4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C33-5A49-4C58-B5BE-91EC7BB6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C31-7733-4B09-9872-9F4F25C9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F43-65F1-463E-A0B9-A8502BC6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AD8-051E-4DEA-98CE-C02D2454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F125-7C00-47D5-8A01-C7C073BBCA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AB0A-150C-48B3-A23F-3C51E4A0CD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sihotesti.ru/gloss/tag/pedagogicheskoe_masterstvo/" TargetMode="External"/><Relationship Id="rId2" Type="http://schemas.openxmlformats.org/officeDocument/2006/relationships/hyperlink" Target="http://psihotesti.ru/gloss/tag/pedagogicheskoe_masterstvo/" TargetMode="External"/><Relationship Id="rId3" Type="http://schemas.openxmlformats.org/officeDocument/2006/relationships/hyperlink" Target="http://psihotesti.ru/gloss/tag/pedagogicheskoe_masterstvo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lovari.yandex.ru/~&#1082;&#1085;&#1080;&#1075;&#1080;/&#1041;&#1057;&#1069;/...&#1083;&#1086;&#1075;&#1080;&#1103;/" TargetMode="External"/><Relationship Id="rId2" Type="http://schemas.openxmlformats.org/officeDocument/2006/relationships/hyperlink" Target="http://www.wikiznanie.ru/ru-wz/index.php/&#1040;&#1083;&#1075;&#1086;&#1088;&#1080;&#1090;&#1084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етенция и комптентность. Педагогические технолог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тарший воспитатель МДОУ Детский сад № 2 «Теремок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ородского округа Власиха Московской област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013 год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2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687060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6" descr="772b8853b64c"/>
          <p:cNvPicPr/>
          <p:nvPr/>
        </p:nvPicPr>
        <p:blipFill>
          <a:blip r:embed="rId1"/>
          <a:stretch/>
        </p:blipFill>
        <p:spPr>
          <a:xfrm>
            <a:off x="5219640" y="3213000"/>
            <a:ext cx="2730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етентность и компетенц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совокупность взаимосвязанных качеств личности (знаний, умений, навыков, способов деятельности), задаваемых по отношению к определенному кругу предметов и процессов,  необходимых для качественной продуктивной деятельности по отношению к ним. (А.В. Хуторско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омпетентност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владение, обладание человеком соответствующей компетенцией, включающей его личное отношение к ней и предмету деятельности. (А.В. Хуторско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дагогическое мастерств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сокий уровень профессиональной деятельности учителя, преподавателя вуза, педагога. Внешне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педагогическое мастерство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является в успешном творческом решении самых разнообразных педагогических задач, в эффективном использовании различных способов учебно-воспитательной работы и достижении ее целей. Педагогическое мастерство — это функционирующая система знаний, навыков, умений, психических процессов, свойств личности, обеспечивающая выполнение задач обучения и воспитания. В этом плане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педагогическое мастерство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— выражение личности педагога, его возможностей и способностей самостоятельно, творчески, квалифицированно заниматься педагогической деятельностью. В психической и педагогической литературе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 педагогическое мастерство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редко трактуется или как совокупность знаний, навыков, умений, или же как единство личных качеств, знаний, умений и навыков, необходимых педагог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Тема: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Что такое педагогическая технология? Использование педагогической технологии в ДО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атизировать знания педагогов о педагогических технологиях, их разновидностях и особенностях, знакомить с передовыми педагогическими технологиями в области дошкольного образования, повышать профессиональный уровень педагог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2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86560" cy="63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Технология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т греч. téchne — искусство, мастерство, умение и ...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ло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мысль, причина)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окупность приёмов и способов получения, обработки или переработки сырья, материалов, полуфабрикатов или изделий, осуществляемых в различных отраслях промышленности, в строительстве и т. д.; В результате осуществления технологических процессов происходит качественное изменение обрабатываемых объектов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Технология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это четкое и однозначное знание (обычно в виде набора правил или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алгоритм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, позволяющее из исходных компонентов получить желаемый конечный результат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Техноло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— комплекс организационных мер, операций и приемов, направленных на изготовление, обслуживание, ремонт и/или эксплуатацию изделия с номинальным качеством и оптимальными затратами, и обусловленных текущим уровнем развития науки, техники и общества в целом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готовление ужин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облем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чем кормить вечером семь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иготовить пищ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рок выполнения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ч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огнозирование результат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обеспечить правильное(здоровое) пита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удовлетворение физиологических потребностей в пищевых и биологически активных вещества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сохранение благоприятной атмосферы в сем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пособ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Метод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Материал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ецепт приготовле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Конечный результат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i?id=108826517-22-72&amp;n=21"/>
          <p:cNvPicPr/>
          <p:nvPr/>
        </p:nvPicPr>
        <p:blipFill>
          <a:blip r:embed="rId1"/>
          <a:stretch/>
        </p:blipFill>
        <p:spPr>
          <a:xfrm>
            <a:off x="3564000" y="5013360"/>
            <a:ext cx="222876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i?id=205866451-09-72&amp;n=21"/>
          <p:cNvPicPr/>
          <p:nvPr/>
        </p:nvPicPr>
        <p:blipFill>
          <a:blip r:embed="rId2"/>
          <a:stretch/>
        </p:blipFill>
        <p:spPr>
          <a:xfrm>
            <a:off x="5435640" y="4005360"/>
            <a:ext cx="201924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i?id=474732614-33-72&amp;n=21"/>
          <p:cNvPicPr/>
          <p:nvPr/>
        </p:nvPicPr>
        <p:blipFill>
          <a:blip r:embed="rId3"/>
          <a:stretch/>
        </p:blipFill>
        <p:spPr>
          <a:xfrm>
            <a:off x="6732720" y="50133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ществует множество определений понятия «Педагогическая технология». Познакомимся с наиболее понятными из н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едагогическая технология 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истема обоснованных приёмов воспитательно-образовательного  воздействия на личность или группу. Предметом проектирования технологии является воспитательно-образовательный процес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едагогическая технология –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олностью воспроизводимый воспитательно-образовательный процес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едтехнология 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дагогическая технология - совокупность психолого-педагогических установок, определяющих специальный набор и компоновку форм, методов, способов, приемов обучения, воспитательных средств; она есть организационно-методический инструментарий педагогического процесса (Б.Т.Лихачев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дагогическая технология - это содержательная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ехн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реализации учебного процесса (В.П.Беспалько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дагогическая технология - это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писани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процесса достижения планируемых результатов обучения (И.П.Волков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хнология - это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искусство, мастерство, умение, совокупность методо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ботки, изменения состояния (В.М.Шепель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хнология обучения - это составная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цессуальная ча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идактической системы (М.Чошанов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дагогическая технология — это продуманная во всех деталях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оде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совместной педагогической деятельности по проектированию, организации и проведению учебного процесса с безусловным обеспечением комфортных условий для учащихся и учителя (В.М.Монахов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дагогическая технология - это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истемный метод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создания, применения и определения всего процесса преподавания и усвоения знаний с учетом технических и человеческих ресурсов и их взаимодействия, ставящий своей задачей оптимизацию форм образования (ЮНЕСКО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дагогическая технология означае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истемную совокупность и порядок функционирован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х личностных, инструментальных и методологических средств, используемых для достижения педагогических целей (М.В.Кларин)». [Селевко Г.К. Современные образовательные технологии: Учебное пособие. – М.: Народное образование, 1998. – C. 14-15]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0.01.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.А. Зимняя «Ключевые компетенции - новая парадигма результата образования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В.Хуторской «Технология проектирования ключевых и предметных компетенций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А. Холодной, Расширенный текст доклада профессора на IV Всероссийском съезде психологов образования России "Психология и современное российское образование"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.Е. Романова, Профессиональная компетентность и педагогическое мастерство, 2010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4:38:52Z</dcterms:created>
  <dc:creator>Admin</dc:creator>
  <dc:description/>
  <dc:language>en-US</dc:language>
  <cp:lastModifiedBy>DC</cp:lastModifiedBy>
  <dcterms:modified xsi:type="dcterms:W3CDTF">2013-02-26T12:43:01Z</dcterms:modified>
  <cp:revision>11</cp:revision>
  <dc:subject/>
  <dc:title>Педагогические техологии</dc:title>
</cp:coreProperties>
</file>