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95F-B242-492E-9640-AB9D30B7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F66-7821-4830-91D4-5B5334E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F1D-7940-49F2-BB9A-FBC8089A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70A-44D5-4CD0-A459-B1D798D5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3D1D-66A7-4D70-B2FC-20AC9468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01C1-693B-43FF-917C-8428A645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A6EF-B16E-4674-B67D-D88500B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2C62-4F39-4C96-8057-57F033B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3514-BFB1-4B89-A17F-76AD2ECB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67DC-9FE0-4D7F-A545-90DE8D30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086E-A0BD-4FC3-A719-2452C69C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14A-A2F0-4A67-9E8D-F510CBD0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F3A1-0BFE-411E-ADB6-11A4816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5DCE-2178-4414-969E-73040D2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9D19-6C3A-41C4-907F-C15BE09C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727B-EA30-4A7D-A3C5-234A4833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0C48-9525-4557-A088-A6F3EAE9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408-349E-40CB-A735-70EE7401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B1C-95B4-420E-9673-C9D0E8B9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AEA-D061-4F91-ABD9-DCDA40B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570-5685-43BC-BBC4-4A0EC33A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490-E828-40C3-9AC7-CC5BA7DF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C47-935A-4D65-8FAE-DA7B0A5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0F9-5E37-4770-AD5E-2948355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2DF1-7211-4BDD-B7BF-51C170FF4E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5BAF-9BED-4B50-9102-D1F8E0E43B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резентация урока по физической культуре для учащихся 5 класса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19870200">
            <a:off x="5435640" y="4005000"/>
            <a:ext cx="279720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руг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рениро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716280"/>
            <a:ext cx="517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ТЕМА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мплексное развитие         двигательных качест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обходимых для овла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ехникой владения баскетбольным мяч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сновная част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Частные задач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Воспитать ответственность на занятиях Ф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обиться слитного выполнения передачи мяч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обиться широкого шага в прыжк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Разучить расположение пальцев и кистей рук на мяч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обиться слитного выполнения движ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роверить и оценить рабочее состояние организма у учащих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обиться ускорения восстановительных процессов в организм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Развивать точность попадания мяча в кольц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Развивать способность к согласованному движению рук и ног во времени и пространстве для развития координ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Развивать координацию движений и технику владения мяч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Развивать координацию движений и скоростные качест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роверить и оценить рабочее состояние организма учащих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Станция 1 (1 круг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Передача вокруг себ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зировка: 30 с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писание, объяснение, пока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63640" y="3716280"/>
            <a:ext cx="5448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Станция 2 (1 круг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Прыжки в шаге с ноги на ногу (Многоскоки) через линейки на отрезке по прям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зировка: 30 с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ледить за правильной постановкой стопы, колено задней ноги выпрямля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1343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Станция 3 (1 круг)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Передача мяча от груди в парах, тройка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зировка: 30 с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уки в локтевых суставах разгибаются полность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45910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Станция 4 (1 круг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Ведение мяча между конусами  (змейкой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зировка: 30 с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ходимо контролировать правильное положение корпуса (слегка наклонен вперед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4464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ерестроение в шеренгу  для измерения показаний ЧСС (пульс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одьба по зал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сстановление дых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Станция 1 (2 круг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Броски мяча по кольцу с близлежащих точе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зировка: 30 с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 броске необходим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уки в локтевых суставах разгибать полность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0007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Станция 2 (2 круг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ереход через упор присев в упор лежа с последующим возвращением в и.п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зировка: 30 с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С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ена положения - толчком двумя ногами (дети менее подготовленные выполняют приседания на мест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Станция 3 (2 круг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Ведение мяча на мес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зировка: 30 с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ледить за высотой отскока мяча от пол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8000" y="3284640"/>
            <a:ext cx="51818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Станция 4 (2 круг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Прыжки через скакалк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зировка: 30 с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едить за осанк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686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Дата проведения:  20.11.12   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ремя проведения: 11.40-12.20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есто проведения: Спортивный зал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нвентарь: Баскетбольные мячи, скакалки, стойки, линейки, кружк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403848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3716280"/>
            <a:ext cx="4038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рок проводит: учитель физической культуры Матвеева Н.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ГБОУ СШ  №28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дмиралтейского  райо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602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ение в шеренгу  для измерения показаний ЧСС (пульс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гра «Мяч капитану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КЛЮЧИТЕЛЬНАЯ ЧАСТЬ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Частные задач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торить тему пройденную на урок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биться оптимизации эмоционального состояния занимающих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Содержание учебного материал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гра – опрос  с  мячом  «Какие двигательные качества развивались на уроке?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зировка:2 ми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ать в круг, учитель с мячом в центре круга. Ученик опрашиваемый ловит  брошенный мяч, отвечает, возвращает мяч  учителю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строение в шеренг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зировка:2 ми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дведение итогов урок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ОСНОВНЫЕ ЗАДАЧИ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учать выполнению упражнений для укрепления мышц плечевого пояса  и опорно-двигательного аппара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звивать координацию движений, точность двигательных действий быстроту реак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спитывать коллективизм у учащихся, поддержку, решительность в выполнении задан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506880" y="333360"/>
            <a:ext cx="84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ЦЕЛЬ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одействовать развитию мотивации участия в спортивных игр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Част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водно-подготовительная ча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сновная ча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ключительная ча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водно-подготовительная часть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астные задач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Организовать деятельность учащих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Увеличить скорость кровотока в мышцах нижних конечностей. Функционально подготовить ССС, дыхательную системы для дальнейшей работ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Увеличить скорость кровотока в мышцах плечевого поя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Увеличить кровообращение в мышцах туловища (косые мышцы живот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Добиться увеличения эластичности мышц но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Совершенствовать эластичные свойства суставно-связачного аппара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1.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Построение в шеренгу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Дозировка: 2 ми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общение задач уро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2. Подвижная игра «Пятнашки парами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зировка: 2 ми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 числа учащихся выбирается пара, которая выполняет роль водящих, держась за руки они должны запятнать кого-либо. По сигналу учителя начинается игра. Запятнав  учащегося их становится трое, после пойманного четвертого ученика, четверка делится на пары и так до последнего учени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3. Построение в шеренгу с перестроением в колонну ОРУ в движен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.п.- руки к плечам, круговые движения в плечевых суставах.4 раза вперед – 4 раза назад в сочетании с подскока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зировка: 10 ра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ыполнять на каждый подскок 1 круговое движение в плечевых суставах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.п.- руки согнуты в локтевых суставах у груди выполнять круговые движения в локтевых суставах  к себе- от себ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зировка: 10-15 ра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ки в плечевых суставах зафиксирован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одержание учебного материал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4. И.п.- руки согнуты у груд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1- шаг правой ногой, поворот туловищем вправо, 2- шаг левой ногой, поворот туловищем  вле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зировка: 10 ра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Бедра не поворачивать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5. Наклоны к правой и левой ног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зировка: 10 ра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рганизационно-методические указ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оги в коленных суставах не сгибать. Нога ставится на пятку, руками коснуться носка ноги, шаг коротки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6. И.п.- ша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правая рука вверху, левая внизу, согнутые руки в локтях соединить за спино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зировка: 1 ми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4:45:48Z</dcterms:created>
  <dc:creator>Matveev</dc:creator>
  <dc:description/>
  <dc:language>en-US</dc:language>
  <cp:lastModifiedBy>Matveev</cp:lastModifiedBy>
  <dcterms:modified xsi:type="dcterms:W3CDTF">2013-02-26T18:14:34Z</dcterms:modified>
  <cp:revision>12</cp:revision>
  <dc:subject/>
  <dc:title>Конспект урока по физической культуры для уч-ся 5 класса </dc:title>
</cp:coreProperties>
</file>