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5DF-CD2A-4529-965A-CA681489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44E-934F-4DD5-A10D-AFC47666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9D2-CCD9-4D84-9E15-566E935D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F9C-F4E6-48EB-9291-4F1B084F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941E-9AD4-4400-ACC7-FBE2147F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213-8EA6-400C-8AB3-FB410C1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BC60-F511-4455-A3EF-F185266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35FD-EDFD-44FF-8D75-8B4DDCD9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B8A7-A894-4564-AD1A-FD28E0F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8575-CB66-4FEF-97B0-A6893DD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5694-53D1-445B-9035-09DD343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FBE-D3FE-4B38-846D-313DAF5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A77-3CE0-4005-A13F-608F990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47B-8992-452E-8713-A0D4555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0B00-C7F6-45C5-B658-3FC330F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440C-64F8-4CD4-B275-32E4FD08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51D8-315D-47B4-B3D0-347BCA05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963-D204-4F10-A3A5-9C8259BE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8DD-548F-45B9-BB19-C7EDB1FD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CD6-1C27-4F68-A1D8-263F7D7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6AD-C40F-4615-AC20-FE1B8093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31F-1FCA-4ACC-9CB8-A426376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A1C-ABFC-4275-B7D1-657F851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808-E5AA-4E4D-962B-FC87E15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2C52-1CA3-4834-813B-E23F3528E2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E3B4-26EA-4C6B-B974-B8DB4EF9AD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7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онституция – основной закон страны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2519640" cy="354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8, прочитать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опросы стр.52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ечатная тетрадь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204640"/>
            <a:ext cx="65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т лат. «установление»)- это основной закон страны, определяющий ее государственное устройство, основные права и обязанности гражда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714760" cy="19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возникновения Конституции в нашей стран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 дореволюционной России не было Конституции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-я в 1918 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-я в 1925 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-я в 1937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-я в 1978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-я в 1993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5196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 РФ. была принята 12 декабря 1993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386080"/>
            <a:ext cx="3959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овая Конституция была принята народом на референду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4365720"/>
            <a:ext cx="3314520" cy="212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нституция России состоит из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852280"/>
            <a:ext cx="423864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реамбул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 раздело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9 гла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37 стате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280836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осударственное устройство по Конституции РФ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848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79246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едеральное Собрание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спользуя ст. 95, 96, 102, 103, заполните схему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Рисунок 11" descr="http://festival.1september.ru/articles/519067/img7.gif"/>
          <p:cNvPicPr/>
          <p:nvPr/>
        </p:nvPicPr>
        <p:blipFill>
          <a:blip r:embed="rId1"/>
          <a:stretch/>
        </p:blipFill>
        <p:spPr>
          <a:xfrm>
            <a:off x="826920" y="2276640"/>
            <a:ext cx="7705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авительство Российской Федерац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37735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льзуясь ст. 111,112,113,114 Заполните таблицу "Полномочия правительства РФ"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57760" y="2421000"/>
          <a:ext cx="3772800" cy="4032000"/>
        </p:xfrm>
        <a:graphic>
          <a:graphicData uri="http://schemas.openxmlformats.org/drawingml/2006/table">
            <a:tbl>
              <a:tblPr/>
              <a:tblGrid>
                <a:gridCol w="37728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вительство РФ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2:59:00Z</dcterms:created>
  <dc:creator>User</dc:creator>
  <dc:description/>
  <dc:language>en-US</dc:language>
  <cp:lastModifiedBy>люба</cp:lastModifiedBy>
  <dcterms:modified xsi:type="dcterms:W3CDTF">2013-02-26T11:44:01Z</dcterms:modified>
  <cp:revision>32</cp:revision>
  <dc:subject/>
  <dc:title>Конституция Российской Федерации.</dc:title>
</cp:coreProperties>
</file>