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74E-603E-4588-AE20-4E9A4AFE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CFA-FF41-47FC-9F6A-38A6012B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6FA-8857-4290-8EF7-161E6E53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D4C-0E04-4298-B6CD-CACC620A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3A0-C372-4CEE-84F6-5CA97048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1BA-B1BB-41E5-850A-2E6B2B0C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665-550F-4C36-80E4-5C9A7EBB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D1F-30C8-4686-9391-2E501B35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A29-C30D-446B-B180-BC89E297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2EE-94AF-4C89-975F-C0242C16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D57-C973-4991-86D5-FCC6FEA7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622-096F-4EA5-B078-962C0E9F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33082F-6361-491C-BCE4-7D7B9CBABDF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208440"/>
            <a:ext cx="7847280" cy="679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Коровьев – </a:t>
            </a: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Фаго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0000" y="1496520"/>
            <a:ext cx="11268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31964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80564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тот персонаж - старший из подчинённых Воланду дем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ерт и рыцарь, представляющийся москвичам переводчиком при профессоре-иностранце и бывшем регентом церковного х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496040" cy="37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-3505680"/>
            <a:ext cx="133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16000" y="764640"/>
            <a:ext cx="4427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ёрт, действующее лицо многих глав в этом романе, в которых проявляется «чёрная магия» во всей её кра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акая заметность была, по всей видимости, вызвана 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отсутствием у Воланда желания непосредственно («собственноручно») исполнять задуманное зло, кару или даже благое деяние (например, воссоединение Мастера с Маргаритой, хотя там старалась уже вся «сатанинская компа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 таких случаях лавры первенства передаются Фаготу, временно исполняющему роль «Главного злодея» или же «Чистильщ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37508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ами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милия героя найдена в повести Ф.М. Достоевского "Село Степанчиково и его обитатели", где есть персонаж по фамилии Коровкин, весьма похожий на нашего Коровьева. Второе его имя происходит от названия музыкального инструмента фагот, изобретенного итальянским монахом. У Коровьева-Фагота есть некоторое сходство с фаготом - длинной тонкой трубкой, сложенной втрое. Булгаковский персонаж худ, высок и в мнимом подобострастии, кажется, готов сложиться перед собеседником втрое (чтобы потом спокойно ему напакости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торая вер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милия Коровьев сконструирована по образцу фамилии персонажа повести Алексея Константиновича Толстого (1817-1875)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"Упырь"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(1841) статского советника Теляева, который оказывается рыцарем Амвросием и вампи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ресно, что Амвросием зовут одного из посетителей ресторана Дома Грибоедова, расхваливающего достоинства его кухни в самом начале романа. В финале же визит в этот ресторан Бегемота и Коровьева-Фагота заканчивается пожаром и гибелью Дома Грибоедова, а в заключительной сцене последнего полета Коровьева-Фагота, как и Теляев у А. К. Толстого, превращается в рыц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нешность рег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392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т его портрет: "...прозрачный гражданин престранного вида, На маленькой головке жокейский картузик, клетчатый кургузый пиджачок..., гражданин ростом в сажень, но в плечах узок, худ неимоверно, и физиономия, прошу заметить, глумливая"; "...усики у него, как куриные перья, глазки маленькие, иронические и полупья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983120" y="1341360"/>
            <a:ext cx="390996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значение блудливого гая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36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оровьев-Фагот - это возникший из знойного московского воздух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ёрт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(небывалая для мая жара в момент его появления - один из традиционных признаков приближения нечистой сил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дручный Воланда только по необходимости надевает различные маски-личины: пьяницы-регента, гаера, ловкого мошенника, проныры-переводчика при знаменитом иностранце и др. Лишь в последнем полете Коровьев-Фагот становится тем, кто он есть на самом деле - мрачным демоном, рыцарем Фаготом, не хуже своего господина знающим цену людским слабостям и добродетел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052800" cy="46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64000" y="-20394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4762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ыцарство Коровьева-Фагота имеет много литературных ипостасей. В последнем полете фигляр Коровьев преображается в мрачного темно-фиолетового рыцаря с никогда не улыбающимся лицом. Этот рыцарь "когда-то неудачно пошутил... его каламбур, который он сочинил, разговаривая о свете и тьме, был не совсем хорош. И рыцарю пришлось после этого прошутить немного больше и дольше, нежели он предполагал", - так излагает Воланд Маргарите историю наказания Коровьева-Фаг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3066840" cy="48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ицлипуц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 того, как Коровьев-Фагот "соткался из воздуха" на Патриарших прудах, Михаил Александрович Берлиоз в беседе с Иваном Бездомным упомянул "про менее известного грозного бога Вицлипуцли, которого весьма почитали некогда ацтеки в Мексике". Вицлипуцли здесь ассоциируется с Коровьевым-Фаготом неслучайно. Это - не только бог войны, которому ацтеки приносили человеческие жертвы, но и, согласно немецким легендам о докторе Фаусте, - дух ада и первый помощник сатаны. В качестве первого помощника Воланда выступает в "Мастере и Маргарите" Коровьев-Фаг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08:49Z</dcterms:created>
  <dc:creator>User</dc:creator>
  <dc:description/>
  <dc:language>en-US</dc:language>
  <cp:lastModifiedBy>Nesti LOVE Tixon</cp:lastModifiedBy>
  <dcterms:modified xsi:type="dcterms:W3CDTF">2013-02-26T11:50:35Z</dcterms:modified>
  <cp:revision>3</cp:revision>
  <dc:subject/>
  <dc:title>Коровьев - Фагот</dc:title>
</cp:coreProperties>
</file>