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43B-26AF-4DA9-8250-B78713FC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D25-3BA4-4F96-9870-A200F0DB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C9B-4E25-4631-B2FA-AF4B5ED4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1B6-FA8F-47E7-82A0-B0D6EB10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8ACE-38EA-4977-864F-5839609A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B49E-3CD6-4009-880B-4AEB74B7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9A3F-13C2-4DBD-990A-6C9236F4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4360-2559-4033-AB99-8A88CDEC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609E-F4EE-455D-9832-EB3BBA74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C5B1-52D5-4EF3-8195-6616C6AC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C829-A29E-42B2-A22D-CB390EB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CB8-0F5E-4288-8EF5-9643FAC4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9220-D435-469F-90DD-FCADC1B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1866-35FB-412D-B1B9-2328995D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F95D-52CE-4A7E-8DCE-FEDE56C6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6ED6-14D6-492C-87F2-AA2042B9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0053-B731-4E3B-9C92-DB93E909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5648-6D91-4EFF-A2F7-065FBE0E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2CD8-58EE-4E22-8047-F4376055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5EC5-7E4E-4F6E-8F47-0779D92B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4F2A-420B-4733-B784-86984F11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99343-601A-4709-96D9-76FA0BC7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040-61CA-48F3-99C3-BCB3FA5E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2B5A-3579-413B-9D67-1BB3097A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6E14-31EE-491B-B4BF-FB7F2454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C6F7B-9FB1-46DE-8250-57DC9A37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C24FF-E156-45F2-BD91-AB87ABC4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4D96-E5E1-45BB-9A9C-F1A048D2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702E-817B-4DC3-89AC-74C0FCB0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649C-57BB-4446-B780-682C4342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2BD-44B0-4CD9-A3D3-7783E0DC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93C-1D13-4547-AC43-4D435513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1CC-5CE7-4A59-BC2F-CAAAF4EC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C5E-BEF8-4722-8F4F-151DA78E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BDF-098B-4855-A08F-6FC6A62A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8A7-F749-4CCA-A353-EDB3691D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7182-212A-4DA5-82C4-AE841F6A3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808-A8A6-4B20-9615-EB6689415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C423-28EF-4996-AD4C-C063F9005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Люблю  природу  русскую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509760"/>
            <a:ext cx="761976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79640" y="577800"/>
            <a:ext cx="69847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7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657360"/>
            <a:ext cx="76197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5185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14480" y="274680"/>
            <a:ext cx="7113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990000"/>
                </a:solidFill>
                <a:latin typeface="Arial"/>
              </a:rPr>
              <a:t>Запиши, как можно больше слов, которые помогают представить осеннюю погоду.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3454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Дождь,  серое небо, 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800280"/>
            <a:ext cx="76327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919080"/>
            <a:ext cx="7993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49536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458640"/>
            <a:ext cx="82296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7:13:59Z</dcterms:created>
  <dc:creator>Admin</dc:creator>
  <dc:description/>
  <dc:language>en-US</dc:language>
  <cp:lastModifiedBy>Admin</cp:lastModifiedBy>
  <dcterms:modified xsi:type="dcterms:W3CDTF">2011-10-03T17:48:05Z</dcterms:modified>
  <cp:revision>2</cp:revision>
  <dc:subject/>
  <dc:title>Люблю  природу  русскую</dc:title>
</cp:coreProperties>
</file>