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5E5B-86EF-4C48-B1CD-2E8FE988B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D025-4426-4A2A-B6BA-1C0013FC0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4B2E-1725-42BB-A18F-40864604E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6029-537F-4A93-B187-F46F8FCB9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4141-42A1-4B52-ABAC-2809E2F5E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F6BD-D556-459E-A073-9F8EA9F5B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D6B9-D49E-4C81-BA26-EF9B1C14D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7507-4D8A-4DEC-8227-37996152A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BF52-2D70-4C89-9967-71F3D2EAD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7F35-E806-421D-982D-93E371C77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0EF5-CFA0-4208-A160-B33510E2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55C2-5A1D-4123-84E0-6EACCE45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2BBB0-84FA-4285-B6DA-F6E881F4CE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gim5.ru/" TargetMode="External"/><Relationship Id="rId2" Type="http://schemas.openxmlformats.org/officeDocument/2006/relationships/hyperlink" Target="http://festival.1september.ru/" TargetMode="External"/><Relationship Id="rId3" Type="http://schemas.openxmlformats.org/officeDocument/2006/relationships/hyperlink" Target="http://festival.1september.ru/" TargetMode="External"/><Relationship Id="rId4" Type="http://schemas.openxmlformats.org/officeDocument/2006/relationships/hyperlink" Target="http://festival.1september.ru/" TargetMode="External"/><Relationship Id="rId5" Type="http://schemas.openxmlformats.org/officeDocument/2006/relationships/hyperlink" Target="http://festival.1september.ru/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2000" spc="-1" strike="noStrike">
                <a:solidFill>
                  <a:srgbClr val="cc6600"/>
                </a:solidFill>
                <a:latin typeface="Arial"/>
              </a:rPr>
              <a:t>МКОУ «Александровская средняя общеобразовательная школа»</a:t>
            </a:r>
            <a:br>
              <a:rPr sz="2000"/>
            </a:br>
            <a:r>
              <a:rPr b="1" lang="ru-RU" sz="2000" spc="-1" strike="noStrike">
                <a:solidFill>
                  <a:srgbClr val="cc6600"/>
                </a:solidFill>
                <a:latin typeface="Arial"/>
              </a:rPr>
              <a:t>Суетского района</a:t>
            </a:r>
            <a:br>
              <a:rPr sz="2000"/>
            </a:br>
            <a:br>
              <a:rPr sz="2000"/>
            </a:br>
            <a:r>
              <a:rPr b="1" lang="ru-RU" sz="4400" spc="-1" strike="noStrike">
                <a:solidFill>
                  <a:srgbClr val="cc6600"/>
                </a:solidFill>
                <a:latin typeface="Arial"/>
              </a:rPr>
              <a:t>Метод проектов на уроках иностранного языка. </a:t>
            </a:r>
            <a:br>
              <a:rPr sz="4400"/>
            </a:b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00240" y="4572000"/>
            <a:ext cx="38862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4f01"/>
                </a:solidFill>
                <a:latin typeface="Arial"/>
              </a:rPr>
              <a:t>Презентацию подготовила руководитель МО учителей иностранного язы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4f01"/>
                </a:solidFill>
                <a:latin typeface="Arial"/>
              </a:rPr>
              <a:t>Жукова Л. 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3886200" y="603576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4f01"/>
                </a:solidFill>
                <a:latin typeface="Arial"/>
              </a:rPr>
              <a:t>2012 го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ff"/>
                </a:solidFill>
                <a:latin typeface="Arial"/>
              </a:rPr>
              <a:t>Основная идея </a:t>
            </a:r>
            <a:br>
              <a:rPr sz="3600"/>
            </a:br>
            <a:r>
              <a:rPr b="0" lang="ru-RU" sz="3600" spc="-1" strike="noStrike">
                <a:solidFill>
                  <a:srgbClr val="ff00ff"/>
                </a:solidFill>
                <a:latin typeface="Arial"/>
              </a:rPr>
              <a:t>подобного подхода к обучению ИЯ</a:t>
            </a:r>
            <a:endParaRPr b="0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b2801"/>
                </a:solidFill>
                <a:latin typeface="Arial"/>
              </a:rPr>
              <a:t>перенести акцент с различного вида упражнений н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55003"/>
                </a:solidFill>
                <a:latin typeface="Arial"/>
              </a:rPr>
              <a:t>активную мыслительную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55003"/>
                </a:solidFill>
                <a:latin typeface="Arial"/>
              </a:rPr>
              <a:t>деятельность учащихся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b2801"/>
                </a:solidFill>
                <a:latin typeface="Arial"/>
              </a:rPr>
              <a:t>требующую для своего оформления владения определенными языковыми средствам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ff"/>
                </a:solidFill>
                <a:latin typeface="Arial"/>
              </a:rPr>
              <a:t>Основные требования к использованию метода проектов: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8537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994d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a54f01"/>
                </a:solidFill>
                <a:latin typeface="Arial"/>
              </a:rPr>
              <a:t>наличие значимой в исследовательском, творчес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4f01"/>
                </a:solidFill>
                <a:latin typeface="Arial"/>
              </a:rPr>
              <a:t>плане проблемы/задачи, требующей интегрирова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4f01"/>
                </a:solidFill>
                <a:latin typeface="Arial"/>
              </a:rPr>
              <a:t>знания, исследовательского поиска для её ре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Наприм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исследование истории возникновения различных праздников в немецкоговорящих стран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организация путешествий в разные стран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проблемы семьи; семейные праздни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проблема свободного времени у молодеж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проблема обустройства дом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проблема отношений между поколениям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проблема организации спортивных мероприятий и т.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ff"/>
                </a:solidFill>
                <a:latin typeface="Arial"/>
              </a:rPr>
              <a:t>Основные требования к использованию метода проектов:</a:t>
            </a:r>
            <a:r>
              <a:rPr b="0" lang="ru-RU" sz="40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4d00"/>
                </a:solidFill>
                <a:latin typeface="Arial"/>
              </a:rPr>
              <a:t>практическая, теоретическая значимость предполагаемых результат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4d00"/>
                </a:solidFill>
                <a:latin typeface="Arial"/>
              </a:rPr>
              <a:t>самостоятельная (индивидуальная, парная, групповая) деятельность учащихся на уроке или во внеурочное врем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4d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994d00"/>
                </a:solidFill>
                <a:latin typeface="Arial"/>
              </a:rPr>
              <a:t>структурирование содержательной части проекта (с указанием поэтапных результатов и распределением ролей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200" spc="-1" strike="noStrike">
                <a:solidFill>
                  <a:srgbClr val="ff00ff"/>
                </a:solidFill>
                <a:latin typeface="Arial"/>
              </a:rPr>
              <a:t>Основные требования к использованию исследовательских методов:</a:t>
            </a:r>
            <a:br>
              <a:rPr sz="3600"/>
            </a:b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1680" y="1828440"/>
            <a:ext cx="8540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e42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4d00"/>
                </a:solidFill>
                <a:latin typeface="Arial"/>
              </a:rPr>
              <a:t>определение проблемы, вытекающих из нее задач исследовани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e42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4d00"/>
                </a:solidFill>
                <a:latin typeface="Arial"/>
              </a:rPr>
              <a:t>выдвижение гипотезы их решени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e42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4d00"/>
                </a:solidFill>
                <a:latin typeface="Arial"/>
              </a:rPr>
              <a:t>обсуждение методов исследовани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e42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4d00"/>
                </a:solidFill>
                <a:latin typeface="Arial"/>
              </a:rPr>
              <a:t>оформление конечных результатов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e42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4d00"/>
                </a:solidFill>
                <a:latin typeface="Arial"/>
              </a:rPr>
              <a:t>анализ полученных данных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e42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4d00"/>
                </a:solidFill>
                <a:latin typeface="Arial"/>
              </a:rPr>
              <a:t>подведение итогов, корректировка, выв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e42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4d00"/>
                </a:solidFill>
                <a:latin typeface="Arial"/>
              </a:rPr>
              <a:t>(использование в ходе совместного исследования метода   «мозговой атаки», «круглого стола», творческих отчетов, защиты проекта и т.п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Arial"/>
              </a:rPr>
              <a:t>Этапы разработки структуры проекта и проведения его: </a:t>
            </a: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520"/>
            <a:ext cx="8540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4d00"/>
                </a:solidFill>
                <a:latin typeface="Arial"/>
              </a:rPr>
              <a:t>представление ситуаций, позволяющих выявить одну или несколько проблем по обсуждаемой тематик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4d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994d00"/>
                </a:solidFill>
                <a:latin typeface="Arial"/>
              </a:rPr>
              <a:t>выдвижение гипотез решения поставленной    проблемы    («мозговой штурм»), обсуждение и обоснование каждой из гипотез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4d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994d00"/>
                </a:solidFill>
                <a:latin typeface="Arial"/>
              </a:rPr>
              <a:t>обсуждение методов проверки принятых гипотез в малых группах (в каждой группе по одной гипотезе), возможных источников информации для проверки выдвинутой гипотезы; оформление результат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4d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994d00"/>
                </a:solidFill>
                <a:latin typeface="Arial"/>
              </a:rPr>
              <a:t>работа в группах над поиском фактов, аргументов, подтверждающих или опровергающих гипотез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4d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994d00"/>
                </a:solidFill>
                <a:latin typeface="Arial"/>
              </a:rPr>
              <a:t>защита проектов (гипотез решения проблемы) каждой из групп с оппонированием со стороны всех присутствующи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4d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994d00"/>
                </a:solidFill>
                <a:latin typeface="Arial"/>
              </a:rPr>
              <a:t>выявление новых пробл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ff"/>
                </a:solidFill>
                <a:latin typeface="Arial"/>
              </a:rPr>
              <a:t>Типологический признак –</a:t>
            </a:r>
            <a:br>
              <a:rPr sz="4000"/>
            </a:b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406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4d00"/>
                </a:solidFill>
                <a:latin typeface="Arial"/>
              </a:rPr>
              <a:t>доминирующие в проекте  вид деятельности</a:t>
            </a:r>
            <a:r>
              <a:rPr b="0" lang="ru-RU" sz="2400" spc="-1" strike="noStrike">
                <a:solidFill>
                  <a:srgbClr val="994d00"/>
                </a:solidFill>
                <a:latin typeface="Arial"/>
              </a:rPr>
              <a:t>: исследовательский, творческий, ролево-игровой, информационный, практико-ориентированный и т.п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4d00"/>
                </a:solidFill>
                <a:latin typeface="Arial"/>
              </a:rPr>
              <a:t>предметно-содержательная область: монопроект (в рамках одной области знания) и межпредметный проек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4d00"/>
                </a:solidFill>
                <a:latin typeface="Arial"/>
              </a:rPr>
              <a:t>характер координации проекта: с открытой, явной координацией (непосредственный) и со скрытой координацией (неявный, имитирующий участника</a:t>
            </a:r>
            <a:br>
              <a:rPr sz="2400"/>
            </a:br>
            <a:r>
              <a:rPr b="0" lang="ru-RU" sz="2400" spc="-1" strike="noStrike">
                <a:solidFill>
                  <a:srgbClr val="994d00"/>
                </a:solidFill>
                <a:latin typeface="Arial"/>
              </a:rPr>
              <a:t>проект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4d00"/>
                </a:solidFill>
                <a:latin typeface="Arial"/>
              </a:rPr>
              <a:t>характер контактов (среди участников одной школы, одного класса, города, региона, одной страны, разных стран мира): внутренний, или региональный, и международны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4d00"/>
                </a:solidFill>
                <a:latin typeface="Arial"/>
              </a:rPr>
              <a:t>количество участников проекта (личностные, парные, групповые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4d00"/>
                </a:solidFill>
                <a:latin typeface="Arial"/>
              </a:rPr>
              <a:t>продолжительность проекта (краткосрочный, средней продолжительности, долгосрочны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Arial"/>
              </a:rPr>
              <a:t>По количеству участников проектов (пункт 5) можно выделить проекты: </a:t>
            </a: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2362320"/>
            <a:ext cx="8540640" cy="37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4d00"/>
                </a:solidFill>
                <a:latin typeface="Arial"/>
              </a:rPr>
              <a:t>личностные </a:t>
            </a:r>
            <a:r>
              <a:rPr b="0" lang="ru-RU" sz="3200" spc="-1" strike="noStrike">
                <a:solidFill>
                  <a:srgbClr val="994d00"/>
                </a:solidFill>
                <a:latin typeface="Arial"/>
              </a:rPr>
              <a:t>(между двумя партнерами, находящимися в разных школах, регионах, странах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4d00"/>
                </a:solidFill>
                <a:latin typeface="Arial"/>
              </a:rPr>
              <a:t>парные </a:t>
            </a:r>
            <a:r>
              <a:rPr b="0" lang="ru-RU" sz="3200" spc="-1" strike="noStrike">
                <a:solidFill>
                  <a:srgbClr val="994d00"/>
                </a:solidFill>
                <a:latin typeface="Arial"/>
              </a:rPr>
              <a:t>(между парами участников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4d00"/>
                </a:solidFill>
                <a:latin typeface="Arial"/>
              </a:rPr>
              <a:t>групповые </a:t>
            </a:r>
            <a:r>
              <a:rPr b="0" lang="ru-RU" sz="3200" spc="-1" strike="noStrike">
                <a:solidFill>
                  <a:srgbClr val="994d00"/>
                </a:solidFill>
                <a:latin typeface="Arial"/>
              </a:rPr>
              <a:t>(между группами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74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ff"/>
                </a:solidFill>
                <a:latin typeface="Arial"/>
              </a:rPr>
              <a:t>По продолжительности проведения </a:t>
            </a:r>
            <a:br>
              <a:rPr sz="3600"/>
            </a:br>
            <a:r>
              <a:rPr b="0" lang="ru-RU" sz="3600" spc="-1" strike="noStrike">
                <a:solidFill>
                  <a:srgbClr val="ff00ff"/>
                </a:solidFill>
                <a:latin typeface="Arial"/>
              </a:rPr>
              <a:t>(пункт 6) проекты могут быть </a:t>
            </a:r>
            <a:endParaRPr b="0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2438280"/>
            <a:ext cx="854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4d00"/>
                </a:solidFill>
                <a:latin typeface="Arial"/>
              </a:rPr>
              <a:t>краткосрочными </a:t>
            </a:r>
            <a:r>
              <a:rPr b="0" lang="ru-RU" sz="3200" spc="-1" strike="noStrike">
                <a:solidFill>
                  <a:srgbClr val="994d00"/>
                </a:solidFill>
                <a:latin typeface="Arial"/>
              </a:rPr>
              <a:t>(для решения небольшой проблемы или части более значимой проблемы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4d00"/>
                </a:solidFill>
                <a:latin typeface="Arial"/>
              </a:rPr>
              <a:t>средней продолжительности </a:t>
            </a:r>
            <a:r>
              <a:rPr b="0" lang="ru-RU" sz="3200" spc="-1" strike="noStrike">
                <a:solidFill>
                  <a:srgbClr val="994d00"/>
                </a:solidFill>
                <a:latin typeface="Arial"/>
              </a:rPr>
              <a:t>(один-два месяца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4d00"/>
                </a:solidFill>
                <a:latin typeface="Arial"/>
              </a:rPr>
              <a:t>долгосрочными </a:t>
            </a:r>
            <a:r>
              <a:rPr b="0" lang="ru-RU" sz="3200" spc="-1" strike="noStrike">
                <a:solidFill>
                  <a:srgbClr val="994d00"/>
                </a:solidFill>
                <a:latin typeface="Arial"/>
              </a:rPr>
              <a:t>(до год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4d00"/>
                </a:solidFill>
                <a:latin typeface="Arial"/>
              </a:rPr>
              <a:t>смешанные типы</a:t>
            </a:r>
            <a:r>
              <a:rPr b="0" lang="ru-RU" sz="3200" spc="-1" strike="noStrike">
                <a:solidFill>
                  <a:srgbClr val="994d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Arial"/>
              </a:rPr>
              <a:t>Координация проектов и организация внешней оценки</a:t>
            </a:r>
            <a:r>
              <a:rPr b="0" lang="ru-RU" sz="32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6633"/>
                </a:solidFill>
                <a:latin typeface="Arial"/>
              </a:rPr>
              <a:t>если учитель решил использовать при изучении какого-то раздела, вопроса программы метод проектов, он должен все тщательно продумать, разработать, просчита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6633"/>
                </a:solidFill>
                <a:latin typeface="Arial"/>
              </a:rPr>
              <a:t>Учитель должен четко определить учебные задачи для учащихся (что предполагается в ходе проектной деятельности сформировать), подобрать необходимый материал (печатный, звуковой, видео и т.п., в том числе и из электронных источников) или дать рекомендации школьникам, где можно найти его, например, в сетях, на компакт-диск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Arial"/>
              </a:rPr>
              <a:t>Координация проектов и организация внешней оценки</a:t>
            </a:r>
            <a:r>
              <a:rPr b="0" lang="ru-RU" sz="32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6633"/>
                </a:solidFill>
                <a:latin typeface="Arial"/>
              </a:rPr>
              <a:t>Желательно спланировать всю серию уроков, на которых предполагается использовать метод проект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6633"/>
                </a:solidFill>
                <a:latin typeface="Arial"/>
              </a:rPr>
              <a:t>Важно иметь в виду необходимость отслеживания деятельности каждого ученика на всех этапах работы над проектом. С этой целью используют возможности само- и взаимоконтрол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6633"/>
                </a:solidFill>
                <a:latin typeface="Arial"/>
              </a:rPr>
              <a:t>На уроки защиты проектов можно пригласить других учителей ИЯ, которые могут выступить как эксперт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601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Arial"/>
              </a:rPr>
              <a:t>Развитие умений устной речи учащихся при работе над проектом  средствами новых информационных технологий</a:t>
            </a:r>
            <a:br>
              <a:rPr sz="4400"/>
            </a:b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ial"/>
              </a:rPr>
              <a:t>Проект по теме:</a:t>
            </a:r>
            <a:br>
              <a:rPr sz="3600"/>
            </a:br>
            <a:r>
              <a:rPr b="0" lang="ru-RU" sz="36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i="1" lang="ru-RU" sz="3600" spc="-1" strike="noStrike" u="sng">
                <a:solidFill>
                  <a:srgbClr val="ff00ff"/>
                </a:solidFill>
                <a:uFillTx/>
                <a:latin typeface="Arial"/>
              </a:rPr>
              <a:t>«Мой собственный город» </a:t>
            </a:r>
            <a:endParaRPr b="0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0" name="Прямоугольник 3"/>
          <p:cNvSpPr/>
          <p:nvPr/>
        </p:nvSpPr>
        <p:spPr>
          <a:xfrm>
            <a:off x="685800" y="1600200"/>
            <a:ext cx="8001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Задачи проект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развитие  речевых способностей благодаря освоению языкового материала и практики в его использован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развитие умения систематизировать свои зн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развитие мышления, памяти, умения слушать, делать сообщ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развитие фантазии, воображения, творческих способнос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10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66ff"/>
                </a:solidFill>
                <a:uFillTx/>
                <a:latin typeface="Arial"/>
              </a:rPr>
              <a:t>Первый этап: первый урок</a:t>
            </a:r>
            <a:r>
              <a:rPr b="0" lang="ru-RU" sz="3600" spc="-1" strike="noStrike">
                <a:solidFill>
                  <a:srgbClr val="ff66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990720"/>
            <a:ext cx="89917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Ситуация предлагается учителем на первом уроке работы над темой:  «Мой собственный город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Учитель просит создать макет город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Учитель наглядно, с помощью схем , возможно ассоциограмм,   обобщает и систематизирует их знания с учетом  возрастных особенностей обучающихся. Учащиеся задают вопросы, уточняют, спрашивают о возможности описания страны. Обсуждение проходит не в форме ответов на заранее подготовленные учителем вопросы, а в виде естественного обсуждения, в неформальной обстановке. Инициатива должна исходить от ребят. На этом уроке вводится немецкая лексика по тем</a:t>
            </a: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10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66ff"/>
                </a:solidFill>
                <a:uFillTx/>
                <a:latin typeface="Arial"/>
              </a:rPr>
              <a:t>Второй этап: второй урок</a:t>
            </a:r>
            <a:r>
              <a:rPr b="0" lang="ru-RU" sz="3600" spc="-1" strike="noStrike">
                <a:solidFill>
                  <a:srgbClr val="ff66ff"/>
                </a:solidFill>
                <a:latin typeface="Arial"/>
              </a:rPr>
              <a:t> </a:t>
            </a:r>
            <a:br>
              <a:rPr sz="3200"/>
            </a:br>
            <a:endParaRPr b="0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28240" y="990360"/>
            <a:ext cx="86137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Вводится дополнительная лексика по теме: «Город»  с помощью тематических картинок и комментариев к ним. Эта лексика предназначена для запоминания. Для активного усвоения предназначена и лексика, приведенная в комментариях  к тексту . После закрепления лексики учащиеся делятся на две группы и начинают работу над переводом текста «</a:t>
            </a:r>
            <a:r>
              <a:rPr b="0" lang="de-DE" sz="2800" spc="-1" strike="noStrike">
                <a:solidFill>
                  <a:srgbClr val="0033cc"/>
                </a:solidFill>
                <a:latin typeface="Arial"/>
              </a:rPr>
              <a:t>Der deutsche Stadt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» Отрабатываются навыки перевода текста. После работы с текстом учащиеся создают модель города с достопримечательност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66ff"/>
                </a:solidFill>
                <a:uFillTx/>
                <a:latin typeface="Arial"/>
              </a:rPr>
              <a:t>Третий этап: третий урок</a:t>
            </a:r>
            <a:r>
              <a:rPr b="0" lang="ru-RU" sz="3600" spc="-1" strike="noStrike">
                <a:solidFill>
                  <a:srgbClr val="ff66ff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Дети переходят к описанию города в виде монологических высказываний. Школьники включаются  в беседу . Отрабатываются навыки построения вопросительного предложения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 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вопросительным словом и без него и ответы  на вопросы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Warum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wo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wohin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, </a:t>
            </a:r>
            <a:r>
              <a:rPr b="0" lang="de-DE" sz="2800" spc="-1" strike="noStrike">
                <a:solidFill>
                  <a:srgbClr val="0033cc"/>
                </a:solidFill>
                <a:latin typeface="Arial"/>
              </a:rPr>
              <a:t>w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as u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w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510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66ff"/>
                </a:solidFill>
                <a:uFillTx/>
                <a:latin typeface="Arial"/>
              </a:rPr>
              <a:t>Четвертый этап: четвертый урок</a:t>
            </a:r>
            <a:br>
              <a:rPr sz="3600"/>
            </a:br>
            <a:endParaRPr b="0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На этим уроке отрабатываются навыки  говорения по теме «Дома», «Кто живёт в городе», «Достопримечательности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Учитель предлагает вспомнить и систематизировать лексику по тема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После закрепления лексики учащиеся продолжают работу в группах и обсуждают кто и в каких домах  может проживать в городе, что делают люди   проживающие в горо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Изготовление дома моей меч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380880"/>
            <a:ext cx="8510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66ff"/>
                </a:solidFill>
                <a:uFillTx/>
                <a:latin typeface="Arial"/>
              </a:rPr>
              <a:t>Пятый этап: пятый урок</a:t>
            </a:r>
            <a:r>
              <a:rPr b="0" lang="ru-RU" sz="3600" spc="-1" strike="noStrike">
                <a:solidFill>
                  <a:srgbClr val="ff66ff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Ребята обсуждают тему «Професси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Отработка навыков говор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Продолжается работа в группах по созданию модели профессии, профессия членов  моей семьи проживающей в доме. Какие знания необходимы для будущей «моей» профес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Домашнее задание может быть, например, создание модели генеалогического древа семь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510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66ff"/>
                </a:solidFill>
                <a:uFillTx/>
                <a:latin typeface="Arial"/>
              </a:rPr>
              <a:t>Шестой этап: шестой урок</a:t>
            </a:r>
            <a:br>
              <a:rPr sz="3600"/>
            </a:br>
            <a:endParaRPr b="0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2860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Учащимся предлагается обсудить тему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«Домашние животны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Вводится лексический материал по теме и после его закрепления с помощью картинок, презентации …учащиеся создают игрушки из бумаги, ткани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10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00ff"/>
                </a:solidFill>
                <a:uFillTx/>
                <a:latin typeface="Arial"/>
              </a:rPr>
              <a:t>Седьмой этап: седьмой урок</a:t>
            </a:r>
            <a:br>
              <a:rPr sz="3600"/>
            </a:br>
            <a:endParaRPr b="0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99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Семейный архив. С помощью наводящих вопросов учителя учащиеся собирают дополнительные материалы по предыдущим задани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Одновременно отрабатывается спряжение глаголов в настоящем времени и порядок слов в немецких простых предложени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 u="sng">
                <a:solidFill>
                  <a:srgbClr val="ff00ff"/>
                </a:solidFill>
                <a:uFillTx/>
                <a:latin typeface="Arial"/>
              </a:rPr>
              <a:t>Восьмой этап: восьмой урок</a:t>
            </a:r>
            <a:br>
              <a:rPr sz="3600"/>
            </a:br>
            <a:endParaRPr b="0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ff"/>
                </a:solidFill>
                <a:latin typeface="Arial"/>
              </a:rPr>
              <a:t>Заключительный этап.  Демонстрация проектов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3"/>
          <p:cNvSpPr/>
          <p:nvPr/>
        </p:nvSpPr>
        <p:spPr>
          <a:xfrm>
            <a:off x="609480" y="2509920"/>
            <a:ext cx="7772400" cy="27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Учитель анализирует высказывания учащихся, следит за тем, как усвоена лексика, грамматические конструкции, оценивает ответы. Но все это происходит в рамках  принятых видов деятельности, ребята не отвлекаются от того, что они должны сказа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00ff"/>
                </a:solidFill>
                <a:uFillTx/>
                <a:latin typeface="Arial"/>
              </a:rPr>
              <a:t>Критерии оценивание проекта:</a:t>
            </a:r>
            <a:endParaRPr b="0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01680" y="1599840"/>
            <a:ext cx="8540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cc"/>
                </a:solidFill>
                <a:latin typeface="Arial"/>
              </a:rPr>
              <a:t>степень самостоятельности в выполнении на различных этапах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cc"/>
                </a:solidFill>
                <a:latin typeface="Arial"/>
              </a:rPr>
              <a:t>степень включённости в групповую работу и чёткость выполнения отведённой рол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cc"/>
                </a:solidFill>
                <a:latin typeface="Arial"/>
              </a:rPr>
              <a:t>практическое использование зун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cc"/>
                </a:solidFill>
                <a:latin typeface="Arial"/>
              </a:rPr>
              <a:t>количество новой информации, использованной для выполнения проект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cc"/>
                </a:solidFill>
                <a:latin typeface="Arial"/>
              </a:rPr>
              <a:t>степень осмысления использованной информаци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cc"/>
                </a:solidFill>
                <a:latin typeface="Arial"/>
              </a:rPr>
              <a:t>уровень сложности и степень владения использованными методиками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ial"/>
              </a:rPr>
              <a:t>Перед школой стоит задача: развитие у учащихся индивидуальные способности, а также научить применять полученные знания и умения на практике. Современный молодой человек должен сегодня не столько уметь что-то делать и знать, сколько уметь учиться делать, уметь применять  это знание.</a:t>
            </a:r>
            <a:r>
              <a:rPr b="0" lang="ru-RU" sz="44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00ff"/>
                </a:solidFill>
                <a:uFillTx/>
                <a:latin typeface="Arial"/>
              </a:rPr>
              <a:t>Критерии оценивание проекта:</a:t>
            </a:r>
            <a:endParaRPr b="0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01680" y="1523880"/>
            <a:ext cx="85406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cc"/>
                </a:solidFill>
                <a:latin typeface="Arial"/>
              </a:rPr>
              <a:t>оригинальность идеи, способа решения проблемы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cc"/>
                </a:solidFill>
                <a:latin typeface="Arial"/>
              </a:rPr>
              <a:t>осмысление  проблемы проекта и формулирование цели проекта или исследовани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cc"/>
                </a:solidFill>
                <a:latin typeface="Arial"/>
              </a:rPr>
              <a:t>уровень организации и проведения презентации; устного сообщения, письменного отчёта, обеспечения объектами наглядност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cc"/>
                </a:solidFill>
                <a:latin typeface="Arial"/>
              </a:rPr>
              <a:t>владение рефлексией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cc"/>
                </a:solidFill>
                <a:latin typeface="Arial"/>
              </a:rPr>
              <a:t>творческий подход в подготовке объектов наглядности презентаци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cc"/>
                </a:solidFill>
                <a:latin typeface="Arial"/>
              </a:rPr>
              <a:t>социальное и прикладное значение полученных результат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ial"/>
              </a:rPr>
              <a:t>Использованная литература:</a:t>
            </a:r>
            <a:endParaRPr b="0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01680" y="1676160"/>
            <a:ext cx="8540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cc"/>
                </a:solidFill>
                <a:latin typeface="Arial"/>
              </a:rPr>
              <a:t>Пособие для учителя  К. Н. Поливанова «Работаем по новым стандартам» М.; Просвещение; 2011 г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cc"/>
                </a:solidFill>
                <a:latin typeface="Arial"/>
              </a:rPr>
              <a:t>Интернет ресурсы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2800" spc="-1" strike="noStrike" u="sng">
                <a:solidFill>
                  <a:srgbClr val="e42b00"/>
                </a:solidFill>
                <a:uFillTx/>
                <a:latin typeface="Arial"/>
                <a:hlinkClick r:id="rId1"/>
              </a:rPr>
              <a:t>http://www.gim5.ru</a:t>
            </a:r>
            <a:r>
              <a:rPr b="0" lang="ru-RU" sz="2800" spc="-1" strike="noStrike" u="sng">
                <a:solidFill>
                  <a:srgbClr val="c00000"/>
                </a:solidFill>
                <a:uFillTx/>
                <a:latin typeface="Arial"/>
              </a:rPr>
              <a:t>; </a:t>
            </a:r>
            <a:r>
              <a:rPr b="0" i="1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e42b00"/>
                </a:solidFill>
                <a:uFillTx/>
                <a:latin typeface="Arial"/>
                <a:hlinkClick r:id="rId2"/>
              </a:rPr>
              <a:t>http://</a:t>
            </a:r>
            <a:r>
              <a:rPr b="0" lang="ru-RU" sz="2800" spc="-1" strike="noStrike" u="sng">
                <a:solidFill>
                  <a:srgbClr val="e42b00"/>
                </a:solidFill>
                <a:uFillTx/>
                <a:latin typeface="Arial"/>
                <a:hlinkClick r:id="rId3"/>
              </a:rPr>
              <a:t>festival.1september.</a:t>
            </a:r>
            <a:r>
              <a:rPr b="0" lang="de-DE" sz="2800" spc="-1" strike="noStrike" u="sng">
                <a:solidFill>
                  <a:srgbClr val="e42b00"/>
                </a:solidFill>
                <a:uFillTx/>
                <a:latin typeface="Arial"/>
                <a:hlinkClick r:id="rId4"/>
              </a:rPr>
              <a:t>r</a:t>
            </a:r>
            <a:r>
              <a:rPr b="0" lang="ru-RU" sz="2800" spc="-1" strike="noStrike" u="sng">
                <a:solidFill>
                  <a:srgbClr val="e42b00"/>
                </a:solidFill>
                <a:uFillTx/>
                <a:latin typeface="Arial"/>
                <a:hlinkClick r:id="rId5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cc"/>
                </a:solidFill>
                <a:latin typeface="Arial"/>
              </a:rPr>
              <a:t>Статья «развитие умений устной речи учащихся при работе над проектом  средствами новых информационных технологий»  - автор Большакова Н. В. зам. дир., учитель немецкого язы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6600"/>
                </a:solidFill>
                <a:latin typeface="Arial"/>
              </a:rPr>
              <a:t>Понятие  проекта предполагает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883944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Arial"/>
              </a:rPr>
              <a:t>разработку замысла, идеи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Arial"/>
              </a:rPr>
              <a:t>детального плана того или иного практического продукта, изделия и т.д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228600" y="3962520"/>
            <a:ext cx="854064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Arial"/>
              </a:rPr>
              <a:t>имеется в виду разработка не только главной идеи, но и условий ее реализации (сметы, материалов, условий эксплуатации)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10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6600"/>
                </a:solidFill>
                <a:latin typeface="Arial"/>
              </a:rPr>
              <a:t>Метод </a:t>
            </a:r>
            <a:r>
              <a:rPr b="0" lang="ru-RU" sz="4800" spc="-1" strike="noStrike">
                <a:solidFill>
                  <a:srgbClr val="cc6600"/>
                </a:solidFill>
                <a:latin typeface="Arial"/>
              </a:rPr>
              <a:t>—</a:t>
            </a:r>
            <a:r>
              <a:rPr b="0" lang="ru-RU" sz="54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854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Arial"/>
              </a:rPr>
              <a:t>это дидактическая категория; совокупность приемов, операций овладения определенной областью практического или теоретического знания, той или иной деятельностью; путь познания, способ организации процесса позна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6600"/>
                </a:solidFill>
                <a:latin typeface="Arial"/>
              </a:rPr>
              <a:t>МЕТОД ПРОЕКТОВ</a:t>
            </a:r>
            <a:r>
              <a:rPr b="0" lang="ru-RU" sz="36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680" y="1295280"/>
            <a:ext cx="854064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4d00"/>
                </a:solidFill>
                <a:latin typeface="Arial"/>
              </a:rPr>
              <a:t>способ достижения дидактической цели через детальную разработку проблемы (технологию</a:t>
            </a:r>
            <a:r>
              <a:rPr b="0" lang="ru-RU" sz="3600" spc="-1" strike="noStrike">
                <a:solidFill>
                  <a:srgbClr val="6633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304920" y="3352680"/>
            <a:ext cx="85406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4d00"/>
                </a:solidFill>
                <a:latin typeface="Arial"/>
              </a:rPr>
              <a:t>Разработка должна завершиться вполне реальным, осязаемым практическим результатом, оформленным тем или иным образом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6600"/>
                </a:solidFill>
                <a:latin typeface="Arial"/>
              </a:rPr>
              <a:t>В основу метода проектов положены: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205704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дея, составляющая суть понятия «проект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го прагматическая направленность на результат, который можно получить при решении той или иной практически или теоретически значимой проблем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т результат можно увидеть, осмыслить, применить в реальной практической деятельности. Чтобы добиться такого результата, необходимо научить детей самостоятельно мыслить; находить и решать проблемы, привлекая для этой цели знания из разных областей; прогнозировать результаты и возможные последствия разных вариантов ре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6600"/>
                </a:solidFill>
                <a:latin typeface="Arial"/>
              </a:rPr>
              <a:t>Задача педагога  -  обеспечить, с одной стороны, преемственность ситуаций, а с другой стороны   -  выстроить их последовательность с учётом возможностей самого ребёнка. </a:t>
            </a: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01680" y="3123720"/>
            <a:ext cx="854064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000" spc="-1" strike="noStrike">
                <a:solidFill>
                  <a:srgbClr val="994d00"/>
                </a:solidFill>
                <a:latin typeface="Arial"/>
              </a:rPr>
              <a:t>Учителю необходимо создать условия или ситуации когда нужно будет что-то выразить, попросить, когда возникает необходимость коммуникации, тогда, может быть, вспомнятся слова, заученные накануне. Словарный запас является материалом для способност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01680" y="380880"/>
            <a:ext cx="8540640" cy="571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4d00"/>
                </a:solidFill>
                <a:latin typeface="Arial"/>
              </a:rPr>
              <a:t>Чтобы учащиеся воспринима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ff"/>
                </a:solidFill>
                <a:latin typeface="Arial"/>
              </a:rPr>
              <a:t>язык как средство межкультурного взаимодействия,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3300"/>
                </a:solidFill>
                <a:latin typeface="Arial"/>
              </a:rPr>
              <a:t>необходимо не только знакомить их со страноведческой тематикой (что, разумеется, важно), но искать способы включения их в активный диалог культур, чтобы они на практике могли познавать особенности функционирования языка в новой для них культу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ver</cp:lastModifiedBy>
  <dcterms:modified xsi:type="dcterms:W3CDTF">2012-03-28T11:10:15Z</dcterms:modified>
  <cp:revision>4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