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561-B735-4930-9CD4-ED71EC10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4FA-0A74-45E1-9A05-D3886142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980-2AE3-4F42-BD7E-782861D9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E11-E353-4F1B-826F-936A188F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5043-BDAE-400A-A4C5-7C6A06E2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6C9F-7E18-4113-907D-D079F02D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F217-F278-4C2B-A8F9-51CFA5AF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DFD4-9837-44CB-9699-8C825B43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4400-547B-4D4B-B8D6-613AE84F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12D0-2B49-4C22-AFF2-FA65F446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9B32-A1A8-46BA-AA17-D61E5B43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5D7-FC66-4D7F-8253-8520CEEA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0CED-E77C-4265-ACAF-338EA589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BC41-C716-451A-BAEC-0F25B213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68AE-2B2A-44E6-ADF5-D4E2D210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4CFD-2534-4502-A173-9F323B24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06E2-C75D-4695-83AE-33B4D45E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488-E300-45FD-A301-50127873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0F8-9321-4E9F-A85F-D98F7709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1C7-FAA5-4461-994F-8050316C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712-830B-4B2C-BC98-3E2DEFFD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7E5-6B97-4162-8AA9-EB6C88F6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F79-5694-4FC7-8993-5D07D00C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46B-8F7D-417E-9260-BD6DDC3C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05CC-13E1-4F49-9F8C-EBED53208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A09A-C254-40B5-B7D4-D384F4267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336666"/>
                </a:solidFill>
                <a:latin typeface="Arial Black"/>
              </a:rPr>
              <a:t>Межличностные отношения</a:t>
            </a:r>
            <a:endParaRPr b="0" i="1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66"/>
                </a:solidFill>
                <a:latin typeface="Arial Black"/>
              </a:rPr>
              <a:t>Словарь: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чность – человек, обладающий сознанием и способный к различной деятельности и взаимоотношениям с другими людь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873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66"/>
                </a:solidFill>
                <a:latin typeface="Arial Black"/>
              </a:rPr>
              <a:t>Словарь: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жличностные отношения – это отношения в малой группе, возникающие между хорошо знакомыми людьми в процессе их постоянного 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920" y="533160"/>
            <a:ext cx="64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Отличительные черты   межличностных отношений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Взаимосвяз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Непосредственный контак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Виды межличностных отношени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2120" y="1905120"/>
            <a:ext cx="7695000" cy="4038120"/>
            <a:chOff x="762120" y="1905120"/>
            <a:chExt cx="7695000" cy="4038120"/>
          </a:xfrm>
        </p:grpSpPr>
        <p:cxnSp>
          <p:nvCxnSpPr>
            <p:cNvPr id="100" name="_s23557"/>
            <p:cNvCxnSpPr>
              <a:stCxn id="101" idx="1"/>
              <a:endCxn id="102" idx="2"/>
            </p:cNvCxnSpPr>
            <p:nvPr/>
          </p:nvCxnSpPr>
          <p:spPr>
            <a:xfrm rot="10800000">
              <a:off x="3069720" y="2379240"/>
              <a:ext cx="770040" cy="118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3558"/>
            <p:cNvCxnSpPr>
              <a:stCxn id="104" idx="1"/>
              <a:endCxn id="102" idx="2"/>
            </p:cNvCxnSpPr>
            <p:nvPr/>
          </p:nvCxnSpPr>
          <p:spPr>
            <a:xfrm rot="10800000">
              <a:off x="3069720" y="2379240"/>
              <a:ext cx="770040" cy="190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3559"/>
            <p:cNvCxnSpPr>
              <a:stCxn id="106" idx="1"/>
              <a:endCxn id="102" idx="2"/>
            </p:cNvCxnSpPr>
            <p:nvPr/>
          </p:nvCxnSpPr>
          <p:spPr>
            <a:xfrm rot="10800000">
              <a:off x="3069720" y="2379240"/>
              <a:ext cx="770040" cy="332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3560"/>
            <p:cNvCxnSpPr>
              <a:stCxn id="108" idx="1"/>
              <a:endCxn id="102" idx="2"/>
            </p:cNvCxnSpPr>
            <p:nvPr/>
          </p:nvCxnSpPr>
          <p:spPr>
            <a:xfrm rot="10800000">
              <a:off x="3069720" y="2379240"/>
              <a:ext cx="770040" cy="261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23561"/>
            <p:cNvCxnSpPr>
              <a:stCxn id="110" idx="1"/>
              <a:endCxn id="102" idx="2"/>
            </p:cNvCxnSpPr>
            <p:nvPr/>
          </p:nvCxnSpPr>
          <p:spPr>
            <a:xfrm rot="10800000">
              <a:off x="3069720" y="2379240"/>
              <a:ext cx="770040" cy="47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23562"/>
            <p:cNvSpPr/>
            <p:nvPr/>
          </p:nvSpPr>
          <p:spPr>
            <a:xfrm>
              <a:off x="762120" y="1905120"/>
              <a:ext cx="461700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66"/>
                  </a:solidFill>
                  <a:latin typeface="Arial"/>
                </a:rPr>
                <a:t>Межличностные  отношени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3563"/>
            <p:cNvSpPr/>
            <p:nvPr/>
          </p:nvSpPr>
          <p:spPr>
            <a:xfrm>
              <a:off x="3840120" y="2617560"/>
              <a:ext cx="461700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Делов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23564"/>
            <p:cNvSpPr/>
            <p:nvPr/>
          </p:nvSpPr>
          <p:spPr>
            <a:xfrm>
              <a:off x="3840120" y="4755600"/>
              <a:ext cx="461700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Товарищеск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3565"/>
            <p:cNvSpPr/>
            <p:nvPr/>
          </p:nvSpPr>
          <p:spPr>
            <a:xfrm>
              <a:off x="3840120" y="5468400"/>
              <a:ext cx="461700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емей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3566"/>
            <p:cNvSpPr/>
            <p:nvPr/>
          </p:nvSpPr>
          <p:spPr>
            <a:xfrm>
              <a:off x="3840120" y="4042800"/>
              <a:ext cx="461700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риятельск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3567"/>
            <p:cNvSpPr/>
            <p:nvPr/>
          </p:nvSpPr>
          <p:spPr>
            <a:xfrm>
              <a:off x="3840120" y="3330360"/>
              <a:ext cx="461088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ич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Виды межличностных отношени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844640"/>
          <a:ext cx="8229600" cy="4912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Знакомство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люди, которых знаешь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риятельство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ная тяга, стремление к контакту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Товарищество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овые связи, общая цель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Дружба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е интересы, опора, доверие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Любовь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ые отношения двух людей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66"/>
                </a:solidFill>
                <a:latin typeface="Arial Black"/>
              </a:rPr>
              <a:t>      </a:t>
            </a:r>
            <a:r>
              <a:rPr b="0" lang="en-US" sz="4800" spc="-1" strike="noStrike">
                <a:solidFill>
                  <a:srgbClr val="336666"/>
                </a:solidFill>
                <a:latin typeface="Arial Black"/>
              </a:rPr>
              <a:t>Стили отношений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62120" y="1905120"/>
            <a:ext cx="7695360" cy="4037400"/>
            <a:chOff x="762120" y="1905120"/>
            <a:chExt cx="7695360" cy="4037400"/>
          </a:xfrm>
        </p:grpSpPr>
        <p:cxnSp>
          <p:nvCxnSpPr>
            <p:cNvPr id="117" name="_s26629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241240" y="2887200"/>
              <a:ext cx="808200" cy="2072520"/>
            </a:xfrm>
            <a:prstGeom prst="bentConnector3">
              <a:avLst>
                <a:gd name="adj1" fmla="val 141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6630"/>
            <p:cNvCxnSpPr>
              <a:stCxn id="121" idx="0"/>
              <a:endCxn id="119" idx="2"/>
            </p:cNvCxnSpPr>
            <p:nvPr/>
          </p:nvCxnSpPr>
          <p:spPr>
            <a:xfrm flipH="1" flipV="1" rot="5400000">
              <a:off x="3169440" y="2887560"/>
              <a:ext cx="808200" cy="2071800"/>
            </a:xfrm>
            <a:prstGeom prst="bentConnector3">
              <a:avLst>
                <a:gd name="adj1" fmla="val 141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9" name="_s26631"/>
            <p:cNvSpPr/>
            <p:nvPr/>
          </p:nvSpPr>
          <p:spPr>
            <a:xfrm>
              <a:off x="2833200" y="1905120"/>
              <a:ext cx="355176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Стили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6632"/>
            <p:cNvSpPr/>
            <p:nvPr/>
          </p:nvSpPr>
          <p:spPr>
            <a:xfrm>
              <a:off x="762120" y="4327560"/>
              <a:ext cx="355176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Официальные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6633"/>
            <p:cNvSpPr/>
            <p:nvPr/>
          </p:nvSpPr>
          <p:spPr>
            <a:xfrm>
              <a:off x="4905720" y="4327560"/>
              <a:ext cx="355176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Личные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3:40:58Z</dcterms:created>
  <dc:creator>***</dc:creator>
  <dc:description/>
  <dc:language>en-US</dc:language>
  <cp:lastModifiedBy>люба</cp:lastModifiedBy>
  <dcterms:modified xsi:type="dcterms:W3CDTF">2012-12-14T15:18:12Z</dcterms:modified>
  <cp:revision>17</cp:revision>
  <dc:subject/>
  <dc:title>Межличностные отношения.</dc:title>
</cp:coreProperties>
</file>