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4CF8-464D-47D8-9267-E0D236C39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E8AB-1CDA-4CD2-832F-E94EFE7ED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103-E2AA-42BD-B98C-BFE4D1BD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119-8BAC-40CE-B710-70B4E84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ED1-18AC-4230-98E8-F580DCD3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65B-E741-48A8-A754-6ED490E8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499C-2A08-4871-9869-9F36DC97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CAA2-F33A-43A7-94E5-FFCD8DCB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49F3-5A56-4860-9399-BA7C130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F17-E543-4623-BF34-2675CAC6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2E2E-E440-4C4B-97F3-194C20E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2693-3119-4705-ABC9-13A3ACE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4104-A4C8-4DA3-BEDE-6F8DB01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362-AF87-4A54-B3F2-B214921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4FB3-9C23-478C-A09B-6BFFA3C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BA4-13DC-4CE9-B9DD-A22DE6B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FFB2-A4B9-4F90-A58B-B3734F49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A60-0A3C-43F2-8885-F54E83E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F228-55D4-4779-8B53-956DC7E0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A2C-B3B3-4B4B-B588-8C7427C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F43-D7BA-4014-98A1-E0488BA1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C94-E308-4694-9763-9E32DA4E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244-75CC-408D-9D16-E253C14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311-A48B-4448-8D9D-A03B0AAC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A06-5789-4612-A08B-345ED56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B34-FA6E-4876-9337-010BDF7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C51D-06FB-4C8C-B050-4B56CF7345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5195-01E7-49CE-AEE5-CB4C0B8403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АТЕМАТИК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47960" y="4191120"/>
            <a:ext cx="26017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програ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КР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и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едини стрелк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19360"/>
          <a:ext cx="8229600" cy="47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636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втобусе ехало 5 человек. На остановке зашли ещё 2 человека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+ 2 = 9 (чел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16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9 челове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3400"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человек стало в автобусе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Line 40"/>
          <p:cNvSpPr/>
          <p:nvPr/>
        </p:nvSpPr>
        <p:spPr>
          <a:xfrm>
            <a:off x="4724280" y="5791320"/>
            <a:ext cx="1828800" cy="0"/>
          </a:xfrm>
          <a:prstGeom prst="line">
            <a:avLst/>
          </a:prstGeom>
          <a:ln w="5724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>
            <a:off x="4343400" y="2362320"/>
            <a:ext cx="2514600" cy="1218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2"/>
          <p:cNvSpPr/>
          <p:nvPr/>
        </p:nvSpPr>
        <p:spPr>
          <a:xfrm flipV="1">
            <a:off x="3505320" y="2286000"/>
            <a:ext cx="3124080" cy="236232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3"/>
          <p:cNvSpPr/>
          <p:nvPr/>
        </p:nvSpPr>
        <p:spPr>
          <a:xfrm>
            <a:off x="3200400" y="3581280"/>
            <a:ext cx="335268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4" descr="70A"/>
          <p:cNvPicPr/>
          <p:nvPr/>
        </p:nvPicPr>
        <p:blipFill>
          <a:blip r:embed="rId1"/>
          <a:stretch/>
        </p:blipFill>
        <p:spPr>
          <a:xfrm>
            <a:off x="2819520" y="1219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Перец"/>
          <p:cNvPicPr/>
          <p:nvPr/>
        </p:nvPicPr>
        <p:blipFill>
          <a:blip r:embed="rId1"/>
          <a:stretch/>
        </p:blipFill>
        <p:spPr>
          <a:xfrm>
            <a:off x="2895480" y="1828800"/>
            <a:ext cx="473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00640" y="-8280000"/>
            <a:ext cx="15228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535720" cy="4038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457200" y="304920"/>
            <a:ext cx="739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4647960" cy="3597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38088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Услови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опро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и решим задач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Что такое задача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онен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с арифметическими данным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связанный с условием задач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-9469080"/>
            <a:ext cx="7632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Arial"/>
              </a:rPr>
              <a:t>З У А Р А Д Ё Ч А И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Ч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0066"/>
                </a:solidFill>
                <a:latin typeface="Arial"/>
              </a:rPr>
              <a:t>ЗНАКОМСТВО</a:t>
            </a:r>
            <a:br>
              <a:rPr sz="8000"/>
            </a:br>
            <a:r>
              <a:rPr b="1" lang="ru-RU" sz="8000" spc="-1" strike="noStrike">
                <a:solidFill>
                  <a:srgbClr val="330066"/>
                </a:solidFill>
                <a:latin typeface="Arial"/>
              </a:rPr>
              <a:t> С ЗАДАЧЕЙ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Узнать что такое ЗАДАЧА,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з каких компонентов она состоит.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Научиться составлять и решать задач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330066"/>
                </a:solidFill>
                <a:uFillTx/>
                <a:latin typeface="Arial"/>
              </a:rPr>
              <a:t>УСЛОВИЕ</a:t>
            </a:r>
            <a:r>
              <a:rPr b="1" lang="ru-RU" sz="6000" spc="-1" strike="noStrike">
                <a:solidFill>
                  <a:srgbClr val="330066"/>
                </a:solidFill>
                <a:latin typeface="Arial"/>
              </a:rPr>
              <a:t> задачи –</a:t>
            </a:r>
            <a:br>
              <a:rPr sz="6000"/>
            </a:br>
            <a:r>
              <a:rPr b="1" lang="ru-RU" sz="6000" spc="-1" strike="noStrike">
                <a:solidFill>
                  <a:srgbClr val="330066"/>
                </a:solidFill>
                <a:latin typeface="Arial"/>
              </a:rPr>
              <a:t> текст с арифметическими данными.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009900"/>
                </a:solidFill>
                <a:uFillTx/>
                <a:latin typeface="Arial"/>
              </a:rPr>
              <a:t>ВОПРОС</a:t>
            </a:r>
            <a:r>
              <a:rPr b="0" lang="ru-RU" sz="55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задачи – то,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что необходим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9900"/>
                </a:solidFill>
                <a:latin typeface="Arial"/>
              </a:rPr>
              <a:t>найти в задаче.</a:t>
            </a: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90920" y="3885840"/>
            <a:ext cx="632448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Сколько зверей было в доми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04920" y="762120"/>
            <a:ext cx="701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На одном дереве висело 5 груш, а на другом - 6 груш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ставим условие и поставим вопр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Пчелка"/>
          <p:cNvPicPr/>
          <p:nvPr/>
        </p:nvPicPr>
        <p:blipFill>
          <a:blip r:embed="rId1"/>
          <a:stretch/>
        </p:blipFill>
        <p:spPr>
          <a:xfrm>
            <a:off x="2286000" y="1905120"/>
            <a:ext cx="4952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706200"/>
            <a:ext cx="914400" cy="38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 – 1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 – 1 = 2 (яг.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ягод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Компоненты задачи: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Вопр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.видео</cp:lastModifiedBy>
  <dcterms:modified xsi:type="dcterms:W3CDTF">2013-02-26T18:22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