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29B-5F28-4E5A-90C7-E392AAB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D2C-8D1C-497A-863E-2361C272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657-433C-4387-B66B-06A1A482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A4B-B666-46E7-B676-4462288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650A-E208-4029-8209-FD09055A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0398-306B-4E46-A79E-4C4D5FA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92B7-4C41-4278-A2A3-717D995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D26D-89A6-4851-94A9-2B70A016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64FC-5636-48DF-8A9B-7367AB8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6B6-92E5-4266-AC0D-550A2B4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58F-0154-45D0-8FF1-7A97789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E0C-A562-42B0-9DD8-CC478C7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041C-7084-4F4C-BE66-CB17B58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FDE-AEC4-4DBA-A4A5-84ACACA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7F82-BEED-4E88-9CB0-49DCF036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270E-3DDA-4D73-AF29-8EC468F0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B25B-1C8B-4E72-BAC0-BE9EF4BA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5698-76D6-4D6D-964B-DD9BF761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588B-C332-4F92-BB44-15D8A5D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5DCA-5E44-4D4F-B5FF-B1F88895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E1EC-FB5C-441D-AE4D-B4584F77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B6E-252F-429A-BC7B-6D8F179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868-52A6-45F6-BB0B-ED389110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D165-B02E-45B8-99A8-85F47AD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B378-5C9E-4E7C-94A3-EBA4787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A8D4-6C76-4C80-B200-C86D8D6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A788-318D-40DB-82FF-CFB52E3F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9FA7-2F0C-411C-947A-C17A8095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4108-7E9E-4967-8CD5-D0C67885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DA2C-947D-437A-97F7-E35E9E7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4B7C-E918-4902-A5E4-45D6C6CA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6EEC-DA1E-4C45-84FB-F7A44E7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8FA88-4150-4072-914F-AD231C7D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457-1DEE-4BC0-BD53-270CE78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8584-6747-4D13-B4F1-2BA43A61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CF9F-19FB-4EA6-B9A2-3C51A0B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EF58-C82F-4C84-BFF2-C36F98E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1FFC-8687-4028-BC8E-DE9ED8B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1763-AFD8-4D09-A389-BD92353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C096-509C-4847-8F0B-222992C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17CA-A84E-4B72-9EB4-91587611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5496-A59E-4778-A196-4C5DBF6B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746D-6459-43BB-B3AC-97E20E92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4DB-95E4-423A-BF2C-FC28F7E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2D9-08C3-4A19-BC4C-3400CCC1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F43-8990-4286-8716-65D9F0B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813-F84F-4452-B22B-B683BC8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DB3-06E6-47D0-B9B3-EFED978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76A-4BC1-4550-AD07-BDF73C8F0E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BEA-9041-448C-88BA-3DD567A3F2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A9BA-A745-41F1-A34A-AC0DA61370F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D475-DD86-474A-B45B-88C94A98C9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9680" y="701640"/>
            <a:ext cx="8656560" cy="2505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071520"/>
            <a:ext cx="64008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Обучение чтению и контроль за чтением на уроках английского языка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мотреть теоретические основы методов обучения чтения на начальном и среднем звене об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овать упражнения, применяемые при формировании навыков чтения на начальном и среднем звене об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является изучение процесса формирования навыков чтения на начальном и среднем звене обучения английскому язы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ъект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оего изучения является обучение английскому языку в начальной шк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онятие о чтение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е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это самостоятельный вид речевой деятельности, который обеспечивает письменную форму общения. Оно занимает одно из главных мест по использованию, важности и доступ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Четыре вида чтения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зучающе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направлено на проникновение в смысл текста при помощи его анализа, предполагается полнота и точность поним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знакомительно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представляет собой извлечение основной информации, для него характерны большие тек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ью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смотрового чт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получение общей информации о содержании тек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, наконец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исковое чт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авлено на извлечение конкретной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Чтение имеет две формы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ение про себя (внутреннее чтение)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основная форма чтения – имеет целью извлечения информации, оно «монологично», совершается наедине с соб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ение вслух ( внешнее чтение)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вторичная форма, оно «диалогично», его значение в основном в передаче информации другому лиц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структуре чтения как деятельности можно выделить мотив, цель, условия и результат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о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является всегда общение или коммуникация с помощью печатного сл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получения информации по тому вопросу, который интересует читающ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условия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ятельности чтения относят овладения графической системой языка и приемами извлечения информ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зультато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ятельности является понимание или извлечение информации из прочитанного с разной степенью точности и глуб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Чтение тесным образом связано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другими видами речевой деятельности. Прежде всего, оно связано самым тесным образом с письмом, поскольку и чтение и письмо пользуются одной графической системой языка. При обучении иностранным языкам это необходимо учитывать и развивать эти виды речевой деятельности во взаимосвязи. И это особенно относиться к начальному этап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лючени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пигра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0:50:36Z</dcterms:created>
  <dc:creator>скорость</dc:creator>
  <dc:description/>
  <dc:language>en-US</dc:language>
  <cp:lastModifiedBy>скорость</cp:lastModifiedBy>
  <dcterms:modified xsi:type="dcterms:W3CDTF">2010-12-02T13:32:09Z</dcterms:modified>
  <cp:revision>17</cp:revision>
  <dc:subject/>
  <dc:title>Отчет по самообразованию на тему:</dc:title>
</cp:coreProperties>
</file>