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978-B770-4F26-A13C-0387AC21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3C6-1270-4736-A057-930431E5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6C3-9CF9-4780-827E-49398001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3CD-A906-45D9-8DB9-8F95237B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3FEB-1209-4BB5-82F0-84F05995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4080-5039-4F4E-853B-C1C01175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1C48-2C6E-4D54-842E-04C570EE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C60D-D03F-42DF-B681-B915B79F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952D-D9AB-4A47-B71E-34A70F19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EE4A-037C-4D8B-A4D1-A06C32BF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D475-0229-481B-A3E4-A9C6F03A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E9D-6ACB-43C1-B675-D4683F2C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D960-95A3-4E78-B8DE-F0E46BD5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5392-F0C8-473A-969B-A2EE932E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50E5-0F1B-4B2A-8353-FDD3534E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F3B6-0DBD-48A1-ADE7-E4759203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BB52-3BA2-4EDD-AB77-EA0EB3FC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426B7-D53D-4B61-BC40-BF750D30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4CEEB-D63C-4EE5-A489-D07C8184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18F15-3BE9-41E0-9D89-4082E57F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517B1-7E77-4B4F-90EB-BEAB36C3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2D4BE-1E38-44F3-8074-B594492E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B35-C5D8-4C8B-AC61-6BF366E8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F42A-3B48-44ED-A051-4772F03F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3A97-8073-42E6-9D3C-135EC567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268A-DDC7-4220-AD9D-E2C4E2E8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EABE4-CB78-43B6-9DE5-6CC899D8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F700B-6D77-4E03-AD12-12FAA143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9DA50-7834-4DE1-AE42-DB310208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20E4-4CE4-457C-B779-7324FD19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647A3-E3BB-4789-B0A2-C4B3E792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5D49-F134-44F8-A17C-A552F76F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D148D-74AC-4404-BF7C-A9C58635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527-607A-4150-958F-E93DE3F8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B9836-92DA-4E5D-A597-C90BAD51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6BE63-2A18-47C6-86E6-915B38EC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E7AEF-5657-4B92-94FC-011DF053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D8D20-83BA-4FDE-A957-F304C293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E1118-921B-487C-9DBF-5E17423C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388CE-CA9E-4B56-83FD-0A93ED3E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0E398-F5EB-4510-BED3-346E3214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E1247-2284-43E2-97B4-C983D7DC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31DEB-5F17-4E8A-9699-18EFAD6D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4FB-66ED-4887-BF3B-1471A196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598-E998-4301-A366-89490742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DEE-169B-44A3-89EE-35CFB57D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D84-F393-4D3B-B604-C2513E6F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458-8C90-4EE8-BF1A-1EFAED96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E547-F81E-4BF8-BFC7-1A5B6469DA0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43D3-DB59-4FC4-B4FF-A1D1AEB6FBC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E49A-E77D-4B7D-B240-974CEC0457F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B03D-E0AF-45C0-8BA6-7E6179A5975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39680" y="701640"/>
            <a:ext cx="865656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071520"/>
            <a:ext cx="64008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Обучение чтению и контроль за чтением на уроках английского языка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смотреть теоретические основы методов обучения чтения на начальном и среднем звене обуч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анализировать упражнения, применяемые при формировании навыков чтения на начальном и среднем звене обуч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дмето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является изучение процесса формирования навыков чтения на начальном и среднем звене обучения английскому язы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ъекто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моего изучения является обучение английскому языку в начальной шко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онятие о чтение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ени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это самостоятельный вид речевой деятельности, который обеспечивает письменную форму общения. Оно занимает одно из главных мест по использованию, важности и доступ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Четыре вида чтения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зучающе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направлено на проникновение в смысл текста при помощи его анализа, предполагается полнота и точность поним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знакомительно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чтение представляет собой извлечение основной информации, для него характерны большие тек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лью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осмотрового чтен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вляется получение общей информации о содержании текс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, наконец,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исковое чтени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правлено на извлечение конкретной информ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Чтение имеет две формы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тение про себя (внутреннее чтение)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основная форма чтения – имеет целью извлечения информации, оно «монологично», совершается наедине с соб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тение вслух ( внешнее чтение)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вторичная форма, оно «диалогично», его значение в основном в передаче информации другому лиц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В структуре чтения как деятельности можно выделить мотив, цель, условия и результат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тиво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является всегда общение или коммуникация с помощью печатного сло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Целью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получения информации по тому вопросу, который интересует читающег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 условиям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ятельности чтения относят овладения графической системой языка и приемами извлечения информа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зультатом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ятельности является понимание или извлечение информации из прочитанного с разной степенью точности и глуби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Чтение тесным образом связано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другими видами речевой деятельности. Прежде всего, оно связано самым тесным образом с письмом, поскольку и чтение и письмо пользуются одной графической системой языка. При обучении иностранным языкам это необходимо учитывать и развивать эти виды речевой деятельности во взаимосвязи. И это особенно относиться к начальному этап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ключении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пигра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0:50:36Z</dcterms:created>
  <dc:creator>скорость</dc:creator>
  <dc:description/>
  <dc:language>en-US</dc:language>
  <cp:lastModifiedBy>скорость</cp:lastModifiedBy>
  <dcterms:modified xsi:type="dcterms:W3CDTF">2010-12-02T13:32:09Z</dcterms:modified>
  <cp:revision>17</cp:revision>
  <dc:subject/>
  <dc:title>Отчет по самообразованию на тему:</dc:title>
</cp:coreProperties>
</file>