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7FD-79CA-4820-83A7-443B10CB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8E2-26AD-4A25-9485-A7CA2FE1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D2D-2C77-4E70-A67B-23E75C14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720-5187-45C9-A776-999D20CB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A2E1-2D0E-4C49-9B7B-AFB1580F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C7B9-8357-4084-9367-0F6CE32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5498-4D53-4A85-8352-ECD420F7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6797-036A-4439-87E5-B4A83C18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5370-68D1-4AE0-8B9E-6193FA9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F2FE-3C56-467E-BC54-C88C6C4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ACE3-34A1-4D4C-96EA-22E2DFD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BA3-FE04-40B8-BB8E-07B6048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5E6-FA14-4FC1-93C7-6FA6BCDD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0E49-BFF8-4408-AB44-415B77C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9B7-7052-43E8-9977-D16EC74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29C5-93BD-435D-97EA-DEC5FC45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02F0-405E-4792-89EC-97522C7D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4EA5-9427-425F-8842-3F65B918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223D-74A9-4E52-A3A3-5945DA94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3FF0-E89B-44A7-8349-BC51EF20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D90C-D47B-4352-9802-C26E88C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58A9-3F31-4C7B-8176-281CB755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552-9D7D-492B-9249-28FE0D61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1896-784A-4ECD-9155-43CCCA21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1B7A-15BC-4EB3-86B3-A415DDB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18AC-A8EE-4C8B-83F5-9C4DA6A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E6FD-E12C-4F6E-96AD-F6332D8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5BF8-5847-4A20-A132-80C2A1F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5368-A8FA-4791-9584-84D16D65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76B9-B224-4F38-B46C-0CC72179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420-684C-46F7-8AC4-1E213DB3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8E7-141F-47C4-8139-535B4609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460-89E8-42B8-A5CC-5CB60B37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81B-6679-45FE-B75F-D155AF7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4DC-737D-4F6E-A8A3-CD300B56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AE1-0713-4F73-8E8F-D556A1A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B6A-9DF1-4B53-A1A4-AEA87420A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CD50-5F1A-4886-B99E-A31D8A0CFE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57E1-57E2-4BE5-A4E4-3FB9E2EFB2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6oi.ru/main.php/2288-6/Erie+Mining+Company_+Minnesot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aletrainsclub.com/board/download/file.php?id=2036&amp;sid=d2cf1b42dc16ae4d5d440d1e77958f62&amp;mode=vie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modanchik.com/index.php?productID=148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rugme.ru/photo/theme/delfinyi/1386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Солнце. Много солнца (39 фото)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Картинка 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мод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кз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ленд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71640" y="549360"/>
            <a:ext cx="69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f66cc">
                      <a:alpha val="50000"/>
                    </a:srgbClr>
                  </a:outerShdw>
                </a:effectLst>
                <a:latin typeface="Impact"/>
              </a:rPr>
              <a:t>Зарядка для глаз</a:t>
            </a:r>
            <a:endParaRPr b="0" lang="en-US" sz="18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ff66cc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1916280"/>
            <a:ext cx="43200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1916280"/>
            <a:ext cx="43164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3716280"/>
            <a:ext cx="43164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716280"/>
            <a:ext cx="43200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1916280"/>
            <a:ext cx="43200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2852640"/>
            <a:ext cx="43164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852640"/>
            <a:ext cx="431640" cy="28908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3141720"/>
            <a:ext cx="431640" cy="288720"/>
          </a:xfrm>
          <a:prstGeom prst="rect">
            <a:avLst/>
          </a:prstGeom>
          <a:solidFill>
            <a:srgbClr val="8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5293E-006 L 0.504 -4.45293E-006 E">
                                      <p:cBhvr>
                                        <p:cTn id="4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16 -4.45293E-006 L 0.50416 0.26232 E">
                                      <p:cBhvr>
                                        <p:cTn id="4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16 0.26232 L 0.00017 0.26232 E">
                                      <p:cBhvr>
                                        <p:cTn id="4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26231 L 0.00017 4.98496E-006 E">
                                      <p:cBhvr>
                                        <p:cTn id="5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1411 C 0.00816 -0.02243 0.01667 -0.03146 0.02344 -0.04117 C 0.03455 -0.05667 0.0191 -0.04025 0.03212 -0.0532 C 0.03612 -0.06592 0.04619 -0.07564 0.054 -0.08558 C 0.05643 -0.08882 0.05782 -0.09276 0.06077 -0.09576 C 0.07344 -0.10849 0.0948 -0.12352 0.1099 -0.13324 C 0.12032 -0.13971 0.12657 -0.14781 0.13855 -0.15174 C 0.1408 -0.15406 0.14271 -0.15683 0.14532 -0.15868 C 0.14862 -0.161 0.15278 -0.16146 0.15556 -0.16377 C 0.16945 -0.17487 0.15278 -0.16817 0.16563 -0.17233 C 0.17344 -0.17811 0.18629 -0.1913 0.19619 -0.19454 C 0.20469 -0.20286 0.21424 -0.2098 0.225 -0.21489 C 0.22813 -0.21651 0.23178 -0.21698 0.23525 -0.21836 C 0.23698 -0.21883 0.24046 -0.21975 0.24046 -0.21975 C 0.31719 -0.21883 0.33264 -0.21929 0.3875 -0.21304 C 0.39775 -0.20633 0.38837 -0.21119 0.40799 -0.20795 C 0.41875 -0.2061 0.43108 -0.20171 0.4415 -0.19801 C 0.44497 -0.19963 0.44792 -0.20286 0.45174 -0.20286 C 0.46737 -0.20402 0.49375 -0.18783 0.50591 -0.17904 C 0.51598 -0.17187 0.50625 -0.1758 0.51615 -0.17233 C 0.53889 -0.14966 0.50678 -0.18112 0.53125 -0.1603 C 0.53907 -0.15406 0.54237 -0.14503 0.55018 -0.14018 C 0.55504 -0.13231 0.55816 -0.12352 0.56337 -0.11635 C 0.57223 -0.10432 0.5698 -0.10802 0.58369 -0.09738 C 0.58716 -0.09461 0.58907 -0.09067 0.59237 -0.0872 C 0.59671 -0.07402 0.60764 -0.068 0.61424 -0.05667 C 0.6191 -0.04834 0.62101 -0.03909 0.62605 -0.03122 C 0.62709 -0.0185 0.62709 -0.00439 0.63125 0.0081 C 0.63056 0.05853 0.64566 0.14897 0.59914 0.19339 C 0.59532 0.20102 0.59132 0.20634 0.5856 0.21212 C 0.58108 0.22554 0.58733 0.20935 0.57882 0.22045 C 0.57761 0.22207 0.5783 0.22438 0.57709 0.22554 C 0.57136 0.23156 0.56164 0.2385 0.55313 0.24104 C 0.5441 0.25006 0.53386 0.25862 0.5231 0.26487 C 0.51719 0.26834 0.51025 0.26718 0.50417 0.27181 C 0.50174 0.27366 0.50018 0.27666 0.4974 0.27828 C 0.48976 0.28314 0.47518 0.28684 0.46719 0.28869 C 0.44792 0.29378 0.42761 0.29008 0.40799 0.29031 C 0.36372 0.29378 0.37882 0.29332 0.30955 0.29031 C 0.2981 0.29008 0.2856 0.28499 0.27396 0.28337 C 0.25521 0.27851 0.23264 0.27666 0.2165 0.26487 C 0.21112 0.26093 0.20573 0.25723 0.19966 0.25469 C 0.19636 0.25307 0.18941 0.25122 0.18941 0.25145 C 0.18473 0.24798 0.17935 0.24497 0.17431 0.24266 C 0.17084 0.24127 0.16407 0.23919 0.16407 0.23965 C 0.15556 0.23086 0.1448 0.2193 0.13351 0.21559 C 0.12674 0.20866 0.11424 0.20195 0.1099 0.19339 C 0.10591 0.18599 0.10278 0.17812 0.0981 0.17118 C 0.09688 0.16655 0.09289 0.16262 0.09289 0.15776 C 0.09254 0.13324 0.08455 0.07703 0.10487 0.04881 C 0.10782 0.02984 0.11737 0.01943 0.12848 0.00463 C 0.13386 -0.00231 0.13837 -0.01087 0.14532 -0.01573 C 0.14879 -0.0259 0.15955 -0.03678 0.16754 -0.04464 C 0.17223 -0.05945 0.18681 -0.06384 0.19775 -0.07194 C 0.19983 -0.07356 0.20105 -0.07564 0.20296 -0.07703 C 0.20625 -0.07957 0.2099 -0.08165 0.2132 -0.08373 C 0.22257 -0.09021 0.23768 -0.09438 0.24862 -0.09738 C 0.30139 -0.13277 0.39219 -0.1189 0.45851 -0.11635 C 0.46042 -0.11126 0.46285 -0.10525 0.46546 -0.10085 C 0.46806 -0.09669 0.47379 -0.08905 0.47379 -0.08882 C 0.47657 -0.0805 0.48264 -0.07147 0.48907 -0.065 C 0.49688 -0.04603 0.48716 -0.068 0.49914 -0.04811 C 0.50174 -0.04372 0.50591 -0.03469 0.50591 -0.03446 C 0.50816 -0.0259 0.5106 -0.01758 0.51285 -0.00902 C 0.51702 0.03632 0.52362 0.09716 0.49428 0.13718 C 0.49167 0.14736 0.4823 0.16054 0.47379 0.16609 C 0.46407 0.18067 0.44653 0.18992 0.4316 0.19848 C 0.41389 0.20866 0.42396 0.20542 0.41129 0.20866 C 0.40139 0.20842 0.37535 0.20935 0.36025 0.20519 C 0.35695 0.20449 0.35365 0.20287 0.35035 0.20195 C 0.34566 0.20079 0.33664 0.19848 0.33664 0.19871 C 0.32744 0.192 0.31806 0.18784 0.30782 0.18321 C 0.30087 0.18043 0.29671 0.17673 0.28941 0.17465 C 0.28386 0.17072 0.28212 0.16655 0.2757 0.16447 C 0.26875 0.1573 0.26112 0.15129 0.25365 0.14412 C 0.25139 0.1418 0.24896 0.13949 0.24688 0.13718 C 0.24393 0.13417 0.24046 0.127 0.24046 0.12723 C 0.23542 0.10757 0.24219 0.13186 0.23525 0.1152 C 0.23178 0.10711 0.23195 0.09785 0.23021 0.08952 C 0.23056 0.07842 0.23073 0.06686 0.23178 0.05552 C 0.23212 0.04928 0.23473 0.0502 0.23855 0.04534 C 0.24827 0.03424 0.25348 0.02152 0.26737 0.01481 C 0.27691 0.00047 0.29566 -0.00624 0.30955 -0.01573 C 0.31216 -0.01758 0.31511 -0.01665 0.31806 -0.01758 C 0.32257 -0.0185 0.3316 -0.02105 0.3316 -0.02058 C 0.34011 -0.02035 0.34862 -0.02035 0.35695 -0.0192 C 0.37257 -0.01688 0.38785 -0.000920000000000001 0.39584 0.01134 C 0.40226 0.03748 0.4033 0.07935 0.37049 0.08629 C 0.33837 0.08467 0.33837 0.0923 0.325 0.07611 C 0.32362 0.07426 0.32032 0.07333 0.3198 0.07102 C 0.31858 0.06593 0.3198 0.06061 0.3198 0.05552 E">
                                      <p:cBhvr>
                                        <p:cTn id="6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6211E-007 L 0.7875 -0.01041 E">
                                      <p:cBhvr>
                                        <p:cTn id="7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4296E-006 L -0.85833 -0.00023 E">
                                      <p:cBhvr>
                                        <p:cTn id="8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добрый пу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8845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олоковоз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амосва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вездопа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орех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121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3216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Чемодан большой Antler Jupiter 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620640"/>
            <a:ext cx="352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333360"/>
            <a:ext cx="5975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3:03:05Z</dcterms:created>
  <dc:creator>User</dc:creator>
  <dc:description/>
  <dc:language>en-US</dc:language>
  <cp:lastModifiedBy>User</cp:lastModifiedBy>
  <dcterms:modified xsi:type="dcterms:W3CDTF">2010-10-26T06:10:30Z</dcterms:modified>
  <cp:revision>8</cp:revision>
  <dc:subject/>
  <dc:title>Слайд 1</dc:title>
</cp:coreProperties>
</file>