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156-BD5B-4BC0-AB1A-F4FFDEDA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AFF-9364-489A-8B0E-43C5D29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1FA-ADE8-49F8-84EB-CF26920E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570-EF5A-4B2F-A187-42AD276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35D-5AB4-4F88-9A21-AEBFAF9C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B9B2-F540-4F05-B545-B101A17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E207-F180-443F-81DB-F1DD95F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997A-DCDE-4D1C-ACB4-86D8063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161D-A0D2-4C34-BB77-51DDE959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BC5-83B6-4F73-9F17-BFB88A3E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36A-7A93-4C69-AAAA-BC2018F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714-84BF-4CA5-86C2-658E99E7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68B-3136-4F60-9D83-518C574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94A-0D40-41B5-848C-606072F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7C4-9D0A-4259-9F11-5E6FED8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DBE-B88A-4C5D-9CF6-A77CFA14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2627-1DAC-4EE3-8716-C6755A9C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BFB3-3556-493D-874B-3DDAFE04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B4C9-859C-4F19-9B6B-134A4ED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ED8E-AF41-4E50-A640-88C31BB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2515-DB3C-440D-A462-A7F756A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E6FA-CC26-456D-96D0-248781D0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0B4-E545-4493-9CFD-C01B14A7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07E6-216F-4D16-9E30-131D8C60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FF4F-1257-4197-94AE-C29D22F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6307-6593-4110-8727-D98021D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6AFE-7A58-4F57-8A8A-6430CE8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BB36-3D4B-4B75-B084-0B301B14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7783-C774-429C-B824-A7A96217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C795-8D14-4ED0-B59E-80C3C07D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CC8-5032-460B-9CAB-8F1C6C5B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510-6CC0-46ED-957A-CA22E0E6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C3A-2240-4697-B3CA-C4F90167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B7E-576D-4FC0-B722-4188A8A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2B7-C26D-47B6-B393-B4742FF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28D-D949-468D-98EA-3A93B1D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A8BF-CC9C-45A7-8CFB-1C9C6E29B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C21-F560-40BA-AB15-27D17CA6CD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081-1778-44D1-AA54-61E42F222F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6oi.ru/main.php/2288-6/Erie+Mining+Company_+Minnesot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aletrainsclub.com/board/download/file.php?id=2036&amp;sid=d2cf1b42dc16ae4d5d440d1e77958f62&amp;mode=vie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odanchik.com/index.php?productID=148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rugme.ru/photo/theme/delfinyi/1386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Солнце. Много солнца (39 фото)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мод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кз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71640" y="549360"/>
            <a:ext cx="69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f66cc">
                      <a:alpha val="50000"/>
                    </a:srgbClr>
                  </a:outerShdw>
                </a:effectLst>
                <a:latin typeface="Impact"/>
              </a:rPr>
              <a:t>Зарядка для глаз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f66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1916280"/>
            <a:ext cx="43200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1916280"/>
            <a:ext cx="43164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371628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716280"/>
            <a:ext cx="43200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1916280"/>
            <a:ext cx="43200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285264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85264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3141720"/>
            <a:ext cx="43164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5293E-006 L 0.504 -4.45293E-006 E">
                                      <p:cBhvr>
                                        <p:cTn id="4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-4.45293E-006 L 0.50416 0.26232 E">
                                      <p:cBhvr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0.26232 L 0.00017 0.26232 E">
                                      <p:cBhvr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26231 L 0.00017 4.98496E-006 E">
                                      <p:cBhvr>
                                        <p:cTn id="5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411 C 0.00816 -0.02243 0.01667 -0.03146 0.02344 -0.04117 C 0.03455 -0.05667 0.0191 -0.04025 0.03212 -0.0532 C 0.03612 -0.06592 0.04619 -0.07564 0.054 -0.08558 C 0.05643 -0.08882 0.05782 -0.09276 0.06077 -0.09576 C 0.07344 -0.10849 0.0948 -0.12352 0.1099 -0.13324 C 0.12032 -0.13971 0.12657 -0.14781 0.13855 -0.15174 C 0.1408 -0.15406 0.14271 -0.15683 0.14532 -0.15868 C 0.14862 -0.161 0.15278 -0.16146 0.15556 -0.16377 C 0.16945 -0.17487 0.15278 -0.16817 0.16563 -0.17233 C 0.17344 -0.17811 0.18629 -0.1913 0.19619 -0.19454 C 0.20469 -0.20286 0.21424 -0.2098 0.225 -0.21489 C 0.22813 -0.21651 0.23178 -0.21698 0.23525 -0.21836 C 0.23698 -0.21883 0.24046 -0.21975 0.24046 -0.21975 C 0.31719 -0.21883 0.33264 -0.21929 0.3875 -0.21304 C 0.39775 -0.20633 0.38837 -0.21119 0.40799 -0.20795 C 0.41875 -0.2061 0.43108 -0.20171 0.4415 -0.19801 C 0.44497 -0.19963 0.44792 -0.20286 0.45174 -0.20286 C 0.46737 -0.20402 0.49375 -0.18783 0.50591 -0.17904 C 0.51598 -0.17187 0.50625 -0.1758 0.51615 -0.17233 C 0.53889 -0.14966 0.50678 -0.18112 0.53125 -0.1603 C 0.53907 -0.15406 0.54237 -0.14503 0.55018 -0.14018 C 0.55504 -0.13231 0.55816 -0.12352 0.56337 -0.11635 C 0.57223 -0.10432 0.5698 -0.10802 0.58369 -0.09738 C 0.58716 -0.09461 0.58907 -0.09067 0.59237 -0.0872 C 0.59671 -0.07402 0.60764 -0.068 0.61424 -0.05667 C 0.6191 -0.04834 0.62101 -0.03909 0.62605 -0.03122 C 0.62709 -0.0185 0.62709 -0.00439 0.63125 0.0081 C 0.63056 0.05853 0.64566 0.14897 0.59914 0.19339 C 0.59532 0.20102 0.59132 0.20634 0.5856 0.21212 C 0.58108 0.22554 0.58733 0.20935 0.57882 0.22045 C 0.57761 0.22207 0.5783 0.22438 0.57709 0.22554 C 0.57136 0.23156 0.56164 0.2385 0.55313 0.24104 C 0.5441 0.25006 0.53386 0.25862 0.5231 0.26487 C 0.51719 0.26834 0.51025 0.26718 0.50417 0.27181 C 0.50174 0.27366 0.50018 0.27666 0.4974 0.27828 C 0.48976 0.28314 0.47518 0.28684 0.46719 0.28869 C 0.44792 0.29378 0.42761 0.29008 0.40799 0.29031 C 0.36372 0.29378 0.37882 0.29332 0.30955 0.29031 C 0.2981 0.29008 0.2856 0.28499 0.27396 0.28337 C 0.25521 0.27851 0.23264 0.27666 0.2165 0.26487 C 0.21112 0.26093 0.20573 0.25723 0.19966 0.25469 C 0.19636 0.25307 0.18941 0.25122 0.18941 0.25145 C 0.18473 0.24798 0.17935 0.24497 0.17431 0.24266 C 0.17084 0.24127 0.16407 0.23919 0.16407 0.23965 C 0.15556 0.23086 0.1448 0.2193 0.13351 0.21559 C 0.12674 0.20866 0.11424 0.20195 0.1099 0.19339 C 0.10591 0.18599 0.10278 0.17812 0.0981 0.17118 C 0.09688 0.16655 0.09289 0.16262 0.09289 0.15776 C 0.09254 0.13324 0.08455 0.07703 0.10487 0.04881 C 0.10782 0.02984 0.11737 0.01943 0.12848 0.00463 C 0.13386 -0.00231 0.13837 -0.01087 0.14532 -0.01573 C 0.14879 -0.0259 0.15955 -0.03678 0.16754 -0.04464 C 0.17223 -0.05945 0.18681 -0.06384 0.19775 -0.07194 C 0.19983 -0.07356 0.20105 -0.07564 0.20296 -0.07703 C 0.20625 -0.07957 0.2099 -0.08165 0.2132 -0.08373 C 0.22257 -0.09021 0.23768 -0.09438 0.24862 -0.09738 C 0.30139 -0.13277 0.39219 -0.1189 0.45851 -0.11635 C 0.46042 -0.11126 0.46285 -0.10525 0.46546 -0.10085 C 0.46806 -0.09669 0.47379 -0.08905 0.47379 -0.08882 C 0.47657 -0.0805 0.48264 -0.07147 0.48907 -0.065 C 0.49688 -0.04603 0.48716 -0.068 0.49914 -0.04811 C 0.50174 -0.04372 0.50591 -0.03469 0.50591 -0.03446 C 0.50816 -0.0259 0.5106 -0.01758 0.51285 -0.00902 C 0.51702 0.03632 0.52362 0.09716 0.49428 0.13718 C 0.49167 0.14736 0.4823 0.16054 0.47379 0.16609 C 0.46407 0.18067 0.44653 0.18992 0.4316 0.19848 C 0.41389 0.20866 0.42396 0.20542 0.41129 0.20866 C 0.40139 0.20842 0.37535 0.20935 0.36025 0.20519 C 0.35695 0.20449 0.35365 0.20287 0.35035 0.20195 C 0.34566 0.20079 0.33664 0.19848 0.33664 0.19871 C 0.32744 0.192 0.31806 0.18784 0.30782 0.18321 C 0.30087 0.18043 0.29671 0.17673 0.28941 0.17465 C 0.28386 0.17072 0.28212 0.16655 0.2757 0.16447 C 0.26875 0.1573 0.26112 0.15129 0.25365 0.14412 C 0.25139 0.1418 0.24896 0.13949 0.24688 0.13718 C 0.24393 0.13417 0.24046 0.127 0.24046 0.12723 C 0.23542 0.10757 0.24219 0.13186 0.23525 0.1152 C 0.23178 0.10711 0.23195 0.09785 0.23021 0.08952 C 0.23056 0.07842 0.23073 0.06686 0.23178 0.05552 C 0.23212 0.04928 0.23473 0.0502 0.23855 0.04534 C 0.24827 0.03424 0.25348 0.02152 0.26737 0.01481 C 0.27691 0.00047 0.29566 -0.00624 0.30955 -0.01573 C 0.31216 -0.01758 0.31511 -0.01665 0.31806 -0.01758 C 0.32257 -0.0185 0.3316 -0.02105 0.3316 -0.02058 C 0.34011 -0.02035 0.34862 -0.02035 0.35695 -0.0192 C 0.37257 -0.01688 0.38785 -0.000920000000000001 0.39584 0.01134 C 0.40226 0.03748 0.4033 0.07935 0.37049 0.08629 C 0.33837 0.08467 0.33837 0.0923 0.325 0.07611 C 0.32362 0.07426 0.32032 0.07333 0.3198 0.07102 C 0.31858 0.06593 0.3198 0.06061 0.3198 0.05552 E">
                                      <p:cBhvr>
                                        <p:cTn id="6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6211E-007 L 0.7875 -0.01041 E">
                                      <p:cBhvr>
                                        <p:cTn id="7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4296E-006 L -0.85833 -0.00023 E">
                                      <p:cBhvr>
                                        <p:cTn id="8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добрый пу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845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олоковоз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амосва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вездоп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орех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121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3216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Чемодан большой Antler Jupiter 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620640"/>
            <a:ext cx="352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333360"/>
            <a:ext cx="5975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3:03:05Z</dcterms:created>
  <dc:creator>User</dc:creator>
  <dc:description/>
  <dc:language>en-US</dc:language>
  <cp:lastModifiedBy>User</cp:lastModifiedBy>
  <dcterms:modified xsi:type="dcterms:W3CDTF">2010-10-26T06:10:30Z</dcterms:modified>
  <cp:revision>8</cp:revision>
  <dc:subject/>
  <dc:title>Слайд 1</dc:title>
</cp:coreProperties>
</file>