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439-0076-4305-94F0-621462B8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0A2-2A15-4124-9440-A3650D3D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B84-0E1F-4CA0-9200-049E0D34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1FD-EEE8-4997-95BE-5B6688F9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51ED-9954-4415-A11B-66CA3E30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D4F2-BFDB-4FF1-81A9-DD9EBB8F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C6C2-FDDC-445E-8878-B52624BB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C4CD-C04D-4A61-A0B8-AAF3E388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45A4-F40E-478F-A2CC-75422636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971D-71F3-4730-83FB-7DB5F03C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397D-B7D4-49E3-B7D7-3DFA88D2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30D-E35D-4205-A203-B18A93AE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B12E-6CAC-496D-A9A0-FDE76BC4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3E6B-76EE-43E3-BADF-C1712748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BC47-88CB-421C-88B8-B77F6A5F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1B5E-7354-4387-889B-7F698A43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D8D6-F015-49F8-96CE-09450DD0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45F0-EF3D-48F0-956C-9A9198FA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E08E-6C73-421D-81F9-BC6A55E0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CC74-7F6B-4A2B-ABA6-79A2C227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C9B2-E647-485B-B649-2D2958BA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27F7-1F64-4B5D-ADA6-B745F5EF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445-CEEC-4946-9C92-9650037C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4E04-CBBF-4A2E-9201-8887A75D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2B87-B38A-4701-BED1-4CB66AB0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9048-991F-496A-81D8-F2A614E4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32D4-F404-4B42-9EC5-E3C2EBB2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E46F-A6DD-4ED1-9943-F4EEB54E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DAAF2-4A17-4EA2-B2D2-A000208B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83EEB-F9AA-4E61-A931-909A0733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E550-2BE5-42B3-BB7B-15EB3082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46D4-18E2-4F76-ABA9-542CC3AE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A5D3-AC82-4F0B-8F06-3A81E2D5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5B3-B69F-41C0-B2D9-D51C39CC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03C4F-9BC4-47F9-A6E2-896BF6A8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D67FF-2047-4171-8110-75601489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BAC6C-9F98-4287-9562-427F8D62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CCC4-967D-4944-B8A1-CD9493BB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C6F68-914D-4387-89D3-F12B25DA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3958-9864-460A-8195-BAF2914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21FA8-30F6-4312-B458-EC2C58C9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3E7F-C195-4E94-9B2E-1DB194C5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6D55-7C40-491A-AAF8-735D2B23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78A-360B-4DD3-9C20-65965520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187-380F-49CB-8C52-F45C8FD1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EAF-E723-4CA3-A2FD-D3116E1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D8B-9A5C-45B8-BBE4-A2244340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F3C-EE75-40F6-A685-D0C33749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36D8-1536-4173-B135-F46DFDDBDFC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1EC0-EA2C-4306-801D-E3DC8DB58E2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CDD2-63F8-408B-8787-274D3553A19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5AA1-D338-4530-8D35-F37F928E685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81200" y="281160"/>
            <a:ext cx="8307360" cy="1358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28440" y="16430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«Патриотизм как нравственная основа жизнеспособности государства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3571920" y="578628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БОУ «Краси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абарова Татьяна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едмет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держание и технологии формирования патриотического сознания и гражданского поведения, обеспечивающих готовность молодых людей самостоятельно принимать решения, способность к сотрудничеству, воспитание чувства ответственности за судьбу стран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ок реализации</a:t>
            </a:r>
            <a:br>
              <a:rPr sz="36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течение год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направления работы над проектом</a:t>
            </a:r>
            <a:br>
              <a:rPr sz="32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Конкурс рисунков «Мы за мирное небо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Конкурс сочинений «Письмо ветерану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треча с интересными людьми к дню вывода советских войск из Афганистана «Время выбрало нас»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ция «Поздравь служивого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сновные направления работы над проектом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ция «Свет в окне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ция «Звезда героя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ция «Азбука Победы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ция «Чтим и помним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тинг-концерт, посвященный Побед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ект «Аллея Памяти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жидаемые результа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4000" y="2128680"/>
            <a:ext cx="8640720" cy="42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уважение к ветеранам войны, оказание посильной помощ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правильное отношение к войне «Худой мир лучше доброй ссоры».   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освоение доступных знаний об истории родного Отече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активное участие детей в выставках, конкурсах, спортивно – патриотических мероприятиях, других видах деятель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тапы проведения и реализации проек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ормационно –накопительны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онно – практическ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зентационно – завершаю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5"/>
          <p:cNvSpPr/>
          <p:nvPr/>
        </p:nvSpPr>
        <p:spPr>
          <a:xfrm>
            <a:off x="539640" y="189000"/>
            <a:ext cx="8280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се может родная земля: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кормить своим хлебом, напоить из своих родников, удивить своей красотой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т только защитить сама себя не может: 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щита родной земли – долг тех, кто ест ее хлеб, кто пьет ее воду, любуется ее красот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14200" y="193464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каждого поколения могут быть свои идеал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моего - свои, у вашего - другие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алко то поколение, у которого нет никаких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О. Ключевск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льзя быть патриотом, не чувствуя личной связи с Родиной, не зная, как любили и берегли ее наши предки, наши отцы и деды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Цель проекта: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Создать наиболее благоприятные условия для гражданского и патриотического становления учащихся, формирования патриотического сознания и гражданского поведения; выстроить воспитательное пространство на основе взаимодействия и партнерства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е задачи проекта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000" y="-606960"/>
            <a:ext cx="8280360" cy="75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ение знаний учащихся по истории Великой Отечественной войны, воспитание уважения, чувства долга к людям той эпох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развитие у учащихся социальной активности, гражданской ответственности, духовности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развитие познавательной активности, критического мышления; умение видеть проблему и намечать пути её реше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формирование единой воспитательной позиции по гражданскому, патриотическому воспитанию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патриотического сознания и гражданского поведени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коммуникативной культуры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опыта творческой, учебно-исследовательской деятельности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13080" y="983880"/>
            <a:ext cx="43178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дактические задачи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ru-RU" sz="5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ипо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триотизм является нравственной основой жизнеспособности государства и выступает в качестве важного внутреннего мобилизующего ресурса развития общества, активной гражданской позиции личности, готовности ее к самоотверженному служению своему Отечеству. Деятельная сторона патриотизма является определяющей, именно она способна преобразовать чувственное начало в конкретные для Отечества и государства дела и поступ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нципы реализации проект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нцип партнерства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нцип создания творческой атмосферы, взаимного доверия и уважения, сотрудничеств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нцип саморазвит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нцип доверия и поддерж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ъект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цесс формирования гражданской ответственности, становление граждан, обладающих позитивными ценностями и качествами, способных проявить их в созидательном процессе в интересах Отечества, укрепления государства, обеспечения его жизненно важных интересов и устойчивого развит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7:03:00Z</dcterms:created>
  <dc:creator>user</dc:creator>
  <dc:description/>
  <dc:language>en-US</dc:language>
  <cp:lastModifiedBy>Танечка</cp:lastModifiedBy>
  <dcterms:modified xsi:type="dcterms:W3CDTF">2013-02-26T12:36:44Z</dcterms:modified>
  <cp:revision>38</cp:revision>
  <dc:subject/>
  <dc:title>Мастер - класс</dc:title>
</cp:coreProperties>
</file>