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wmf" ContentType="image/x-wm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69E-0389-44A8-833E-1FF73B77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569-5039-4BBC-8135-9546E565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CA7-5859-42CB-9E62-3B8D0142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02C-FD61-467D-B950-39DFA7B9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1F82A-B3FF-4103-B518-87494D6D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154F-95A1-45C4-8CC0-9BE6C55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7AF2-6F2C-4B74-9D04-BA595BF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ADF0-B62D-4F10-93F3-F2B88686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749D0-E3A6-47AC-8CEA-4BD1F22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7CC8-0EE1-414C-B427-65AA2DE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CB1EA-A3B1-4734-80FC-CC4D197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7D0-2EC9-43E3-BCC8-2630199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84EBE-0AFA-40BB-81F3-66FC740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FAFBE-A139-4583-AE9C-C6B06DE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5D0A0-4B30-4EE2-8D90-E98C63C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EBEB8-0A8F-428B-BA8E-B06C6F0B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11BF-4C42-40AF-91A3-AE0D4351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EAF-57C1-41DF-90A9-1DA695E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ACD-8F39-4300-87C5-D45C6738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19F-FA68-4212-AC9B-0067113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C5B-E179-49F8-9BA6-B4C4584A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214-AD56-4B5D-87CF-5C542C1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387-DDBB-45D5-9AC6-195AAF4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1B6-4675-458A-858C-666A223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FBA3-5952-4F8D-9954-690D2C8BFE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1B2-5E8E-4180-96BC-8860C0B8DB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wn-house.ru/uploads/posts/2009-03/thumbs/1236681984_644053.jpg" TargetMode="External"/><Relationship Id="rId2" Type="http://schemas.openxmlformats.org/officeDocument/2006/relationships/hyperlink" Target="http://murzim.ru/uploads/posts/2010-12/1291590445_image029.jpg" TargetMode="External"/><Relationship Id="rId3" Type="http://schemas.openxmlformats.org/officeDocument/2006/relationships/hyperlink" Target="http://potomy.ru/fauna/394.html" TargetMode="External"/><Relationship Id="rId4" Type="http://schemas.openxmlformats.org/officeDocument/2006/relationships/hyperlink" Target="http://s41.radikal.ru/i091/1004/66/03dc33a86b56.jpg" TargetMode="External"/><Relationship Id="rId5" Type="http://schemas.openxmlformats.org/officeDocument/2006/relationships/hyperlink" Target="http://img11.nnm.ru/3/1/c/f/1/2dc377f12f6a0d61bb1e0df3a17.jpg" TargetMode="External"/><Relationship Id="rId6" Type="http://schemas.openxmlformats.org/officeDocument/2006/relationships/hyperlink" Target="http://www.darwin.museum.ru/EXPOS/floor2/img/dyatel_b.jpg" TargetMode="External"/><Relationship Id="rId7" Type="http://schemas.openxmlformats.org/officeDocument/2006/relationships/hyperlink" Target="http://projects.edu.yar.ru/biology/11-12/tur3/pics/img_1.4.jpg" TargetMode="External"/><Relationship Id="rId8" Type="http://schemas.openxmlformats.org/officeDocument/2006/relationships/hyperlink" Target="http://www.nrk.cross-ipk.ru/body/galleries/baranov/pict/l_canus_eggs.jpg" TargetMode="External"/><Relationship Id="rId9" Type="http://schemas.openxmlformats.org/officeDocument/2006/relationships/hyperlink" Target="http://www.stihi.ru/pics/2011/04/22/1582.jpg" TargetMode="External"/><Relationship Id="rId10" Type="http://schemas.openxmlformats.org/officeDocument/2006/relationships/hyperlink" Target="http://img1.liveinternet.ru/images/attach/c/2/64/210/64210443_0572.jpg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hyperlink" Target="http://u.mdcd.net/media/data/rooms/images/ntrary5dczn2445m.jpg" TargetMode="External"/><Relationship Id="rId13" Type="http://schemas.openxmlformats.org/officeDocument/2006/relationships/hyperlink" Target="http://img0.liveinternet.ru/images/attach/c/1/56/129/56129561_1267972343_s138970.jpg" TargetMode="External"/><Relationship Id="rId14" Type="http://schemas.openxmlformats.org/officeDocument/2006/relationships/hyperlink" Target="http://www.stihi.ru/pics/2011/05/24/9030.jpg" TargetMode="External"/><Relationship Id="rId15" Type="http://schemas.openxmlformats.org/officeDocument/2006/relationships/hyperlink" Target="http://www.idist.ru/_nw/3/90803877.jpg" TargetMode="External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Пернатые друзья»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8760" y="45086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и 1  класса ГБОУ « Специальная ( коррекционная) школа – интерна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и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учитель начальных классов Бойкова Е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азнообразие птиц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ире существует около 8600 различных видов п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4" descr="j0292240"/>
          <p:cNvPicPr/>
          <p:nvPr/>
        </p:nvPicPr>
        <p:blipFill>
          <a:blip r:embed="rId1"/>
          <a:stretch/>
        </p:blipFill>
        <p:spPr>
          <a:xfrm>
            <a:off x="142920" y="3286080"/>
            <a:ext cx="2214360" cy="2255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j0180524"/>
          <p:cNvPicPr/>
          <p:nvPr/>
        </p:nvPicPr>
        <p:blipFill>
          <a:blip r:embed="rId2"/>
          <a:stretch/>
        </p:blipFill>
        <p:spPr>
          <a:xfrm>
            <a:off x="2857680" y="4786200"/>
            <a:ext cx="2230200" cy="192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j0201176"/>
          <p:cNvPicPr/>
          <p:nvPr/>
        </p:nvPicPr>
        <p:blipFill>
          <a:blip r:embed="rId3"/>
          <a:stretch/>
        </p:blipFill>
        <p:spPr>
          <a:xfrm>
            <a:off x="5214960" y="164304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пт1.jpg"/>
          <p:cNvPicPr/>
          <p:nvPr/>
        </p:nvPicPr>
        <p:blipFill>
          <a:blip r:embed="rId4"/>
          <a:stretch/>
        </p:blipFill>
        <p:spPr>
          <a:xfrm>
            <a:off x="5715000" y="428616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пт2.jpg"/>
          <p:cNvPicPr/>
          <p:nvPr/>
        </p:nvPicPr>
        <p:blipFill>
          <a:blip r:embed="rId5"/>
          <a:stretch/>
        </p:blipFill>
        <p:spPr>
          <a:xfrm>
            <a:off x="2571840" y="2286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2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2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2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ющи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Содержимое 7" descr="соловей.jpg"/>
          <p:cNvPicPr/>
          <p:nvPr/>
        </p:nvPicPr>
        <p:blipFill>
          <a:blip r:embed="rId1"/>
          <a:stretch/>
        </p:blipFill>
        <p:spPr>
          <a:xfrm>
            <a:off x="3643200" y="1714680"/>
            <a:ext cx="5112000" cy="391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емле существует около 50 семейств певчих птиц.  Однако, не всеми песнями мы восхищаемся: галка и ворона тоже относятся к певчим птицам, но вряд ли звуки, которые они издают , приятны для слух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е дело  соловей. Это настоящий певец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000680" y="1000080"/>
            <a:ext cx="47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вей.</a:t>
            </a:r>
            <a:endParaRPr b="0" lang="en-US" sz="32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1867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Лесны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0" y="135684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ег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2560" y="1714320"/>
            <a:ext cx="37148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познакомимся с некоторыми птицами, которых можно увидеть , оказавшись в лесу. Это большая синица, белая трясогузка, зяблик, щегол, поползень, сорока,  дубонос 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4" descr="щегол.jpg"/>
          <p:cNvPicPr/>
          <p:nvPr/>
        </p:nvPicPr>
        <p:blipFill>
          <a:blip r:embed="rId1"/>
          <a:stretch/>
        </p:blipFill>
        <p:spPr>
          <a:xfrm>
            <a:off x="4357800" y="200016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1154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Городски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428720" y="1643040"/>
            <a:ext cx="42577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уб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280" y="1434600"/>
            <a:ext cx="4214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ие птицы- это птицы, которые приспособились жить рядом с человеком . Образ жизни этих птиц коренным образом изменился за последние 3-4 тысячи лет. Они живут при человеке – так им гораздо легче добывать себе пропитание. Да и теплее в холодные зимы.  К таким птицам относятся: голуби, воробьи, галки, ласточки, ворон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Рисунок 7" descr="гуля.jpg"/>
          <p:cNvPicPr/>
          <p:nvPr/>
        </p:nvPicPr>
        <p:blipFill>
          <a:blip r:embed="rId1"/>
          <a:stretch/>
        </p:blipFill>
        <p:spPr>
          <a:xfrm>
            <a:off x="4500720" y="2286000"/>
            <a:ext cx="414324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3581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одны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4800" y="1285920"/>
            <a:ext cx="51116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я белая цап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280" y="1714320"/>
            <a:ext cx="3394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ные птицы внешне почти не отличаются от своих « сухопутных» сородичей. Тем не менее, они чувствуют себя в родной стихии и в воде, и в воздухе, и на земле: утка кряква, лебедь, поморник, розовая чайка, большая белая цапля 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6" descr="цапля.jpg"/>
          <p:cNvPicPr/>
          <p:nvPr/>
        </p:nvPicPr>
        <p:blipFill>
          <a:blip r:embed="rId1"/>
          <a:stretch/>
        </p:blipFill>
        <p:spPr>
          <a:xfrm>
            <a:off x="4000680" y="2000160"/>
            <a:ext cx="450036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296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Хищны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57480" y="1143000"/>
            <a:ext cx="38257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с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4357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х хищных птиц объединяет их идеальная приспособленность к добыванию пищи с помощью охоты. Характерный признак хищных птиц- крючковатая верхняя створка клюва . У многих хищников великолепное зрение, совершенный слух, идеальная форма тела, которая позволяет им быстро лета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и совы, ястребы, орлы, сокол, кречет, сапсан и друг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4" descr="сапсан.jpg"/>
          <p:cNvPicPr/>
          <p:nvPr/>
        </p:nvPicPr>
        <p:blipFill>
          <a:blip r:embed="rId1"/>
          <a:stretch/>
        </p:blipFill>
        <p:spPr>
          <a:xfrm>
            <a:off x="4714920" y="1714680"/>
            <a:ext cx="428616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Курообразны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1357200"/>
            <a:ext cx="4543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лин обыкновен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3786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х птиц выделим в отдельную группу, так как они представляют для нас особый интерес. Все они близкие родственники куриц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бчик, глухарь, куропатки, павлин обыкновенный 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6" descr="павлин.jpg"/>
          <p:cNvPicPr/>
          <p:nvPr/>
        </p:nvPicPr>
        <p:blipFill>
          <a:blip r:embed="rId1"/>
          <a:stretch/>
        </p:blipFill>
        <p:spPr>
          <a:xfrm>
            <a:off x="4143240" y="1928880"/>
            <a:ext cx="44294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Экзотические птиц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29040" y="1500120"/>
            <a:ext cx="4757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огорлый тук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" y="1434600"/>
            <a:ext cx="37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учной классификации , конечно, такого понятия , как экзотические птицы - нет. Тем не менее, мы решили несколько птиц , которые нам представляются экзотическими , объединить: калао, зеленокрылый ара, какаду - инка, желтогорлый тукан, колиб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Рисунок 4" descr="тукан.jpg"/>
          <p:cNvPicPr/>
          <p:nvPr/>
        </p:nvPicPr>
        <p:blipFill>
          <a:blip r:embed="rId1"/>
          <a:stretch/>
        </p:blipFill>
        <p:spPr>
          <a:xfrm>
            <a:off x="4071960" y="228600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то интересно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4354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я маленькая птичка- колибри – пчёлка, обитает на Кубе. Длина её тела – около 6 с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7840" y="1213920"/>
            <a:ext cx="400032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мощный удар клюва - у самой крупной птицы- африканского страуса. Его сила сравнима с ударом лошадиного копы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Содержимое 9" descr="страус.jpg"/>
          <p:cNvPicPr/>
          <p:nvPr/>
        </p:nvPicPr>
        <p:blipFill>
          <a:blip r:embed="rId1"/>
          <a:stretch/>
        </p:blipFill>
        <p:spPr>
          <a:xfrm>
            <a:off x="5072040" y="3000240"/>
            <a:ext cx="3786120" cy="364356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8" descr="колибри.jpg"/>
          <p:cNvPicPr/>
          <p:nvPr/>
        </p:nvPicPr>
        <p:blipFill>
          <a:blip r:embed="rId2"/>
          <a:stretch/>
        </p:blipFill>
        <p:spPr>
          <a:xfrm>
            <a:off x="571680" y="2643120"/>
            <a:ext cx="37144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Литератур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2920" y="8568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"/>
              </a:rPr>
              <a:t>http://down-house.ru/uploads/posts/2009-03/thumbs/1236681984_644053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2"/>
              </a:rPr>
              <a:t>http://murzim.ru/uploads/posts/2010-12/1291590445_image029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3"/>
              </a:rPr>
              <a:t>http://potomy.ru/fauna/394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4"/>
              </a:rPr>
              <a:t>http://s41.radikal.ru/i091/1004/66/03dc33a86b56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5"/>
              </a:rPr>
              <a:t>http://img11.nnm.ru/3/1/c/f/1/2dc377f12f6a0d61bb1e0df3a17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8dede"/>
                </a:solidFill>
                <a:latin typeface="Times New Roman"/>
                <a:ea typeface="Times New Roman"/>
              </a:rPr>
              <a:t>http://kita.com.ua/uploads/tiny_mce/loadimg/th_007668eff513cff2ea745396dab8bbd5.jpg?hash=9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6"/>
              </a:rPr>
              <a:t>http://www.darwin.museum.ru/EXPOS/floor2/img/dyatel_b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7"/>
              </a:rPr>
              <a:t>http://projects.edu.yar.ru/bhttp://cs9982.userapi.com/u60909779/-6/x_3659627d.jpgiology/11-12/tur3/pics/img_1.4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8"/>
              </a:rPr>
              <a:t>http://www.nrk.cross-ipk.ru/body/galleries/baranov/pict/l_canus_eggs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9"/>
              </a:rPr>
              <a:t>http://www.stihi.ru/pics/2011/04/22/1582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0"/>
              </a:rPr>
              <a:t>http://img1.liveinternet.ru/images/attach/c/2/64/210/64210443_0572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1"/>
              </a:rPr>
              <a:t>http://images.yandex.ru/yandsearch?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2"/>
              </a:rPr>
              <a:t>http://u.mdcd.net/media/data/rooms/images/ntrary5dczn2445m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3"/>
              </a:rPr>
              <a:t>http://img0.liveinternet.ru/images/attach/c/1/56/129/56129561_1267972343_s13897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4"/>
              </a:rPr>
              <a:t>http://www.stihi.ru/pics/2011/05/24/903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5"/>
              </a:rPr>
              <a:t>http://www.idist.ru/_nw/3/90803877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files.web2edu.ru/ff78e13e-8407-46cb-a439-ecd1d2beb916/d85e5c12-490f-4db2-a5f9-921880b9cb95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www.floranimal.ru/gallery/big/177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www.ebftour.ru/images/load/Image/4sapsan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forum.allnokia.ru/files/08/21/marra_352x416_as129_799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www.picdesktop.ru/animals/1152x864/animals19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63416"/>
                </a:solidFill>
                <a:uFillTx/>
                <a:latin typeface="Times New Roman"/>
                <a:ea typeface="Times New Roman"/>
              </a:rPr>
              <a:t>http://img1.liveinternet.ru/images/attach/c/2/65/919/65919991_1288354320_102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8dede"/>
                </a:solidFill>
                <a:latin typeface="Times New Roman"/>
                <a:ea typeface="Times New Roman"/>
              </a:rPr>
              <a:t>А. Бугаев Птицы-СПб.;»БКК», 2008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8dede"/>
                </a:solidFill>
                <a:latin typeface="Times New Roman"/>
                <a:ea typeface="Times New Roman"/>
              </a:rPr>
              <a:t>Модестов С.Ю. Самые, самые…ООО»ИДЛ», 2005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то такие  пт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14480" y="1600200"/>
            <a:ext cx="497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 всех населяющих землю живых существ самыми удивительными являются птицы. Они освоили самый большой из океанов – воздушны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тицы - это животные, тело которых покрыто перьями. Почти все птицы- летающие.Птицы хорошо видят, слышат, чувствуют вкус и запах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j0262747"/>
          <p:cNvPicPr/>
          <p:nvPr/>
        </p:nvPicPr>
        <p:blipFill>
          <a:blip r:embed="rId1"/>
          <a:stretch/>
        </p:blipFill>
        <p:spPr>
          <a:xfrm>
            <a:off x="357120" y="1928880"/>
            <a:ext cx="328608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 появились птицы?</a:t>
            </a:r>
            <a:br>
              <a:rPr sz="44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дки птиц- динозавры, древние ящеры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4200" y="1535040"/>
            <a:ext cx="428328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либо археоптериксы, которые лазали по ветками , прыгали вниз, растопырив передние лапы, и постепенно научились лета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13" descr="архиоптер.jpg"/>
          <p:cNvPicPr/>
          <p:nvPr/>
        </p:nvPicPr>
        <p:blipFill>
          <a:blip r:embed="rId1"/>
          <a:stretch/>
        </p:blipFill>
        <p:spPr>
          <a:xfrm>
            <a:off x="357120" y="3357720"/>
            <a:ext cx="3643560" cy="335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4560" y="1571760"/>
            <a:ext cx="40417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бо – мелкие динозаврики, которые бегали по равнинам. А из чешуи тех древних ящеров  образовались перь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Содержимое 14" descr="динозаврик.jpg"/>
          <p:cNvPicPr/>
          <p:nvPr/>
        </p:nvPicPr>
        <p:blipFill>
          <a:blip r:embed="rId2"/>
          <a:stretch/>
        </p:blipFill>
        <p:spPr>
          <a:xfrm>
            <a:off x="4714920" y="3357720"/>
            <a:ext cx="40417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И всё же, в наследство от предков – динозавров птицам досталась чешуя на лапах – цевка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43040" y="1571760"/>
            <a:ext cx="614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3" descr="цевки.jpg"/>
          <p:cNvPicPr/>
          <p:nvPr/>
        </p:nvPicPr>
        <p:blipFill>
          <a:blip r:embed="rId1"/>
          <a:stretch/>
        </p:blipFill>
        <p:spPr>
          <a:xfrm>
            <a:off x="1500120" y="1571760"/>
            <a:ext cx="62866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чему птицы летают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е приспособление для полёта - крыло. Крылом птицы отталкиваются от воздуха. Если птица часто машет крыльями, то крыло- короткое и широко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Содержимое 9" descr="маль. крыло.jpg"/>
          <p:cNvPicPr/>
          <p:nvPr/>
        </p:nvPicPr>
        <p:blipFill>
          <a:blip r:embed="rId1"/>
          <a:stretch/>
        </p:blipFill>
        <p:spPr>
          <a:xfrm>
            <a:off x="285840" y="3500280"/>
            <a:ext cx="392904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1213920"/>
            <a:ext cx="40435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тица парит в воздухе, то крыло – длинное и большо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ать птицам помогают и их тонкие, а внутри пустые к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10" descr="боль. крыло.jpg"/>
          <p:cNvPicPr/>
          <p:nvPr/>
        </p:nvPicPr>
        <p:blipFill>
          <a:blip r:embed="rId2"/>
          <a:stretch/>
        </p:blipFill>
        <p:spPr>
          <a:xfrm>
            <a:off x="4357800" y="2786040"/>
            <a:ext cx="432900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ем питаются пт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птицы-хищники, которые охотятся на других, более мелких птиц. Это  сокол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6" descr="сокол.jpg"/>
          <p:cNvPicPr/>
          <p:nvPr/>
        </p:nvPicPr>
        <p:blipFill>
          <a:blip r:embed="rId1"/>
          <a:stretch/>
        </p:blipFill>
        <p:spPr>
          <a:xfrm>
            <a:off x="285840" y="2928960"/>
            <a:ext cx="3881520" cy="3500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ловят грызунов, как с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7" descr="сова.jpg"/>
          <p:cNvPicPr/>
          <p:nvPr/>
        </p:nvPicPr>
        <p:blipFill>
          <a:blip r:embed="rId2"/>
          <a:stretch/>
        </p:blipFill>
        <p:spPr>
          <a:xfrm>
            <a:off x="4572000" y="2940120"/>
            <a:ext cx="4286160" cy="35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ем питаются пт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920" y="785520"/>
            <a:ext cx="43545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е птицы  едят насекомых: жуков, тлю, гусениц. Это очень полезные птицы: они уничтожают вредных насекомых . Один из них – дяте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Содержимое 7" descr="дятел.jpg"/>
          <p:cNvPicPr/>
          <p:nvPr/>
        </p:nvPicPr>
        <p:blipFill>
          <a:blip r:embed="rId1"/>
          <a:stretch/>
        </p:blipFill>
        <p:spPr>
          <a:xfrm>
            <a:off x="285840" y="2786040"/>
            <a:ext cx="3000240" cy="3786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642600"/>
            <a:ext cx="40417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е птицы  питаются растительной пищей: зернами, ягодами, шелушат шишки, а заодно уничтожают семена различных сорняков. Это и щеглы, и рябчики, и тетерева, и глухари, и снегир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8" descr="снегирь.jpg"/>
          <p:cNvPicPr/>
          <p:nvPr/>
        </p:nvPicPr>
        <p:blipFill>
          <a:blip r:embed="rId2"/>
          <a:stretch/>
        </p:blipFill>
        <p:spPr>
          <a:xfrm>
            <a:off x="4357800" y="3500280"/>
            <a:ext cx="40417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2968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ем питаются пт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Содержимое 7" descr="воробей.jpg"/>
          <p:cNvPicPr/>
          <p:nvPr/>
        </p:nvPicPr>
        <p:blipFill>
          <a:blip r:embed="rId1"/>
          <a:stretch/>
        </p:blipFill>
        <p:spPr>
          <a:xfrm>
            <a:off x="5072040" y="1285920"/>
            <a:ext cx="3048120" cy="2038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такие всеядные птицы, которые едят все, что им попадается. Самая, пожалуй, известная из них — воробей, а также ворон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Рисунок 9" descr="ворона.jpg"/>
          <p:cNvPicPr/>
          <p:nvPr/>
        </p:nvPicPr>
        <p:blipFill>
          <a:blip r:embed="rId2"/>
          <a:stretch/>
        </p:blipFill>
        <p:spPr>
          <a:xfrm>
            <a:off x="3071880" y="3929040"/>
            <a:ext cx="319068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29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Размножение птиц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Содержимое 5" descr="яйца в гнезде.jpg"/>
          <p:cNvPicPr/>
          <p:nvPr/>
        </p:nvPicPr>
        <p:blipFill>
          <a:blip r:embed="rId1"/>
          <a:stretch/>
        </p:blipFill>
        <p:spPr>
          <a:xfrm>
            <a:off x="4143240" y="928800"/>
            <a:ext cx="2643480" cy="1714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4214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нездо птица – самка откладывает яйца и начинает их высиживать.  Она согревает их своим теплом и охраняет от врагов. Яйца покрыты твёрдой  скорлупой . Цвет скорлупы у разных птиц разный.  Именно внутри скорлупы растёт и развивается птенец. Однажды ему становится тесно в скорлупе, он проклёвывает её и  вылупляется. Вылупившиеся птенцы совершенно беспомощны, поэтому о них заботятся родители.  Пройдёт совсем немного времени, малыши повзрослеют и отправятся в свой первый полё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6" descr="птеня1.jpg"/>
          <p:cNvPicPr/>
          <p:nvPr/>
        </p:nvPicPr>
        <p:blipFill>
          <a:blip r:embed="rId2"/>
          <a:stretch/>
        </p:blipFill>
        <p:spPr>
          <a:xfrm>
            <a:off x="6215040" y="2214720"/>
            <a:ext cx="2428920" cy="20714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птеня2.jpg"/>
          <p:cNvPicPr/>
          <p:nvPr/>
        </p:nvPicPr>
        <p:blipFill>
          <a:blip r:embed="rId3"/>
          <a:stretch/>
        </p:blipFill>
        <p:spPr>
          <a:xfrm>
            <a:off x="4071960" y="4071960"/>
            <a:ext cx="3214800" cy="254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8:59:55Z</dcterms:created>
  <dc:creator>User</dc:creator>
  <dc:description/>
  <dc:language>en-US</dc:language>
  <cp:lastModifiedBy>САшКА</cp:lastModifiedBy>
  <dcterms:modified xsi:type="dcterms:W3CDTF">2013-02-06T17:59:27Z</dcterms:modified>
  <cp:revision>57</cp:revision>
  <dc:subject/>
  <dc:title>Кто такие птицы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