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7.jpeg" ContentType="image/jpeg"/>
  <Override PartName="/ppt/media/image18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48AB-B3A8-4211-9331-2970CBDD9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B41A-2094-41DF-AEC6-D801C63E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4299-AE2C-4C0F-A40B-CF42F83FA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4031-5FDE-4D52-A03D-C27195897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E341-4B8D-43E2-B638-5B20FC4B3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87C4-2129-42CE-BA56-7CC639B3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5D51-2F8B-4529-A9C6-05CA46BC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CB77-DBD5-4134-A26D-EE46055B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CA03-F615-44DB-827D-A55FFCBF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C50B-0F1D-414E-82D1-72C4E309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B23D-100A-4141-9488-37F7F71D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E310-9679-4082-A26F-0290555D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A6A1-6D33-420D-97A4-6F008635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B49F-27B1-45C9-B2BA-72EA67EA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35A9-E5F6-4E2E-9A60-480826C0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4F37-D1D9-41C8-AC73-DE44D554F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DF24-CD33-4144-9FF3-1F89C2A9B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6046B-2D0A-4CAE-B19D-9DAFF5873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88270-59F3-4FA4-88C8-61DF608B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F4536-3085-4C71-A6C0-A2FC0C82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A287C-4E81-4061-9D53-16B1BEEA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5502D-54C6-4B5F-A33C-5ABCA6DE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3C50-B84F-4652-9921-825289A4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18B00-2CC8-4397-8C25-FDF62C7A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92980-833C-471C-8B9A-88F73648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15914-6DA3-4BC2-A9BD-B8FE09E6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0343E-B372-431A-8656-95E020C1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1F6AB-0510-42CB-B2DF-AB2596EE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36C55-23A4-4E3A-B427-86ED6A15F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8BFBF-0A5A-4EE4-87F8-63BC9D292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A95A-343D-4CDB-A6E3-B789FB45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216C-E099-4B7E-94C2-E9C0A8AD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56CF-FA91-453B-B8C5-14620378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6740-1D5F-4020-BD0A-AE66E375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CD61-A572-498C-925A-F9DB03FA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C5AD-CA65-427C-A728-4CDD6629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d0f62"/>
            </a:gs>
            <a:gs pos="100000">
              <a:srgbClr val="fde7e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00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2c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72002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2c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7200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2c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72002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2c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72002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2c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2c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2c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E5BA-A252-4541-98A6-7465C7DA9A8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00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2c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72002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2c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7200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2c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72002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2c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72002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2c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2c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2c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8FA4-8A6D-48FB-81D6-95CCA38725E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00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2c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72002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2c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7200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2c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72002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2c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72002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2c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2c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2c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72002c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1BA6-A25C-49DF-BCF1-913CCE2421B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http://2000.net.ua/ai/4/46/46099/c1-bez_rubz.jpg"/>
          <p:cNvPicPr/>
          <p:nvPr/>
        </p:nvPicPr>
        <p:blipFill>
          <a:blip r:embed="rId1"/>
          <a:stretch/>
        </p:blipFill>
        <p:spPr>
          <a:xfrm>
            <a:off x="3000240" y="714240"/>
            <a:ext cx="6143760" cy="4095720"/>
          </a:xfrm>
          <a:prstGeom prst="rect">
            <a:avLst/>
          </a:prstGeom>
          <a:ln w="0">
            <a:noFill/>
          </a:ln>
        </p:spPr>
      </p:pic>
      <p:pic>
        <p:nvPicPr>
          <p:cNvPr id="124" name="Заголовок 1" descr=""/>
          <p:cNvPicPr/>
          <p:nvPr/>
        </p:nvPicPr>
        <p:blipFill>
          <a:blip r:embed="rId2"/>
          <a:stretch/>
        </p:blipFill>
        <p:spPr>
          <a:xfrm>
            <a:off x="-6480" y="201600"/>
            <a:ext cx="5443560" cy="2144880"/>
          </a:xfrm>
          <a:prstGeom prst="rect">
            <a:avLst/>
          </a:prstGeom>
          <a:ln w="0">
            <a:noFill/>
          </a:ln>
        </p:spPr>
      </p:pic>
      <p:pic>
        <p:nvPicPr>
          <p:cNvPr id="125" name="Подзаголовок 3" descr=""/>
          <p:cNvPicPr/>
          <p:nvPr/>
        </p:nvPicPr>
        <p:blipFill>
          <a:blip r:embed="rId3"/>
          <a:stretch/>
        </p:blipFill>
        <p:spPr>
          <a:xfrm>
            <a:off x="2736720" y="4705200"/>
            <a:ext cx="641376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C:\Documents and Settings\777\Мои документы\Мои рисунки\кровь и кровообращение\f_c3-95.jpg"/>
          <p:cNvPicPr/>
          <p:nvPr/>
        </p:nvPicPr>
        <p:blipFill>
          <a:blip r:embed="rId1"/>
          <a:stretch/>
        </p:blipFill>
        <p:spPr>
          <a:xfrm>
            <a:off x="0" y="4500720"/>
            <a:ext cx="2857680" cy="2357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Documents and Settings\777\Мои документы\Мои рисунки\кровь и кровообращение\f_c3-91.jpg"/>
          <p:cNvPicPr/>
          <p:nvPr/>
        </p:nvPicPr>
        <p:blipFill>
          <a:blip r:embed="rId2"/>
          <a:stretch/>
        </p:blipFill>
        <p:spPr>
          <a:xfrm>
            <a:off x="4857840" y="1357200"/>
            <a:ext cx="4071960" cy="27352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1"/>
          <p:cNvSpPr/>
          <p:nvPr/>
        </p:nvSpPr>
        <p:spPr>
          <a:xfrm>
            <a:off x="0" y="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Левая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и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правая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части сердца не сообщаются друг с друг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Между предсердиями и желудочками располагаются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створчатые клапаны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0" y="385776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На выходе из желудочков располагаютс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полулунные клапа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0" y="0"/>
            <a:ext cx="8715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втоматия сердца - способность сердца ритмически сокращаться под влиянием импульсов возникает в нём самом, без внешних раздражителей.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золированное сердце может долго сокращаться, если оно находится в физ. растворе Впервые русский врач(Кулябко) оживил сердце ребёнка, умершего от восполения лёгких(через20ч). Позже - восстановил через 20 суток после смерти - работало ~ 13 час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Диаграмма 1" descr=""/>
          <p:cNvPicPr/>
          <p:nvPr/>
        </p:nvPicPr>
        <p:blipFill>
          <a:blip r:embed="rId1"/>
          <a:stretch/>
        </p:blipFill>
        <p:spPr>
          <a:xfrm>
            <a:off x="1000080" y="785880"/>
            <a:ext cx="72151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Rectangle 2" descr=""/>
          <p:cNvPicPr/>
          <p:nvPr/>
        </p:nvPicPr>
        <p:blipFill>
          <a:blip r:embed="rId1"/>
          <a:stretch/>
        </p:blipFill>
        <p:spPr>
          <a:xfrm>
            <a:off x="536400" y="23760"/>
            <a:ext cx="8163000" cy="1738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250920" y="1628640"/>
          <a:ext cx="8713800" cy="4680000"/>
        </p:xfrm>
        <a:graphic>
          <a:graphicData uri="http://schemas.openxmlformats.org/drawingml/2006/table">
            <a:tbl>
              <a:tblPr/>
              <a:tblGrid>
                <a:gridCol w="3316320"/>
                <a:gridCol w="3230280"/>
                <a:gridCol w="2167200"/>
              </a:tblGrid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зы сердечного цик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иж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ов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олжи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льность фа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щ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истол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ерд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предсердий в желудоч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 с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щ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истол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удоч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желудочков в артерию и аор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 с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лаб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диастола) предсердий и желудоч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вен в предсер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в желудоч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 с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1"/>
          <p:cNvSpPr/>
          <p:nvPr/>
        </p:nvSpPr>
        <p:spPr>
          <a:xfrm>
            <a:off x="0" y="0"/>
            <a:ext cx="757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В 17 веке Вильям Гарвей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1578 – 165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открыл круги кровообращ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сканирование0062"/>
          <p:cNvPicPr/>
          <p:nvPr/>
        </p:nvPicPr>
        <p:blipFill>
          <a:blip r:embed="rId1"/>
          <a:stretch/>
        </p:blipFill>
        <p:spPr>
          <a:xfrm>
            <a:off x="4286160" y="1214280"/>
            <a:ext cx="3857760" cy="41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http://www.biorepet-ufa.ru/wp-content/uploads/2011/09/%D0%A1%D1%85%D0%B5%D0%BC%D0%B0-%D0%BA%D1%80%D0%BE%D0%B2%D0%BE%D0%BE%D0%B1%D1%80%D0%B0%D1%89%D0%B5%D0%BD%D0%B8%D1%8F.jpg"/>
          <p:cNvPicPr/>
          <p:nvPr/>
        </p:nvPicPr>
        <p:blipFill>
          <a:blip r:embed="rId1"/>
          <a:stretch/>
        </p:blipFill>
        <p:spPr>
          <a:xfrm>
            <a:off x="1928880" y="285840"/>
            <a:ext cx="5214960" cy="65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Rectangle 4" descr=""/>
          <p:cNvPicPr/>
          <p:nvPr/>
        </p:nvPicPr>
        <p:blipFill>
          <a:blip r:embed="rId1"/>
          <a:stretch/>
        </p:blipFill>
        <p:spPr>
          <a:xfrm>
            <a:off x="463680" y="-298440"/>
            <a:ext cx="8162640" cy="131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"/>
          <p:cNvGraphicFramePr/>
          <p:nvPr/>
        </p:nvGraphicFramePr>
        <p:xfrm>
          <a:off x="179280" y="907920"/>
          <a:ext cx="8785440" cy="5716800"/>
        </p:xfrm>
        <a:graphic>
          <a:graphicData uri="http://schemas.openxmlformats.org/drawingml/2006/table">
            <a:tbl>
              <a:tblPr/>
              <a:tblGrid>
                <a:gridCol w="2928960"/>
                <a:gridCol w="2927520"/>
                <a:gridCol w="2928960"/>
              </a:tblGrid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ок кров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лый кру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ольшой кру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62626"/>
                          </a:solidFill>
                          <a:latin typeface="Arial"/>
                        </a:rPr>
                        <a:t>В каком отделе сердца начинае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правом желудоч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левом желудоч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62626"/>
                          </a:solidFill>
                          <a:latin typeface="Arial"/>
                        </a:rPr>
                        <a:t>В каком отделе сердца заканчивае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левом предсерд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правом предсерд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62626"/>
                          </a:solidFill>
                          <a:latin typeface="Arial"/>
                        </a:rPr>
                        <a:t>Капилляр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лёгк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голове, конечностях, органах те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62626"/>
                          </a:solidFill>
                          <a:latin typeface="Arial"/>
                        </a:rPr>
                        <a:t>Какая кровь движется по артерия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ноз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териаль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62626"/>
                          </a:solidFill>
                          <a:latin typeface="Arial"/>
                        </a:rPr>
                        <a:t>Какая кровь движется по вен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териаль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ноз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Заголовок 1" descr=""/>
          <p:cNvPicPr/>
          <p:nvPr/>
        </p:nvPicPr>
        <p:blipFill>
          <a:blip r:embed="rId1"/>
          <a:stretch/>
        </p:blipFill>
        <p:spPr>
          <a:xfrm>
            <a:off x="347760" y="609480"/>
            <a:ext cx="8472240" cy="11638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428400" y="2071440"/>
            <a:ext cx="799308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imes New Roman"/>
              </a:rPr>
              <a:t>Работа сердца.</a:t>
            </a:r>
            <a:endParaRPr b="0" lang="en-US" sz="3600" spc="-1" strike="noStrike">
              <a:solidFill>
                <a:srgbClr val="72002c"/>
              </a:solidFill>
              <a:latin typeface="Constantia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imes New Roman"/>
              </a:rPr>
              <a:t>Разность давления крови в сосудах.</a:t>
            </a:r>
            <a:endParaRPr b="0" lang="en-US" sz="3600" spc="-1" strike="noStrike">
              <a:solidFill>
                <a:srgbClr val="72002c"/>
              </a:solidFill>
              <a:latin typeface="Constantia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imes New Roman"/>
              </a:rPr>
              <a:t>Наличие клапанов в венах.</a:t>
            </a:r>
            <a:endParaRPr b="0" lang="en-US" sz="3600" spc="-1" strike="noStrike">
              <a:solidFill>
                <a:srgbClr val="72002c"/>
              </a:solidFill>
              <a:latin typeface="Constantia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imes New Roman"/>
              </a:rPr>
              <a:t>Сокращение близлежащих скелетных мышц.</a:t>
            </a:r>
            <a:endParaRPr b="0" lang="en-US" sz="3600" spc="-1" strike="noStrike">
              <a:solidFill>
                <a:srgbClr val="72002c"/>
              </a:solidFill>
              <a:latin typeface="Constantia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imes New Roman"/>
              </a:rPr>
              <a:t>Разность давления в грудной и брюшной полостях при вдохе</a:t>
            </a:r>
            <a:r>
              <a:rPr b="0" lang="ru-RU" sz="3600" spc="-1" strike="noStrike">
                <a:solidFill>
                  <a:srgbClr val="0d0d0d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72002c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Кровяное давление – </a:t>
            </a: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это давление крови на стенки кровеносных сосудов и камер сердца, возникающее в результате сокращения сердца, нагнетающего кровь в сосудистую систему, и сопротивления сосудов.</a:t>
            </a:r>
            <a:endParaRPr b="0" lang="en-US" sz="2400" spc="-1" strike="noStrike">
              <a:solidFill>
                <a:srgbClr val="72002c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2c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Кровяное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давление</a:t>
            </a:r>
            <a:r>
              <a:rPr b="1" lang="ru-RU" sz="2400" spc="-1" strike="noStrike">
                <a:solidFill>
                  <a:srgbClr val="6666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наиболее высоко в аорте; по мере продвижения крови по сосудам оно постепенно уменьшается, достигая наименьшей величины в верхней и нижней полых венах.</a:t>
            </a:r>
            <a:endParaRPr b="0" lang="en-US" sz="2400" spc="-1" strike="noStrike">
              <a:solidFill>
                <a:srgbClr val="72002c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2c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Артериальный пульс</a:t>
            </a: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 – ритмическое колебание стенки артерии в период систолы желудочков сердца.</a:t>
            </a:r>
            <a:endParaRPr b="0" lang="en-US" sz="2400" spc="-1" strike="noStrike">
              <a:solidFill>
                <a:srgbClr val="72002c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2c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ab0043"/>
                </a:solidFill>
                <a:latin typeface="Times New Roman"/>
              </a:rPr>
              <a:t>Каждый удар пульса соответствует одному сердечному сокращению. </a:t>
            </a:r>
            <a:endParaRPr b="0" lang="en-US" sz="2400" spc="-1" strike="noStrike">
              <a:solidFill>
                <a:srgbClr val="72002c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2286000" y="214200"/>
            <a:ext cx="4537080" cy="1584360"/>
          </a:xfrm>
          <a:prstGeom prst="rec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ртериаль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авление кров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Line 3"/>
          <p:cNvSpPr/>
          <p:nvPr/>
        </p:nvSpPr>
        <p:spPr>
          <a:xfrm flipH="1">
            <a:off x="1856880" y="1857240"/>
            <a:ext cx="1800360" cy="1008360"/>
          </a:xfrm>
          <a:prstGeom prst="line">
            <a:avLst/>
          </a:prstGeom>
          <a:ln w="38160">
            <a:solidFill>
              <a:srgbClr val="e40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Line 4"/>
          <p:cNvSpPr/>
          <p:nvPr/>
        </p:nvSpPr>
        <p:spPr>
          <a:xfrm>
            <a:off x="4786200" y="1857240"/>
            <a:ext cx="1873440" cy="1008360"/>
          </a:xfrm>
          <a:prstGeom prst="line">
            <a:avLst/>
          </a:prstGeom>
          <a:ln w="38160">
            <a:solidFill>
              <a:srgbClr val="e40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14200" y="2928960"/>
            <a:ext cx="4000680" cy="1511280"/>
          </a:xfrm>
          <a:prstGeom prst="rec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ерхне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ответствует систолическо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110 – 125 мм.рт.ст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4572000" y="2928960"/>
            <a:ext cx="4316400" cy="1511280"/>
          </a:xfrm>
          <a:prstGeom prst="rec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ижне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ответствует диастолическо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60 – 80 мм.рт.ст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Автофигура 9"/>
          <p:cNvSpPr/>
          <p:nvPr/>
        </p:nvSpPr>
        <p:spPr>
          <a:xfrm>
            <a:off x="0" y="4786200"/>
            <a:ext cx="400068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859e"/>
              </a:gs>
              <a:gs pos="100000">
                <a:srgbClr val="ffdce3"/>
              </a:gs>
            </a:gsLst>
            <a:lin ang="16200000"/>
          </a:gradFill>
          <a:ln w="9360">
            <a:solidFill>
              <a:srgbClr val="e4005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истола 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сокращени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Автофигура 10"/>
          <p:cNvSpPr/>
          <p:nvPr/>
        </p:nvSpPr>
        <p:spPr>
          <a:xfrm>
            <a:off x="4824360" y="4786200"/>
            <a:ext cx="4319640" cy="129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7fb2"/>
              </a:gs>
              <a:gs pos="100000">
                <a:srgbClr val="ffd9e7"/>
              </a:gs>
            </a:gsLst>
            <a:lin ang="16200000"/>
          </a:gradFill>
          <a:ln w="9360">
            <a:solidFill>
              <a:srgbClr val="fe32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иастол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(расслаблени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Схема 2" descr=""/>
          <p:cNvPicPr/>
          <p:nvPr/>
        </p:nvPicPr>
        <p:blipFill>
          <a:blip r:embed="rId1"/>
          <a:stretch/>
        </p:blipFill>
        <p:spPr>
          <a:xfrm>
            <a:off x="396720" y="208080"/>
            <a:ext cx="819324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4"/>
          <p:cNvSpPr/>
          <p:nvPr/>
        </p:nvSpPr>
        <p:spPr>
          <a:xfrm>
            <a:off x="539640" y="1413000"/>
            <a:ext cx="8280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cc6600"/>
                </a:solidFill>
                <a:latin typeface="Calibri"/>
              </a:rPr>
              <a:t>На частоту пульса влияет рост (обратная зависимость - чем выше рост, тем меньше как правило количество сердечных сокращений в минуту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Calibri"/>
              </a:rPr>
              <a:t>возра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Calibri"/>
              </a:rPr>
              <a:t>пол (у мужчин в среднем пульс несколько ниже, чем у женщин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Calibri"/>
              </a:rPr>
              <a:t>натренированность организма (при подверженности организма постоянным активным физическим нагрузкам пульс в состоянии покоя уменьшаетс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1714680" y="1285920"/>
            <a:ext cx="640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6600"/>
                </a:solidFill>
                <a:uFillTx/>
                <a:latin typeface="Times New Roman"/>
              </a:rPr>
              <a:t>Частота пульса зависит от возрас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* Ребенок в лоне матери – 160 ударов в мину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* Ребенок после рождения – 1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* От рождения до года – 13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* От года до двух лет – 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* От трех до семи лет – 9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* От 8 до 14 лет – 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* Средний возраст – 7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* Преклонный возраст – 6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* При болезни – 1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* Время смерти – 1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рямоугольник 1"/>
          <p:cNvSpPr/>
          <p:nvPr/>
        </p:nvSpPr>
        <p:spPr>
          <a:xfrm>
            <a:off x="8640" y="0"/>
            <a:ext cx="40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гуляция работы серд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28584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002c"/>
                </a:solidFill>
                <a:latin typeface="Tahoma"/>
              </a:rPr>
              <a:t>                                   </a:t>
            </a:r>
            <a:r>
              <a:rPr b="0" lang="ru-RU" sz="2000" spc="-1" strike="noStrike">
                <a:solidFill>
                  <a:srgbClr val="72002c"/>
                </a:solidFill>
                <a:latin typeface="Tahoma"/>
              </a:rPr>
              <a:t>регуляция работы серд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2002c"/>
                </a:solidFill>
                <a:latin typeface="Tahoma"/>
              </a:rPr>
              <a:t>                           </a:t>
            </a:r>
            <a:r>
              <a:rPr b="0" lang="ru-RU" sz="2000" spc="-1" strike="noStrike">
                <a:solidFill>
                  <a:srgbClr val="72002c"/>
                </a:solidFill>
                <a:latin typeface="Tahoma"/>
              </a:rPr>
              <a:t>нервная                         гуморальная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2002c"/>
                </a:solidFill>
                <a:latin typeface="Tahoma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002c"/>
                </a:solidFill>
                <a:latin typeface="Tahoma"/>
              </a:rPr>
              <a:t>                                       </a:t>
            </a:r>
            <a:r>
              <a:rPr b="1" lang="ru-RU" sz="2000" spc="-1" strike="noStrike">
                <a:solidFill>
                  <a:srgbClr val="72002c"/>
                </a:solidFill>
                <a:latin typeface="Tahoma"/>
              </a:rPr>
              <a:t>нервная  регуля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2002c"/>
                </a:solidFill>
                <a:latin typeface="Tahoma"/>
              </a:rPr>
              <a:t>                      </a:t>
            </a:r>
            <a:r>
              <a:rPr b="0" lang="ru-RU" sz="2000" spc="-1" strike="noStrike">
                <a:solidFill>
                  <a:srgbClr val="72002c"/>
                </a:solidFill>
                <a:latin typeface="Tahoma"/>
              </a:rPr>
              <a:t>парасимпатическая            симпатическ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2002c"/>
                </a:solidFill>
                <a:latin typeface="Tahoma"/>
              </a:rPr>
              <a:t>                       </a:t>
            </a:r>
            <a:r>
              <a:rPr b="0" lang="ru-RU" sz="2000" spc="-1" strike="noStrike">
                <a:solidFill>
                  <a:srgbClr val="72002c"/>
                </a:solidFill>
                <a:latin typeface="Tahoma"/>
              </a:rPr>
              <a:t>усиливает работу             замедляет рабо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2002c"/>
                </a:solidFill>
                <a:latin typeface="Tahoma"/>
              </a:rPr>
              <a:t>                               </a:t>
            </a:r>
            <a:r>
              <a:rPr b="0" lang="ru-RU" sz="2000" spc="-1" strike="noStrike">
                <a:solidFill>
                  <a:srgbClr val="72002c"/>
                </a:solidFill>
                <a:latin typeface="Tahoma"/>
              </a:rPr>
              <a:t>сердца                            серд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2002c"/>
                </a:solidFill>
                <a:latin typeface="Tahoma"/>
              </a:rPr>
              <a:t>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2002c"/>
                </a:solidFill>
                <a:latin typeface="Tahoma"/>
              </a:rPr>
              <a:t>                                    </a:t>
            </a:r>
            <a:r>
              <a:rPr b="0" lang="ru-RU" sz="2000" spc="-1" strike="noStrike">
                <a:solidFill>
                  <a:srgbClr val="72002c"/>
                </a:solidFill>
                <a:latin typeface="Tahoma"/>
              </a:rPr>
              <a:t>гуморальная регуля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2002c"/>
                </a:solidFill>
                <a:latin typeface="Tahoma"/>
              </a:rPr>
              <a:t>                       </a:t>
            </a:r>
            <a:r>
              <a:rPr b="0" lang="ru-RU" sz="2000" spc="-1" strike="noStrike">
                <a:solidFill>
                  <a:srgbClr val="72002c"/>
                </a:solidFill>
                <a:latin typeface="Tahoma"/>
              </a:rPr>
              <a:t>усиливает работу              тормозит рабо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2002c"/>
                </a:solidFill>
                <a:latin typeface="Tahoma"/>
              </a:rPr>
              <a:t>                               </a:t>
            </a:r>
            <a:r>
              <a:rPr b="0" lang="ru-RU" sz="2000" spc="-1" strike="noStrike">
                <a:solidFill>
                  <a:srgbClr val="72002c"/>
                </a:solidFill>
                <a:latin typeface="Tahoma"/>
              </a:rPr>
              <a:t>сердца                             серд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2002c"/>
                </a:solidFill>
                <a:latin typeface="Tahoma"/>
              </a:rPr>
              <a:t>                 </a:t>
            </a:r>
            <a:r>
              <a:rPr b="0" lang="ru-RU" sz="2000" spc="-1" strike="noStrike">
                <a:solidFill>
                  <a:srgbClr val="72002c"/>
                </a:solidFill>
                <a:latin typeface="Tahoma"/>
              </a:rPr>
              <a:t>-гормон надпочечников              -ацетилхол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1"/>
          <p:cNvSpPr/>
          <p:nvPr/>
        </p:nvSpPr>
        <p:spPr>
          <a:xfrm>
            <a:off x="357120" y="285840"/>
            <a:ext cx="6143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рдце, тебе не хочется покоя!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рдце, как хорошо на свете жить!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рдце, как хорошо, что ты такое!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асибо, сердце, что ты умеешь так любить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4"/>
          <p:cNvSpPr/>
          <p:nvPr/>
        </p:nvSpPr>
        <p:spPr>
          <a:xfrm>
            <a:off x="500040" y="78588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роение кровеносных сосуд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C:\Documents and Settings\777\Мои документы\Мои рисунки\кровь и кровообращение\10020801.gif"/>
          <p:cNvPicPr/>
          <p:nvPr/>
        </p:nvPicPr>
        <p:blipFill>
          <a:blip r:embed="rId1"/>
          <a:stretch/>
        </p:blipFill>
        <p:spPr>
          <a:xfrm>
            <a:off x="0" y="1714680"/>
            <a:ext cx="884412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357120" y="357120"/>
          <a:ext cx="8215560" cy="6000840"/>
        </p:xfrm>
        <a:graphic>
          <a:graphicData uri="http://schemas.openxmlformats.org/drawingml/2006/table">
            <a:tbl>
              <a:tblPr/>
              <a:tblGrid>
                <a:gridCol w="2738520"/>
                <a:gridCol w="2738520"/>
                <a:gridCol w="2738520"/>
              </a:tblGrid>
              <a:tr h="50184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н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ртери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пилля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2600">
                <a:tc gridSpan="2"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стенки сосудов образованы тремя слоями клеток: слой соединительной ткани, слой гладких мышц, внутренний – эпителиальный слой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стенки состоят из одного слоя клеток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296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кармановидные клапаны на внутренней поверхност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наиболее толстые стенки за счет слоя гладких мышц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стенки очень тонки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344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движение крови к сердцу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движение крови от сердца к клеткам и тканя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вещественный газообмен между клетками 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Объект 3" descr=""/>
          <p:cNvPicPr/>
          <p:nvPr/>
        </p:nvPicPr>
        <p:blipFill>
          <a:blip r:embed="rId1"/>
          <a:srcRect l="0" t="13514" r="0" b="12162"/>
          <a:stretch/>
        </p:blipFill>
        <p:spPr>
          <a:xfrm>
            <a:off x="3929040" y="1785960"/>
            <a:ext cx="4968720" cy="48960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2"/>
          <p:cNvSpPr/>
          <p:nvPr/>
        </p:nvSpPr>
        <p:spPr>
          <a:xfrm>
            <a:off x="579960" y="357120"/>
            <a:ext cx="580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Положение сердц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http://cs10592.userapi.com/u12943593/-14/x_44ddbf0e.jpg"/>
          <p:cNvPicPr/>
          <p:nvPr/>
        </p:nvPicPr>
        <p:blipFill>
          <a:blip r:embed="rId1"/>
          <a:stretch/>
        </p:blipFill>
        <p:spPr>
          <a:xfrm>
            <a:off x="0" y="0"/>
            <a:ext cx="7000920" cy="69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http://900igr.net/datai/biologija/Rabota-serdtsa/0003-001-Stroenie-serdtsa.png"/>
          <p:cNvPicPr/>
          <p:nvPr/>
        </p:nvPicPr>
        <p:blipFill>
          <a:blip r:embed="rId1"/>
          <a:stretch/>
        </p:blipFill>
        <p:spPr>
          <a:xfrm>
            <a:off x="214200" y="1000080"/>
            <a:ext cx="75963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"/>
          <p:cNvSpPr/>
          <p:nvPr/>
        </p:nvSpPr>
        <p:spPr>
          <a:xfrm>
            <a:off x="310320" y="285840"/>
            <a:ext cx="68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Движение  крови  внутри сердц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C:\Documents and Settings\777\Мои документы\Мои рисунки\кровь и кровообращение\5.png"/>
          <p:cNvPicPr/>
          <p:nvPr/>
        </p:nvPicPr>
        <p:blipFill>
          <a:blip r:embed="rId1"/>
          <a:stretch/>
        </p:blipFill>
        <p:spPr>
          <a:xfrm>
            <a:off x="1000080" y="1000080"/>
            <a:ext cx="692964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5T15:17:08Z</dcterms:created>
  <dc:creator>Лена</dc:creator>
  <dc:description/>
  <dc:language>en-US</dc:language>
  <cp:lastModifiedBy>Лена</cp:lastModifiedBy>
  <dcterms:modified xsi:type="dcterms:W3CDTF">2013-02-25T17:42:47Z</dcterms:modified>
  <cp:revision>15</cp:revision>
  <dc:subject/>
  <dc:title>ГБОУ ЦО «Чертаново» Учитель биологии и химии Крутинина Е.В.</dc:title>
</cp:coreProperties>
</file>