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A5EE-354F-4CEA-87A0-099FA8B3B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0155-DBB1-4169-8EB8-1F107A56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C200-0E5C-46DE-83E5-D6EE26268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B5C5-967D-490C-8CE6-2552DE757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3BFD-FAE1-4967-8032-A8CC4A37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24A3-D93C-4B1E-940E-C1BAF24D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F54F-3598-45A1-8EB4-64C3DF8F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BB20-E15E-45BB-9ADC-9B1B9F9B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C8F7-6F4B-4F33-80F5-20625BC0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9A50-0CB3-4D68-92C3-C769297B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BA5E-7C49-400F-9468-0FBEC5DC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6CA5-F233-4B1E-9D13-86621491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5EB2-1867-4BA4-83BF-70B144CBE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3640" y="765000"/>
            <a:ext cx="8811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Мазы кяленьке, пяк мазы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Тундань варьхмодема лаца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Кода питни – питни казне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Кода марлю панжи садс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Е.Пятае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9640" y="618120"/>
            <a:ext cx="7489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1.Но кой-кит стаки эряйх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нинге бъта пантф пилет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Менельса лии самолет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эзда минь пандовсть пиленьк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9640" y="-47160"/>
            <a:ext cx="74898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Авась варьжакстсь лангозон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токазе кядьса седиен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и веляфтсь пильге лангст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2.Пяк ни токавсь седиец (Ильянь) и визькс арась сятнень инкса, конат кеподезь кядьсно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тя уженять ланг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9640" y="621360"/>
            <a:ext cx="7489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-«А тон, Наташа, пяк вяри тяк кепсе шалхкцень», - отвечась Верас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2.Налхксемста Сёма кеподезе ёмла дуганонц шалхконц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46240" y="1874880"/>
            <a:ext cx="7053120" cy="1636920"/>
          </a:xfrm>
          <a:prstGeom prst="roundRect">
            <a:avLst>
              <a:gd name="adj" fmla="val 16667"/>
            </a:avLst>
          </a:prstGeom>
          <a:solidFill>
            <a:srgbClr val="0000ff">
              <a:alpha val="49000"/>
            </a:srgbClr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4-це задания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«Морафтк высказывания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463840" y="193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39640" y="404640"/>
          <a:ext cx="7919640" cy="5976720"/>
        </p:xfrm>
        <a:graphic>
          <a:graphicData uri="http://schemas.openxmlformats.org/drawingml/2006/table">
            <a:tbl>
              <a:tblPr/>
              <a:tblGrid>
                <a:gridCol w="1584000"/>
                <a:gridCol w="1584000"/>
                <a:gridCol w="1583640"/>
                <a:gridCol w="1584000"/>
                <a:gridCol w="1584000"/>
              </a:tblGrid>
              <a:tr h="14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ь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ь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ь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ь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я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ц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ш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dissolv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24000" y="333360"/>
          <a:ext cx="8424360" cy="6119640"/>
        </p:xfrm>
        <a:graphic>
          <a:graphicData uri="http://schemas.openxmlformats.org/drawingml/2006/table">
            <a:tbl>
              <a:tblPr/>
              <a:tblGrid>
                <a:gridCol w="1684800"/>
                <a:gridCol w="1685160"/>
                <a:gridCol w="1684440"/>
                <a:gridCol w="1685160"/>
                <a:gridCol w="1684800"/>
              </a:tblGrid>
              <a:tr h="152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ь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ц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г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dissolv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46240" y="1874880"/>
            <a:ext cx="7053120" cy="1636920"/>
          </a:xfrm>
          <a:prstGeom prst="roundRect">
            <a:avLst>
              <a:gd name="adj" fmla="val 16667"/>
            </a:avLst>
          </a:prstGeom>
          <a:solidFill>
            <a:srgbClr val="0000ff">
              <a:alpha val="49000"/>
            </a:srgbClr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5-це задания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«Азк валмуворкс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28360" y="2301120"/>
            <a:ext cx="663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6000" spc="-1" strike="noStrike">
                <a:solidFill>
                  <a:srgbClr val="0000ff"/>
                </a:solidFill>
                <a:latin typeface="Arial"/>
              </a:rPr>
              <a:t>Кода стасасть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51840" y="3433680"/>
            <a:ext cx="701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Arial"/>
              </a:rPr>
              <a:t>стане и щасас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32360" y="1777320"/>
            <a:ext cx="637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6000" spc="-1" strike="noStrike">
                <a:solidFill>
                  <a:srgbClr val="0000ff"/>
                </a:solidFill>
                <a:latin typeface="Arial"/>
              </a:rPr>
              <a:t>Ичкози путсак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14000" y="3146400"/>
            <a:ext cx="636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Arial"/>
              </a:rPr>
              <a:t>маласта сявса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44360" y="1483560"/>
            <a:ext cx="66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6000" spc="-1" strike="noStrike">
                <a:solidFill>
                  <a:srgbClr val="0000ff"/>
                </a:solidFill>
                <a:latin typeface="Arial"/>
              </a:rPr>
              <a:t>Кичкор шуфтсь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18880" y="2708280"/>
            <a:ext cx="5910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эсь кичкоронц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аф няйс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16000" y="1844640"/>
            <a:ext cx="7112160" cy="2244600"/>
          </a:xfrm>
          <a:prstGeom prst="roundRect">
            <a:avLst>
              <a:gd name="adj" fmla="val 16667"/>
            </a:avLst>
          </a:prstGeom>
          <a:solidFill>
            <a:srgbClr val="0000ff">
              <a:alpha val="49000"/>
            </a:srgbClr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1-це задания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«Фразеологическяй зверинец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41800" y="1051560"/>
            <a:ext cx="72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6000" spc="-1" strike="noStrike">
                <a:solidFill>
                  <a:srgbClr val="0000ff"/>
                </a:solidFill>
                <a:latin typeface="Arial"/>
              </a:rPr>
              <a:t>Врьгазда пелят –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7640" y="2065320"/>
            <a:ext cx="552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Arial"/>
              </a:rPr>
              <a:t>вири тят я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46240" y="1874880"/>
            <a:ext cx="7053120" cy="1636920"/>
          </a:xfrm>
          <a:prstGeom prst="roundRect">
            <a:avLst>
              <a:gd name="adj" fmla="val 16667"/>
            </a:avLst>
          </a:prstGeom>
          <a:solidFill>
            <a:srgbClr val="0000ff">
              <a:alpha val="49000"/>
            </a:srgbClr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6-це задания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«Содама ёфкс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298080" y="1124280"/>
            <a:ext cx="94402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Щасайне – стяйхть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Каясайне – люмбайхть</a:t>
            </a: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82360" y="3510000"/>
            <a:ext cx="273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Кямотн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62280" y="1195560"/>
            <a:ext cx="6813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Пяшкодьса – стяй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Шамдса – мад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96920" y="3654360"/>
            <a:ext cx="333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Кяскавс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13800" y="547200"/>
            <a:ext cx="777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Кафксть шачи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весть кулы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Толгав орса, ши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и веть морси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97640" y="4805280"/>
            <a:ext cx="280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Атякшс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01800" y="402480"/>
            <a:ext cx="715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Пара мяльса азсак 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ламбама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Кяжиста азсак 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сяп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98000" y="4518000"/>
            <a:ext cx="205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Валс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95280" y="1557360"/>
            <a:ext cx="7899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d60093"/>
                </a:solidFill>
                <a:latin typeface="Arial"/>
              </a:rPr>
              <a:t>Сюкпр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d60093"/>
                </a:solidFill>
                <a:latin typeface="Arial"/>
              </a:rPr>
              <a:t>налхксихненд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64720" y="189000"/>
            <a:ext cx="415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Азость жувата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78520" y="1052640"/>
            <a:ext cx="202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ърьг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3080" y="1046160"/>
            <a:ext cx="30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Вача бът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33080" y="16286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Ёжу бът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205000"/>
            <a:ext cx="31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Пели бът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33440" y="278136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Таза бът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33440" y="3357720"/>
            <a:ext cx="303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Фаф бът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3800" y="3933720"/>
            <a:ext cx="346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Немой бът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33440" y="4508640"/>
            <a:ext cx="36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Ърдазу бът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33800" y="5157720"/>
            <a:ext cx="334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Сялги бът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7800" y="1628640"/>
            <a:ext cx="17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елаз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8160" y="213372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ум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78160" y="278136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б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9440" y="3284640"/>
            <a:ext cx="14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кур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49440" y="3933720"/>
            <a:ext cx="9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к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49800" y="4437000"/>
            <a:ext cx="11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ту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9080" y="5084640"/>
            <a:ext cx="15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е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4160" y="5734080"/>
            <a:ext cx="447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Корхтавшу бът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8360" y="5734080"/>
            <a:ext cx="21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язьг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60720" y="620640"/>
            <a:ext cx="396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Упрямай бът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95240" y="62064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ор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184560" y="186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6240" y="1874880"/>
            <a:ext cx="7053120" cy="1636920"/>
          </a:xfrm>
          <a:prstGeom prst="roundRect">
            <a:avLst>
              <a:gd name="adj" fmla="val 16667"/>
            </a:avLst>
          </a:prstGeom>
          <a:solidFill>
            <a:srgbClr val="0000ff">
              <a:alpha val="49000"/>
            </a:srgbClr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2-це задания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«Таинственнай сёрм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78560" y="700920"/>
            <a:ext cx="69886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ПNZVORРТFQФЕSЛЬ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QLTEZNTIQPAДZWЬZ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УZWЧLNGЕNБНSVИ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WДНЕRFВNSWJНVИК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RWSPWNУVFЧКZVАF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КNGАZРАNНFДZАYШ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РNVFЕЗRWИGFНКSZА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SWQ ПNЕНSQZАRWVЛL</a:t>
            </a: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6240" y="1874880"/>
            <a:ext cx="7053120" cy="1636920"/>
          </a:xfrm>
          <a:prstGeom prst="roundRect">
            <a:avLst>
              <a:gd name="adj" fmla="val 16667"/>
            </a:avLst>
          </a:prstGeom>
          <a:solidFill>
            <a:srgbClr val="0000ff">
              <a:alpha val="49000"/>
            </a:srgbClr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3-це задания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«Кевонзаф валзюлмо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9640" y="618120"/>
            <a:ext cx="7489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Минь эрь шобдаваня кельм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ведьса валондоськ панчфнен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2.Николайть ня валонз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бъта кельме ведьс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валозь Володян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9640" y="284760"/>
            <a:ext cx="74898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1.Степашкин бъта     салфтома сусксь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ашезе сода, мезе азом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2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Мон путыне салфтома сускомозен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и варьжакстонь инжить лангс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9640" y="-47160"/>
            <a:ext cx="74898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Мельницаста лисемста пяшкс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почфта кяскавса Ван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эрьхтезе кенкшть и со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пъцтай каладсь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2. Эх, Пашка, Пашка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Ломанцьке бъта аф кяскавс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эрьхтьфокс ащат, а вятсак пряцень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10:02:56Z</dcterms:created>
  <dc:creator>Перхляйская СОШ</dc:creator>
  <dc:description/>
  <dc:language>en-US</dc:language>
  <cp:lastModifiedBy>Перхляйская СОШ</cp:lastModifiedBy>
  <dcterms:modified xsi:type="dcterms:W3CDTF">2011-03-14T06:28:27Z</dcterms:modified>
  <cp:revision>8</cp:revision>
  <dc:subject/>
  <dc:title>Слайд 1</dc:title>
</cp:coreProperties>
</file>