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8A5-C111-4B3A-96A0-D543347E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FBA-494C-40FE-804D-DE1FB44D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B8C-680D-469B-BF75-CA96D0A1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72F-0CF2-4B6D-BD46-CD856022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B8C9-DFD2-4534-8488-3FDB2114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40B3-2240-44E7-BC10-FD8413B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26FF-7759-42DE-B62E-F13DCFD9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DA58-CA20-4933-BBDC-F962B555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3829-D571-458C-B331-DC15B47F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B9D7-7E7F-4D31-AC49-CA2081FF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7479-1F13-4FA5-97A1-F4747928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2E4-748E-43D0-8BD9-B762A447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E617-575D-4C44-8741-4783D53C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CEF-94BA-49DB-9B16-7FE4279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649F-AF1D-4274-A457-2D9343C4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51EB-1596-47FD-95AC-C4B215BC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D711-3D1E-4403-BF6D-687ADED5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BE0-6688-41CA-A2A4-8960A5B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4EB-9C7C-4E94-8A0E-ABE52EF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AE2-4772-40BC-9C43-0B70F377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ABC-5005-40C0-A0AC-7026FC68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3B1-0B67-4A02-B61C-6F0F4036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6FB-5DB2-4285-82EB-9D98767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EEF-05AC-434B-96D9-745431D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E80E-851B-4DD8-B4AE-CD39551289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8A08-5E24-480E-AAD2-6C5BBA03EC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502640"/>
            <a:ext cx="8209080" cy="3141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006600"/>
              </a:gs>
              <a:gs pos="100000">
                <a:srgbClr val="00cc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ОРГАНИЗАЦ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ПРОФИЛЬНОГО ОБУ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ИНОСТРАННЫМ ЯЗЫКА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914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Современные педагогические условия обучения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на старшей ступени полной средней школы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007120" cy="554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Arial"/>
              </a:rPr>
              <a:t>Три уровня владения иностранным языко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ется лег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являют профессиональный интер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удно д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Arial"/>
              </a:rPr>
              <a:t>Дифференцированный под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33"/>
                </a:solidFill>
                <a:latin typeface="Arial"/>
              </a:rPr>
              <a:t>На основе индивидуализации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еятельностны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ультуроведческ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ммуникативно-когнитивный (познаватель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33"/>
                </a:solidFill>
                <a:latin typeface="Arial"/>
              </a:rPr>
              <a:t>Достижение ц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рамках общеобразовательного курса (3 ч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рамках углубленного профильного курса (6 ч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674200" cy="1316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Arial"/>
              </a:rPr>
              <a:t>Структура и содержание </a:t>
            </a:r>
            <a:br>
              <a:rPr sz="2800"/>
            </a:br>
            <a:r>
              <a:rPr b="1" i="1" lang="en-US" sz="2800" spc="-1" strike="noStrike">
                <a:solidFill>
                  <a:srgbClr val="ff00ff"/>
                </a:solidFill>
                <a:latin typeface="Arial"/>
              </a:rPr>
              <a:t>общеобразовательного и профильного курсов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3927600" cy="2089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00cc"/>
              </a:gs>
              <a:gs pos="100000">
                <a:srgbClr val="0080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образов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екультурная 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обранный языковой минимум (лексический, грамматиче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11640" y="1844640"/>
            <a:ext cx="4633920" cy="41911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75002f"/>
              </a:gs>
              <a:gs pos="100000">
                <a:srgbClr val="ff0066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и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еобразовательный 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териал углубленного изучения с разной профильной направл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3645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227664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3284640"/>
            <a:ext cx="388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02840" y="4437000"/>
            <a:ext cx="16225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зовый 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3933720"/>
            <a:ext cx="4176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ильный 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5445000"/>
            <a:ext cx="2448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лективные к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7080" y="5445000"/>
            <a:ext cx="1800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акульт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651640" y="5013360"/>
            <a:ext cx="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740720" y="5013360"/>
            <a:ext cx="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3645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3645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33"/>
                </a:solidFill>
                <a:latin typeface="Arial"/>
              </a:rPr>
              <a:t>Содержание профильного курс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353440" cy="5616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008000"/>
              </a:gs>
              <a:gs pos="100000">
                <a:srgbClr val="9933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гвистический аспе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листические особ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ература и странове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рминология (профильно-ориентированны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и совершенствование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монологическ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диалогичес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увеличением объема читаем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АУДИРОВАНИЮ и ПИСЬМЕННОЙ Р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Основные приемы и технологии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 профильного обуч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3889440" cy="40323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91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ие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мения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91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ть  с текс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91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исы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91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исы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91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е плана, тези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91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овообразовательный 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91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мматический 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4360" y="1557360"/>
            <a:ext cx="4319640" cy="4464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еревод для снятия труд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иск русских эквивал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фраз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з отдельных слов, предложений, тек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иск смысловых оп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рессия (сжатие) тек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го 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177336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2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b7"/>
                </a:solidFill>
                <a:uFillTx/>
                <a:latin typeface="Arial"/>
              </a:rPr>
              <a:t>ТЕХНОЛОГИИ ОБУЧЕНИЯ</a:t>
            </a:r>
            <a:br>
              <a:rPr sz="3600"/>
            </a:b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(Определенным образом организованная серия приемов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35840" cy="4751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80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ЕТОД       ПРОЕ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становка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пределение путей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иск информац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ее 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Коллективное обсу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Коррекция, поиск дополнительной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Оформление (реферат, доклад, коллаж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ка вы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385120" cy="397656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Возможности учебно-методического обеспечения разноуровневого обуч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0:43:22Z</dcterms:created>
  <dc:creator>User</dc:creator>
  <dc:description/>
  <dc:language>en-US</dc:language>
  <cp:lastModifiedBy>User</cp:lastModifiedBy>
  <dcterms:modified xsi:type="dcterms:W3CDTF">2008-02-20T11:36:37Z</dcterms:modified>
  <cp:revision>15</cp:revision>
  <dc:subject/>
  <dc:title>Слайд 1</dc:title>
</cp:coreProperties>
</file>