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8.wmf" ContentType="image/x-wmf"/>
  <Override PartName="/ppt/media/image20.wmf" ContentType="image/x-wmf"/>
  <Override PartName="/ppt/media/image21.wmf" ContentType="image/x-wmf"/>
  <Override PartName="/ppt/media/image1.gif" ContentType="image/gif"/>
  <Override PartName="/ppt/media/image4.wmf" ContentType="image/x-wmf"/>
  <Override PartName="/ppt/media/image19.png" ContentType="image/png"/>
  <Override PartName="/ppt/media/image17.gif" ContentType="image/gif"/>
  <Override PartName="/ppt/media/image16.png" ContentType="image/png"/>
  <Override PartName="/ppt/media/image14.png" ContentType="image/png"/>
  <Override PartName="/ppt/media/image2.gif" ContentType="image/gi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55C-3D88-4675-AC85-A2E6601E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6FC-A8C3-4525-842C-2B81F132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54D-AA8C-4807-900F-2872F290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6FA-D765-4AD7-A5A3-ED890281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043-8A8C-4A10-ABED-E331915C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CE88-BF76-4F7F-A42E-CCE3FD00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121-9FF0-432A-89E8-AF2BA046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A58-494C-434D-8090-B30E6104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6278-7420-4FBD-A5EA-2012F25D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92E-A85F-494E-8746-2AE93C8F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779-C27B-4BF5-8C0D-C739A6C5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CA0-CE8E-4E3A-AAC8-CF00516C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C429-8484-49B6-A7E0-48EC9918EB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atkaluz.narod.ru/b11.gif" TargetMode="External"/><Relationship Id="rId2" Type="http://schemas.openxmlformats.org/officeDocument/2006/relationships/image" Target="../media/image17.gif"/><Relationship Id="rId3" Type="http://schemas.openxmlformats.org/officeDocument/2006/relationships/hyperlink" Target="http://natkaluz.narod.ru/b11.gif" TargetMode="External"/><Relationship Id="rId4" Type="http://schemas.openxmlformats.org/officeDocument/2006/relationships/image" Target="../media/image17.gif"/><Relationship Id="rId5" Type="http://schemas.openxmlformats.org/officeDocument/2006/relationships/hyperlink" Target="http://natkaluz.narod.ru/b11.gif" TargetMode="External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6" Type="http://schemas.openxmlformats.org/officeDocument/2006/relationships/image" Target="../media/image19.png"/><Relationship Id="rId7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10" Type="http://schemas.openxmlformats.org/officeDocument/2006/relationships/image" Target="../media/image19.png"/><Relationship Id="rId11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12" Type="http://schemas.openxmlformats.org/officeDocument/2006/relationships/image" Target="../media/image19.png"/><Relationship Id="rId13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14" Type="http://schemas.openxmlformats.org/officeDocument/2006/relationships/image" Target="../media/image19.png"/><Relationship Id="rId15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16" Type="http://schemas.openxmlformats.org/officeDocument/2006/relationships/image" Target="../media/image19.png"/><Relationship Id="rId17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18" Type="http://schemas.openxmlformats.org/officeDocument/2006/relationships/image" Target="../media/image19.png"/><Relationship Id="rId19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7.gif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0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7.gif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7.gif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0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7.gif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7.gif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0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7.gif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olnychko"/>
          <p:cNvPicPr/>
          <p:nvPr/>
        </p:nvPicPr>
        <p:blipFill>
          <a:blip r:embed="rId1"/>
          <a:stretch/>
        </p:blipFill>
        <p:spPr>
          <a:xfrm>
            <a:off x="0" y="0"/>
            <a:ext cx="5616720" cy="5877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256920" y="3943440"/>
            <a:ext cx="5700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Утром солнышко проснуло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сем ребятам улыбну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Лучик тёплый, зо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На урок возьмём с с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удет он нас согре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И в учёбе помог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92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422360" y="861840"/>
            <a:ext cx="72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А сейчас у нас разми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ыпрямляем свои спин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 носочках потяну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право – влево поверну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И друг другу улыбну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Раз, два, три, четыре, пя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Урок пора нам продолж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b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4437000"/>
            <a:ext cx="2519280" cy="2165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b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1640" y="4437000"/>
            <a:ext cx="2592360" cy="2227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b1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4416480"/>
            <a:ext cx="25192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"/>
          <p:cNvSpPr/>
          <p:nvPr/>
        </p:nvSpPr>
        <p:spPr>
          <a:xfrm>
            <a:off x="468360" y="3284640"/>
            <a:ext cx="784872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"/>
          <p:cNvSpPr/>
          <p:nvPr/>
        </p:nvSpPr>
        <p:spPr>
          <a:xfrm flipV="1">
            <a:off x="140328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 flipV="1">
            <a:off x="234000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 flipV="1">
            <a:off x="7308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 flipV="1">
            <a:off x="6300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 flipV="1">
            <a:off x="5292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971640" y="58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1" descr="j0233173"/>
          <p:cNvPicPr/>
          <p:nvPr/>
        </p:nvPicPr>
        <p:blipFill>
          <a:blip r:embed="rId1"/>
          <a:stretch/>
        </p:blipFill>
        <p:spPr>
          <a:xfrm>
            <a:off x="1042920" y="765000"/>
            <a:ext cx="1728720" cy="216396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2"/>
          <p:cNvSpPr/>
          <p:nvPr/>
        </p:nvSpPr>
        <p:spPr>
          <a:xfrm>
            <a:off x="2195640" y="2421000"/>
            <a:ext cx="1295280" cy="86364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4"/>
          <p:cNvSpPr/>
          <p:nvPr/>
        </p:nvSpPr>
        <p:spPr>
          <a:xfrm>
            <a:off x="3203640" y="2421000"/>
            <a:ext cx="1295280" cy="86364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5"/>
          <p:cNvSpPr/>
          <p:nvPr/>
        </p:nvSpPr>
        <p:spPr>
          <a:xfrm>
            <a:off x="4211640" y="2421000"/>
            <a:ext cx="1295280" cy="86364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26"/>
          <p:cNvSpPr txBox="1"/>
          <p:nvPr/>
        </p:nvSpPr>
        <p:spPr>
          <a:xfrm>
            <a:off x="514836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WordArt 30"/>
          <p:cNvSpPr txBox="1"/>
          <p:nvPr/>
        </p:nvSpPr>
        <p:spPr>
          <a:xfrm>
            <a:off x="219564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WordArt 31"/>
          <p:cNvSpPr txBox="1"/>
          <p:nvPr/>
        </p:nvSpPr>
        <p:spPr>
          <a:xfrm>
            <a:off x="125892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WordArt 32"/>
          <p:cNvSpPr txBox="1"/>
          <p:nvPr/>
        </p:nvSpPr>
        <p:spPr>
          <a:xfrm>
            <a:off x="6012000" y="378936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AutoShape 35"/>
          <p:cNvSpPr/>
          <p:nvPr/>
        </p:nvSpPr>
        <p:spPr>
          <a:xfrm>
            <a:off x="2268360" y="3284640"/>
            <a:ext cx="3743640" cy="647640"/>
          </a:xfrm>
          <a:custGeom>
            <a:avLst/>
            <a:gdLst>
              <a:gd name="textAreaLeft" fmla="*/ 655200 w 3743640"/>
              <a:gd name="textAreaRight" fmla="*/ 2714400 w 374364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3"/>
          <p:cNvSpPr/>
          <p:nvPr/>
        </p:nvSpPr>
        <p:spPr>
          <a:xfrm>
            <a:off x="2050920" y="2997360"/>
            <a:ext cx="57636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 flipV="1">
            <a:off x="3276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 flipV="1">
            <a:off x="4284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6"/>
          <p:cNvSpPr/>
          <p:nvPr/>
        </p:nvSpPr>
        <p:spPr>
          <a:xfrm>
            <a:off x="2410560" y="4365720"/>
            <a:ext cx="37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6 + 3 = 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7"/>
          <p:cNvSpPr/>
          <p:nvPr/>
        </p:nvSpPr>
        <p:spPr>
          <a:xfrm>
            <a:off x="4356000" y="5300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8"/>
          <p:cNvSpPr/>
          <p:nvPr/>
        </p:nvSpPr>
        <p:spPr>
          <a:xfrm flipV="1">
            <a:off x="4140360" y="5300280"/>
            <a:ext cx="2174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9"/>
          <p:cNvSpPr/>
          <p:nvPr/>
        </p:nvSpPr>
        <p:spPr>
          <a:xfrm flipV="1">
            <a:off x="4356000" y="530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44"/>
          <p:cNvSpPr txBox="1"/>
          <p:nvPr/>
        </p:nvSpPr>
        <p:spPr>
          <a:xfrm>
            <a:off x="3708360" y="57340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WordArt 45"/>
          <p:cNvSpPr txBox="1"/>
          <p:nvPr/>
        </p:nvSpPr>
        <p:spPr>
          <a:xfrm>
            <a:off x="4211640" y="57340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WordArt 46"/>
          <p:cNvSpPr txBox="1"/>
          <p:nvPr/>
        </p:nvSpPr>
        <p:spPr>
          <a:xfrm>
            <a:off x="4643280" y="573408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Text Box 47"/>
          <p:cNvSpPr/>
          <p:nvPr/>
        </p:nvSpPr>
        <p:spPr>
          <a:xfrm>
            <a:off x="545400" y="0"/>
            <a:ext cx="826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 можно прибавить число 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11"/>
          <p:cNvSpPr/>
          <p:nvPr/>
        </p:nvSpPr>
        <p:spPr>
          <a:xfrm flipV="1">
            <a:off x="5292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"/>
          <p:cNvSpPr/>
          <p:nvPr/>
        </p:nvSpPr>
        <p:spPr>
          <a:xfrm>
            <a:off x="468360" y="3284640"/>
            <a:ext cx="784872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 flipV="1">
            <a:off x="140328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 flipV="1">
            <a:off x="3276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 flipV="1">
            <a:off x="234000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 flipV="1">
            <a:off x="7308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 flipV="1">
            <a:off x="6300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971640" y="58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3" descr="j0233173"/>
          <p:cNvPicPr/>
          <p:nvPr/>
        </p:nvPicPr>
        <p:blipFill>
          <a:blip r:embed="rId1"/>
          <a:stretch/>
        </p:blipFill>
        <p:spPr>
          <a:xfrm>
            <a:off x="1042920" y="765000"/>
            <a:ext cx="1728720" cy="2163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4"/>
          <p:cNvSpPr/>
          <p:nvPr/>
        </p:nvSpPr>
        <p:spPr>
          <a:xfrm>
            <a:off x="2268360" y="2349360"/>
            <a:ext cx="2519640" cy="935280"/>
          </a:xfrm>
          <a:custGeom>
            <a:avLst/>
            <a:gdLst>
              <a:gd name="textAreaLeft" fmla="*/ 441000 w 2519640"/>
              <a:gd name="textAreaRight" fmla="*/ 1827000 w 2519640"/>
              <a:gd name="textAreaTop" fmla="*/ 125280 h 935280"/>
              <a:gd name="textAreaBottom" fmla="*/ 810000 h 93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5"/>
          <p:cNvSpPr/>
          <p:nvPr/>
        </p:nvSpPr>
        <p:spPr>
          <a:xfrm>
            <a:off x="4211640" y="2421000"/>
            <a:ext cx="1295280" cy="86364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17"/>
          <p:cNvSpPr txBox="1"/>
          <p:nvPr/>
        </p:nvSpPr>
        <p:spPr>
          <a:xfrm>
            <a:off x="514836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18"/>
          <p:cNvSpPr txBox="1"/>
          <p:nvPr/>
        </p:nvSpPr>
        <p:spPr>
          <a:xfrm>
            <a:off x="219564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WordArt 19"/>
          <p:cNvSpPr txBox="1"/>
          <p:nvPr/>
        </p:nvSpPr>
        <p:spPr>
          <a:xfrm>
            <a:off x="125892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WordArt 20"/>
          <p:cNvSpPr txBox="1"/>
          <p:nvPr/>
        </p:nvSpPr>
        <p:spPr>
          <a:xfrm>
            <a:off x="6012000" y="378936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AutoShape 21"/>
          <p:cNvSpPr/>
          <p:nvPr/>
        </p:nvSpPr>
        <p:spPr>
          <a:xfrm>
            <a:off x="2050920" y="3284640"/>
            <a:ext cx="4033800" cy="647640"/>
          </a:xfrm>
          <a:custGeom>
            <a:avLst/>
            <a:gdLst>
              <a:gd name="textAreaLeft" fmla="*/ 705960 w 4033800"/>
              <a:gd name="textAreaRight" fmla="*/ 2924640 w 403380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2"/>
          <p:cNvSpPr/>
          <p:nvPr/>
        </p:nvSpPr>
        <p:spPr>
          <a:xfrm>
            <a:off x="2050920" y="2997360"/>
            <a:ext cx="57636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2626560" y="4289400"/>
            <a:ext cx="37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6 + 3 = 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 flipV="1">
            <a:off x="4284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4"/>
          <p:cNvSpPr/>
          <p:nvPr/>
        </p:nvSpPr>
        <p:spPr>
          <a:xfrm>
            <a:off x="4572000" y="5229360"/>
            <a:ext cx="2872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5"/>
          <p:cNvSpPr/>
          <p:nvPr/>
        </p:nvSpPr>
        <p:spPr>
          <a:xfrm flipV="1">
            <a:off x="4284720" y="5229000"/>
            <a:ext cx="288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26"/>
          <p:cNvSpPr txBox="1"/>
          <p:nvPr/>
        </p:nvSpPr>
        <p:spPr>
          <a:xfrm>
            <a:off x="4067280" y="5589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WordArt 27"/>
          <p:cNvSpPr txBox="1"/>
          <p:nvPr/>
        </p:nvSpPr>
        <p:spPr>
          <a:xfrm>
            <a:off x="4716360" y="558972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4" name="Rectangle 28"/>
          <p:cNvSpPr/>
          <p:nvPr/>
        </p:nvSpPr>
        <p:spPr>
          <a:xfrm>
            <a:off x="474120" y="0"/>
            <a:ext cx="826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 можно прибавить число 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2"/>
          <p:cNvSpPr/>
          <p:nvPr/>
        </p:nvSpPr>
        <p:spPr>
          <a:xfrm>
            <a:off x="468360" y="3284640"/>
            <a:ext cx="784872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 flipV="1">
            <a:off x="46836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 flipV="1">
            <a:off x="831708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"/>
          <p:cNvSpPr/>
          <p:nvPr/>
        </p:nvSpPr>
        <p:spPr>
          <a:xfrm flipV="1">
            <a:off x="140328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"/>
          <p:cNvSpPr/>
          <p:nvPr/>
        </p:nvSpPr>
        <p:spPr>
          <a:xfrm flipV="1">
            <a:off x="3276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"/>
          <p:cNvSpPr/>
          <p:nvPr/>
        </p:nvSpPr>
        <p:spPr>
          <a:xfrm flipV="1">
            <a:off x="234000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"/>
          <p:cNvSpPr/>
          <p:nvPr/>
        </p:nvSpPr>
        <p:spPr>
          <a:xfrm flipV="1">
            <a:off x="4284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7308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0"/>
          <p:cNvSpPr/>
          <p:nvPr/>
        </p:nvSpPr>
        <p:spPr>
          <a:xfrm flipV="1">
            <a:off x="6300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 flipV="1">
            <a:off x="5292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971640" y="58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3" descr="j0233173"/>
          <p:cNvPicPr/>
          <p:nvPr/>
        </p:nvPicPr>
        <p:blipFill>
          <a:blip r:embed="rId1"/>
          <a:stretch/>
        </p:blipFill>
        <p:spPr>
          <a:xfrm>
            <a:off x="1042920" y="765000"/>
            <a:ext cx="1728720" cy="216396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14"/>
          <p:cNvSpPr/>
          <p:nvPr/>
        </p:nvSpPr>
        <p:spPr>
          <a:xfrm>
            <a:off x="2195640" y="2421000"/>
            <a:ext cx="1295280" cy="86364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203640" y="2421000"/>
            <a:ext cx="2592360" cy="863640"/>
          </a:xfrm>
          <a:custGeom>
            <a:avLst/>
            <a:gdLst>
              <a:gd name="textAreaLeft" fmla="*/ 453600 w 2592360"/>
              <a:gd name="textAreaRight" fmla="*/ 1879560 w 259236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17"/>
          <p:cNvSpPr txBox="1"/>
          <p:nvPr/>
        </p:nvSpPr>
        <p:spPr>
          <a:xfrm>
            <a:off x="514836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WordArt 18"/>
          <p:cNvSpPr txBox="1"/>
          <p:nvPr/>
        </p:nvSpPr>
        <p:spPr>
          <a:xfrm>
            <a:off x="219564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WordArt 19"/>
          <p:cNvSpPr txBox="1"/>
          <p:nvPr/>
        </p:nvSpPr>
        <p:spPr>
          <a:xfrm>
            <a:off x="125892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WordArt 20"/>
          <p:cNvSpPr txBox="1"/>
          <p:nvPr/>
        </p:nvSpPr>
        <p:spPr>
          <a:xfrm>
            <a:off x="6012000" y="378936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2268360" y="3284640"/>
            <a:ext cx="3743640" cy="647640"/>
          </a:xfrm>
          <a:custGeom>
            <a:avLst/>
            <a:gdLst>
              <a:gd name="textAreaLeft" fmla="*/ 655200 w 3743640"/>
              <a:gd name="textAreaRight" fmla="*/ 2714400 w 374364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22"/>
          <p:cNvSpPr/>
          <p:nvPr/>
        </p:nvSpPr>
        <p:spPr>
          <a:xfrm>
            <a:off x="2050920" y="2997360"/>
            <a:ext cx="57636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617040" y="189000"/>
            <a:ext cx="826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 можно прибавить число 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2626560" y="4365720"/>
            <a:ext cx="37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6 + 3 = 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5"/>
          <p:cNvSpPr/>
          <p:nvPr/>
        </p:nvSpPr>
        <p:spPr>
          <a:xfrm>
            <a:off x="4572000" y="5300640"/>
            <a:ext cx="2872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6"/>
          <p:cNvSpPr/>
          <p:nvPr/>
        </p:nvSpPr>
        <p:spPr>
          <a:xfrm flipH="1">
            <a:off x="4284720" y="5300640"/>
            <a:ext cx="288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27"/>
          <p:cNvSpPr txBox="1"/>
          <p:nvPr/>
        </p:nvSpPr>
        <p:spPr>
          <a:xfrm>
            <a:off x="4067280" y="5661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0" name="WordArt 29"/>
          <p:cNvSpPr txBox="1"/>
          <p:nvPr/>
        </p:nvSpPr>
        <p:spPr>
          <a:xfrm>
            <a:off x="4716360" y="56610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"/>
          <p:cNvSpPr/>
          <p:nvPr/>
        </p:nvSpPr>
        <p:spPr>
          <a:xfrm>
            <a:off x="3348000" y="1773360"/>
            <a:ext cx="1655640" cy="17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468360" y="1773360"/>
            <a:ext cx="1655640" cy="17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6372360" y="1773360"/>
            <a:ext cx="2592360" cy="17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13"/>
          <p:cNvSpPr txBox="1"/>
          <p:nvPr/>
        </p:nvSpPr>
        <p:spPr>
          <a:xfrm>
            <a:off x="3924360" y="1773360"/>
            <a:ext cx="1081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WordArt 14"/>
          <p:cNvSpPr txBox="1"/>
          <p:nvPr/>
        </p:nvSpPr>
        <p:spPr>
          <a:xfrm>
            <a:off x="1042920" y="1773360"/>
            <a:ext cx="1081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WordArt 15"/>
          <p:cNvSpPr txBox="1"/>
          <p:nvPr/>
        </p:nvSpPr>
        <p:spPr>
          <a:xfrm>
            <a:off x="2340000" y="2060640"/>
            <a:ext cx="863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7" name="WordArt 16"/>
          <p:cNvSpPr txBox="1"/>
          <p:nvPr/>
        </p:nvSpPr>
        <p:spPr>
          <a:xfrm>
            <a:off x="5292720" y="2349360"/>
            <a:ext cx="93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WordArt 17"/>
          <p:cNvSpPr txBox="1"/>
          <p:nvPr/>
        </p:nvSpPr>
        <p:spPr>
          <a:xfrm>
            <a:off x="6948360" y="1773360"/>
            <a:ext cx="194472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181440" y="4292640"/>
            <a:ext cx="198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181440" y="5445000"/>
            <a:ext cx="206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оч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9" descr="RA-tarelka16bi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4292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0" descr="RA-tarelka16bi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16360" y="4292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1" descr="RA-tarelka16bi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19640" y="4292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2" descr="RA-tarelka16bi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24360" y="4292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3" descr="RA-tarelka16bi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84720" y="4292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4" descr="RA-tarelka16bi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859280" y="4292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5" descr="RA-tarelka16bi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364000" y="4292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7" descr="RA-tarelka16bi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340000" y="5516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8" descr="RA-tarelka16bi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916360" y="5516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9" descr="RA-tarelka16bi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564000" y="551664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0"/>
          <p:cNvSpPr/>
          <p:nvPr/>
        </p:nvSpPr>
        <p:spPr>
          <a:xfrm>
            <a:off x="179280" y="20160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колько тарелок вымыли мама и дочка вмес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" descr="RA-tarelka16big"/>
          <p:cNvPicPr/>
          <p:nvPr/>
        </p:nvPicPr>
        <p:blipFill>
          <a:blip r:embed="rId21"/>
          <a:stretch/>
        </p:blipFill>
        <p:spPr>
          <a:xfrm>
            <a:off x="5867280" y="429264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5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0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758520" y="333360"/>
            <a:ext cx="80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9900"/>
                </a:solidFill>
                <a:latin typeface="Arial"/>
                <a:ea typeface="Arial"/>
              </a:rPr>
              <a:t>Итог учебного занят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MCj04244840000[1]"/>
          <p:cNvPicPr/>
          <p:nvPr/>
        </p:nvPicPr>
        <p:blipFill>
          <a:blip r:embed="rId1"/>
          <a:stretch/>
        </p:blipFill>
        <p:spPr>
          <a:xfrm>
            <a:off x="250920" y="1773360"/>
            <a:ext cx="2592360" cy="2373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MCj04280650000[1]"/>
          <p:cNvPicPr/>
          <p:nvPr/>
        </p:nvPicPr>
        <p:blipFill>
          <a:blip r:embed="rId2"/>
          <a:stretch/>
        </p:blipFill>
        <p:spPr>
          <a:xfrm>
            <a:off x="5184720" y="1700280"/>
            <a:ext cx="3959280" cy="2414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MCj04244700000[1]"/>
          <p:cNvPicPr/>
          <p:nvPr/>
        </p:nvPicPr>
        <p:blipFill>
          <a:blip r:embed="rId3"/>
          <a:stretch/>
        </p:blipFill>
        <p:spPr>
          <a:xfrm>
            <a:off x="2556000" y="1125360"/>
            <a:ext cx="3527280" cy="3303720"/>
          </a:xfrm>
          <a:prstGeom prst="rect">
            <a:avLst/>
          </a:prstGeom>
          <a:ln w="0">
            <a:noFill/>
          </a:ln>
        </p:spPr>
      </p:pic>
      <p:sp>
        <p:nvSpPr>
          <p:cNvPr id="267" name="WordArt 8"/>
          <p:cNvSpPr txBox="1"/>
          <p:nvPr/>
        </p:nvSpPr>
        <p:spPr>
          <a:xfrm>
            <a:off x="1476360" y="4724280"/>
            <a:ext cx="568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468360" y="333360"/>
            <a:ext cx="8675640" cy="26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бавление числа 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Рисунок 5" descr="f0f55f72dd70.gif"/>
          <p:cNvPicPr/>
          <p:nvPr/>
        </p:nvPicPr>
        <p:blipFill>
          <a:blip r:embed="rId1"/>
          <a:stretch/>
        </p:blipFill>
        <p:spPr>
          <a:xfrm>
            <a:off x="250920" y="3068640"/>
            <a:ext cx="2481120" cy="3529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f0f55f72dd70.gif"/>
          <p:cNvPicPr/>
          <p:nvPr/>
        </p:nvPicPr>
        <p:blipFill>
          <a:blip r:embed="rId2"/>
          <a:stretch/>
        </p:blipFill>
        <p:spPr>
          <a:xfrm>
            <a:off x="6300720" y="3068640"/>
            <a:ext cx="2481480" cy="35290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f0f55f72dd70.gif"/>
          <p:cNvPicPr/>
          <p:nvPr/>
        </p:nvPicPr>
        <p:blipFill>
          <a:blip r:embed="rId3"/>
          <a:stretch/>
        </p:blipFill>
        <p:spPr>
          <a:xfrm>
            <a:off x="3276720" y="3068640"/>
            <a:ext cx="2481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MCj04281170000[1]"/>
          <p:cNvPicPr/>
          <p:nvPr/>
        </p:nvPicPr>
        <p:blipFill>
          <a:blip r:embed="rId1"/>
          <a:stretch/>
        </p:blipFill>
        <p:spPr>
          <a:xfrm>
            <a:off x="0" y="1341360"/>
            <a:ext cx="1835280" cy="1654200"/>
          </a:xfrm>
          <a:prstGeom prst="rect">
            <a:avLst/>
          </a:prstGeom>
          <a:ln w="0">
            <a:noFill/>
          </a:ln>
        </p:spPr>
      </p:pic>
      <p:sp>
        <p:nvSpPr>
          <p:cNvPr id="48" name="WordArt 6"/>
          <p:cNvSpPr txBox="1"/>
          <p:nvPr/>
        </p:nvSpPr>
        <p:spPr>
          <a:xfrm>
            <a:off x="539640" y="260280"/>
            <a:ext cx="8136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будем делать на уроке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2556000" y="184464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активно  работать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Picture 8" descr="MCj04244840000[1]"/>
          <p:cNvPicPr/>
          <p:nvPr/>
        </p:nvPicPr>
        <p:blipFill>
          <a:blip r:embed="rId2"/>
          <a:stretch/>
        </p:blipFill>
        <p:spPr>
          <a:xfrm>
            <a:off x="395280" y="4869000"/>
            <a:ext cx="1700280" cy="1771560"/>
          </a:xfrm>
          <a:prstGeom prst="rect">
            <a:avLst/>
          </a:prstGeom>
          <a:ln w="0">
            <a:noFill/>
          </a:ln>
        </p:spPr>
      </p:pic>
      <p:sp>
        <p:nvSpPr>
          <p:cNvPr id="51" name="WordArt 9"/>
          <p:cNvSpPr txBox="1"/>
          <p:nvPr/>
        </p:nvSpPr>
        <p:spPr>
          <a:xfrm>
            <a:off x="2484360" y="5373720"/>
            <a:ext cx="5329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 решать задачи и пример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Picture 10" descr="MCj04281050000[1]"/>
          <p:cNvPicPr/>
          <p:nvPr/>
        </p:nvPicPr>
        <p:blipFill>
          <a:blip r:embed="rId3"/>
          <a:stretch/>
        </p:blipFill>
        <p:spPr>
          <a:xfrm>
            <a:off x="250920" y="2924280"/>
            <a:ext cx="2195280" cy="2033640"/>
          </a:xfrm>
          <a:prstGeom prst="rect">
            <a:avLst/>
          </a:prstGeom>
          <a:ln w="0">
            <a:noFill/>
          </a:ln>
        </p:spPr>
      </p:pic>
      <p:sp>
        <p:nvSpPr>
          <p:cNvPr id="53" name="WordArt 11"/>
          <p:cNvSpPr txBox="1"/>
          <p:nvPr/>
        </p:nvSpPr>
        <p:spPr>
          <a:xfrm>
            <a:off x="2627280" y="3357720"/>
            <a:ext cx="4321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 узнаем ново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7"/>
          <p:cNvSpPr/>
          <p:nvPr/>
        </p:nvSpPr>
        <p:spPr>
          <a:xfrm>
            <a:off x="0" y="2565360"/>
            <a:ext cx="6877080" cy="4292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amagnolia[1]"/>
          <p:cNvPicPr/>
          <p:nvPr/>
        </p:nvPicPr>
        <p:blipFill>
          <a:blip r:embed="rId2"/>
          <a:stretch/>
        </p:blipFill>
        <p:spPr>
          <a:xfrm>
            <a:off x="1619280" y="5445000"/>
            <a:ext cx="1224000" cy="116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3"/>
          <a:stretch/>
        </p:blipFill>
        <p:spPr>
          <a:xfrm>
            <a:off x="539640" y="1916280"/>
            <a:ext cx="1032120" cy="1373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4"/>
          <a:stretch/>
        </p:blipFill>
        <p:spPr>
          <a:xfrm>
            <a:off x="5219640" y="3933720"/>
            <a:ext cx="119880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5"/>
          <a:stretch/>
        </p:blipFill>
        <p:spPr>
          <a:xfrm>
            <a:off x="539640" y="2997360"/>
            <a:ext cx="119880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6"/>
          <a:stretch/>
        </p:blipFill>
        <p:spPr>
          <a:xfrm>
            <a:off x="0" y="1628640"/>
            <a:ext cx="1008000" cy="2590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"/>
          <p:cNvPicPr/>
          <p:nvPr/>
        </p:nvPicPr>
        <p:blipFill>
          <a:blip r:embed="rId7"/>
          <a:stretch/>
        </p:blipFill>
        <p:spPr>
          <a:xfrm>
            <a:off x="-181080" y="3068640"/>
            <a:ext cx="1008000" cy="2590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amagnolia[1]"/>
          <p:cNvPicPr/>
          <p:nvPr/>
        </p:nvPicPr>
        <p:blipFill>
          <a:blip r:embed="rId8"/>
          <a:stretch/>
        </p:blipFill>
        <p:spPr>
          <a:xfrm>
            <a:off x="1547640" y="2781360"/>
            <a:ext cx="1224000" cy="1162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"/>
          <p:cNvPicPr/>
          <p:nvPr/>
        </p:nvPicPr>
        <p:blipFill>
          <a:blip r:embed="rId9"/>
          <a:stretch/>
        </p:blipFill>
        <p:spPr>
          <a:xfrm>
            <a:off x="468360" y="5373720"/>
            <a:ext cx="665280" cy="838080"/>
          </a:xfrm>
          <a:prstGeom prst="rect">
            <a:avLst/>
          </a:prstGeom>
          <a:ln w="0">
            <a:noFill/>
          </a:ln>
        </p:spPr>
      </p:pic>
      <p:sp>
        <p:nvSpPr>
          <p:cNvPr id="63" name="Oval 21"/>
          <p:cNvSpPr/>
          <p:nvPr/>
        </p:nvSpPr>
        <p:spPr>
          <a:xfrm>
            <a:off x="755640" y="5950080"/>
            <a:ext cx="304920" cy="215640"/>
          </a:xfrm>
          <a:prstGeom prst="ellipse">
            <a:avLst/>
          </a:prstGeom>
          <a:gradFill rotWithShape="0">
            <a:gsLst>
              <a:gs pos="0">
                <a:srgbClr val="472f18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468360" y="5950080"/>
            <a:ext cx="304920" cy="215640"/>
          </a:xfrm>
          <a:prstGeom prst="ellipse">
            <a:avLst/>
          </a:prstGeom>
          <a:gradFill rotWithShape="0">
            <a:gsLst>
              <a:gs pos="0">
                <a:srgbClr val="472f18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3"/>
          <p:cNvSpPr/>
          <p:nvPr/>
        </p:nvSpPr>
        <p:spPr>
          <a:xfrm>
            <a:off x="684360" y="6093000"/>
            <a:ext cx="304560" cy="215640"/>
          </a:xfrm>
          <a:prstGeom prst="ellipse">
            <a:avLst/>
          </a:prstGeom>
          <a:gradFill rotWithShape="0">
            <a:gsLst>
              <a:gs pos="0">
                <a:srgbClr val="472f18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4" descr=""/>
          <p:cNvPicPr/>
          <p:nvPr/>
        </p:nvPicPr>
        <p:blipFill>
          <a:blip r:embed="rId10"/>
          <a:stretch/>
        </p:blipFill>
        <p:spPr>
          <a:xfrm>
            <a:off x="4788000" y="4869000"/>
            <a:ext cx="699840" cy="1798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"/>
          <p:cNvPicPr/>
          <p:nvPr/>
        </p:nvPicPr>
        <p:blipFill>
          <a:blip r:embed="rId11"/>
          <a:stretch/>
        </p:blipFill>
        <p:spPr>
          <a:xfrm>
            <a:off x="0" y="5661000"/>
            <a:ext cx="979560" cy="119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Утка"/>
          <p:cNvPicPr/>
          <p:nvPr/>
        </p:nvPicPr>
        <p:blipFill>
          <a:blip r:embed="rId12"/>
          <a:stretch/>
        </p:blipFill>
        <p:spPr>
          <a:xfrm>
            <a:off x="7093080" y="3716280"/>
            <a:ext cx="1258920" cy="1374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7" descr=""/>
          <p:cNvPicPr/>
          <p:nvPr/>
        </p:nvPicPr>
        <p:blipFill>
          <a:blip r:embed="rId13"/>
          <a:stretch/>
        </p:blipFill>
        <p:spPr>
          <a:xfrm>
            <a:off x="1187280" y="5734080"/>
            <a:ext cx="665280" cy="838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Утка"/>
          <p:cNvPicPr/>
          <p:nvPr/>
        </p:nvPicPr>
        <p:blipFill>
          <a:blip r:embed="rId14"/>
          <a:stretch/>
        </p:blipFill>
        <p:spPr>
          <a:xfrm>
            <a:off x="6012000" y="1989000"/>
            <a:ext cx="998280" cy="108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Утка"/>
          <p:cNvPicPr/>
          <p:nvPr/>
        </p:nvPicPr>
        <p:blipFill>
          <a:blip r:embed="rId15"/>
          <a:stretch/>
        </p:blipFill>
        <p:spPr>
          <a:xfrm>
            <a:off x="7812000" y="2133720"/>
            <a:ext cx="1096920" cy="119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amagnolia[1]"/>
          <p:cNvPicPr/>
          <p:nvPr/>
        </p:nvPicPr>
        <p:blipFill>
          <a:blip r:embed="rId16"/>
          <a:stretch/>
        </p:blipFill>
        <p:spPr>
          <a:xfrm>
            <a:off x="468360" y="4797360"/>
            <a:ext cx="863640" cy="819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"/>
          <p:cNvPicPr/>
          <p:nvPr/>
        </p:nvPicPr>
        <p:blipFill>
          <a:blip r:embed="rId17"/>
          <a:stretch/>
        </p:blipFill>
        <p:spPr>
          <a:xfrm>
            <a:off x="5292720" y="6093000"/>
            <a:ext cx="625320" cy="765000"/>
          </a:xfrm>
          <a:prstGeom prst="rect">
            <a:avLst/>
          </a:prstGeom>
          <a:ln w="0">
            <a:noFill/>
          </a:ln>
        </p:spPr>
      </p:pic>
      <p:sp>
        <p:nvSpPr>
          <p:cNvPr id="74" name="WordArt 31"/>
          <p:cNvSpPr txBox="1"/>
          <p:nvPr/>
        </p:nvSpPr>
        <p:spPr>
          <a:xfrm>
            <a:off x="971640" y="549360"/>
            <a:ext cx="863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a2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a2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WordArt 32"/>
          <p:cNvSpPr txBox="1"/>
          <p:nvPr/>
        </p:nvSpPr>
        <p:spPr>
          <a:xfrm>
            <a:off x="2843280" y="476280"/>
            <a:ext cx="863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a2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a2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WordArt 33"/>
          <p:cNvSpPr txBox="1"/>
          <p:nvPr/>
        </p:nvSpPr>
        <p:spPr>
          <a:xfrm>
            <a:off x="4716360" y="476280"/>
            <a:ext cx="863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a2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a2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WordArt 34"/>
          <p:cNvSpPr txBox="1"/>
          <p:nvPr/>
        </p:nvSpPr>
        <p:spPr>
          <a:xfrm>
            <a:off x="1979640" y="907920"/>
            <a:ext cx="647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a2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a2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WordArt 35"/>
          <p:cNvSpPr txBox="1"/>
          <p:nvPr/>
        </p:nvSpPr>
        <p:spPr>
          <a:xfrm>
            <a:off x="3851280" y="907920"/>
            <a:ext cx="647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a2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a2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WordArt 36"/>
          <p:cNvSpPr txBox="1"/>
          <p:nvPr/>
        </p:nvSpPr>
        <p:spPr>
          <a:xfrm>
            <a:off x="5796000" y="105264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a2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a2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WordArt 37"/>
          <p:cNvSpPr txBox="1"/>
          <p:nvPr/>
        </p:nvSpPr>
        <p:spPr>
          <a:xfrm>
            <a:off x="7020000" y="476280"/>
            <a:ext cx="10080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a2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a2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1.7341E-006 C -0.0526 -0.03954 -0.1052 -0.07884 -0.18558 -0.06127 C -0.26597 -0.0437 -0.42552 0.10589 -0.48246 0.10566 E">
                                      <p:cBhvr>
                                        <p:cTn id="11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6.53179E-006 C -0.14341 0.03283 -0.28664 0.06589 -0.34133 0.10774 E">
                                      <p:cBhvr>
                                        <p:cTn id="11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3526E-006 C -0.08663 0.00924 -0.17327 0.01872 -0.20955 0.05711 C -0.24584 0.09549 -0.19879 0.1926 -0.21736 0.23052 C -0.23594 0.26844 -0.30347 0.27676 -0.32066 0.28554 E">
                                      <p:cBhvr>
                                        <p:cTn id="12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2"/>
          <p:cNvSpPr/>
          <p:nvPr/>
        </p:nvSpPr>
        <p:spPr>
          <a:xfrm>
            <a:off x="0" y="2565360"/>
            <a:ext cx="6877080" cy="4292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amagnolia[1]"/>
          <p:cNvPicPr/>
          <p:nvPr/>
        </p:nvPicPr>
        <p:blipFill>
          <a:blip r:embed="rId2"/>
          <a:stretch/>
        </p:blipFill>
        <p:spPr>
          <a:xfrm>
            <a:off x="1619280" y="5445000"/>
            <a:ext cx="1224000" cy="116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539640" y="1916280"/>
            <a:ext cx="1032120" cy="1373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4"/>
          <a:stretch/>
        </p:blipFill>
        <p:spPr>
          <a:xfrm>
            <a:off x="5219640" y="3933720"/>
            <a:ext cx="1198800" cy="2514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5"/>
          <a:stretch/>
        </p:blipFill>
        <p:spPr>
          <a:xfrm>
            <a:off x="539640" y="2997360"/>
            <a:ext cx="119880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6"/>
          <a:stretch/>
        </p:blipFill>
        <p:spPr>
          <a:xfrm>
            <a:off x="0" y="1628640"/>
            <a:ext cx="1008000" cy="2590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7"/>
          <a:stretch/>
        </p:blipFill>
        <p:spPr>
          <a:xfrm>
            <a:off x="-181080" y="3068640"/>
            <a:ext cx="1008000" cy="2590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amagnolia[1]"/>
          <p:cNvPicPr/>
          <p:nvPr/>
        </p:nvPicPr>
        <p:blipFill>
          <a:blip r:embed="rId8"/>
          <a:stretch/>
        </p:blipFill>
        <p:spPr>
          <a:xfrm>
            <a:off x="1547640" y="2781360"/>
            <a:ext cx="1224000" cy="116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9"/>
          <a:stretch/>
        </p:blipFill>
        <p:spPr>
          <a:xfrm>
            <a:off x="468360" y="5373720"/>
            <a:ext cx="665280" cy="838080"/>
          </a:xfrm>
          <a:prstGeom prst="rect">
            <a:avLst/>
          </a:prstGeom>
          <a:ln w="0">
            <a:noFill/>
          </a:ln>
        </p:spPr>
      </p:pic>
      <p:sp>
        <p:nvSpPr>
          <p:cNvPr id="90" name="Oval 11"/>
          <p:cNvSpPr/>
          <p:nvPr/>
        </p:nvSpPr>
        <p:spPr>
          <a:xfrm>
            <a:off x="755640" y="5950080"/>
            <a:ext cx="304920" cy="215640"/>
          </a:xfrm>
          <a:prstGeom prst="ellipse">
            <a:avLst/>
          </a:prstGeom>
          <a:gradFill rotWithShape="0">
            <a:gsLst>
              <a:gs pos="0">
                <a:srgbClr val="472f18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468360" y="5950080"/>
            <a:ext cx="304920" cy="215640"/>
          </a:xfrm>
          <a:prstGeom prst="ellipse">
            <a:avLst/>
          </a:prstGeom>
          <a:gradFill rotWithShape="0">
            <a:gsLst>
              <a:gs pos="0">
                <a:srgbClr val="472f18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3"/>
          <p:cNvSpPr/>
          <p:nvPr/>
        </p:nvSpPr>
        <p:spPr>
          <a:xfrm>
            <a:off x="684360" y="6093000"/>
            <a:ext cx="304560" cy="215640"/>
          </a:xfrm>
          <a:prstGeom prst="ellipse">
            <a:avLst/>
          </a:prstGeom>
          <a:gradFill rotWithShape="0">
            <a:gsLst>
              <a:gs pos="0">
                <a:srgbClr val="472f18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10"/>
          <a:stretch/>
        </p:blipFill>
        <p:spPr>
          <a:xfrm>
            <a:off x="4788000" y="4869000"/>
            <a:ext cx="69984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"/>
          <p:cNvPicPr/>
          <p:nvPr/>
        </p:nvPicPr>
        <p:blipFill>
          <a:blip r:embed="rId11"/>
          <a:stretch/>
        </p:blipFill>
        <p:spPr>
          <a:xfrm>
            <a:off x="0" y="5661000"/>
            <a:ext cx="979560" cy="11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Утка"/>
          <p:cNvPicPr/>
          <p:nvPr/>
        </p:nvPicPr>
        <p:blipFill>
          <a:blip r:embed="rId12"/>
          <a:stretch/>
        </p:blipFill>
        <p:spPr>
          <a:xfrm>
            <a:off x="7093080" y="3716280"/>
            <a:ext cx="1258920" cy="1374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"/>
          <p:cNvPicPr/>
          <p:nvPr/>
        </p:nvPicPr>
        <p:blipFill>
          <a:blip r:embed="rId13"/>
          <a:stretch/>
        </p:blipFill>
        <p:spPr>
          <a:xfrm>
            <a:off x="1187280" y="5734080"/>
            <a:ext cx="665280" cy="83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Утка"/>
          <p:cNvPicPr/>
          <p:nvPr/>
        </p:nvPicPr>
        <p:blipFill>
          <a:blip r:embed="rId14"/>
          <a:stretch/>
        </p:blipFill>
        <p:spPr>
          <a:xfrm>
            <a:off x="6012000" y="1989000"/>
            <a:ext cx="998280" cy="108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Утка"/>
          <p:cNvPicPr/>
          <p:nvPr/>
        </p:nvPicPr>
        <p:blipFill>
          <a:blip r:embed="rId15"/>
          <a:stretch/>
        </p:blipFill>
        <p:spPr>
          <a:xfrm>
            <a:off x="7812000" y="2133720"/>
            <a:ext cx="1096920" cy="1197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amagnolia[1]"/>
          <p:cNvPicPr/>
          <p:nvPr/>
        </p:nvPicPr>
        <p:blipFill>
          <a:blip r:embed="rId16"/>
          <a:stretch/>
        </p:blipFill>
        <p:spPr>
          <a:xfrm>
            <a:off x="468360" y="4797360"/>
            <a:ext cx="863640" cy="81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1" descr=""/>
          <p:cNvPicPr/>
          <p:nvPr/>
        </p:nvPicPr>
        <p:blipFill>
          <a:blip r:embed="rId17"/>
          <a:stretch/>
        </p:blipFill>
        <p:spPr>
          <a:xfrm>
            <a:off x="5292720" y="6093000"/>
            <a:ext cx="625320" cy="765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22"/>
          <p:cNvSpPr txBox="1"/>
          <p:nvPr/>
        </p:nvSpPr>
        <p:spPr>
          <a:xfrm>
            <a:off x="1187280" y="692280"/>
            <a:ext cx="79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a2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a2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WordArt 23"/>
          <p:cNvSpPr txBox="1"/>
          <p:nvPr/>
        </p:nvSpPr>
        <p:spPr>
          <a:xfrm>
            <a:off x="2340000" y="90792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a2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a2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WordArt 24"/>
          <p:cNvSpPr txBox="1"/>
          <p:nvPr/>
        </p:nvSpPr>
        <p:spPr>
          <a:xfrm>
            <a:off x="3492360" y="692280"/>
            <a:ext cx="64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a2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a2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WordArt 26"/>
          <p:cNvSpPr txBox="1"/>
          <p:nvPr/>
        </p:nvSpPr>
        <p:spPr>
          <a:xfrm>
            <a:off x="4500720" y="1052640"/>
            <a:ext cx="71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a2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a2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WordArt 27"/>
          <p:cNvSpPr txBox="1"/>
          <p:nvPr/>
        </p:nvSpPr>
        <p:spPr>
          <a:xfrm>
            <a:off x="5651640" y="620640"/>
            <a:ext cx="86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a2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a2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1.7341E-006 C -0.0526 -0.03954 -0.1052 -0.07884 -0.18558 -0.06127 C -0.26597 -0.0437 -0.42552 0.10589 -0.48246 0.10566 E">
                                      <p:cBhvr>
                                        <p:cTn id="17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6.53179E-006 C -0.14341 0.03283 -0.28664 0.06589 -0.34133 0.10774 E">
                                      <p:cBhvr>
                                        <p:cTn id="18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52601E-006 C -0.04688 -0.01226 -0.09375 -0.02428 -0.13021 -0.01064 C -0.16667 0.003 -0.20504 0.04277 -0.2191 0.08231 C -0.23316 0.12185 -0.21233 0.18982 -0.21441 0.22612 C -0.21649 0.26242 -0.2099 0.28786 -0.23177 0.30011 C -0.25365 0.31237 -0.32448 0.28878 -0.34618 0.30011 C -0.36788 0.31144 -0.36493 0.33942 -0.36198 0.36763 E">
                                      <p:cBhvr>
                                        <p:cTn id="18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2"/>
          <p:cNvSpPr/>
          <p:nvPr/>
        </p:nvSpPr>
        <p:spPr>
          <a:xfrm>
            <a:off x="0" y="2565360"/>
            <a:ext cx="6877080" cy="4292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amagnolia[1]"/>
          <p:cNvPicPr/>
          <p:nvPr/>
        </p:nvPicPr>
        <p:blipFill>
          <a:blip r:embed="rId2"/>
          <a:stretch/>
        </p:blipFill>
        <p:spPr>
          <a:xfrm>
            <a:off x="1619280" y="5445000"/>
            <a:ext cx="1224000" cy="1162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539640" y="1916280"/>
            <a:ext cx="1032120" cy="1373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4"/>
          <a:stretch/>
        </p:blipFill>
        <p:spPr>
          <a:xfrm>
            <a:off x="5219640" y="3933720"/>
            <a:ext cx="1198800" cy="2514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5"/>
          <a:stretch/>
        </p:blipFill>
        <p:spPr>
          <a:xfrm>
            <a:off x="539640" y="2997360"/>
            <a:ext cx="1198800" cy="2438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6"/>
          <a:stretch/>
        </p:blipFill>
        <p:spPr>
          <a:xfrm>
            <a:off x="0" y="1628640"/>
            <a:ext cx="1008000" cy="259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7"/>
          <a:stretch/>
        </p:blipFill>
        <p:spPr>
          <a:xfrm>
            <a:off x="-181080" y="3068640"/>
            <a:ext cx="1008000" cy="2590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amagnolia[1]"/>
          <p:cNvPicPr/>
          <p:nvPr/>
        </p:nvPicPr>
        <p:blipFill>
          <a:blip r:embed="rId8"/>
          <a:stretch/>
        </p:blipFill>
        <p:spPr>
          <a:xfrm>
            <a:off x="1547640" y="2781360"/>
            <a:ext cx="1224000" cy="116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9"/>
          <a:stretch/>
        </p:blipFill>
        <p:spPr>
          <a:xfrm>
            <a:off x="468360" y="5373720"/>
            <a:ext cx="665280" cy="838080"/>
          </a:xfrm>
          <a:prstGeom prst="rect">
            <a:avLst/>
          </a:prstGeom>
          <a:ln w="0">
            <a:noFill/>
          </a:ln>
        </p:spPr>
      </p:pic>
      <p:sp>
        <p:nvSpPr>
          <p:cNvPr id="115" name="Oval 11"/>
          <p:cNvSpPr/>
          <p:nvPr/>
        </p:nvSpPr>
        <p:spPr>
          <a:xfrm>
            <a:off x="755640" y="5950080"/>
            <a:ext cx="304920" cy="215640"/>
          </a:xfrm>
          <a:prstGeom prst="ellipse">
            <a:avLst/>
          </a:prstGeom>
          <a:gradFill rotWithShape="0">
            <a:gsLst>
              <a:gs pos="0">
                <a:srgbClr val="472f18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468360" y="5950080"/>
            <a:ext cx="304920" cy="215640"/>
          </a:xfrm>
          <a:prstGeom prst="ellipse">
            <a:avLst/>
          </a:prstGeom>
          <a:gradFill rotWithShape="0">
            <a:gsLst>
              <a:gs pos="0">
                <a:srgbClr val="472f18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684360" y="6093000"/>
            <a:ext cx="304560" cy="215640"/>
          </a:xfrm>
          <a:prstGeom prst="ellipse">
            <a:avLst/>
          </a:prstGeom>
          <a:gradFill rotWithShape="0">
            <a:gsLst>
              <a:gs pos="0">
                <a:srgbClr val="472f18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4" descr=""/>
          <p:cNvPicPr/>
          <p:nvPr/>
        </p:nvPicPr>
        <p:blipFill>
          <a:blip r:embed="rId10"/>
          <a:stretch/>
        </p:blipFill>
        <p:spPr>
          <a:xfrm>
            <a:off x="4788000" y="4869000"/>
            <a:ext cx="699840" cy="1798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"/>
          <p:cNvPicPr/>
          <p:nvPr/>
        </p:nvPicPr>
        <p:blipFill>
          <a:blip r:embed="rId11"/>
          <a:stretch/>
        </p:blipFill>
        <p:spPr>
          <a:xfrm>
            <a:off x="0" y="5661000"/>
            <a:ext cx="979560" cy="1197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Утка"/>
          <p:cNvPicPr/>
          <p:nvPr/>
        </p:nvPicPr>
        <p:blipFill>
          <a:blip r:embed="rId12"/>
          <a:stretch/>
        </p:blipFill>
        <p:spPr>
          <a:xfrm>
            <a:off x="7093080" y="3716280"/>
            <a:ext cx="1258920" cy="1374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"/>
          <p:cNvPicPr/>
          <p:nvPr/>
        </p:nvPicPr>
        <p:blipFill>
          <a:blip r:embed="rId13"/>
          <a:stretch/>
        </p:blipFill>
        <p:spPr>
          <a:xfrm>
            <a:off x="1187280" y="5734080"/>
            <a:ext cx="665280" cy="83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Утка"/>
          <p:cNvPicPr/>
          <p:nvPr/>
        </p:nvPicPr>
        <p:blipFill>
          <a:blip r:embed="rId14"/>
          <a:stretch/>
        </p:blipFill>
        <p:spPr>
          <a:xfrm>
            <a:off x="6012000" y="1989000"/>
            <a:ext cx="998280" cy="108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Утка"/>
          <p:cNvPicPr/>
          <p:nvPr/>
        </p:nvPicPr>
        <p:blipFill>
          <a:blip r:embed="rId15"/>
          <a:stretch/>
        </p:blipFill>
        <p:spPr>
          <a:xfrm>
            <a:off x="7812000" y="2133720"/>
            <a:ext cx="1096920" cy="1197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amagnolia[1]"/>
          <p:cNvPicPr/>
          <p:nvPr/>
        </p:nvPicPr>
        <p:blipFill>
          <a:blip r:embed="rId16"/>
          <a:stretch/>
        </p:blipFill>
        <p:spPr>
          <a:xfrm>
            <a:off x="468360" y="4797360"/>
            <a:ext cx="863640" cy="81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1" descr=""/>
          <p:cNvPicPr/>
          <p:nvPr/>
        </p:nvPicPr>
        <p:blipFill>
          <a:blip r:embed="rId17"/>
          <a:stretch/>
        </p:blipFill>
        <p:spPr>
          <a:xfrm>
            <a:off x="5292720" y="6093000"/>
            <a:ext cx="625320" cy="765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22"/>
          <p:cNvSpPr txBox="1"/>
          <p:nvPr/>
        </p:nvSpPr>
        <p:spPr>
          <a:xfrm>
            <a:off x="1116000" y="476280"/>
            <a:ext cx="64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a2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a2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WordArt 23"/>
          <p:cNvSpPr txBox="1"/>
          <p:nvPr/>
        </p:nvSpPr>
        <p:spPr>
          <a:xfrm>
            <a:off x="2050920" y="692280"/>
            <a:ext cx="6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a2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a2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24"/>
          <p:cNvSpPr txBox="1"/>
          <p:nvPr/>
        </p:nvSpPr>
        <p:spPr>
          <a:xfrm>
            <a:off x="3059280" y="476280"/>
            <a:ext cx="79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a2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a2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25"/>
          <p:cNvSpPr txBox="1"/>
          <p:nvPr/>
        </p:nvSpPr>
        <p:spPr>
          <a:xfrm>
            <a:off x="4427640" y="836640"/>
            <a:ext cx="71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a2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a2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WordArt 26"/>
          <p:cNvSpPr txBox="1"/>
          <p:nvPr/>
        </p:nvSpPr>
        <p:spPr>
          <a:xfrm>
            <a:off x="5580000" y="476280"/>
            <a:ext cx="86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a2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a2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1.7341E-006 C -0.0526 -0.03954 -0.1052 -0.07884 -0.18558 -0.06127 C -0.26597 -0.0437 -0.42552 0.10589 -0.48246 0.10566 E">
                                      <p:cBhvr>
                                        <p:cTn id="22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68208E-006 C -0.04237 0.00255 -0.08455 0.00509 -0.11424 0.00833 C -0.14393 0.01156 -0.1474 -0.00647 -0.17778 0.01896 C -0.20817 0.0444 -0.25712 0.14335 -0.29688 0.1607 C -0.33664 0.17804 -0.39619 0.13018 -0.41598 0.12255 E">
                                      <p:cBhvr>
                                        <p:cTn id="229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2.60116E-006 C -0.00765 -0.0037 -0.01511 -0.0074 -0.03334 2.60116E-006 C -0.05157 0.0074 -0.08334 0.00948 -0.10956 0.04439 C -0.13577 0.0793 -0.15852 0.1741 -0.19046 0.20925 C -0.2224 0.24439 -0.27831 0.23214 -0.30157 0.25572 C -0.32483 0.2793 -0.32761 0.31491 -0.33022 0.35075 E">
                                      <p:cBhvr>
                                        <p:cTn id="23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Небо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верт"/>
          <p:cNvPicPr/>
          <p:nvPr/>
        </p:nvPicPr>
        <p:blipFill>
          <a:blip r:embed="rId2"/>
          <a:stretch/>
        </p:blipFill>
        <p:spPr>
          <a:xfrm>
            <a:off x="6875640" y="5180040"/>
            <a:ext cx="2089080" cy="1677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верт"/>
          <p:cNvPicPr/>
          <p:nvPr/>
        </p:nvPicPr>
        <p:blipFill>
          <a:blip r:embed="rId3"/>
          <a:stretch/>
        </p:blipFill>
        <p:spPr>
          <a:xfrm>
            <a:off x="3708360" y="5064120"/>
            <a:ext cx="2232000" cy="179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верт"/>
          <p:cNvPicPr/>
          <p:nvPr/>
        </p:nvPicPr>
        <p:blipFill>
          <a:blip r:embed="rId4"/>
          <a:stretch/>
        </p:blipFill>
        <p:spPr>
          <a:xfrm>
            <a:off x="179280" y="5065560"/>
            <a:ext cx="2232000" cy="1792440"/>
          </a:xfrm>
          <a:prstGeom prst="rect">
            <a:avLst/>
          </a:prstGeom>
          <a:ln w="0">
            <a:noFill/>
          </a:ln>
        </p:spPr>
      </p:pic>
      <p:sp>
        <p:nvSpPr>
          <p:cNvPr id="135" name="WordArt 8"/>
          <p:cNvSpPr txBox="1"/>
          <p:nvPr/>
        </p:nvSpPr>
        <p:spPr>
          <a:xfrm>
            <a:off x="826920" y="3357720"/>
            <a:ext cx="720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705f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705f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2627280" y="3357720"/>
            <a:ext cx="720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705f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705f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WordArt 10"/>
          <p:cNvSpPr txBox="1"/>
          <p:nvPr/>
        </p:nvSpPr>
        <p:spPr>
          <a:xfrm>
            <a:off x="4716360" y="3357720"/>
            <a:ext cx="720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705f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705f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WordArt 11"/>
          <p:cNvSpPr txBox="1"/>
          <p:nvPr/>
        </p:nvSpPr>
        <p:spPr>
          <a:xfrm>
            <a:off x="5724360" y="3860640"/>
            <a:ext cx="863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705f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705f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12"/>
          <p:cNvSpPr txBox="1"/>
          <p:nvPr/>
        </p:nvSpPr>
        <p:spPr>
          <a:xfrm>
            <a:off x="3635280" y="3860640"/>
            <a:ext cx="792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705f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705f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WordArt 13"/>
          <p:cNvSpPr txBox="1"/>
          <p:nvPr/>
        </p:nvSpPr>
        <p:spPr>
          <a:xfrm>
            <a:off x="1692360" y="3860640"/>
            <a:ext cx="792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705f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705f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WordArt 14"/>
          <p:cNvSpPr txBox="1"/>
          <p:nvPr/>
        </p:nvSpPr>
        <p:spPr>
          <a:xfrm>
            <a:off x="6804000" y="3284640"/>
            <a:ext cx="9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705f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705f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18 0.07446 C -0.14149 0.08648 -0.14062 0.0985 -0.15329 0.07446 C -0.16597 0.05041 -0.22413 -0.02497 -0.2184 -0.06936 C -0.21267 -0.11375 -0.16232 -0.17156 -0.1184 -0.1919 C -0.07447 -0.21225 0.0073 -0.18635 0.04514 -0.1919 C 0.08299 -0.19745 0.09566 -0.20763 0.10869 -0.22566 C 0.12171 -0.2437 0.12553 -0.27815 0.12292 -0.29965 C 0.12032 -0.32115 0.10313 -0.33919 0.09271 -0.35468 C 0.0823 -0.37017 0.0757 -0.37687 0.06094 -0.3926 C 0.04619 -0.40832 0.02362 -0.44023 0.00382 -0.44971 C -0.01597 -0.45919 -0.03229 -0.44786 -0.05798 -0.44971 C -0.08368 -0.45156 -0.13368 -0.45179 -0.15017 -0.46034 C -0.16666 -0.4689 -0.16163 -0.4689 -0.15642 -0.50057 C -0.15121 -0.53225 -0.14756 -0.62843 -0.1184 -0.65063 C -0.08923 -0.67283 -0.02986 -0.63976 0.01823 -0.63375 C 0.06632 -0.62774 0.13612 -0.60161 0.17049 -0.61456 C 0.20487 -0.62751 0.21737 -0.69595 0.22448 -0.7119 E">
                                      <p:cBhvr>
                                        <p:cTn id="270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2567 C -0.00695 -0.03931 -0.01181 -0.05272 -0.00035 -0.0763 C 0.01111 -0.09989 0.03628 -0.15445 0.06632 -0.16717 C 0.09618 -0.17989 0.15173 -0.1489 0.17899 -0.15237 C 0.20625 -0.15584 0.22777 -0.15931 0.22968 -0.18844 C 0.23194 -0.21757 0.21614 -0.28278 0.19149 -0.32786 C 0.16701 -0.37318 0.10173 -0.4215 0.08211 -0.45896 C 0.06232 -0.49642 0.06771 -0.52648 0.0743 -0.55191 C 0.0809 -0.57734 0.08906 -0.59237 0.12187 -0.6111 C 0.15468 -0.62983 0.25538 -0.64324 0.271 -0.66405 C 0.28663 -0.68486 0.25086 -0.71052 0.21545 -0.73596 E">
                                      <p:cBhvr>
                                        <p:cTn id="273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5434E-006 C -0.03524 -0.03954 -0.07031 -0.07884 -0.07621 -0.11607 C -0.08211 -0.1533 -0.0585 -0.20254 -0.03506 -0.22405 C -0.01163 -0.24555 0.0448 -0.23584 0.06494 -0.24509 C 0.08507 -0.25434 0.08351 -0.25734 0.0856 -0.27884 C 0.08768 -0.30035 0.08803 -0.34775 0.07778 -0.3741 C 0.06754 -0.40046 0.05869 -0.42081 0.02379 -0.43746 C -0.01111 -0.4541 -0.0842 -0.46636 -0.13177 -0.47353 C -0.17934 -0.48069 -0.24114 -0.46243 -0.26197 -0.47977 C -0.28281 -0.49711 -0.2625 -0.53804 -0.25729 -0.57711 E">
                                      <p:cBhvr>
                                        <p:cTn id="276" dur="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Небо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верт"/>
          <p:cNvPicPr/>
          <p:nvPr/>
        </p:nvPicPr>
        <p:blipFill>
          <a:blip r:embed="rId2"/>
          <a:stretch/>
        </p:blipFill>
        <p:spPr>
          <a:xfrm>
            <a:off x="6407280" y="5035680"/>
            <a:ext cx="2268360" cy="1822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верт"/>
          <p:cNvPicPr/>
          <p:nvPr/>
        </p:nvPicPr>
        <p:blipFill>
          <a:blip r:embed="rId3"/>
          <a:stretch/>
        </p:blipFill>
        <p:spPr>
          <a:xfrm>
            <a:off x="3276720" y="4950000"/>
            <a:ext cx="2374920" cy="190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верт"/>
          <p:cNvPicPr/>
          <p:nvPr/>
        </p:nvPicPr>
        <p:blipFill>
          <a:blip r:embed="rId4"/>
          <a:stretch/>
        </p:blipFill>
        <p:spPr>
          <a:xfrm>
            <a:off x="0" y="4978440"/>
            <a:ext cx="2340000" cy="1879560"/>
          </a:xfrm>
          <a:prstGeom prst="rect">
            <a:avLst/>
          </a:prstGeom>
          <a:ln w="0">
            <a:noFill/>
          </a:ln>
        </p:spPr>
      </p:pic>
      <p:sp>
        <p:nvSpPr>
          <p:cNvPr id="146" name="WordArt 6"/>
          <p:cNvSpPr txBox="1"/>
          <p:nvPr/>
        </p:nvSpPr>
        <p:spPr>
          <a:xfrm>
            <a:off x="4140360" y="3357720"/>
            <a:ext cx="720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705f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705f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WordArt 7"/>
          <p:cNvSpPr txBox="1"/>
          <p:nvPr/>
        </p:nvSpPr>
        <p:spPr>
          <a:xfrm>
            <a:off x="6516720" y="3357720"/>
            <a:ext cx="9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705f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705f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8"/>
          <p:cNvSpPr txBox="1"/>
          <p:nvPr/>
        </p:nvSpPr>
        <p:spPr>
          <a:xfrm>
            <a:off x="2771640" y="3789360"/>
            <a:ext cx="7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705f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705f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WordArt 9"/>
          <p:cNvSpPr txBox="1"/>
          <p:nvPr/>
        </p:nvSpPr>
        <p:spPr>
          <a:xfrm>
            <a:off x="5292720" y="3860640"/>
            <a:ext cx="863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705f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705f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WordArt 10"/>
          <p:cNvSpPr txBox="1"/>
          <p:nvPr/>
        </p:nvSpPr>
        <p:spPr>
          <a:xfrm>
            <a:off x="1258920" y="3284640"/>
            <a:ext cx="863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705f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705f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96532E-006 C 0.00625 -0.05989 0.0125 -0.11954 0.04444 -0.14382 C 0.07639 -0.1681 0.15347 -0.14613 0.19201 -0.1459 C 0.23056 -0.14567 0.24896 -0.14127 0.27621 -0.14174 C 0.30347 -0.1422 0.33837 -0.14521 0.35556 -0.14798 C 0.37274 -0.15075 0.37587 -0.14729 0.37934 -0.15862 C 0.38281 -0.16994 0.38194 -0.19815 0.37621 -0.21573 C 0.37049 -0.2333 0.35556 -0.25226 0.34444 -0.26428 C 0.33333 -0.2763 0.32639 -0.28347 0.30955 -0.28763 C 0.29271 -0.29179 0.2651 -0.28763 0.24288 -0.28971 C 0.22066 -0.29179 0.20035 -0.28856 0.17621 -0.30012 C 0.15208 -0.31168 0.11493 -0.34058 0.09844 -0.35931 C 0.08194 -0.37804 0.08125 -0.4 0.07778 -0.41226 C 0.07431 -0.42451 0.07656 -0.42636 0.07778 -0.4333 C 0.07899 -0.44023 0.07899 -0.44902 0.08559 -0.45457 C 0.09219 -0.46012 0.10625 -0.46405 0.11736 -0.46729 C 0.12847 -0.47052 0.13663 -0.47214 0.15226 -0.47353 C 0.16788 -0.47492 0.19549 -0.47515 0.21111 -0.47561 C 0.22674 -0.47607 0.23837 -0.47145 0.24601 -0.47561 C 0.25365 -0.47977 0.25417 -0.49364 0.25712 -0.50104 C 0.26007 -0.50844 0.26233 -0.50983 0.26337 -0.52 C 0.26441 -0.53018 0.26597 -0.5489 0.26337 -0.56231 C 0.26076 -0.57573 0.25573 -0.58682 0.24757 -0.60047 C 0.23941 -0.61411 0.22587 -0.6326 0.21424 -0.64486 C 0.2026 -0.65711 0.18819 -0.66659 0.17778 -0.67445 C 0.16736 -0.68231 0.15972 -0.68856 0.15226 -0.69133 C 0.14479 -0.69411 0.13958 -0.69133 0.13333 -0.69133 C 0.12708 -0.69133 0.12378 -0.69203 0.11424 -0.69133 C 0.10469 -0.69064 0.0842 -0.68786 0.07621 -0.68717 C 0.06823 -0.68648 0.06806 -0.68694 0.06667 -0.68717 E">
                                      <p:cBhvr>
                                        <p:cTn id="317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1.09827E-006 C -0.01874 -0.01248 -0.03732 -0.02497 -0.03333 -0.03792 C -0.02933 -0.05086 -0.02013 -0.0726 0.02379 -0.07815 C 0.06771 -0.0837 0.19324 -0.0467 0.23021 -0.07167 C 0.26719 -0.09664 0.2448 -0.19907 0.24601 -0.2282 C 0.24723 -0.25734 0.24376 -0.24323 0.23803 -0.24716 C 0.2323 -0.25109 0.22414 -0.24485 0.21112 -0.25156 C 0.1981 -0.25826 0.16876 -0.2726 0.16025 -0.2874 C 0.15174 -0.30219 0.15608 -0.32832 0.16025 -0.34034 C 0.16442 -0.35237 0.17726 -0.35445 0.18577 -0.3593 C 0.19428 -0.36416 0.19879 -0.3667 0.21112 -0.36994 C 0.22344 -0.37318 0.22067 -0.37688 0.26025 -0.37826 C 0.29983 -0.37965 0.41181 -0.36878 0.44914 -0.37826 C 0.48646 -0.38774 0.47692 -0.41387 0.48403 -0.43537 C 0.49115 -0.45688 0.48907 -0.47676 0.49202 -0.50728 C 0.49497 -0.5378 0.50053 -0.59445 0.50157 -0.61919 C 0.50261 -0.64393 0.50001 -0.64439 0.49844 -0.65526 C 0.49688 -0.66612 0.49862 -0.67537 0.49202 -0.68485 C 0.48542 -0.69433 0.46737 -0.70636 0.45869 -0.71237 C 0.45001 -0.71838 0.44671 -0.71815 0.43959 -0.72069 C 0.43247 -0.72323 0.4224 -0.72578 0.41581 -0.72716 C 0.40921 -0.72855 0.40921 -0.72901 0.40001 -0.72925 C 0.39081 -0.72948 0.37726 -0.73109 0.36025 -0.72925 C 0.34324 -0.7274 0.30903 -0.72601 0.29844 -0.71861 C 0.28785 -0.71121 0.29775 -0.69017 0.29688 -0.68485 E">
                                      <p:cBhvr>
                                        <p:cTn id="319" dur="5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45 -0.0289 C -0.14739 -0.0296 -0.15416 -0.03006 -0.15156 -0.06081 C -0.14896 -0.09156 -0.13333 -0.17642 -0.12465 -0.21295 C -0.11597 -0.24948 -0.10382 -0.25272 -0.0993 -0.28047 C -0.09479 -0.30821 -0.09201 -0.34752 -0.09774 -0.37989 C -0.10347 -0.41226 -0.12222 -0.4437 -0.1342 -0.47515 C -0.14618 -0.50659 -0.15885 -0.54058 -0.16909 -0.5681 C -0.17934 -0.59561 -0.18732 -0.62705 -0.196 -0.64 C -0.20468 -0.65295 -0.2118 -0.64532 -0.22152 -0.64625 C -0.23125 -0.64717 -0.24166 -0.64948 -0.25486 -0.64625 C -0.26805 -0.64301 -0.2868 -0.63538 -0.30087 -0.62729 C -0.31493 -0.61919 -0.33229 -0.60995 -0.33889 -0.59769 C -0.34548 -0.58544 -0.34027 -0.56463 -0.34045 -0.5533 C -0.34062 -0.54197 -0.33993 -0.53388 -0.34045 -0.52995 E">
                                      <p:cBhvr>
                                        <p:cTn id="322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Небо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верт"/>
          <p:cNvPicPr/>
          <p:nvPr/>
        </p:nvPicPr>
        <p:blipFill>
          <a:blip r:embed="rId2"/>
          <a:stretch/>
        </p:blipFill>
        <p:spPr>
          <a:xfrm>
            <a:off x="6875640" y="5035680"/>
            <a:ext cx="2268360" cy="1822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верт"/>
          <p:cNvPicPr/>
          <p:nvPr/>
        </p:nvPicPr>
        <p:blipFill>
          <a:blip r:embed="rId3"/>
          <a:stretch/>
        </p:blipFill>
        <p:spPr>
          <a:xfrm>
            <a:off x="3276720" y="4950000"/>
            <a:ext cx="2374920" cy="190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верт"/>
          <p:cNvPicPr/>
          <p:nvPr/>
        </p:nvPicPr>
        <p:blipFill>
          <a:blip r:embed="rId4"/>
          <a:stretch/>
        </p:blipFill>
        <p:spPr>
          <a:xfrm>
            <a:off x="0" y="4978440"/>
            <a:ext cx="2340000" cy="1879560"/>
          </a:xfrm>
          <a:prstGeom prst="rect">
            <a:avLst/>
          </a:prstGeom>
          <a:ln w="0">
            <a:noFill/>
          </a:ln>
        </p:spPr>
      </p:pic>
      <p:sp>
        <p:nvSpPr>
          <p:cNvPr id="155" name="WordArt 6"/>
          <p:cNvSpPr txBox="1"/>
          <p:nvPr/>
        </p:nvSpPr>
        <p:spPr>
          <a:xfrm>
            <a:off x="1258920" y="3284640"/>
            <a:ext cx="720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705f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705f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6804000" y="3284640"/>
            <a:ext cx="9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705f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705f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WordArt 9"/>
          <p:cNvSpPr txBox="1"/>
          <p:nvPr/>
        </p:nvSpPr>
        <p:spPr>
          <a:xfrm>
            <a:off x="2627280" y="3789360"/>
            <a:ext cx="7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705f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705f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10"/>
          <p:cNvSpPr txBox="1"/>
          <p:nvPr/>
        </p:nvSpPr>
        <p:spPr>
          <a:xfrm>
            <a:off x="5508720" y="3860640"/>
            <a:ext cx="863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705f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705f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WordArt 11"/>
          <p:cNvSpPr txBox="1"/>
          <p:nvPr/>
        </p:nvSpPr>
        <p:spPr>
          <a:xfrm>
            <a:off x="3995640" y="3284640"/>
            <a:ext cx="863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705f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705f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7 -0.01317 C -0.096 -0.00185 -0.09531 0.00948 -0.10763 -0.01317 C -0.12013 -0.0356 -0.17725 -0.10612 -0.1717 -0.14751 C -0.16614 -0.18913 -0.11649 -0.24323 -0.07343 -0.26219 C -0.0302 -0.28115 0.05018 -0.25711 0.0875 -0.26219 C 0.12466 -0.26751 0.13716 -0.27699 0.15 -0.29387 C 0.16268 -0.31075 0.1665 -0.34289 0.16389 -0.363 C 0.16129 -0.38312 0.14445 -0.4 0.13421 -0.41456 C 0.12396 -0.4289 0.11754 -0.43514 0.10296 -0.44994 C 0.08855 -0.46474 0.06632 -0.49456 0.04688 -0.50335 C 0.02744 -0.51213 0.01129 -0.5015 -0.01388 -0.50335 C -0.03923 -0.50497 -0.08836 -0.5052 -0.10468 -0.51329 C -0.12083 -0.52138 -0.11579 -0.52138 -0.11076 -0.55098 C -0.10555 -0.58057 -0.10208 -0.67052 -0.07343 -0.69133 C -0.04461 -0.7119 0.01372 -0.68115 0.06094 -0.67537 C 0.10834 -0.66982 0.17691 -0.64531 0.21077 -0.65757 C 0.24445 -0.66959 0.25678 -0.73364 0.26389 -0.74843 E">
                                      <p:cBhvr>
                                        <p:cTn id="354" dur="5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49133E-006 C -0.02118 -0.02752 -0.04236 -0.05481 -3.33333E-006 -0.07839 C 0.04237 -0.10197 0.21928 -0.11145 0.254 -0.14174 C 0.28872 -0.17203 0.21615 -0.22914 0.20799 -0.26012 C 0.19983 -0.29111 0.20226 -0.31307 0.20487 -0.32787 C 0.20747 -0.34267 0.21007 -0.34429 0.22379 -0.34891 C 0.2375 -0.35354 0.26754 -0.354 0.28733 -0.35515 C 0.30712 -0.35631 0.32622 -0.3429 0.34289 -0.35515 C 0.35955 -0.36741 0.38594 -0.38614 0.38733 -0.42914 C 0.38872 -0.47215 0.37049 -0.57828 0.35087 -0.61319 C 0.33125 -0.6481 0.29549 -0.62799 0.2698 -0.63862 C 0.2441 -0.64926 0.2132 -0.6703 0.19688 -0.67654 C 0.18056 -0.68278 0.18108 -0.67654 0.17153 -0.67654 C 0.16198 -0.67654 0.15053 -0.68186 0.13976 -0.67654 C 0.129 -0.67122 0.11198 -0.65712 0.10643 -0.64486 E">
                                      <p:cBhvr>
                                        <p:cTn id="357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5.20231E-007 C -0.03073 -0.02197 -0.06129 -0.0437 -0.07934 -0.07191 C -0.0974 -0.10035 -0.11476 -0.15399 -0.10799 -0.16902 C -0.10122 -0.18428 -0.06302 -0.16116 -0.0382 -0.16278 C -0.01337 -0.16463 0.02066 -0.17295 0.04132 -0.17966 C 0.06198 -0.18636 0.06545 -0.19029 0.08576 -0.20301 C 0.10607 -0.21573 0.15052 -0.24278 0.16354 -0.25573 C 0.17656 -0.26867 0.16458 -0.27353 0.16354 -0.28116 C 0.1625 -0.28879 0.16076 -0.29596 0.15711 -0.3022 C 0.15347 -0.30844 0.15503 -0.30729 0.14132 -0.31931 C 0.1276 -0.33133 0.09548 -0.36185 0.07465 -0.37411 C 0.05382 -0.38636 0.0401 -0.38636 0.0158 -0.3933 C -0.00851 -0.40023 -0.054 -0.40948 -0.07153 -0.41642 C -0.08907 -0.42336 -0.09045 -0.42844 -0.08889 -0.43538 C -0.08733 -0.44232 -0.07761 -0.45526 -0.06198 -0.45873 C -0.04636 -0.4622 -0.01754 -0.46012 0.00468 -0.45665 C 0.02691 -0.45318 0.05208 -0.43445 0.07135 -0.43769 C 0.09062 -0.44093 0.11059 -0.46128 0.12066 -0.47561 C 0.13073 -0.48995 0.12986 -0.50659 0.13177 -0.52417 C 0.13368 -0.54174 0.13177 -0.56902 0.13177 -0.58128 C 0.13177 -0.59353 0.13264 -0.5896 0.13177 -0.59815 C 0.1309 -0.60671 0.12951 -0.6259 0.12691 -0.63214 C 0.1243 -0.63838 0.1276 -0.63492 0.1158 -0.6363 C 0.10399 -0.63769 0.07274 -0.63792 0.05555 -0.64047 C 0.03836 -0.64301 0.02777 -0.64694 0.01267 -0.6511 C -0.00243 -0.65526 -0.00973 -0.66914 -0.0349 -0.6659 C -0.06007 -0.66266 -0.11615 -0.64162 -0.1382 -0.63214 C -0.16025 -0.62266 -0.15452 -0.61873 -0.16667 -0.60879 C -0.17882 -0.59885 -0.19896 -0.58289 -0.21111 -0.57295 C -0.22327 -0.56301 -0.2323 -0.55538 -0.23976 -0.5496 C -0.24723 -0.54382 -0.25313 -0.54104 -0.25556 -0.53896 E">
                                      <p:cBhvr>
                                        <p:cTn id="359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0:19:43Z</dcterms:created>
  <dc:creator>FuckYouBill</dc:creator>
  <dc:description/>
  <dc:language>en-US</dc:language>
  <cp:lastModifiedBy>Наталья</cp:lastModifiedBy>
  <dcterms:modified xsi:type="dcterms:W3CDTF">2013-01-30T16:39:16Z</dcterms:modified>
  <cp:revision>22</cp:revision>
  <dc:subject/>
  <dc:title>Слайд 1</dc:title>
</cp:coreProperties>
</file>