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2.jpeg" ContentType="image/jpeg"/>
  <Override PartName="/ppt/media/image7.jpeg" ContentType="image/jpeg"/>
  <Override PartName="/ppt/media/image6.png" ContentType="image/png"/>
  <Override PartName="/ppt/media/image5.jpeg" ContentType="image/jpeg"/>
  <Override PartName="/ppt/media/image19.jpeg" ContentType="image/jpeg"/>
  <Override PartName="/ppt/media/image1.jpeg" ContentType="image/jpeg"/>
  <Override PartName="/ppt/media/image10.png" ContentType="image/png"/>
  <Override PartName="/ppt/media/image18.jpeg" ContentType="image/jpeg"/>
  <Override PartName="/ppt/media/image17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8.jpeg" ContentType="image/jpe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696F2-6F71-4392-B073-068B40751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7D2AF-BEEC-4E47-9D49-E90F3B833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3C3F5-501A-45D6-9068-D3E8BC7B3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67F02-051B-4DC1-B2BB-5805D5B6D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0B1972-838D-4A6E-A8B0-63C08F64A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A8E058-4987-4CCB-A645-F317C0DE6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13FF7E-E5A2-4BA2-91FE-109D9D47A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0228FC-C9E2-46C2-BFA2-B78EED4B9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358F65-8868-401D-9A7B-8F126498E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EFE7EB-CFFE-4E68-BD12-B786D64C8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0CBFA0-182F-4902-BB8B-EA6E0C681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D9AA2-E313-4C9C-93D3-961DB8DB9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494EA8-841E-4D44-98BA-6DBB6E4DF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9F3438-3D02-4515-A7B4-13C8D114D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3FE66E-151F-455D-A943-81760312D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0809BA-8F6D-4364-B328-F8206B79E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6B98B8-C8DA-49DB-A472-6F6812AB2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79A12-5AA4-45A3-8C65-087FE65A1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AFD2A-DD6B-483B-A135-F907CDBC8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491DE-A671-43A8-A39B-3D888D0C7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2F96F-D9B9-4BBA-918F-45A1B6961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4F898-A51E-4610-A9EE-5B2AEB6A1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39BC4-9ED6-4151-B507-A218D3525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2D61B-E2BD-4768-82D6-886D092E4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90007-B380-4BA6-A1BB-7F295020617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5CE3E-8FA0-461D-8BA0-A03817638014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755280" y="4365360"/>
            <a:ext cx="7272360" cy="249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00ff"/>
                </a:solidFill>
                <a:latin typeface="Times New Roman"/>
              </a:rPr>
              <a:t>«Во всяком возрасте почитай родителей»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4" name="Picture 6" descr=""/>
          <p:cNvPicPr/>
          <p:nvPr/>
        </p:nvPicPr>
        <p:blipFill>
          <a:blip r:embed="rId1"/>
          <a:stretch/>
        </p:blipFill>
        <p:spPr>
          <a:xfrm>
            <a:off x="1357200" y="214200"/>
            <a:ext cx="6357960" cy="49294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4" descr="j0227802"/>
          <p:cNvPicPr/>
          <p:nvPr/>
        </p:nvPicPr>
        <p:blipFill>
          <a:blip r:embed="rId1"/>
          <a:stretch/>
        </p:blipFill>
        <p:spPr>
          <a:xfrm>
            <a:off x="2700360" y="2852640"/>
            <a:ext cx="3657600" cy="24447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" descr="j0309159"/>
          <p:cNvPicPr/>
          <p:nvPr/>
        </p:nvPicPr>
        <p:blipFill>
          <a:blip r:embed="rId2"/>
          <a:stretch/>
        </p:blipFill>
        <p:spPr>
          <a:xfrm>
            <a:off x="179280" y="189000"/>
            <a:ext cx="2868840" cy="42926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6" descr="j0430910"/>
          <p:cNvPicPr/>
          <p:nvPr/>
        </p:nvPicPr>
        <p:blipFill>
          <a:blip r:embed="rId3"/>
          <a:stretch/>
        </p:blipFill>
        <p:spPr>
          <a:xfrm>
            <a:off x="6012000" y="1700280"/>
            <a:ext cx="2911320" cy="43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3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3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3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3000"/>
                            </p:stCondLst>
                            <p:childTnLst>
                              <p:par>
                                <p:cTn id="6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3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3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3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3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6000"/>
                            </p:stCondLst>
                            <p:childTnLst>
                              <p:par>
                                <p:cTn id="7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3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3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7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Times New Roman"/>
              </a:rPr>
              <a:t>Качества счастливой семь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07" name="Diagram 6"/>
          <p:cNvGrpSpPr/>
          <p:nvPr/>
        </p:nvGrpSpPr>
        <p:grpSpPr>
          <a:xfrm>
            <a:off x="2411280" y="1202760"/>
            <a:ext cx="5903280" cy="5529960"/>
            <a:chOff x="2411280" y="1202760"/>
            <a:chExt cx="5903280" cy="5529960"/>
          </a:xfrm>
        </p:grpSpPr>
        <p:sp>
          <p:nvSpPr>
            <p:cNvPr id="108" name="_s1028"/>
            <p:cNvSpPr/>
            <p:nvPr/>
          </p:nvSpPr>
          <p:spPr>
            <a:xfrm flipH="1" flipV="1">
              <a:off x="4185360" y="3179520"/>
              <a:ext cx="587880" cy="4464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" name="_s1029"/>
            <p:cNvSpPr/>
            <p:nvPr/>
          </p:nvSpPr>
          <p:spPr>
            <a:xfrm>
              <a:off x="2847600" y="2011680"/>
              <a:ext cx="1504800" cy="14364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Times New Roman"/>
                </a:rPr>
                <a:t>Долг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Times New Roman"/>
                </a:rPr>
                <a:t>перед 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Times New Roman"/>
                </a:rPr>
                <a:t>близкими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_s1030"/>
            <p:cNvSpPr/>
            <p:nvPr/>
          </p:nvSpPr>
          <p:spPr>
            <a:xfrm flipH="1">
              <a:off x="3897000" y="4234680"/>
              <a:ext cx="732240" cy="1591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1" name="_s1031"/>
            <p:cNvSpPr/>
            <p:nvPr/>
          </p:nvSpPr>
          <p:spPr>
            <a:xfrm>
              <a:off x="2411280" y="3834720"/>
              <a:ext cx="1504800" cy="1436040"/>
            </a:xfrm>
            <a:prstGeom prst="ellipse">
              <a:avLst/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00"/>
                  </a:solidFill>
                  <a:latin typeface="Times New Roman"/>
                </a:rPr>
                <a:t>Взаимо-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00"/>
                  </a:solidFill>
                  <a:latin typeface="Times New Roman"/>
                </a:rPr>
                <a:t>понимание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2" name="_s1032"/>
            <p:cNvSpPr/>
            <p:nvPr/>
          </p:nvSpPr>
          <p:spPr>
            <a:xfrm flipH="1">
              <a:off x="4710600" y="4721040"/>
              <a:ext cx="327600" cy="6454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3" name="_s1033"/>
            <p:cNvSpPr/>
            <p:nvPr/>
          </p:nvSpPr>
          <p:spPr>
            <a:xfrm>
              <a:off x="3631680" y="5296680"/>
              <a:ext cx="1504800" cy="143604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Times New Roman"/>
                </a:rPr>
                <a:t>Верность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4" name="_s1034"/>
            <p:cNvSpPr/>
            <p:nvPr/>
          </p:nvSpPr>
          <p:spPr>
            <a:xfrm>
              <a:off x="5690160" y="4718520"/>
              <a:ext cx="324000" cy="6480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5" name="_s1035"/>
            <p:cNvSpPr/>
            <p:nvPr/>
          </p:nvSpPr>
          <p:spPr>
            <a:xfrm>
              <a:off x="5590080" y="5296680"/>
              <a:ext cx="1504080" cy="1436040"/>
            </a:xfrm>
            <a:prstGeom prst="ellipse">
              <a:avLst/>
            </a:prstGeom>
            <a:solidFill>
              <a:srgbClr val="80008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Times New Roman"/>
                </a:rPr>
                <a:t>Дружба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6" name="_s1036"/>
            <p:cNvSpPr/>
            <p:nvPr/>
          </p:nvSpPr>
          <p:spPr>
            <a:xfrm>
              <a:off x="6094800" y="4232160"/>
              <a:ext cx="732960" cy="1616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7" name="_s1037"/>
            <p:cNvSpPr/>
            <p:nvPr/>
          </p:nvSpPr>
          <p:spPr>
            <a:xfrm>
              <a:off x="6810480" y="3834720"/>
              <a:ext cx="1504080" cy="1436040"/>
            </a:xfrm>
            <a:prstGeom prst="ellipse">
              <a:avLst/>
            </a:prstGeom>
            <a:solidFill>
              <a:srgbClr val="66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ahoma"/>
                </a:rPr>
                <a:t>Терпение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8" name="_s1038"/>
            <p:cNvSpPr/>
            <p:nvPr/>
          </p:nvSpPr>
          <p:spPr>
            <a:xfrm flipV="1">
              <a:off x="5950440" y="3179520"/>
              <a:ext cx="587880" cy="4464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9" name="_s1039"/>
            <p:cNvSpPr/>
            <p:nvPr/>
          </p:nvSpPr>
          <p:spPr>
            <a:xfrm>
              <a:off x="6374520" y="2011680"/>
              <a:ext cx="1504080" cy="143640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ahoma"/>
                </a:rPr>
                <a:t>Уважение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0" name="_s1040"/>
            <p:cNvSpPr/>
            <p:nvPr/>
          </p:nvSpPr>
          <p:spPr>
            <a:xfrm flipV="1">
              <a:off x="5362200" y="2638440"/>
              <a:ext cx="0" cy="7182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1" name="_s1041"/>
            <p:cNvSpPr/>
            <p:nvPr/>
          </p:nvSpPr>
          <p:spPr>
            <a:xfrm>
              <a:off x="4609800" y="1202760"/>
              <a:ext cx="1504080" cy="1436040"/>
            </a:xfrm>
            <a:prstGeom prst="ellipse">
              <a:avLst/>
            </a:prstGeom>
            <a:solidFill>
              <a:srgbClr val="ff00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Times New Roman"/>
                </a:rPr>
                <a:t>Любовь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2" name="_s1042"/>
            <p:cNvSpPr/>
            <p:nvPr/>
          </p:nvSpPr>
          <p:spPr>
            <a:xfrm>
              <a:off x="4609800" y="3357000"/>
              <a:ext cx="1504080" cy="14364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66"/>
                  </a:solidFill>
                  <a:latin typeface="Times New Roman"/>
                </a:rPr>
                <a:t>Семья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p:transition>
    <p:cover dir="d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2100"/>
                            </p:stCondLst>
                            <p:childTnLst>
                              <p:par>
                                <p:cTn id="8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800000"/>
                </a:solidFill>
                <a:latin typeface="Times New Roman"/>
              </a:rPr>
              <a:t>Допишите  определение счастливой семьи: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ebe600"/>
                </a:solidFill>
                <a:latin typeface="Times New Roman"/>
              </a:rPr>
              <a:t>Семья будет счастливой если…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5" name="Picture 6" descr="j0202050"/>
          <p:cNvPicPr/>
          <p:nvPr/>
        </p:nvPicPr>
        <p:blipFill>
          <a:blip r:embed="rId1"/>
          <a:stretch/>
        </p:blipFill>
        <p:spPr>
          <a:xfrm>
            <a:off x="4572000" y="2924280"/>
            <a:ext cx="246204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2700"/>
                            </p:stCondLst>
                            <p:childTnLst>
                              <p:par>
                                <p:cTn id="104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06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9200"/>
                            </p:stCondLst>
                            <p:childTnLst>
                              <p:par>
                                <p:cTn id="11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4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24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4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4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8" name="Песня про маму - песня посвещается моей мамочке (mp3ostrov.com).mp3" descr=""/>
          <p:cNvPicPr/>
          <p:nvPr/>
        </p:nvPicPr>
        <p:blipFill>
          <a:blip r:embed="rId2"/>
          <a:stretch/>
        </p:blipFill>
        <p:spPr>
          <a:xfrm>
            <a:off x="7948440" y="5929200"/>
            <a:ext cx="119556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5" dur="162005" fill="hold"/>
                                        <p:tgtEl>
                                          <p:spTgt spid="12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0" name="Picture 2" descr="I:\Рисунки и фото\61519225_1279097445_47445313_Podkova_na_schaste.jpg"/>
          <p:cNvPicPr/>
          <p:nvPr/>
        </p:nvPicPr>
        <p:blipFill>
          <a:blip r:embed="rId1"/>
          <a:stretch/>
        </p:blipFill>
        <p:spPr>
          <a:xfrm>
            <a:off x="755640" y="189000"/>
            <a:ext cx="7416720" cy="691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2" name="Picture 2" descr="I:\Рисунки и фото\12668176516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26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Picture 2" descr="I:\Рисунки и фото\1228717424_flower_p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17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659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66"/>
                </a:solidFill>
                <a:latin typeface="Times New Roman"/>
              </a:rPr>
              <a:t>Семья – это группа живущих      вместе родственников.</a:t>
            </a:r>
            <a:br>
              <a:rPr sz="4800"/>
            </a:br>
            <a:r>
              <a:rPr b="1" lang="ru-RU" sz="2400" spc="-1" strike="noStrike">
                <a:solidFill>
                  <a:srgbClr val="ff0066"/>
                </a:solidFill>
                <a:latin typeface="Times New Roman"/>
              </a:rPr>
              <a:t>                        (словарь русского языка С.И.Ожегов)    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1" lang="ru-RU" sz="48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4800" spc="-1" strike="noStrike">
                <a:solidFill>
                  <a:srgbClr val="003300"/>
                </a:solidFill>
                <a:latin typeface="Times New Roman"/>
              </a:rPr>
              <a:t>Семья – это родители и дети.</a:t>
            </a:r>
            <a:br>
              <a:rPr sz="4800"/>
            </a:br>
            <a:r>
              <a:rPr b="1" lang="ru-RU" sz="2400" spc="-1" strike="noStrike">
                <a:solidFill>
                  <a:srgbClr val="003300"/>
                </a:solidFill>
                <a:latin typeface="Times New Roman"/>
              </a:rPr>
              <a:t>(современная действительность)</a:t>
            </a:r>
            <a:r>
              <a:rPr b="1" lang="ru-RU" sz="2400" spc="-1" strike="noStrike">
                <a:solidFill>
                  <a:srgbClr val="ff0066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6" name="Picture 5" descr="j0386389"/>
          <p:cNvPicPr/>
          <p:nvPr/>
        </p:nvPicPr>
        <p:blipFill>
          <a:blip r:embed="rId1"/>
          <a:stretch/>
        </p:blipFill>
        <p:spPr>
          <a:xfrm>
            <a:off x="1979640" y="2421000"/>
            <a:ext cx="4537080" cy="30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4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4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4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4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>
                                          <p:stCondLst>
                                            <p:cond delay="40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>
                                          <p:stCondLst>
                                            <p:cond delay="40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0"/>
                            </p:stCondLst>
                            <p:childTnLst>
                              <p:par>
                                <p:cTn id="2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3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3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3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3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596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9" name="Picture 5" descr="I:\Рисунки и фото\89470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0" name="Мама-первое слово.mp3" descr=""/>
          <p:cNvPicPr/>
          <p:nvPr/>
        </p:nvPicPr>
        <p:blipFill>
          <a:blip r:embed="rId2"/>
          <a:stretch/>
        </p:blipFill>
        <p:spPr>
          <a:xfrm>
            <a:off x="8286840" y="5857920"/>
            <a:ext cx="785880" cy="71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" dur="194560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Народная мудрость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-360" y="1905120"/>
            <a:ext cx="8929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Tahoma"/>
              </a:rPr>
              <a:t>·       Нет лучше друга, чем родная матушка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Tahoma"/>
              </a:rPr>
              <a:t>·        Материнский гнев, что весенний снег: много выпадет, да скоро тает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13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«Кто свою мать уважает, тот и чужую не обижает»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4" name="Picture 2" descr="I:\Рисунки и фото\19443918.670064.jpeg"/>
          <p:cNvPicPr/>
          <p:nvPr/>
        </p:nvPicPr>
        <p:blipFill>
          <a:blip r:embed="rId1"/>
          <a:stretch/>
        </p:blipFill>
        <p:spPr>
          <a:xfrm>
            <a:off x="1258920" y="1785960"/>
            <a:ext cx="674208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Picture 2" descr="I:\Рисунки и фото\moya-family.thumbnail.jpg"/>
          <p:cNvPicPr/>
          <p:nvPr/>
        </p:nvPicPr>
        <p:blipFill>
          <a:blip r:embed="rId1"/>
          <a:stretch/>
        </p:blipFill>
        <p:spPr>
          <a:xfrm>
            <a:off x="0" y="0"/>
            <a:ext cx="4427640" cy="41497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3" descr="I:\Рисунки и фото\70613ac0425b.jpg"/>
          <p:cNvPicPr/>
          <p:nvPr/>
        </p:nvPicPr>
        <p:blipFill>
          <a:blip r:embed="rId2"/>
          <a:stretch/>
        </p:blipFill>
        <p:spPr>
          <a:xfrm>
            <a:off x="4029120" y="2276640"/>
            <a:ext cx="5114880" cy="48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Picture 2" descr=""/>
          <p:cNvPicPr/>
          <p:nvPr/>
        </p:nvPicPr>
        <p:blipFill>
          <a:blip r:embed="rId1"/>
          <a:stretch/>
        </p:blipFill>
        <p:spPr>
          <a:xfrm>
            <a:off x="642960" y="428760"/>
            <a:ext cx="8072280" cy="64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6560" y="291960"/>
            <a:ext cx="7859880" cy="608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r>
              <a:rPr b="1" i="1" lang="ru-RU" sz="5400" spc="-1" strike="noStrike">
                <a:solidFill>
                  <a:srgbClr val="00ffff"/>
                </a:solidFill>
                <a:latin typeface="Times New Roman"/>
              </a:rPr>
              <a:t>При солнышке тепло, при матери добро.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0" y="6857640"/>
            <a:ext cx="133200" cy="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6280" bIns="26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Picture 4" descr="j0427854"/>
          <p:cNvPicPr/>
          <p:nvPr/>
        </p:nvPicPr>
        <p:blipFill>
          <a:blip r:embed="rId1"/>
          <a:stretch/>
        </p:blipFill>
        <p:spPr>
          <a:xfrm>
            <a:off x="587520" y="260280"/>
            <a:ext cx="6289560" cy="42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4" dur="25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5" dur="250" fill="hold">
                                          <p:stCondLst>
                                            <p:cond delay="75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4600"/>
                            </p:stCondLst>
                            <p:childTnLst>
                              <p:par>
                                <p:cTn id="4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3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3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3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3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6T11:34:10Z</dcterms:created>
  <dc:creator>1</dc:creator>
  <dc:description/>
  <dc:language>en-US</dc:language>
  <cp:lastModifiedBy>User</cp:lastModifiedBy>
  <dcterms:modified xsi:type="dcterms:W3CDTF">2013-02-13T14:33:22Z</dcterms:modified>
  <cp:revision>102</cp:revision>
  <dc:subject/>
  <dc:title>Слайд 1</dc:title>
</cp:coreProperties>
</file>