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2077-19B4-41A5-B538-B0B448ED82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651-A355-4F2D-AC9D-0979BD074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867-6D9E-4F30-8A02-2603846A9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7BDB-DE9A-41CA-9E69-F2498CAA1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1F12-2244-448F-B686-4594BADC9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5A0-5485-46F6-A63C-4C81656C8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847-2E65-4477-808E-7977DDE05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CE86-E38A-4E2E-BF00-26683092E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2F42-D687-488B-B5E6-705E1C101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133-991B-4338-AC90-00444F18B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07CB-5725-4729-8B52-7078CC802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8622-A4F1-4852-9F8B-23DDBA4D6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501E-9A29-4D49-8625-46096FE94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AEFD-B5B4-4C7A-8BEC-6CF7D0CE9F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1D0-229E-461F-B9A9-8D75AEF82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6F75-F2B0-4881-9E3C-955050EBC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35EB-0391-400B-AE76-9FEDF8446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F896-2186-46B9-B23E-353F95E80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26BD-BC21-4A8C-AE8A-F8B6A6F85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6FB-2BB1-4BCC-B117-8F32FE0A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047-777C-4E9F-893D-F727CDA0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5E095-0E80-4A47-B081-CA7CF9B7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AA171-DAA5-4475-83F8-FD1CA8E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F211-D3FF-4AFE-A040-B07BF69A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8C2F3-06CA-4FC0-A188-BC9CE67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5084D-DAB4-498A-B74B-4AE44E16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61009-2A95-4612-A6B4-336BD74F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EF20C-6048-491E-AADF-90040F27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7DA1A-B255-4E65-8502-D5C91B49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E6DF-080F-4AD5-923F-586A87CE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C6AA1-6DE4-457C-A16D-C2B16E71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F21-9808-484B-9314-66836A4A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6333A-0B08-4AA6-A34A-D87BD514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A5F79-7A62-4A5A-9B2B-C9209091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DDF7B-9431-4FE2-8FB5-4EEA9A6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6501C-641B-471D-94D0-89048FF8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EA7B4-0B54-402C-AB6E-73FDA337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A9DD2-09CF-4F33-AD4F-D971490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5066B-4626-4E29-803F-1F538ED1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B057E-5261-4552-AE48-DEFF00C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E6FA6-C258-47E4-B5E5-1D66F125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CFF48-B5C6-4B10-94A3-F5467569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17B-DA4F-454A-A41C-61617DC2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D8563-8F10-4CBC-95D3-9AF25085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F1AEA-DDA5-4285-B127-0803E8B2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A2D85-BF14-441D-BFD2-5AEAA4C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2867C-6E62-436F-80EE-A0EF1C3A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87163-A842-4AE8-B415-4B87EFA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7DF6C-6BE5-4DC9-854D-699AC3E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A903E-3F9D-4851-B8E9-6C5E04C4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47CF3-6503-427D-97EC-A139D08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E105B-1975-4747-AABA-1BD149E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C8631-550E-420A-94EB-DE3C0C31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4B43-40B4-45A7-A214-C1EE514C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CCFA5-705D-40FB-923D-797D482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63EE5-4359-4CB6-8A63-8EE91356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7B79B-800C-4820-A4B7-790BBC08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205CA-BF41-4A44-9F7E-7ED052C0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2B394-4DC5-4A9C-B14D-49AEBAE5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9B895-E0F9-4EA7-8A30-C61622B4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17171-3F68-4A22-BEFC-4BA86834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4E25E-D6AA-46ED-96E2-6C1AD003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084FA-357E-4320-A066-DD2D6C75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6012B-98AB-456E-977A-146D735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6807-F1CA-4991-A9D0-0C862551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897B5-4B11-4BCB-BEED-B0218A4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6C4C0-2832-40B6-A30C-CFCF992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630D0-AA06-4987-9C9A-3B8E6C00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27F99-591F-4038-9C85-4424DCBA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46703-26BB-4B6A-837F-6B69F41D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69FE-73A6-4430-AA7D-37B81749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2BB0-F581-427F-9099-E7AD585F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CAA9-6D5C-446D-9B0E-6226787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6F0B-E7C2-4B1C-876F-97CD09C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7005-8C2F-495D-9E5C-A1D0345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683-18F9-4E0D-B3C7-B41C7CC6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C28F-73AB-4F1F-B57C-1CA2645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A3A8-781B-4887-83F2-CE843AB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E825-1280-48A9-9A17-0572BA19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5378-661C-4A4D-B53D-20E1A7B7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29A8-F3C5-4667-B24C-8C9FF287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8EFE-74F0-42EB-A5C7-9BDC92D2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6821-0574-45F1-B4DD-91952E08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14D2-B012-4684-AE2C-497F9F5C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EAF1-55AE-482A-AF53-B9ADE66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6433-8769-4443-94D6-CBBDEFA8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88F-BD5B-489E-B20C-56FBC30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3520-C3CB-4F9A-8B82-B629017C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97B7-084E-4ADA-8157-3EB62A7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2131-FC74-406F-99D2-0324D0D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E0A9-8E2E-4B8A-997D-301F788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191E-7E96-4DED-82D7-335478D9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FA22-99DC-4B05-A8F0-87978A63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1E44-A55F-4509-9824-147138FC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C807-2EB8-43EC-B26A-8128DBD9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C1EC-CA5D-4759-ABA8-B676934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743D-82B9-4C5B-9EE9-080605B6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B81-05C0-4827-BE94-83C0D90F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6C64-C04D-4866-9A92-AF37EAEB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9C58-FCB9-4AB6-A211-BF9F59F5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C7E9-9329-4F82-99B9-5EF75EE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5B77-588F-445B-BB08-543A4AD7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C86C-2466-4935-AD01-8CD03B0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DCDA-7CB9-413B-B0B0-DB547D64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13F8-69DD-40C6-A49F-1F0CDCFB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01D7-538D-4B40-AFCF-49D687B3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DD7B-1E61-44A3-923B-756DBBC4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6DED-1A30-470B-B931-0F405735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E60-A41A-4C15-90FA-3B375F31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BA7F-8F0D-4514-8B6D-AE70393C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5928-A3AB-45F5-BDCC-26F7DB00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651C9-7540-4538-82BC-DA1389F4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5E45-4519-4CB6-BD1D-20ADF44A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5CBAA-2C40-4C16-9D09-3E35716A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23D11-845B-4192-A91F-11B55529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A4CE-2305-4116-B7A5-50ACDB6F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58E3-2C74-405F-8AF8-6EE5FAC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79EE3-F3A8-4A90-A967-3A17E19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5A1B7-507F-42C3-9AE7-48A7826B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EC2-E980-4D57-A944-DA261E03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DE3D-D1C2-4294-BA8A-3BC24728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ACFB7-F1B6-4B43-BA1E-21836CBB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377B-2C15-42D5-BD78-EE7EA838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5A18-5170-413B-B53F-18E33A20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7FC22-630D-49AA-BF34-AB563EA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4772E-E1E3-4878-8977-A2228427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D02AE-D046-4AAB-90E2-8EE7442F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3D71-93E4-4230-82FB-9644B5B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1E20-D96C-41A1-9D59-997CA6C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1886-3CC0-40D1-BAEC-5FF0D498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968-FCA9-4621-8839-EB146CA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FCEF-01B3-430A-84F2-CF55F48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6283-3564-46F5-9903-BA8EADA9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8B47-B7CE-4E76-AD05-FC60587E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B04F-E2C4-424F-90C7-3966ACB2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A66C-BD66-4B22-823D-A9C6C2F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D921C-7D69-4E2B-900D-F381ABB6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5BC9A-481B-48D5-B6B4-3E002F5F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60B9D-1D87-44D8-98F1-C22EB6D2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65690-836D-48F3-BB16-7937ED3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1C30-D3BB-4EDC-B60A-41E6A1D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9A6-6422-4020-8752-FCEBD03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1242D-FB8A-4430-BB24-590C3F60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221E-17B7-4F8D-B072-735A88A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6355F-36AB-4A24-9AA0-34EF7E23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FB55E-8A70-47DA-99EE-CED61371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D1500-E2E2-4B74-82E1-74840CCE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E64D-52DC-4B80-937E-A66A8E85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DEBB4-7B46-4601-8F19-8AB81AB0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47C43-2445-481F-8A59-20D08647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9C484-E5C4-4F29-8FD2-5CBE3AE2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493AD-92D9-4ACE-91B7-379A100B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BB9-E2F9-43C7-A463-6F9502C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C4598-2C84-4233-B6C0-25E01A94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9B669-3A4E-45BE-9EEC-8AAF984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286A7-1084-4E17-82D4-D2816556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D90DF-BD03-4D71-A44D-2960B3E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92731-E009-4542-87B4-5AA4366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E1E6D-D8C7-4753-8B74-D2EE7B04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E3452-E354-49B1-BE23-9E53503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C9CBF-9E35-4F7B-A207-3FEE1264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CEF52-4266-44AF-B9DD-F997889C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0C1F7-AD8C-4F1F-8D9B-02A5BC76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9A20-0D71-4EB9-AB18-2736FBA7267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BFF-D9F7-44E4-AD6A-079FA1495A4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53E0-E56F-408C-B150-079FB680F56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182B-EF2F-4570-BC89-F589E7C58AF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49A1-2914-4937-AC8F-CDE66A8A63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3A4B-7EEC-4556-B6CA-49644B48381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8FE-723B-440F-A381-DA46B593483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CBD8-CE16-49C6-A2A4-35EAF162EB1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A54E-49BA-47F2-ABCC-6E0B67E1092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8071-744A-47F5-8ED8-606A1B93F4F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999-D76A-4E8F-A2B2-D8437BEC1B1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6979-8102-4157-B074-36CEC876422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6"/>
          <p:cNvSpPr txBox="1"/>
          <p:nvPr/>
        </p:nvSpPr>
        <p:spPr>
          <a:xfrm>
            <a:off x="1187280" y="765000"/>
            <a:ext cx="7272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сударственный  архив </a:t>
            </a:r>
            <a:endParaRPr b="1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товской области - </a:t>
            </a:r>
            <a:endParaRPr b="1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0" name="WordArt 9"/>
          <p:cNvSpPr txBox="1"/>
          <p:nvPr/>
        </p:nvSpPr>
        <p:spPr>
          <a:xfrm>
            <a:off x="1403280" y="3933720"/>
            <a:ext cx="518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чаливая история</a:t>
            </a:r>
            <a:endParaRPr b="0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нского края</a:t>
            </a:r>
            <a:endParaRPr b="0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708360" y="2492280"/>
            <a:ext cx="48974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IMG_5337"/>
          <p:cNvPicPr/>
          <p:nvPr/>
        </p:nvPicPr>
        <p:blipFill>
          <a:blip r:embed="rId1"/>
          <a:stretch/>
        </p:blipFill>
        <p:spPr>
          <a:xfrm>
            <a:off x="4427640" y="765000"/>
            <a:ext cx="4155840" cy="55422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87280" y="2923920"/>
            <a:ext cx="31687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анятся дела дореволюционного времени, метрические книг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WordArt 9"/>
          <p:cNvSpPr txBox="1"/>
          <p:nvPr/>
        </p:nvSpPr>
        <p:spPr>
          <a:xfrm>
            <a:off x="1116000" y="2205000"/>
            <a:ext cx="3240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ранилище №3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3851280" y="3068640"/>
            <a:ext cx="482436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042560" y="4797360"/>
            <a:ext cx="2932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ёрнутые в бумагу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43280" y="4869000"/>
            <a:ext cx="33832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ртонных коробка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8" name="Picture 5" descr="Копия (2) IMG_5337 1"/>
          <p:cNvPicPr/>
          <p:nvPr/>
        </p:nvPicPr>
        <p:blipFill>
          <a:blip r:embed="rId1"/>
          <a:stretch/>
        </p:blipFill>
        <p:spPr>
          <a:xfrm>
            <a:off x="6372360" y="2133720"/>
            <a:ext cx="2253960" cy="25923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539" name="Picture 6" descr="Копия (3) IMG_5337 1"/>
          <p:cNvPicPr/>
          <p:nvPr/>
        </p:nvPicPr>
        <p:blipFill>
          <a:blip r:embed="rId2"/>
          <a:stretch/>
        </p:blipFill>
        <p:spPr>
          <a:xfrm>
            <a:off x="3780000" y="1700280"/>
            <a:ext cx="2466720" cy="30225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540" name="Picture 7" descr="Копия IMG_5337 1"/>
          <p:cNvPicPr/>
          <p:nvPr/>
        </p:nvPicPr>
        <p:blipFill>
          <a:blip r:embed="rId3"/>
          <a:stretch/>
        </p:blipFill>
        <p:spPr>
          <a:xfrm>
            <a:off x="1187280" y="2349360"/>
            <a:ext cx="2448000" cy="23749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41" name="WordArt 10"/>
          <p:cNvSpPr txBox="1"/>
          <p:nvPr/>
        </p:nvSpPr>
        <p:spPr>
          <a:xfrm>
            <a:off x="1476360" y="765000"/>
            <a:ext cx="662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к хранятся документы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4859280" y="3429000"/>
            <a:ext cx="3745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библиотека 1"/>
          <p:cNvPicPr/>
          <p:nvPr/>
        </p:nvPicPr>
        <p:blipFill>
          <a:blip r:embed="rId1"/>
          <a:stretch/>
        </p:blipFill>
        <p:spPr>
          <a:xfrm>
            <a:off x="1476360" y="1413000"/>
            <a:ext cx="6767640" cy="48276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44" name="WordArt 6"/>
          <p:cNvSpPr txBox="1"/>
          <p:nvPr/>
        </p:nvSpPr>
        <p:spPr>
          <a:xfrm>
            <a:off x="1187280" y="692280"/>
            <a:ext cx="741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но-справочная библиотека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2987640" y="2421000"/>
            <a:ext cx="5616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читальный зал"/>
          <p:cNvPicPr/>
          <p:nvPr/>
        </p:nvPicPr>
        <p:blipFill>
          <a:blip r:embed="rId1"/>
          <a:stretch/>
        </p:blipFill>
        <p:spPr>
          <a:xfrm>
            <a:off x="1116000" y="1268280"/>
            <a:ext cx="7486560" cy="49374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47" name="WordArt 6"/>
          <p:cNvSpPr txBox="1"/>
          <p:nvPr/>
        </p:nvSpPr>
        <p:spPr>
          <a:xfrm>
            <a:off x="2050920" y="692280"/>
            <a:ext cx="496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льный зал ГАРО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5003640" y="3357720"/>
            <a:ext cx="360072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библиотека 2"/>
          <p:cNvPicPr/>
          <p:nvPr/>
        </p:nvPicPr>
        <p:blipFill>
          <a:blip r:embed="rId1"/>
          <a:stretch/>
        </p:blipFill>
        <p:spPr>
          <a:xfrm>
            <a:off x="1476360" y="1557360"/>
            <a:ext cx="6553080" cy="4392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50" name="WordArt 7"/>
          <p:cNvSpPr txBox="1"/>
          <p:nvPr/>
        </p:nvSpPr>
        <p:spPr>
          <a:xfrm>
            <a:off x="1835280" y="692280"/>
            <a:ext cx="59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аборатория обеспечения 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ности документов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1"/>
          <p:cNvSpPr/>
          <p:nvPr/>
        </p:nvSpPr>
        <p:spPr>
          <a:xfrm>
            <a:off x="4500720" y="3429000"/>
            <a:ext cx="417672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IMG_5207"/>
          <p:cNvPicPr/>
          <p:nvPr/>
        </p:nvPicPr>
        <p:blipFill>
          <a:blip r:embed="rId1"/>
          <a:stretch/>
        </p:blipFill>
        <p:spPr>
          <a:xfrm>
            <a:off x="1116000" y="692280"/>
            <a:ext cx="3743280" cy="357984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763640" y="4653000"/>
            <a:ext cx="38894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трическая книг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ло Крепка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рковь Покровска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ло Бобриково,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рковь Успенская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856г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6720" y="765000"/>
            <a:ext cx="3456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етрические книги - бесценная информация для составления родословных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5" name="Picture 10" descr="IMG_5209"/>
          <p:cNvPicPr/>
          <p:nvPr/>
        </p:nvPicPr>
        <p:blipFill>
          <a:blip r:embed="rId2"/>
          <a:stretch/>
        </p:blipFill>
        <p:spPr>
          <a:xfrm>
            <a:off x="5364000" y="1700280"/>
            <a:ext cx="3224520" cy="446544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p:transition spd="med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3780000" y="1989000"/>
            <a:ext cx="482436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5" descr="IMG_5664"/>
          <p:cNvPicPr/>
          <p:nvPr/>
        </p:nvPicPr>
        <p:blipFill>
          <a:blip r:embed="rId1"/>
          <a:stretch/>
        </p:blipFill>
        <p:spPr>
          <a:xfrm>
            <a:off x="1187280" y="1125360"/>
            <a:ext cx="3862440" cy="51501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558" name="Picture 6" descr="IMG_5668"/>
          <p:cNvPicPr/>
          <p:nvPr/>
        </p:nvPicPr>
        <p:blipFill>
          <a:blip r:embed="rId2"/>
          <a:stretch/>
        </p:blipFill>
        <p:spPr>
          <a:xfrm>
            <a:off x="5435640" y="907920"/>
            <a:ext cx="2808360" cy="2583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IMG_5674"/>
          <p:cNvPicPr/>
          <p:nvPr/>
        </p:nvPicPr>
        <p:blipFill>
          <a:blip r:embed="rId3"/>
          <a:stretch/>
        </p:blipFill>
        <p:spPr>
          <a:xfrm>
            <a:off x="5364000" y="3425760"/>
            <a:ext cx="2592720" cy="2811600"/>
          </a:xfrm>
          <a:prstGeom prst="rect">
            <a:avLst/>
          </a:prstGeom>
          <a:ln w="0">
            <a:noFill/>
          </a:ln>
        </p:spPr>
      </p:pic>
      <p:sp>
        <p:nvSpPr>
          <p:cNvPr id="560" name="WordArt 8"/>
          <p:cNvSpPr txBox="1"/>
          <p:nvPr/>
        </p:nvSpPr>
        <p:spPr>
          <a:xfrm>
            <a:off x="2268360" y="620640"/>
            <a:ext cx="46818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ргучные печати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3780000" y="1989000"/>
            <a:ext cx="482436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IMG_5661"/>
          <p:cNvPicPr/>
          <p:nvPr/>
        </p:nvPicPr>
        <p:blipFill>
          <a:blip r:embed="rId1"/>
          <a:stretch/>
        </p:blipFill>
        <p:spPr>
          <a:xfrm>
            <a:off x="1116000" y="1125360"/>
            <a:ext cx="3835440" cy="511344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563" name="Picture 6" descr="IMG_5662"/>
          <p:cNvPicPr/>
          <p:nvPr/>
        </p:nvPicPr>
        <p:blipFill>
          <a:blip r:embed="rId2"/>
          <a:stretch/>
        </p:blipFill>
        <p:spPr>
          <a:xfrm>
            <a:off x="5148360" y="2421000"/>
            <a:ext cx="3384360" cy="25398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64" name="WordArt 7"/>
          <p:cNvSpPr txBox="1"/>
          <p:nvPr/>
        </p:nvSpPr>
        <p:spPr>
          <a:xfrm>
            <a:off x="2556000" y="620640"/>
            <a:ext cx="4681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кументы 1777г.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2"/>
          <p:cNvSpPr txBox="1"/>
          <p:nvPr/>
        </p:nvSpPr>
        <p:spPr>
          <a:xfrm>
            <a:off x="1187280" y="765000"/>
            <a:ext cx="7272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сударственный  архив </a:t>
            </a:r>
            <a:endParaRPr b="1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товской области - </a:t>
            </a:r>
            <a:endParaRPr b="1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6" name="WordArt 3"/>
          <p:cNvSpPr txBox="1"/>
          <p:nvPr/>
        </p:nvSpPr>
        <p:spPr>
          <a:xfrm>
            <a:off x="1403280" y="3933720"/>
            <a:ext cx="518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чаливая история</a:t>
            </a:r>
            <a:endParaRPr b="0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нского края</a:t>
            </a:r>
            <a:endParaRPr b="0" i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33"/>
                </a:solidFill>
                <a:uFillTx/>
                <a:latin typeface="Century Gothic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18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одведение итогов исследовательской работы по изучению истории архива Ростовской              области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780000" y="2852640"/>
            <a:ext cx="482436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2119320" y="36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IMG_5213"/>
          <p:cNvPicPr/>
          <p:nvPr/>
        </p:nvPicPr>
        <p:blipFill>
          <a:blip r:embed="rId1"/>
          <a:stretch/>
        </p:blipFill>
        <p:spPr>
          <a:xfrm>
            <a:off x="5508720" y="3213000"/>
            <a:ext cx="3027240" cy="2880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506" name="Picture 7" descr="IMG_5210"/>
          <p:cNvPicPr/>
          <p:nvPr/>
        </p:nvPicPr>
        <p:blipFill>
          <a:blip r:embed="rId2"/>
          <a:stretch/>
        </p:blipFill>
        <p:spPr>
          <a:xfrm>
            <a:off x="1258920" y="1844640"/>
            <a:ext cx="4103640" cy="28051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07" name="WordArt 8"/>
          <p:cNvSpPr txBox="1"/>
          <p:nvPr/>
        </p:nvSpPr>
        <p:spPr>
          <a:xfrm rot="340200">
            <a:off x="5363640" y="1484280"/>
            <a:ext cx="308772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996633"/>
                    </a:gs>
                  </a:gsLst>
                  <a:lin ang="5058000"/>
                </a:gradFill>
                <a:latin typeface="Impact"/>
              </a:rPr>
              <a:t>90 л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996633"/>
                  </a:gs>
                </a:gsLst>
                <a:lin ang="5058000"/>
              </a:gradFill>
              <a:latin typeface="Impact"/>
              <a:ea typeface="Impact"/>
            </a:endParaRPr>
          </a:p>
        </p:txBody>
      </p:sp>
      <p:sp>
        <p:nvSpPr>
          <p:cNvPr id="508" name="WordArt 9"/>
          <p:cNvSpPr txBox="1"/>
          <p:nvPr/>
        </p:nvSpPr>
        <p:spPr>
          <a:xfrm>
            <a:off x="1332000" y="620640"/>
            <a:ext cx="70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сударственному архиву 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товской области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3780000" y="3141720"/>
            <a:ext cx="482436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IMG_5196"/>
          <p:cNvPicPr/>
          <p:nvPr/>
        </p:nvPicPr>
        <p:blipFill>
          <a:blip r:embed="rId1"/>
          <a:stretch/>
        </p:blipFill>
        <p:spPr>
          <a:xfrm>
            <a:off x="1332000" y="1197000"/>
            <a:ext cx="7129440" cy="497664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11" name="WordArt 9"/>
          <p:cNvSpPr txBox="1"/>
          <p:nvPr/>
        </p:nvSpPr>
        <p:spPr>
          <a:xfrm>
            <a:off x="1116000" y="620640"/>
            <a:ext cx="7345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ктическая работа с документами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9"/>
          <p:cNvSpPr/>
          <p:nvPr/>
        </p:nvSpPr>
        <p:spPr>
          <a:xfrm>
            <a:off x="4140360" y="3284640"/>
            <a:ext cx="453708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архив"/>
          <p:cNvPicPr/>
          <p:nvPr/>
        </p:nvPicPr>
        <p:blipFill>
          <a:blip r:embed="rId1"/>
          <a:stretch/>
        </p:blipFill>
        <p:spPr>
          <a:xfrm>
            <a:off x="1116000" y="1413000"/>
            <a:ext cx="7416720" cy="47847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14" name="Rectangle 8"/>
          <p:cNvSpPr/>
          <p:nvPr/>
        </p:nvSpPr>
        <p:spPr>
          <a:xfrm>
            <a:off x="6659640" y="3429000"/>
            <a:ext cx="1800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12"/>
          <p:cNvSpPr txBox="1"/>
          <p:nvPr/>
        </p:nvSpPr>
        <p:spPr>
          <a:xfrm>
            <a:off x="1187280" y="620640"/>
            <a:ext cx="734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ий вид здания Государственного архива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товской области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WordArt 4"/>
          <p:cNvSpPr txBox="1"/>
          <p:nvPr/>
        </p:nvSpPr>
        <p:spPr>
          <a:xfrm>
            <a:off x="1116000" y="765000"/>
            <a:ext cx="741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годня в архиве насчитывается: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3708360" y="2492280"/>
            <a:ext cx="48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042920" y="1483920"/>
            <a:ext cx="7540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 674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фонда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942 819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дел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53 888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ед. учёта фотодокументов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1 074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ед. хранения научно-технической документации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3 060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документов личного происхождени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Century Gothic"/>
              </a:rPr>
              <a:t>(с 1688 по 2010 гг.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708360" y="2492280"/>
            <a:ext cx="48974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115640" y="2997000"/>
            <a:ext cx="37465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анятся документ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торой половины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.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1" name="Picture 4" descr="фонд 1"/>
          <p:cNvPicPr/>
          <p:nvPr/>
        </p:nvPicPr>
        <p:blipFill>
          <a:blip r:embed="rId1"/>
          <a:stretch/>
        </p:blipFill>
        <p:spPr>
          <a:xfrm>
            <a:off x="4716360" y="692280"/>
            <a:ext cx="3880080" cy="55753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22" name="WordArt 7"/>
          <p:cNvSpPr txBox="1"/>
          <p:nvPr/>
        </p:nvSpPr>
        <p:spPr>
          <a:xfrm>
            <a:off x="1042920" y="2133720"/>
            <a:ext cx="34862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ранилище №1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708360" y="2492280"/>
            <a:ext cx="489744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116000" y="2852640"/>
            <a:ext cx="33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ранятся дела советского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ени (до 50-х годов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5" name="Picture 4" descr="фонд 2"/>
          <p:cNvPicPr/>
          <p:nvPr/>
        </p:nvPicPr>
        <p:blipFill>
          <a:blip r:embed="rId1"/>
          <a:stretch/>
        </p:blipFill>
        <p:spPr>
          <a:xfrm>
            <a:off x="4716360" y="692280"/>
            <a:ext cx="3878280" cy="56181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26" name="WordArt 6"/>
          <p:cNvSpPr txBox="1"/>
          <p:nvPr/>
        </p:nvSpPr>
        <p:spPr>
          <a:xfrm>
            <a:off x="1116000" y="2133720"/>
            <a:ext cx="34862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ранилище №2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3851280" y="2565360"/>
            <a:ext cx="47530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IMG_5677"/>
          <p:cNvPicPr/>
          <p:nvPr/>
        </p:nvPicPr>
        <p:blipFill>
          <a:blip r:embed="rId1"/>
          <a:stretch/>
        </p:blipFill>
        <p:spPr>
          <a:xfrm>
            <a:off x="4716360" y="620640"/>
            <a:ext cx="3759480" cy="56898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529" name="WordArt 6"/>
          <p:cNvSpPr txBox="1"/>
          <p:nvPr/>
        </p:nvSpPr>
        <p:spPr>
          <a:xfrm>
            <a:off x="1116000" y="2133720"/>
            <a:ext cx="34862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ранилище №2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116000" y="2852640"/>
            <a:ext cx="33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ременная сейфовая система хранения документо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6:55:43Z</dcterms:created>
  <dc:creator>Анастасия</dc:creator>
  <dc:description/>
  <cp:keywords/>
  <dc:language>en-US</dc:language>
  <cp:lastModifiedBy>Элла</cp:lastModifiedBy>
  <dcterms:modified xsi:type="dcterms:W3CDTF">2013-02-26T18:42:44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