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8.jpeg" ContentType="image/jpeg"/>
  <Override PartName="/ppt/media/image3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28.png" ContentType="image/png"/>
  <Override PartName="/ppt/media/image1.wmf" ContentType="image/x-wmf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10.jpeg" ContentType="image/jpeg"/>
  <Override PartName="/ppt/media/image21.gif" ContentType="image/gif"/>
  <Override PartName="/ppt/media/image11.jpeg" ContentType="image/jpeg"/>
  <Override PartName="/ppt/media/image24.png" ContentType="image/png"/>
  <Override PartName="/ppt/media/image22.png" ContentType="image/png"/>
  <Override PartName="/ppt/media/image27.png" ContentType="image/png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8FD-7F8F-4FDB-A8EF-D646D974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9FB-751A-4D3D-B03B-DBD08518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B61-D42B-455A-B130-C4DF300F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07C-F52A-4991-A9B2-3E624AEE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0A7-CD8E-4291-9976-ECF150C0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2E0-94AD-41B1-9EBD-7A23A5DF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75F-F803-4DCB-B36C-E162D599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0B8-1340-4DD3-839E-0D43CE3A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1EA-68D2-40A1-BE55-CAA451F8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4E6-9FB1-4DFB-A673-5898CCF7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0AE-162E-4EE6-A51A-8B9854C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A12-8481-4429-B671-C3F24687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8D71-28A2-440D-8AA8-846829DFE5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Наш  урок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освящается: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Тем, кто учит информатику;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тем,  кто учит информатике, тем, кто любит информатику,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тем, кто ещё не знает, что может любить информат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Содержимое 3"/>
          <p:cNvGraphicFramePr/>
          <p:nvPr/>
        </p:nvGraphicFramePr>
        <p:xfrm>
          <a:off x="285840" y="285840"/>
          <a:ext cx="2014560" cy="221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85840"/>
                    <a:ext cx="201456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ВИДЫ ШРИФТОВ</a:t>
            </a:r>
            <a:br>
              <a:rPr sz="4400"/>
            </a:b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Шрифт – полный набор букв алфавита с общим стилем их изображения. Каждый шрифт имеет назва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4172040" cy="35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се компьютерные шрифты можно разделить на четыре группы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с засеч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убле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лиграф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ратив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шрифты"/>
          <p:cNvPicPr/>
          <p:nvPr/>
        </p:nvPicPr>
        <p:blipFill>
          <a:blip r:embed="rId1"/>
          <a:stretch/>
        </p:blipFill>
        <p:spPr>
          <a:xfrm>
            <a:off x="4786200" y="2714760"/>
            <a:ext cx="3900600" cy="38671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ШРИФТЫ С ЗАСЕ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2297160"/>
            <a:ext cx="823104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нимательно рассмотреть этот текст, то можно заметить, что на концах букв имеются маленькие черточки – засечки. При чтении за них «цепляется» глаз. Засечки облегчают зрительное восприятие букв, а значит – процесс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>
            <a:hlinkClick r:id="" action="ppaction://hlinkshowjump?jump=previousslide"/>
          </p:cNvPr>
          <p:cNvSpPr/>
          <p:nvPr/>
        </p:nvSpPr>
        <p:spPr>
          <a:xfrm>
            <a:off x="6804000" y="5734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1936" y="7493"/>
                </a:moveTo>
                <a:lnTo>
                  <a:pt x="15443" y="7493"/>
                </a:lnTo>
                <a:lnTo>
                  <a:pt x="15443" y="12828"/>
                </a:lnTo>
                <a:cubicBezTo>
                  <a:pt x="15443" y="13751"/>
                  <a:pt x="16244" y="14482"/>
                  <a:pt x="17280" y="14482"/>
                </a:cubicBezTo>
                <a:lnTo>
                  <a:pt x="18942" y="14482"/>
                </a:lnTo>
                <a:cubicBezTo>
                  <a:pt x="19978" y="14482"/>
                  <a:pt x="20779" y="13751"/>
                  <a:pt x="20779" y="12828"/>
                </a:cubicBezTo>
                <a:lnTo>
                  <a:pt x="20779" y="7493"/>
                </a:lnTo>
                <a:lnTo>
                  <a:pt x="18942" y="7493"/>
                </a:lnTo>
                <a:lnTo>
                  <a:pt x="22450" y="3985"/>
                </a:lnTo>
                <a:lnTo>
                  <a:pt x="26123" y="7493"/>
                </a:lnTo>
                <a:lnTo>
                  <a:pt x="24286" y="7493"/>
                </a:lnTo>
                <a:lnTo>
                  <a:pt x="24286" y="12828"/>
                </a:lnTo>
                <a:cubicBezTo>
                  <a:pt x="24286" y="15596"/>
                  <a:pt x="21710" y="18155"/>
                  <a:pt x="18942" y="18155"/>
                </a:cubicBezTo>
                <a:lnTo>
                  <a:pt x="17280" y="18155"/>
                </a:lnTo>
                <a:cubicBezTo>
                  <a:pt x="14512" y="18155"/>
                  <a:pt x="11936" y="15596"/>
                  <a:pt x="1193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РУБЛЕНЫЕ ШРИФ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1360" y="2243160"/>
            <a:ext cx="3351240" cy="21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убленые шрифты применяются в газетах и журналах, где текст расположен в несколько кол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2313000"/>
            <a:ext cx="4033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кст этого слайда набран рубленым шрифт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homa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расположен в двух колон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>
            <a:hlinkClick r:id="" action="ppaction://hlinkshowjump?jump=previousslide"/>
          </p:cNvPr>
          <p:cNvSpPr/>
          <p:nvPr/>
        </p:nvSpPr>
        <p:spPr>
          <a:xfrm>
            <a:off x="7164360" y="5516640"/>
            <a:ext cx="1295280" cy="64908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647640" y="1898640"/>
            <a:ext cx="8172360" cy="3179880"/>
          </a:xfrm>
          <a:prstGeom prst="foldedCorner">
            <a:avLst>
              <a:gd name="adj" fmla="val 12500"/>
            </a:avLst>
          </a:prstGeom>
          <a:solidFill>
            <a:srgbClr val="ffd5ab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080" y="685440"/>
            <a:ext cx="86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КАЛЛИГРАФИЧЕСКИЕ ШРИФ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2039400"/>
            <a:ext cx="848520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ллиграфические шрифты имитируют почерк человека. Они часто применяются для оформления обложек и открыток. Ими набираются поздравления и пись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1147680" y="4294080"/>
            <a:ext cx="1622520" cy="2055960"/>
            <a:chOff x="1147680" y="4294080"/>
            <a:chExt cx="1622520" cy="2055960"/>
          </a:xfrm>
        </p:grpSpPr>
        <p:sp>
          <p:nvSpPr>
            <p:cNvPr id="99" name="Freeform 6"/>
            <p:cNvSpPr/>
            <p:nvPr/>
          </p:nvSpPr>
          <p:spPr>
            <a:xfrm>
              <a:off x="1166760" y="4976640"/>
              <a:ext cx="1146240" cy="115920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701720" y="5559480"/>
              <a:ext cx="1059120" cy="704880"/>
            </a:xfrm>
            <a:prstGeom prst="pie">
              <a:avLst/>
            </a:pr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1592280" y="5495760"/>
              <a:ext cx="490680" cy="166680"/>
            </a:xfrm>
            <a:prstGeom prst="pie">
              <a:avLst/>
            </a:pr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1639800" y="4311720"/>
              <a:ext cx="405000" cy="233280"/>
            </a:xfrm>
            <a:prstGeom prst="pie">
              <a:avLst/>
            </a:pr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1389240" y="4492800"/>
              <a:ext cx="965160" cy="823680"/>
            </a:xfrm>
            <a:prstGeom prst="pie">
              <a:avLst/>
            </a:pr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1343160" y="4784760"/>
              <a:ext cx="412560" cy="590400"/>
            </a:xfrm>
            <a:prstGeom prst="pie">
              <a:avLst/>
            </a:pr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1374840" y="4640400"/>
              <a:ext cx="423720" cy="73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"/>
            <p:cNvSpPr/>
            <p:nvPr/>
          </p:nvSpPr>
          <p:spPr>
            <a:xfrm>
              <a:off x="1901880" y="4753080"/>
              <a:ext cx="344520" cy="431640"/>
            </a:xfrm>
            <a:prstGeom prst="pie">
              <a:avLst/>
            </a:prstGeom>
            <a:solidFill>
              <a:srgbClr val="82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4"/>
            <p:cNvSpPr/>
            <p:nvPr/>
          </p:nvSpPr>
          <p:spPr>
            <a:xfrm>
              <a:off x="1766880" y="4649760"/>
              <a:ext cx="162000" cy="64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5"/>
            <p:cNvSpPr/>
            <p:nvPr/>
          </p:nvSpPr>
          <p:spPr>
            <a:xfrm>
              <a:off x="1835280" y="4541760"/>
              <a:ext cx="569880" cy="79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"/>
            <p:cNvSpPr/>
            <p:nvPr/>
          </p:nvSpPr>
          <p:spPr>
            <a:xfrm>
              <a:off x="1878120" y="4740120"/>
              <a:ext cx="36972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7"/>
            <p:cNvSpPr/>
            <p:nvPr/>
          </p:nvSpPr>
          <p:spPr>
            <a:xfrm>
              <a:off x="2008080" y="4762440"/>
              <a:ext cx="247680" cy="38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8"/>
            <p:cNvSpPr/>
            <p:nvPr/>
          </p:nvSpPr>
          <p:spPr>
            <a:xfrm>
              <a:off x="1641600" y="4390920"/>
              <a:ext cx="406440" cy="23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9"/>
            <p:cNvSpPr/>
            <p:nvPr/>
          </p:nvSpPr>
          <p:spPr>
            <a:xfrm>
              <a:off x="1601640" y="4294080"/>
              <a:ext cx="387360" cy="27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0"/>
            <p:cNvSpPr/>
            <p:nvPr/>
          </p:nvSpPr>
          <p:spPr>
            <a:xfrm>
              <a:off x="1657440" y="4417920"/>
              <a:ext cx="4428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1760400" y="4405320"/>
              <a:ext cx="5904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2"/>
            <p:cNvSpPr/>
            <p:nvPr/>
          </p:nvSpPr>
          <p:spPr>
            <a:xfrm>
              <a:off x="1857240" y="4390920"/>
              <a:ext cx="572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3"/>
            <p:cNvSpPr/>
            <p:nvPr/>
          </p:nvSpPr>
          <p:spPr>
            <a:xfrm>
              <a:off x="1147680" y="4908600"/>
              <a:ext cx="908280" cy="10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"/>
            <p:cNvSpPr/>
            <p:nvPr/>
          </p:nvSpPr>
          <p:spPr>
            <a:xfrm>
              <a:off x="1298520" y="5079960"/>
              <a:ext cx="4608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>
              <a:off x="1662120" y="5508720"/>
              <a:ext cx="495360" cy="20160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2027160" y="5670720"/>
              <a:ext cx="266760" cy="14112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7"/>
            <p:cNvSpPr/>
            <p:nvPr/>
          </p:nvSpPr>
          <p:spPr>
            <a:xfrm>
              <a:off x="1344600" y="5238720"/>
              <a:ext cx="1425600" cy="111132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8"/>
            <p:cNvSpPr/>
            <p:nvPr/>
          </p:nvSpPr>
          <p:spPr>
            <a:xfrm>
              <a:off x="2190600" y="5800680"/>
              <a:ext cx="311400" cy="19044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9"/>
            <p:cNvSpPr/>
            <p:nvPr/>
          </p:nvSpPr>
          <p:spPr>
            <a:xfrm>
              <a:off x="1481040" y="4802040"/>
              <a:ext cx="3207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0"/>
            <p:cNvSpPr/>
            <p:nvPr/>
          </p:nvSpPr>
          <p:spPr>
            <a:xfrm>
              <a:off x="1949400" y="4646520"/>
              <a:ext cx="428760" cy="19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31">
            <a:hlinkClick r:id="" action="ppaction://hlinkshowjump?jump=previousslide"/>
          </p:cNvPr>
          <p:cNvSpPr/>
          <p:nvPr/>
        </p:nvSpPr>
        <p:spPr>
          <a:xfrm>
            <a:off x="7667640" y="5661000"/>
            <a:ext cx="1152360" cy="50472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9297" h="21600">
                <a:moveTo>
                  <a:pt x="0" y="0"/>
                </a:moveTo>
                <a:lnTo>
                  <a:pt x="49297" y="0"/>
                </a:lnTo>
                <a:lnTo>
                  <a:pt x="49297" y="21600"/>
                </a:lnTo>
                <a:lnTo>
                  <a:pt x="0" y="21600"/>
                </a:lnTo>
                <a:close/>
              </a:path>
              <a:path fill="lightenLess" w="49297" h="21600">
                <a:moveTo>
                  <a:pt x="0" y="0"/>
                </a:moveTo>
                <a:lnTo>
                  <a:pt x="49297" y="0"/>
                </a:lnTo>
                <a:lnTo>
                  <a:pt x="47897" y="1400"/>
                </a:lnTo>
                <a:lnTo>
                  <a:pt x="1400" y="1400"/>
                </a:lnTo>
                <a:close/>
              </a:path>
              <a:path fill="darken" w="49297" h="21600">
                <a:moveTo>
                  <a:pt x="49297" y="0"/>
                </a:moveTo>
                <a:lnTo>
                  <a:pt x="49297" y="21600"/>
                </a:lnTo>
                <a:lnTo>
                  <a:pt x="47897" y="20200"/>
                </a:lnTo>
                <a:lnTo>
                  <a:pt x="47897" y="1400"/>
                </a:lnTo>
                <a:close/>
              </a:path>
              <a:path fill="darkenLess" w="49297" h="21600">
                <a:moveTo>
                  <a:pt x="49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97" y="20200"/>
                </a:lnTo>
                <a:close/>
              </a:path>
              <a:path fill="lighten" w="49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97" h="21600">
                <a:moveTo>
                  <a:pt x="17642" y="7493"/>
                </a:moveTo>
                <a:lnTo>
                  <a:pt x="21149" y="7493"/>
                </a:lnTo>
                <a:lnTo>
                  <a:pt x="21149" y="12828"/>
                </a:lnTo>
                <a:cubicBezTo>
                  <a:pt x="21149" y="13751"/>
                  <a:pt x="21950" y="14482"/>
                  <a:pt x="22986" y="14482"/>
                </a:cubicBezTo>
                <a:lnTo>
                  <a:pt x="24648" y="14482"/>
                </a:lnTo>
                <a:cubicBezTo>
                  <a:pt x="25684" y="14482"/>
                  <a:pt x="26485" y="13751"/>
                  <a:pt x="26485" y="12828"/>
                </a:cubicBezTo>
                <a:lnTo>
                  <a:pt x="26485" y="7493"/>
                </a:lnTo>
                <a:lnTo>
                  <a:pt x="24648" y="7493"/>
                </a:lnTo>
                <a:lnTo>
                  <a:pt x="28156" y="3985"/>
                </a:lnTo>
                <a:lnTo>
                  <a:pt x="31829" y="7493"/>
                </a:lnTo>
                <a:lnTo>
                  <a:pt x="29992" y="7493"/>
                </a:lnTo>
                <a:lnTo>
                  <a:pt x="29992" y="12828"/>
                </a:lnTo>
                <a:cubicBezTo>
                  <a:pt x="29992" y="15596"/>
                  <a:pt x="27416" y="18155"/>
                  <a:pt x="24648" y="18155"/>
                </a:cubicBezTo>
                <a:lnTo>
                  <a:pt x="22986" y="18155"/>
                </a:lnTo>
                <a:cubicBezTo>
                  <a:pt x="20218" y="18155"/>
                  <a:pt x="17642" y="15596"/>
                  <a:pt x="17642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ecor"/>
          <p:cNvPicPr/>
          <p:nvPr/>
        </p:nvPicPr>
        <p:blipFill>
          <a:blip r:embed="rId1"/>
          <a:stretch/>
        </p:blipFill>
        <p:spPr>
          <a:xfrm>
            <a:off x="539640" y="2060640"/>
            <a:ext cx="8164800" cy="4222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36800" y="77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ЕКОРАТИВНЫЕ ШРИФ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214200" y="571680"/>
            <a:ext cx="1790640" cy="1404360"/>
            <a:chOff x="214200" y="571680"/>
            <a:chExt cx="1790640" cy="1404360"/>
          </a:xfrm>
        </p:grpSpPr>
        <p:sp>
          <p:nvSpPr>
            <p:cNvPr id="128" name="Freeform 5"/>
            <p:cNvSpPr/>
            <p:nvPr/>
          </p:nvSpPr>
          <p:spPr>
            <a:xfrm>
              <a:off x="1584360" y="1627200"/>
              <a:ext cx="247680" cy="34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1584360" y="633240"/>
              <a:ext cx="42048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1349280" y="657000"/>
              <a:ext cx="235080" cy="129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1245960" y="598320"/>
              <a:ext cx="103320" cy="32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1245960" y="931680"/>
              <a:ext cx="103320" cy="50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1245960" y="1457280"/>
              <a:ext cx="103320" cy="31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966600" y="571680"/>
              <a:ext cx="27936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966600" y="745920"/>
              <a:ext cx="279360" cy="44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966600" y="1131840"/>
              <a:ext cx="279360" cy="71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804600" y="588960"/>
              <a:ext cx="162000" cy="30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04600" y="765000"/>
              <a:ext cx="162000" cy="44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04600" y="1214280"/>
              <a:ext cx="16200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04600" y="1685880"/>
              <a:ext cx="16200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04600" y="1466640"/>
              <a:ext cx="5256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541080" y="642960"/>
              <a:ext cx="263520" cy="120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449280" y="771480"/>
              <a:ext cx="9180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214200" y="1093680"/>
              <a:ext cx="326880" cy="45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82400" y="1757160"/>
              <a:ext cx="5868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1406520" y="1638360"/>
              <a:ext cx="404640" cy="31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496800" y="1460520"/>
              <a:ext cx="503280" cy="37728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1571400" y="1735200"/>
              <a:ext cx="9216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4320" y="946080"/>
              <a:ext cx="947520" cy="86976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1589040" y="1741320"/>
              <a:ext cx="60120" cy="712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41400" y="1681200"/>
              <a:ext cx="21420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214280" y="1092240"/>
              <a:ext cx="392040" cy="68688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1361880" y="1698480"/>
              <a:ext cx="120600" cy="6156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223560" y="1165320"/>
              <a:ext cx="355680" cy="36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479160" y="760320"/>
              <a:ext cx="586080" cy="72504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347400" y="1293840"/>
              <a:ext cx="13032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636480" y="1203120"/>
              <a:ext cx="792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371520" y="1309680"/>
              <a:ext cx="87120" cy="99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1674720" y="1031760"/>
              <a:ext cx="314280" cy="36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55640" y="1339920"/>
              <a:ext cx="7920" cy="56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358640" y="1268280"/>
              <a:ext cx="14472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58600" y="1288800"/>
              <a:ext cx="20484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1763640" y="1163520"/>
              <a:ext cx="11412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1784160" y="1176120"/>
              <a:ext cx="82800" cy="856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1577880" y="1100160"/>
              <a:ext cx="82440" cy="13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723960" y="1144440"/>
              <a:ext cx="63360" cy="554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628560" y="1152360"/>
              <a:ext cx="34920" cy="284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522000" y="582480"/>
              <a:ext cx="1036800" cy="50940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84160" y="830160"/>
              <a:ext cx="57240" cy="24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1133280" y="996840"/>
              <a:ext cx="1526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1566720" y="666720"/>
              <a:ext cx="265320" cy="35028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1685880" y="755640"/>
              <a:ext cx="8712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50">
            <a:hlinkClick r:id="" action="ppaction://hlinkshowjump?jump=previousslide"/>
          </p:cNvPr>
          <p:cNvSpPr/>
          <p:nvPr/>
        </p:nvSpPr>
        <p:spPr>
          <a:xfrm>
            <a:off x="7451640" y="6165720"/>
            <a:ext cx="1008000" cy="69228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1446" h="21600">
                <a:moveTo>
                  <a:pt x="0" y="0"/>
                </a:moveTo>
                <a:lnTo>
                  <a:pt x="31446" y="0"/>
                </a:lnTo>
                <a:lnTo>
                  <a:pt x="31446" y="21600"/>
                </a:lnTo>
                <a:lnTo>
                  <a:pt x="0" y="21600"/>
                </a:lnTo>
                <a:close/>
              </a:path>
              <a:path fill="lightenLess" w="31446" h="21600">
                <a:moveTo>
                  <a:pt x="0" y="0"/>
                </a:moveTo>
                <a:lnTo>
                  <a:pt x="31446" y="0"/>
                </a:lnTo>
                <a:lnTo>
                  <a:pt x="30046" y="1400"/>
                </a:lnTo>
                <a:lnTo>
                  <a:pt x="1400" y="1400"/>
                </a:lnTo>
                <a:close/>
              </a:path>
              <a:path fill="darken" w="31446" h="21600">
                <a:moveTo>
                  <a:pt x="31446" y="0"/>
                </a:moveTo>
                <a:lnTo>
                  <a:pt x="31446" y="21600"/>
                </a:lnTo>
                <a:lnTo>
                  <a:pt x="30046" y="20200"/>
                </a:lnTo>
                <a:lnTo>
                  <a:pt x="30046" y="1400"/>
                </a:lnTo>
                <a:close/>
              </a:path>
              <a:path fill="darkenLess" w="31446" h="21600">
                <a:moveTo>
                  <a:pt x="314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46" y="20200"/>
                </a:lnTo>
                <a:close/>
              </a:path>
              <a:path fill="lighten" w="314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46" h="21600">
                <a:moveTo>
                  <a:pt x="8716" y="7493"/>
                </a:moveTo>
                <a:lnTo>
                  <a:pt x="12224" y="7493"/>
                </a:lnTo>
                <a:lnTo>
                  <a:pt x="12224" y="12828"/>
                </a:lnTo>
                <a:cubicBezTo>
                  <a:pt x="12224" y="13751"/>
                  <a:pt x="13025" y="14482"/>
                  <a:pt x="14060" y="14482"/>
                </a:cubicBezTo>
                <a:lnTo>
                  <a:pt x="15723" y="14482"/>
                </a:lnTo>
                <a:cubicBezTo>
                  <a:pt x="16759" y="14482"/>
                  <a:pt x="17559" y="13751"/>
                  <a:pt x="17559" y="12828"/>
                </a:cubicBezTo>
                <a:lnTo>
                  <a:pt x="17559" y="7493"/>
                </a:lnTo>
                <a:lnTo>
                  <a:pt x="15723" y="7493"/>
                </a:lnTo>
                <a:lnTo>
                  <a:pt x="19230" y="3985"/>
                </a:lnTo>
                <a:lnTo>
                  <a:pt x="22903" y="7493"/>
                </a:lnTo>
                <a:lnTo>
                  <a:pt x="21067" y="7493"/>
                </a:lnTo>
                <a:lnTo>
                  <a:pt x="21067" y="12828"/>
                </a:lnTo>
                <a:cubicBezTo>
                  <a:pt x="21067" y="15596"/>
                  <a:pt x="18491" y="18155"/>
                  <a:pt x="15723" y="18155"/>
                </a:cubicBezTo>
                <a:lnTo>
                  <a:pt x="14060" y="18155"/>
                </a:lnTo>
                <a:cubicBezTo>
                  <a:pt x="11293" y="18155"/>
                  <a:pt x="8716" y="15596"/>
                  <a:pt x="871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РАЗМЕР ШРИФ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424160" y="266220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У аА б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847800" y="35258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847800" y="2916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979560" y="2905200"/>
            <a:ext cx="12600" cy="62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93760" y="511992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змер шрифта измеряется в пун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 пункт = 1/72 дюйма (0,3 мм)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размер шрифта"/>
          <p:cNvPicPr/>
          <p:nvPr/>
        </p:nvPicPr>
        <p:blipFill>
          <a:blip r:embed="rId1"/>
          <a:stretch/>
        </p:blipFill>
        <p:spPr>
          <a:xfrm>
            <a:off x="4476600" y="1689120"/>
            <a:ext cx="3679920" cy="309564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5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НАЧЕРТАНИЕ ШРИФ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00040" y="4068000"/>
            <a:ext cx="8686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Шрифт обычного начертания ничем не выделя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лужирный шрифт темнее, он хорошо замете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66"/>
                </a:solidFill>
                <a:latin typeface="Arial"/>
              </a:rPr>
              <a:t>Курсивный шрифт имеет накло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66"/>
                </a:solidFill>
                <a:uFillTx/>
                <a:latin typeface="Arial"/>
              </a:rPr>
              <a:t>А это подчеркнутый тек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панели инструментов"/>
          <p:cNvPicPr/>
          <p:nvPr/>
        </p:nvPicPr>
        <p:blipFill>
          <a:blip r:embed="rId1"/>
          <a:stretch/>
        </p:blipFill>
        <p:spPr>
          <a:xfrm>
            <a:off x="393840" y="2025720"/>
            <a:ext cx="8329320" cy="1568520"/>
          </a:xfrm>
          <a:prstGeom prst="rect">
            <a:avLst/>
          </a:prstGeom>
          <a:ln w="38160">
            <a:solidFill>
              <a:srgbClr val="0066cc"/>
            </a:solidFill>
            <a:miter/>
          </a:ln>
        </p:spPr>
      </p:pic>
      <p:sp>
        <p:nvSpPr>
          <p:cNvPr id="184" name="Oval 5"/>
          <p:cNvSpPr/>
          <p:nvPr/>
        </p:nvSpPr>
        <p:spPr>
          <a:xfrm>
            <a:off x="4572000" y="2757600"/>
            <a:ext cx="352440" cy="309600"/>
          </a:xfrm>
          <a:prstGeom prst="ellipse">
            <a:avLst/>
          </a:prstGeom>
          <a:noFill/>
          <a:ln w="2844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4859280" y="2773440"/>
            <a:ext cx="352440" cy="309600"/>
          </a:xfrm>
          <a:prstGeom prst="ellipse">
            <a:avLst/>
          </a:prstGeom>
          <a:noFill/>
          <a:ln w="2844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5118120" y="2789280"/>
            <a:ext cx="352440" cy="309600"/>
          </a:xfrm>
          <a:prstGeom prst="ellipse">
            <a:avLst/>
          </a:prstGeom>
          <a:noFill/>
          <a:ln w="2844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6453360" y="5959440"/>
            <a:ext cx="744480" cy="7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24000" y="3552840"/>
            <a:ext cx="842472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гда текст выровнен вправо, правая граница абзаца образует прямую линию. Каждая строка заканчивается на одном и том же расстоянии от края страниц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Данный абзац выровнен по правому кра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95280" y="3429000"/>
            <a:ext cx="835200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Выровненный по центру, или центрированный текст располагается так: с обеих сторон каждой строки ширина свободного пространства одинакова. С обеих сторон края абзаца получаются  неровны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Данный абзац выровнен по центр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ВЫРАВНИ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6531120" y="586908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24000" y="4041720"/>
            <a:ext cx="84960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гда текст выровнен влево, левая граница абзаца образует прямую линию. Все строки имеют одинаковые отступы от левого края страниц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Данный абзац выровнен по левому кра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панели инструментов"/>
          <p:cNvPicPr/>
          <p:nvPr/>
        </p:nvPicPr>
        <p:blipFill>
          <a:blip r:embed="rId2"/>
          <a:stretch/>
        </p:blipFill>
        <p:spPr>
          <a:xfrm>
            <a:off x="281160" y="1793880"/>
            <a:ext cx="8586720" cy="14857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194" name="Oval 8"/>
          <p:cNvSpPr/>
          <p:nvPr/>
        </p:nvSpPr>
        <p:spPr>
          <a:xfrm>
            <a:off x="5838840" y="2522520"/>
            <a:ext cx="352440" cy="309600"/>
          </a:xfrm>
          <a:prstGeom prst="ellipse">
            <a:avLst/>
          </a:prstGeom>
          <a:noFill/>
          <a:ln w="2844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6121440" y="2498760"/>
            <a:ext cx="352440" cy="309600"/>
          </a:xfrm>
          <a:prstGeom prst="ellipse">
            <a:avLst/>
          </a:prstGeom>
          <a:noFill/>
          <a:ln w="2844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6365880" y="2503440"/>
            <a:ext cx="352440" cy="309600"/>
          </a:xfrm>
          <a:prstGeom prst="ellipse">
            <a:avLst/>
          </a:prstGeom>
          <a:noFill/>
          <a:ln w="2844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488360" cy="4550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н рисует, он счи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ектирует зав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аже в космосе ле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дает прогноз по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иллионы вычис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ожет сделать за мину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гадайся, что за г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у, конечно же, ……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акими «профессиями» обладает компьют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Содержимое 3"/>
          <p:cNvGraphicFramePr/>
          <p:nvPr/>
        </p:nvGraphicFramePr>
        <p:xfrm>
          <a:off x="6072120" y="1643040"/>
          <a:ext cx="2014560" cy="22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2120" y="1643040"/>
                    <a:ext cx="20145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8680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Продолжите фразу, выбрав правильный 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форматировании текстового документа происходит обработка, связанная  с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м смысла тек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м формы тек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м смысла и формы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зменением формы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61960" y="0"/>
            <a:ext cx="81072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2280" y="1933560"/>
            <a:ext cx="793116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айте характеристику текстовому документу по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шриф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черт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ыравн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14240" y="4835520"/>
            <a:ext cx="2264040" cy="6350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60680" y="4821120"/>
            <a:ext cx="2263680" cy="6350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56360" y="4821120"/>
            <a:ext cx="2263680" cy="6350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2428920" y="5715000"/>
            <a:ext cx="2263680" cy="6350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Задание </a:t>
            </a:r>
            <a:r>
              <a:rPr b="1" lang="ru-RU" sz="2400" spc="-1" strike="noStrike">
                <a:solidFill>
                  <a:srgbClr val="0070c0"/>
                </a:solidFill>
                <a:latin typeface="Matisse IT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5214960" y="5857920"/>
            <a:ext cx="2263680" cy="6350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Задание </a:t>
            </a:r>
            <a:r>
              <a:rPr b="1" lang="ru-RU" sz="2400" spc="-1" strike="noStrike">
                <a:solidFill>
                  <a:srgbClr val="0070c0"/>
                </a:solidFill>
                <a:latin typeface="Matisse IT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">
            <a:hlinkClick r:id="" action="ppaction://hlinkshowjump?jump=previousslide"/>
          </p:cNvPr>
          <p:cNvSpPr/>
          <p:nvPr/>
        </p:nvSpPr>
        <p:spPr>
          <a:xfrm>
            <a:off x="7667640" y="6021360"/>
            <a:ext cx="1225440" cy="503280"/>
          </a:xfrm>
          <a:custGeom>
            <a:avLst/>
            <a:gdLst>
              <a:gd name="textAreaLeft" fmla="*/ 32400 w 1225440"/>
              <a:gd name="textAreaRight" fmla="*/ 1193040 w 1225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572" h="21600">
                <a:moveTo>
                  <a:pt x="0" y="0"/>
                </a:moveTo>
                <a:lnTo>
                  <a:pt x="52572" y="0"/>
                </a:lnTo>
                <a:lnTo>
                  <a:pt x="52572" y="21600"/>
                </a:lnTo>
                <a:lnTo>
                  <a:pt x="0" y="21600"/>
                </a:lnTo>
                <a:close/>
              </a:path>
              <a:path fill="lightenLess" w="52572" h="21600">
                <a:moveTo>
                  <a:pt x="0" y="0"/>
                </a:moveTo>
                <a:lnTo>
                  <a:pt x="52572" y="0"/>
                </a:lnTo>
                <a:lnTo>
                  <a:pt x="51172" y="1400"/>
                </a:lnTo>
                <a:lnTo>
                  <a:pt x="1400" y="1400"/>
                </a:lnTo>
                <a:close/>
              </a:path>
              <a:path fill="darken" w="52572" h="21600">
                <a:moveTo>
                  <a:pt x="52572" y="0"/>
                </a:moveTo>
                <a:lnTo>
                  <a:pt x="52572" y="21600"/>
                </a:lnTo>
                <a:lnTo>
                  <a:pt x="51172" y="20200"/>
                </a:lnTo>
                <a:lnTo>
                  <a:pt x="51172" y="1400"/>
                </a:lnTo>
                <a:close/>
              </a:path>
              <a:path fill="darkenLess" w="52572" h="21600">
                <a:moveTo>
                  <a:pt x="52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72" y="20200"/>
                </a:lnTo>
                <a:close/>
              </a:path>
              <a:path fill="lighten" w="52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72" h="21600">
                <a:moveTo>
                  <a:pt x="19279" y="7493"/>
                </a:moveTo>
                <a:lnTo>
                  <a:pt x="22787" y="7493"/>
                </a:lnTo>
                <a:lnTo>
                  <a:pt x="22787" y="12828"/>
                </a:lnTo>
                <a:cubicBezTo>
                  <a:pt x="22787" y="13751"/>
                  <a:pt x="23588" y="14482"/>
                  <a:pt x="24624" y="14482"/>
                </a:cubicBezTo>
                <a:lnTo>
                  <a:pt x="26286" y="14482"/>
                </a:lnTo>
                <a:cubicBezTo>
                  <a:pt x="27322" y="14482"/>
                  <a:pt x="28122" y="13751"/>
                  <a:pt x="28122" y="12828"/>
                </a:cubicBezTo>
                <a:lnTo>
                  <a:pt x="28122" y="7493"/>
                </a:lnTo>
                <a:lnTo>
                  <a:pt x="26286" y="7493"/>
                </a:lnTo>
                <a:lnTo>
                  <a:pt x="29794" y="3985"/>
                </a:lnTo>
                <a:lnTo>
                  <a:pt x="33466" y="7493"/>
                </a:lnTo>
                <a:lnTo>
                  <a:pt x="31630" y="7493"/>
                </a:lnTo>
                <a:lnTo>
                  <a:pt x="31630" y="12828"/>
                </a:lnTo>
                <a:cubicBezTo>
                  <a:pt x="31630" y="15596"/>
                  <a:pt x="29054" y="18155"/>
                  <a:pt x="26286" y="18155"/>
                </a:cubicBezTo>
                <a:lnTo>
                  <a:pt x="24624" y="18155"/>
                </a:lnTo>
                <a:cubicBezTo>
                  <a:pt x="21856" y="18155"/>
                  <a:pt x="19279" y="15596"/>
                  <a:pt x="19279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833400" y="428760"/>
            <a:ext cx="7238880" cy="54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3">
            <a:hlinkClick r:id="" action="ppaction://hlinkshowjump?jump=previousslide"/>
          </p:cNvPr>
          <p:cNvSpPr/>
          <p:nvPr/>
        </p:nvSpPr>
        <p:spPr>
          <a:xfrm>
            <a:off x="7524720" y="6093000"/>
            <a:ext cx="1295280" cy="504720"/>
          </a:xfrm>
          <a:custGeom>
            <a:avLst/>
            <a:gdLst>
              <a:gd name="textAreaLeft" fmla="*/ 32400 w 1295280"/>
              <a:gd name="textAreaRight" fmla="*/ 1262880 w 1295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5409" h="21600">
                <a:moveTo>
                  <a:pt x="0" y="0"/>
                </a:moveTo>
                <a:lnTo>
                  <a:pt x="55409" y="0"/>
                </a:lnTo>
                <a:lnTo>
                  <a:pt x="55409" y="21600"/>
                </a:lnTo>
                <a:lnTo>
                  <a:pt x="0" y="21600"/>
                </a:lnTo>
                <a:close/>
              </a:path>
              <a:path fill="lightenLess" w="55409" h="21600">
                <a:moveTo>
                  <a:pt x="0" y="0"/>
                </a:moveTo>
                <a:lnTo>
                  <a:pt x="55409" y="0"/>
                </a:lnTo>
                <a:lnTo>
                  <a:pt x="54009" y="1400"/>
                </a:lnTo>
                <a:lnTo>
                  <a:pt x="1400" y="1400"/>
                </a:lnTo>
                <a:close/>
              </a:path>
              <a:path fill="darken" w="55409" h="21600">
                <a:moveTo>
                  <a:pt x="55409" y="0"/>
                </a:moveTo>
                <a:lnTo>
                  <a:pt x="55409" y="21600"/>
                </a:lnTo>
                <a:lnTo>
                  <a:pt x="54009" y="20200"/>
                </a:lnTo>
                <a:lnTo>
                  <a:pt x="54009" y="1400"/>
                </a:lnTo>
                <a:close/>
              </a:path>
              <a:path fill="darkenLess" w="55409" h="21600">
                <a:moveTo>
                  <a:pt x="55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09" y="20200"/>
                </a:lnTo>
                <a:close/>
              </a:path>
              <a:path fill="lighten" w="55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09" h="21600">
                <a:moveTo>
                  <a:pt x="20698" y="7493"/>
                </a:moveTo>
                <a:lnTo>
                  <a:pt x="24205" y="7493"/>
                </a:lnTo>
                <a:lnTo>
                  <a:pt x="24205" y="12828"/>
                </a:lnTo>
                <a:cubicBezTo>
                  <a:pt x="24205" y="13751"/>
                  <a:pt x="25006" y="14482"/>
                  <a:pt x="26042" y="14482"/>
                </a:cubicBezTo>
                <a:lnTo>
                  <a:pt x="27704" y="14482"/>
                </a:lnTo>
                <a:cubicBezTo>
                  <a:pt x="28740" y="14482"/>
                  <a:pt x="29541" y="13751"/>
                  <a:pt x="29541" y="12828"/>
                </a:cubicBezTo>
                <a:lnTo>
                  <a:pt x="29541" y="7493"/>
                </a:lnTo>
                <a:lnTo>
                  <a:pt x="27704" y="7493"/>
                </a:lnTo>
                <a:lnTo>
                  <a:pt x="31212" y="3985"/>
                </a:lnTo>
                <a:lnTo>
                  <a:pt x="34885" y="7493"/>
                </a:lnTo>
                <a:lnTo>
                  <a:pt x="33048" y="7493"/>
                </a:lnTo>
                <a:lnTo>
                  <a:pt x="33048" y="12828"/>
                </a:lnTo>
                <a:cubicBezTo>
                  <a:pt x="33048" y="15596"/>
                  <a:pt x="30472" y="18155"/>
                  <a:pt x="27704" y="18155"/>
                </a:cubicBezTo>
                <a:lnTo>
                  <a:pt x="26042" y="18155"/>
                </a:lnTo>
                <a:cubicBezTo>
                  <a:pt x="23274" y="18155"/>
                  <a:pt x="20698" y="15596"/>
                  <a:pt x="20698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000080" y="428760"/>
            <a:ext cx="7321680" cy="54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3">
            <a:hlinkClick r:id="" action="ppaction://hlinkshowjump?jump=previousslide"/>
          </p:cNvPr>
          <p:cNvSpPr/>
          <p:nvPr/>
        </p:nvSpPr>
        <p:spPr>
          <a:xfrm>
            <a:off x="7524720" y="6093000"/>
            <a:ext cx="1295280" cy="504720"/>
          </a:xfrm>
          <a:custGeom>
            <a:avLst/>
            <a:gdLst>
              <a:gd name="textAreaLeft" fmla="*/ 32400 w 1295280"/>
              <a:gd name="textAreaRight" fmla="*/ 1262880 w 1295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5409" h="21600">
                <a:moveTo>
                  <a:pt x="0" y="0"/>
                </a:moveTo>
                <a:lnTo>
                  <a:pt x="55409" y="0"/>
                </a:lnTo>
                <a:lnTo>
                  <a:pt x="55409" y="21600"/>
                </a:lnTo>
                <a:lnTo>
                  <a:pt x="0" y="21600"/>
                </a:lnTo>
                <a:close/>
              </a:path>
              <a:path fill="lightenLess" w="55409" h="21600">
                <a:moveTo>
                  <a:pt x="0" y="0"/>
                </a:moveTo>
                <a:lnTo>
                  <a:pt x="55409" y="0"/>
                </a:lnTo>
                <a:lnTo>
                  <a:pt x="54009" y="1400"/>
                </a:lnTo>
                <a:lnTo>
                  <a:pt x="1400" y="1400"/>
                </a:lnTo>
                <a:close/>
              </a:path>
              <a:path fill="darken" w="55409" h="21600">
                <a:moveTo>
                  <a:pt x="55409" y="0"/>
                </a:moveTo>
                <a:lnTo>
                  <a:pt x="55409" y="21600"/>
                </a:lnTo>
                <a:lnTo>
                  <a:pt x="54009" y="20200"/>
                </a:lnTo>
                <a:lnTo>
                  <a:pt x="54009" y="1400"/>
                </a:lnTo>
                <a:close/>
              </a:path>
              <a:path fill="darkenLess" w="55409" h="21600">
                <a:moveTo>
                  <a:pt x="55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09" y="20200"/>
                </a:lnTo>
                <a:close/>
              </a:path>
              <a:path fill="lighten" w="55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09" h="21600">
                <a:moveTo>
                  <a:pt x="20698" y="7493"/>
                </a:moveTo>
                <a:lnTo>
                  <a:pt x="24205" y="7493"/>
                </a:lnTo>
                <a:lnTo>
                  <a:pt x="24205" y="12828"/>
                </a:lnTo>
                <a:cubicBezTo>
                  <a:pt x="24205" y="13751"/>
                  <a:pt x="25006" y="14482"/>
                  <a:pt x="26042" y="14482"/>
                </a:cubicBezTo>
                <a:lnTo>
                  <a:pt x="27704" y="14482"/>
                </a:lnTo>
                <a:cubicBezTo>
                  <a:pt x="28740" y="14482"/>
                  <a:pt x="29541" y="13751"/>
                  <a:pt x="29541" y="12828"/>
                </a:cubicBezTo>
                <a:lnTo>
                  <a:pt x="29541" y="7493"/>
                </a:lnTo>
                <a:lnTo>
                  <a:pt x="27704" y="7493"/>
                </a:lnTo>
                <a:lnTo>
                  <a:pt x="31212" y="3985"/>
                </a:lnTo>
                <a:lnTo>
                  <a:pt x="34885" y="7493"/>
                </a:lnTo>
                <a:lnTo>
                  <a:pt x="33048" y="7493"/>
                </a:lnTo>
                <a:lnTo>
                  <a:pt x="33048" y="12828"/>
                </a:lnTo>
                <a:cubicBezTo>
                  <a:pt x="33048" y="15596"/>
                  <a:pt x="30472" y="18155"/>
                  <a:pt x="27704" y="18155"/>
                </a:cubicBezTo>
                <a:lnTo>
                  <a:pt x="26042" y="18155"/>
                </a:lnTo>
                <a:cubicBezTo>
                  <a:pt x="23274" y="18155"/>
                  <a:pt x="20698" y="15596"/>
                  <a:pt x="20698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285840"/>
            <a:ext cx="7358040" cy="551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Объект 5" descr=""/>
          <p:cNvPicPr/>
          <p:nvPr/>
        </p:nvPicPr>
        <p:blipFill>
          <a:blip r:embed="rId1"/>
          <a:srcRect l="-3330" t="-7220" r="-5074" b="-31522"/>
          <a:stretch/>
        </p:blipFill>
        <p:spPr>
          <a:xfrm>
            <a:off x="1571760" y="928800"/>
            <a:ext cx="6215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Объект 6" descr=""/>
          <p:cNvPicPr/>
          <p:nvPr/>
        </p:nvPicPr>
        <p:blipFill>
          <a:blip r:embed="rId1"/>
          <a:srcRect l="-3986" t="-10959" r="-4987" b="-33987"/>
          <a:stretch/>
        </p:blipFill>
        <p:spPr>
          <a:xfrm>
            <a:off x="1500120" y="50004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Физкультминутка</a:t>
            </a: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 для школьников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Компьютерный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8568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ткройте програм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ordPa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пуск программы WordPa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к→Все программы→Стандартные→ WordP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кройте докумен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тирование  (рабочий стол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й пред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ировать текст – это значит придавать ему форму, оформля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ам нужно разместить на экране   10 копий этого предложе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мы выделим предложение, затем копируем его и вставляем 9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ас  в документе - 10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! При выполнении следующих заданий не забывайте выделять нужные        ст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6" descr="j0285750"/>
          <p:cNvPicPr/>
          <p:nvPr/>
        </p:nvPicPr>
        <p:blipFill>
          <a:blip r:embed="rId1"/>
          <a:stretch/>
        </p:blipFill>
        <p:spPr>
          <a:xfrm>
            <a:off x="2987640" y="2133720"/>
            <a:ext cx="3289320" cy="20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i?id=35454203&amp;tov=8"/>
          <p:cNvPicPr/>
          <p:nvPr/>
        </p:nvPicPr>
        <p:blipFill>
          <a:blip r:embed="rId2"/>
          <a:stretch/>
        </p:blipFill>
        <p:spPr>
          <a:xfrm>
            <a:off x="571680" y="4214880"/>
            <a:ext cx="1871640" cy="139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17" descr="i?id=35167658&amp;tov=3"/>
          <p:cNvPicPr/>
          <p:nvPr/>
        </p:nvPicPr>
        <p:blipFill>
          <a:blip r:embed="rId3"/>
          <a:stretch/>
        </p:blipFill>
        <p:spPr>
          <a:xfrm>
            <a:off x="3071880" y="4357800"/>
            <a:ext cx="1185840" cy="157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19" descr="i?id=94182729&amp;tov=3"/>
          <p:cNvPicPr/>
          <p:nvPr/>
        </p:nvPicPr>
        <p:blipFill>
          <a:blip r:embed="rId4"/>
          <a:stretch/>
        </p:blipFill>
        <p:spPr>
          <a:xfrm>
            <a:off x="6715080" y="4000680"/>
            <a:ext cx="1400400" cy="206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21" descr="i?id=56836651&amp;tov=8"/>
          <p:cNvPicPr/>
          <p:nvPr/>
        </p:nvPicPr>
        <p:blipFill>
          <a:blip r:embed="rId5"/>
          <a:stretch/>
        </p:blipFill>
        <p:spPr>
          <a:xfrm>
            <a:off x="4932360" y="189000"/>
            <a:ext cx="126540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23" descr="Картинка 10 из 1324"/>
          <p:cNvPicPr/>
          <p:nvPr/>
        </p:nvPicPr>
        <p:blipFill>
          <a:blip r:embed="rId6"/>
          <a:stretch/>
        </p:blipFill>
        <p:spPr>
          <a:xfrm>
            <a:off x="250920" y="981000"/>
            <a:ext cx="2628720" cy="136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25" descr="i?id=39444504&amp;tov=5"/>
          <p:cNvPicPr/>
          <p:nvPr/>
        </p:nvPicPr>
        <p:blipFill>
          <a:blip r:embed="rId7"/>
          <a:stretch/>
        </p:blipFill>
        <p:spPr>
          <a:xfrm>
            <a:off x="642960" y="2643120"/>
            <a:ext cx="1893960" cy="10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27" descr="i?id=60108959&amp;tov=6"/>
          <p:cNvPicPr/>
          <p:nvPr/>
        </p:nvPicPr>
        <p:blipFill>
          <a:blip r:embed="rId8"/>
          <a:stretch/>
        </p:blipFill>
        <p:spPr>
          <a:xfrm>
            <a:off x="6643800" y="500040"/>
            <a:ext cx="200484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29" descr="i?id=56659511&amp;tov=3"/>
          <p:cNvPicPr/>
          <p:nvPr/>
        </p:nvPicPr>
        <p:blipFill>
          <a:blip r:embed="rId9"/>
          <a:stretch/>
        </p:blipFill>
        <p:spPr>
          <a:xfrm>
            <a:off x="6429240" y="2214720"/>
            <a:ext cx="2217960" cy="156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31" descr="i?id=51239789&amp;tov=5"/>
          <p:cNvPicPr/>
          <p:nvPr/>
        </p:nvPicPr>
        <p:blipFill>
          <a:blip r:embed="rId10"/>
          <a:stretch/>
        </p:blipFill>
        <p:spPr>
          <a:xfrm>
            <a:off x="2987640" y="189000"/>
            <a:ext cx="1496880" cy="11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33" descr="i?id=24921470&amp;tov=7"/>
          <p:cNvPicPr/>
          <p:nvPr/>
        </p:nvPicPr>
        <p:blipFill>
          <a:blip r:embed="rId11"/>
          <a:stretch/>
        </p:blipFill>
        <p:spPr>
          <a:xfrm>
            <a:off x="4572000" y="4429080"/>
            <a:ext cx="1860480" cy="14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Прямоугольник 13"/>
          <p:cNvSpPr/>
          <p:nvPr/>
        </p:nvSpPr>
        <p:spPr>
          <a:xfrm>
            <a:off x="857160" y="6211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омпьютер – инструмент подготовки текстов.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Образец выполнения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8616960" cy="449100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1"/>
          <p:cNvSpPr/>
          <p:nvPr/>
        </p:nvSpPr>
        <p:spPr>
          <a:xfrm>
            <a:off x="5716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Сравните и Оцени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§2.9 (с. 92-93), 3.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 Практическая работа, на лист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актическое  задание (оформить пригласительный билет по образц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инквейн (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492360" y="4375440"/>
            <a:ext cx="52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гласительный б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орогой друг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глашаем т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1 </a:t>
            </a: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апр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на праздничный 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деревню Простокваш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ядя Фёдор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686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Наш урок к концу подходит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удрая сова итог подводит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Чему мы научились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сегодня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3840" y="1857240"/>
            <a:ext cx="8929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бы подвести итог нашего урока я предлагаю вам продолжить фраз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егодня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узнал (узнала)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научился (научилась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амым легким при выполнении практической работы для меня бы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амым трудным на уроке оказа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Содержимое 3"/>
          <p:cNvGraphicFramePr/>
          <p:nvPr/>
        </p:nvGraphicFramePr>
        <p:xfrm>
          <a:off x="7129440" y="0"/>
          <a:ext cx="2014560" cy="22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9440" y="0"/>
                    <a:ext cx="20145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384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5a97"/>
                </a:solidFill>
                <a:latin typeface="Arial"/>
              </a:rPr>
              <a:t>Форма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5a97"/>
                </a:solidFill>
                <a:latin typeface="Arial"/>
              </a:rPr>
              <a:t>Красивое, оригин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5a97"/>
                </a:solidFill>
                <a:latin typeface="Arial"/>
              </a:rPr>
              <a:t>Украшает, меняет, выравн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5a97"/>
                </a:solidFill>
                <a:latin typeface="Arial"/>
              </a:rPr>
              <a:t>Форматирование - изменение формы текстового доку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5a97"/>
                </a:solidFill>
                <a:latin typeface="Arial"/>
              </a:rPr>
              <a:t>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5a97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Правила составления синквей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 строка – одно слово, обычно существительное, отражающее главную идею;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 строка – два слова, прилагательные, описывающие основную мысль;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3 строка – три слова, глаголы, описывающие действия в рамках темы;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4 строка - фраза из нескольких слов, выражающая отношение к теме;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5 строка – одно слово (ассоциация, синоним к теме, обычно существительное, допускается описательный оборот, эмоциональное отношение к тем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имер синквейна слова «Тек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. Текст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. Мелкий, красивый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3. Обработать, передать, хранить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4. Знания, которые мы получаем из окружающего мира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5. С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На сегодня наш урок законч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сем спасиб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сего вам доброг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До сви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СЕ 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214200"/>
          <a:ext cx="9144000" cy="4357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3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7"/>
          <p:cNvSpPr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Правила.                                                                                Правила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 с компьютером дружить,                 Чтоб с компьютером друж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до правила учит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Надо правила уч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шуметь и не ходить,                           Не шуметь и не   ходить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лько тихо говорить,                                     Только тихо говорить,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и чистыми держать,                                         Руки чистыми      держать,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х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ухо вытирать,                               Сух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ухо вытирать,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огда без разрешенья                                    Никогда без разрешенья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опки в нем не нажимать!                  Кнопки в нем не нажима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214200" y="479088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Times New Roman"/>
              </a:rPr>
              <a:t>Сравните  оформление этих тек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8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7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6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4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3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2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Ответ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ФОРМА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41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Arial"/>
              </a:rPr>
              <a:t>Что такое форматирова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Содержимое 3"/>
          <p:cNvGraphicFramePr/>
          <p:nvPr/>
        </p:nvGraphicFramePr>
        <p:xfrm>
          <a:off x="3643200" y="4286160"/>
          <a:ext cx="2014560" cy="22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3200" y="4286160"/>
                    <a:ext cx="20145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Ы СОЗДАНИЯ ТЕКСТОВОГО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971640" y="1268280"/>
            <a:ext cx="6840360" cy="2670120"/>
            <a:chOff x="971640" y="1268280"/>
            <a:chExt cx="6840360" cy="2670120"/>
          </a:xfrm>
        </p:grpSpPr>
        <p:pic>
          <p:nvPicPr>
            <p:cNvPr id="74" name="Picture 5" descr="ввод"/>
            <p:cNvPicPr/>
            <p:nvPr/>
          </p:nvPicPr>
          <p:blipFill>
            <a:blip r:embed="rId1"/>
            <a:stretch/>
          </p:blipFill>
          <p:spPr>
            <a:xfrm>
              <a:off x="971640" y="1268280"/>
              <a:ext cx="684036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6"/>
            <p:cNvSpPr/>
            <p:nvPr/>
          </p:nvSpPr>
          <p:spPr>
            <a:xfrm>
              <a:off x="5795640" y="299520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В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792000" y="2492280"/>
            <a:ext cx="8351640" cy="2670120"/>
            <a:chOff x="792000" y="2492280"/>
            <a:chExt cx="8351640" cy="2670120"/>
          </a:xfrm>
        </p:grpSpPr>
        <p:pic>
          <p:nvPicPr>
            <p:cNvPr id="77" name="Picture 8" descr="редактирование"/>
            <p:cNvPicPr/>
            <p:nvPr/>
          </p:nvPicPr>
          <p:blipFill>
            <a:blip r:embed="rId2"/>
            <a:stretch/>
          </p:blipFill>
          <p:spPr>
            <a:xfrm>
              <a:off x="792000" y="2492280"/>
              <a:ext cx="511344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9"/>
            <p:cNvSpPr/>
            <p:nvPr/>
          </p:nvSpPr>
          <p:spPr>
            <a:xfrm>
              <a:off x="5903640" y="386064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РЕДАКТИР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0"/>
          <p:cNvGrpSpPr/>
          <p:nvPr/>
        </p:nvGrpSpPr>
        <p:grpSpPr>
          <a:xfrm>
            <a:off x="719280" y="3860640"/>
            <a:ext cx="8424360" cy="2665440"/>
            <a:chOff x="719280" y="3860640"/>
            <a:chExt cx="8424360" cy="2665440"/>
          </a:xfrm>
        </p:grpSpPr>
        <p:pic>
          <p:nvPicPr>
            <p:cNvPr id="80" name="Picture 11" descr="форматирование"/>
            <p:cNvPicPr/>
            <p:nvPr/>
          </p:nvPicPr>
          <p:blipFill>
            <a:blip r:embed="rId3"/>
            <a:stretch/>
          </p:blipFill>
          <p:spPr>
            <a:xfrm>
              <a:off x="719280" y="3860640"/>
              <a:ext cx="518436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2"/>
            <p:cNvSpPr/>
            <p:nvPr/>
          </p:nvSpPr>
          <p:spPr>
            <a:xfrm>
              <a:off x="5759280" y="5373720"/>
              <a:ext cx="33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ФОРМАТИР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12026 L -0.16927 -0.04764 E">
                                      <p:cBhvr>
                                        <p:cTn id="10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31 -3.39203E-006 L 0 -3.39203E-006 E">
                                      <p:cBhvr>
                                        <p:cTn id="11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8903 L 0.16944 0.12072 E">
                                      <p:cBhvr>
                                        <p:cTn id="12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 Black"/>
              </a:rPr>
              <a:t>Что же такое форматирование?</a:t>
            </a:r>
            <a:br>
              <a:rPr sz="3200"/>
            </a:br>
            <a:br>
              <a:rPr sz="3600"/>
            </a:br>
            <a:r>
              <a:rPr b="0" i="1" lang="ru-RU" sz="3200" spc="-1" strike="noStrike">
                <a:solidFill>
                  <a:srgbClr val="7030a0"/>
                </a:solidFill>
                <a:latin typeface="Arial Black"/>
              </a:rPr>
              <a:t>Форматирование – изменение формы представления документов.</a:t>
            </a:r>
            <a:br>
              <a:rPr sz="3600"/>
            </a:br>
            <a:br>
              <a:rPr sz="3600"/>
            </a:b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Что значит отформатировать текст?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Каким другим словом можно заменить этот термин?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Что при форматировании или при оформлении происходит с текстовым документом, что меня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ФОРМАТИРОВАНИЕ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форма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ировании (о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форм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ении) изменяется внешний вид текста за счет выбор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риф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ачер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ыравн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5:57:28Z</dcterms:created>
  <dc:creator>Учитель</dc:creator>
  <dc:description/>
  <dc:language>en-US</dc:language>
  <cp:lastModifiedBy>Admin</cp:lastModifiedBy>
  <dcterms:modified xsi:type="dcterms:W3CDTF">2013-02-20T21:56:21Z</dcterms:modified>
  <cp:revision>66</cp:revision>
  <dc:subject/>
  <dc:title>Урок </dc:title>
</cp:coreProperties>
</file>