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1F03-9D57-4C33-80F3-F5141856A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157E-0A56-4F9E-AD6E-5FBB8453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1363-70C6-48DB-B4E1-ACC033280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CDBA-C88A-4513-9086-1CF98406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C4B0-1CCD-46DC-9E52-DCD7D08EC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96E3-6ED2-44B6-B85F-9BD28788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DAA8-2C99-49F1-B281-86825123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E05B-8D69-4B48-9B26-AF2E19D2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3E5A-3086-44FD-B4DE-9F03374E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AA6A-51D4-465E-9FAC-E64F0CC7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DD39-B0EC-4D2E-8670-ECA23C51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F0F8-99A4-4129-99E7-C5740884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5A33-1198-45C2-BE1C-E61BD2D6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D1B6-7D91-448A-8AA6-5AADC0B9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0543-73CF-44EE-9854-FEC0E944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FF2A-0F47-4BCF-A454-8E3DF17D4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30AC-FA9E-484E-9255-CD3B19035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FF4F3-F615-432C-8C69-BD5D02581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D07FB-8A55-4B81-8629-3A0E1189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2AD21-D296-4EA5-9BF9-D91C9FB8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42629-F9C6-4FC1-9F3C-74B84E18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A3ED1-9F1D-4B2C-816C-62C1AF79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5B7F-CC54-4CEC-AE10-B5AA4316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C90D4-20F6-4A59-AC5B-83B71DEB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7FFBE-A804-4311-827A-272BD381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AEF45-4300-418F-AF4A-1447E176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9693B-1737-477F-B8FF-019E0B75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A5C51-B7BA-4B84-A7BE-28EA28E8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A27A0-4E77-41CE-83D3-AF4778381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6270F-F6B8-4E12-A949-F55547DC0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510A3-D689-47F0-8B64-44F3330D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EE7CA-8636-4484-8D25-AD97DBC5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056F0-FAF8-48A7-9146-32CDF30F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5F47-4346-4153-8022-AB28BE0F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85D01-5B22-4450-ACCB-C83C2465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823D1-88AB-41A0-BCB5-EE5F9BC8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B3BC6-FBA9-43F6-9C48-62A141CA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2FA80-DF85-4D52-AFC2-4B9A8672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D7420-DE35-4ACA-BDFF-540C267A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03886-EEC0-4BFD-8E5F-B8B6EC97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BF0ED-FB0E-4EF7-ABF4-C7EA3BAE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5AE04-0C75-4A2F-BD2C-206709BB7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C2624-06FB-4F61-BEE2-915F79EA3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31B2-4659-4FC4-B34F-D3CAFF45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394E-774C-41C8-BC76-2E47D0C2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3884-48BA-4D0A-B506-C8E24BEE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996D-1EA9-49D2-8CFD-4117C6F6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FAAA-41B8-4525-8C67-D485A756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3363-CBC3-471F-A64E-EBABA642982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8457-0D0E-420B-AC6D-0456AAF1B5D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1C42-7CBF-4A71-9532-F0C92D15BFE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3125-21A9-43D4-825F-585FC183118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444600" y="0"/>
            <a:ext cx="7877160" cy="15112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bdbfa"/>
                </a:solidFill>
                <a:latin typeface="Constantia"/>
              </a:rPr>
              <a:t>Подготовили: команда «Искатели»МОУ «ООШ п.Восточный»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2"/>
          <a:stretch/>
        </p:blipFill>
        <p:spPr>
          <a:xfrm>
            <a:off x="201600" y="841320"/>
            <a:ext cx="2382840" cy="1676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"/>
          <p:cNvPicPr/>
          <p:nvPr/>
        </p:nvPicPr>
        <p:blipFill>
          <a:blip r:embed="rId3"/>
          <a:stretch/>
        </p:blipFill>
        <p:spPr>
          <a:xfrm>
            <a:off x="428760" y="4857840"/>
            <a:ext cx="2571480" cy="1830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4"/>
          <a:stretch/>
        </p:blipFill>
        <p:spPr>
          <a:xfrm>
            <a:off x="2357280" y="2928960"/>
            <a:ext cx="2071800" cy="1643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5"/>
          <a:stretch/>
        </p:blipFill>
        <p:spPr>
          <a:xfrm>
            <a:off x="4572000" y="1500120"/>
            <a:ext cx="2214720" cy="20001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6"/>
          <a:stretch/>
        </p:blipFill>
        <p:spPr>
          <a:xfrm>
            <a:off x="6929280" y="3143160"/>
            <a:ext cx="1785960" cy="1543320"/>
          </a:xfrm>
          <a:prstGeom prst="rect">
            <a:avLst/>
          </a:prstGeom>
          <a:ln w="0">
            <a:noFill/>
          </a:ln>
        </p:spPr>
      </p:pic>
    </p:spTree>
  </p:cSld>
  <p:transition advTm="15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7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770" fill="hold"/>
                                        <p:tgtEl>
                                          <p:spTgt spid="2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" dur="77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9" descr=""/>
          <p:cNvPicPr/>
          <p:nvPr/>
        </p:nvPicPr>
        <p:blipFill>
          <a:blip r:embed="rId1"/>
          <a:stretch/>
        </p:blipFill>
        <p:spPr>
          <a:xfrm>
            <a:off x="633240" y="-115920"/>
            <a:ext cx="8077320" cy="194472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533160" y="1999800"/>
            <a:ext cx="7854840" cy="40006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Пищевая химия уже давно и прочно вошла в нашу повседневную жизнь. О последствиях ее применения мы пока не задумываемся, но когда приходится обращаться к врачам, начинаешь понимать, что в действительности является истинной причиной заболевания. Французы говорят: "Человек с самого рождения начинает копать себе могилу, - каждый день, своей собственной обеденной ложкой..."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advTm="20000">
    <p:dissolv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57120" y="714240"/>
            <a:ext cx="81439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 сожалению, в современном мире человеку очень трудно питаться правильно. Такое ощущение, что технологии развиваются, а люди глупею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TextBox 3"/>
          <p:cNvSpPr/>
          <p:nvPr/>
        </p:nvSpPr>
        <p:spPr>
          <a:xfrm>
            <a:off x="571680" y="2357280"/>
            <a:ext cx="7715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илие на прилавках колбас, сосисок, карбоната, дрожжевого хлеба, лимонада, конфет, майонеза и различных соусов ведет к их неминуемой покупке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з это продают, значит надо это есть!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 покупают, и едя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4"/>
          <p:cNvSpPr/>
          <p:nvPr/>
        </p:nvSpPr>
        <p:spPr>
          <a:xfrm>
            <a:off x="642960" y="4643280"/>
            <a:ext cx="735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затем удивляются, почему чувствуют слабость, сонливость, депрессию, почему боле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одержимое 2"/>
          <p:cNvSpPr/>
          <p:nvPr/>
        </p:nvSpPr>
        <p:spPr>
          <a:xfrm>
            <a:off x="500040" y="1928880"/>
            <a:ext cx="822960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ременные консерванты, которыми просто напичканы колбасы и сыры, конфеты и рыбные консервы, - это сложные химические соединения, подавляющие развитие бактерий в долго хранящихся продуктах. Но, расправившись с микробами, они принимаются за на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4000">
    <p:wipe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7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8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5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2295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Неужели мы должны совсем отказаться от консервов?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 Как обойтись без них в походе? 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71680" y="2571840"/>
            <a:ext cx="8229600" cy="37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уточная безопасная норма - 4-5 миллиграммов на килограмм веса тела. Следовательно,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ля человека с весом 70 кг - 280-350 миллиграммов в сутк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Это - банка рыбного паштета и литровая бутылка "Колы"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5" descr="G:\1.jpg"/>
          <p:cNvPicPr/>
          <p:nvPr/>
        </p:nvPicPr>
        <p:blipFill>
          <a:blip r:embed="rId1"/>
          <a:stretch/>
        </p:blipFill>
        <p:spPr>
          <a:xfrm rot="936600">
            <a:off x="6337080" y="430704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 advTm="17000">
    <p:wedg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G:\zapret-shablon.gif"/>
          <p:cNvPicPr/>
          <p:nvPr/>
        </p:nvPicPr>
        <p:blipFill>
          <a:blip r:embed="rId1"/>
          <a:stretch/>
        </p:blipFill>
        <p:spPr>
          <a:xfrm>
            <a:off x="500040" y="1276200"/>
            <a:ext cx="8001000" cy="55818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Строго запрещен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214280"/>
            <a:ext cx="82296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бензоат кальция </a:t>
            </a:r>
            <a:r>
              <a:rPr b="1" lang="ru-RU" sz="2600" spc="-1" strike="noStrike">
                <a:solidFill>
                  <a:srgbClr val="00b0f0"/>
                </a:solidFill>
                <a:latin typeface="Arial"/>
                <a:ea typeface="Arial"/>
              </a:rPr>
              <a:t>(Е 213),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ульфиты кальция и натрия </a:t>
            </a:r>
            <a:r>
              <a:rPr b="1" lang="ru-RU" sz="2600" spc="-1" strike="noStrike">
                <a:solidFill>
                  <a:srgbClr val="00b0f0"/>
                </a:solidFill>
                <a:latin typeface="Arial"/>
                <a:ea typeface="Arial"/>
              </a:rPr>
              <a:t>(Е 281 и Е 282</a:t>
            </a:r>
            <a:r>
              <a:rPr b="0" lang="ru-RU" sz="2600" spc="-1" strike="noStrike">
                <a:solidFill>
                  <a:srgbClr val="00b0f0"/>
                </a:solidFill>
                <a:latin typeface="Arial"/>
                <a:ea typeface="Arial"/>
              </a:rPr>
              <a:t>)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цитрат лецитина </a:t>
            </a:r>
            <a:r>
              <a:rPr b="1" lang="ru-RU" sz="2600" spc="-1" strike="noStrike">
                <a:solidFill>
                  <a:srgbClr val="00b0f0"/>
                </a:solidFill>
                <a:latin typeface="Arial"/>
                <a:ea typeface="Arial"/>
              </a:rPr>
              <a:t>(Е 344</a:t>
            </a:r>
            <a:r>
              <a:rPr b="0" lang="ru-RU" sz="2600" spc="-1" strike="noStrike">
                <a:solidFill>
                  <a:srgbClr val="00b0f0"/>
                </a:solidFill>
                <a:latin typeface="Arial"/>
                <a:ea typeface="Arial"/>
              </a:rPr>
              <a:t>)</a:t>
            </a:r>
            <a:r>
              <a:rPr b="1" lang="ru-RU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и некоторые друг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Из красителей -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цитрусовый красный </a:t>
            </a:r>
            <a:r>
              <a:rPr b="1" i="1" lang="ru-RU" sz="2600" spc="-1" strike="noStrike">
                <a:solidFill>
                  <a:srgbClr val="00b0f0"/>
                </a:solidFill>
                <a:latin typeface="Arial"/>
                <a:ea typeface="Arial"/>
              </a:rPr>
              <a:t>(Е 121)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мамрант</a:t>
            </a:r>
            <a:r>
              <a:rPr b="0" lang="ru-RU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00b0f0"/>
                </a:solidFill>
                <a:latin typeface="Arial"/>
                <a:ea typeface="Arial"/>
              </a:rPr>
              <a:t>(Е 123),</a:t>
            </a:r>
            <a:r>
              <a:rPr b="0" lang="ru-RU" sz="26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ак что, если вы обнаружите на этикетке эти обозначения, знайте - вам предлагают заведомо вредный продукт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advTm="26000">
    <p:strips dir="ru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2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2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4" dur="20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20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Жевательные конфеты, жвачки,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чупа-чупс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Picture 4" descr="I:\Documents and Settings\User\Рабочий стол\картинки\42939_25453-700x500.jpg"/>
          <p:cNvPicPr/>
          <p:nvPr/>
        </p:nvPicPr>
        <p:blipFill>
          <a:blip r:embed="rId1"/>
          <a:stretch/>
        </p:blipFill>
        <p:spPr>
          <a:xfrm>
            <a:off x="5286240" y="1500120"/>
            <a:ext cx="3422880" cy="2565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I:\Documents and Settings\User\Рабочий стол\картинки\8afa22a3620a6a0e33e0b6bc0bdd52b6_big.jpg"/>
          <p:cNvPicPr/>
          <p:nvPr/>
        </p:nvPicPr>
        <p:blipFill>
          <a:blip r:embed="rId2"/>
          <a:stretch/>
        </p:blipFill>
        <p:spPr>
          <a:xfrm rot="1314000">
            <a:off x="5135400" y="3614760"/>
            <a:ext cx="3643560" cy="265896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5"/>
          <p:cNvSpPr/>
          <p:nvPr/>
        </p:nvSpPr>
        <p:spPr>
          <a:xfrm>
            <a:off x="571680" y="2143080"/>
            <a:ext cx="4286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ё это относится к вредным продуктам. В них содержится огромное количество сахара, а кроме того химические добавки, заменители, красител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wheel spokes="8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Чипсы, картофель-фри, кукурузные «рузики»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8" name="Picture 4" descr="I:\Documents and Settings\User\Рабочий стол\картинки\6e4d69b9f1ba70c94759836ed931e2e9_original.png"/>
          <p:cNvPicPr/>
          <p:nvPr/>
        </p:nvPicPr>
        <p:blipFill>
          <a:blip r:embed="rId1"/>
          <a:stretch/>
        </p:blipFill>
        <p:spPr>
          <a:xfrm>
            <a:off x="5504040" y="785880"/>
            <a:ext cx="3639960" cy="2730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I:\Documents and Settings\User\Рабочий стол\картинки\3722.jpg"/>
          <p:cNvPicPr/>
          <p:nvPr/>
        </p:nvPicPr>
        <p:blipFill>
          <a:blip r:embed="rId2"/>
          <a:stretch/>
        </p:blipFill>
        <p:spPr>
          <a:xfrm>
            <a:off x="6929280" y="2714760"/>
            <a:ext cx="2452680" cy="2452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I:\Documents and Settings\User\Рабочий стол\картинки\F6C63D3E-B520-4C7A-8520-7D486E9348C2.jpg"/>
          <p:cNvPicPr/>
          <p:nvPr/>
        </p:nvPicPr>
        <p:blipFill>
          <a:blip r:embed="rId3"/>
          <a:stretch/>
        </p:blipFill>
        <p:spPr>
          <a:xfrm>
            <a:off x="4000680" y="3583080"/>
            <a:ext cx="3357360" cy="327492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7"/>
          <p:cNvSpPr/>
          <p:nvPr/>
        </p:nvSpPr>
        <p:spPr>
          <a:xfrm>
            <a:off x="428760" y="1428840"/>
            <a:ext cx="3714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чень вредны для организма. Смесь углеводов и жира, в оболочке красителей, заменителей вкуса или сахара. Ничего хорошего не несет и поедание картофеля–ф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strips dir="r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77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770" fill="hold"/>
                                        <p:tgtEl>
                                          <p:spTgt spid="2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5" dur="77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7" dur="77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Сладкие газированные напитки - газировк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3" name="Picture 4" descr="I:\Documents and Settings\User\Рабочий стол\картинки\zzzzsszprod4.jpg"/>
          <p:cNvPicPr/>
          <p:nvPr/>
        </p:nvPicPr>
        <p:blipFill>
          <a:blip r:embed="rId1"/>
          <a:stretch/>
        </p:blipFill>
        <p:spPr>
          <a:xfrm>
            <a:off x="6286680" y="1143000"/>
            <a:ext cx="2857320" cy="2286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I:\Documents and Settings\User\Рабочий стол\картинки\Безымянный.bmp"/>
          <p:cNvPicPr/>
          <p:nvPr/>
        </p:nvPicPr>
        <p:blipFill>
          <a:blip r:embed="rId2"/>
          <a:stretch/>
        </p:blipFill>
        <p:spPr>
          <a:xfrm>
            <a:off x="5929200" y="3643200"/>
            <a:ext cx="3214800" cy="274176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6"/>
          <p:cNvSpPr/>
          <p:nvPr/>
        </p:nvSpPr>
        <p:spPr>
          <a:xfrm>
            <a:off x="285840" y="1571760"/>
            <a:ext cx="5072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, химия и газы – чтобы быстрее распределить по организму вредные веще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oca-Cola - замечательное средство от известковой накипи и ржавчины. Подумайте хорошо прежде, чем отправлять такую жидкость в желудок. Четыре-пять чайных ложек сахара в стакане воды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strips dir="l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2-26T10:54:56Z</dcterms:modified>
  <cp:revision>18</cp:revision>
  <dc:subject/>
  <dc:title>Химия в повседневной жизни человека</dc:title>
</cp:coreProperties>
</file>