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83D-D437-4C96-A13F-E953C258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294-26F9-47D0-B185-DB7D5772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C25-262C-48C7-BAE3-5FC2B9E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E52-A97C-41E0-9F3F-E1ECB36E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0409-7486-4729-9092-07989D15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7262-6369-4B77-9F7B-8F419E8D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D20C-3ED4-46D1-9278-19481B1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B597-9383-466E-AFA3-E8F2882A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8C70-5D92-4F2D-890E-A1D0A6A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B96-B03A-44C4-BF77-73CA215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F680-85EF-4190-BA07-30FAE25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1B9-3D6C-4E31-BBE0-9BB70D4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292E-761B-41C1-A40D-019FD7F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6C0-7802-4162-801F-B1E3E29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5D92-CB11-4F00-9BCA-B1A027A7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3B7-F222-40A8-AA61-070DBB08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006-9893-4480-B22A-53DB7638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B15A-21BA-46C8-8A30-F74A472D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BED9-FD9D-48BE-BC29-E276757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79AA-E729-4F62-805F-FB81442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C42A-F6FE-47E5-A423-44EB7A8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7222-24FA-430B-BECF-0694AC71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6BB-67F2-441C-AED4-C345CC63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5AAB-DFB7-43C8-ABE7-DB14FF1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9B7A-0FE0-4027-B4FA-A9E68A7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7628-B33C-48E4-B066-B54F58C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025D-41A3-4696-AE1F-7460E35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5FDE-978C-4DCC-B488-6D32114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7D13-8260-4744-8D08-A48AE171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BEAF-6909-4FE6-B1D9-77F8F1A6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F9A3-4EE1-4830-977B-A10D3AEC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D923-B5DE-4E3D-BEE8-BCAED3D0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9235-7FC7-4897-9224-F49CA31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181-92A4-422D-A81C-1F6B775F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5004-A120-437B-98CE-8F20B9DE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97ED-3027-40FA-A5FB-F6EC932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A003-335F-431B-BBB4-880AFEA8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4060-F2A3-4B02-BD10-1A3978B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4CF1-3CA8-41A8-BD2F-BBFCAF3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F8AD-E315-4A31-B3D9-63D0D24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BA7B-89C6-448C-A9F3-3B0B7E7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2B73-50E4-4611-B2E5-4E488238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2BA9-6D9B-4181-9D5E-DCC949A5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C8F-012D-487A-8CB4-1D09ED2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C7E-3691-4430-80EE-103F6BBA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28F-1E9B-4EE3-B9C1-0173CAF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77F-95B5-4F3E-AC34-2C1C2BFE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0BD-4587-4EC7-89AE-BE7BC5F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E70B-27C8-4E28-AFA6-E4C76D98EAE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E4AF-6AF5-43B2-8A06-962F31E409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1D5-1446-4C7B-8DAD-F28DEBDA23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30D5-85FC-43B9-A071-35F0A18006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Колбаса, сосис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I:\Documents and Settings\User\Рабочий стол\картинки\0_1b553_c599ec2c_XL.jpg"/>
          <p:cNvPicPr/>
          <p:nvPr/>
        </p:nvPicPr>
        <p:blipFill>
          <a:blip r:embed="rId1"/>
          <a:stretch/>
        </p:blipFill>
        <p:spPr>
          <a:xfrm>
            <a:off x="5500800" y="1285920"/>
            <a:ext cx="3230280" cy="2422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:\Documents and Settings\User\Рабочий стол\картинки\31675cy320x480.jpg"/>
          <p:cNvPicPr/>
          <p:nvPr/>
        </p:nvPicPr>
        <p:blipFill>
          <a:blip r:embed="rId2"/>
          <a:stretch/>
        </p:blipFill>
        <p:spPr>
          <a:xfrm>
            <a:off x="6429240" y="3854520"/>
            <a:ext cx="2286000" cy="27892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357120" y="1285920"/>
            <a:ext cx="5357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ясные деликатесы» остаются одними из самых вредных продуктов в современном пит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содержат так называемые скрытые жиры (сало, свиная шкурка, нутряной жир), все это прикрывается ароматизаторами и заменителями вкусов. К тому же колбасы, сосиски, сардельки, на 80%  состоят из трансгенной со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I:\Documents and Settings\User\Рабочий стол\картинки\3a02daa92ae8.jpg"/>
          <p:cNvPicPr/>
          <p:nvPr/>
        </p:nvPicPr>
        <p:blipFill>
          <a:blip r:embed="rId1"/>
          <a:stretch/>
        </p:blipFill>
        <p:spPr>
          <a:xfrm rot="1165800">
            <a:off x="5429160" y="1285920"/>
            <a:ext cx="3111480" cy="2479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I:\Documents and Settings\User\Рабочий стол\картинки\092c2d044417a2805fefa8505ae09a5c.jpg"/>
          <p:cNvPicPr/>
          <p:nvPr/>
        </p:nvPicPr>
        <p:blipFill>
          <a:blip r:embed="rId2"/>
          <a:stretch/>
        </p:blipFill>
        <p:spPr>
          <a:xfrm rot="20595600">
            <a:off x="5073120" y="3839760"/>
            <a:ext cx="3786480" cy="2525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околадные батонч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500040" y="1643040"/>
            <a:ext cx="4000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громное количество калорий в сочетании с химическими добавками, генетически модифицированными продуктами, красителями и ароматизатор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Алкоголь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4" descr="I:\Documents and Settings\User\Рабочий стол\картинки\4672da1a49d99200f2e81ebda1ab.jpg"/>
          <p:cNvPicPr/>
          <p:nvPr/>
        </p:nvPicPr>
        <p:blipFill>
          <a:blip r:embed="rId1"/>
          <a:stretch/>
        </p:blipFill>
        <p:spPr>
          <a:xfrm>
            <a:off x="5819760" y="1428840"/>
            <a:ext cx="3324240" cy="37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00040" y="1785960"/>
          <a:ext cx="5357880" cy="4324320"/>
        </p:xfrm>
        <a:graphic>
          <a:graphicData uri="http://schemas.openxmlformats.org/drawingml/2006/table">
            <a:tbl>
              <a:tblPr/>
              <a:tblGrid>
                <a:gridCol w="5357880"/>
              </a:tblGrid>
              <a:tr h="43243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коголь - это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ркотик и яд. Даже в минимальных количествах. Кроме того он мешает усваиванию витаминов, также алкогольные изделия очень калорийны сам по себе. Рассказывать о влиянии алкоголя на печень, почки, наверно, и не стоит, вы и так всё прекрасно знает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3000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ливочное масло, маргари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I:\Documents and Settings\User\Рабочий стол\картинки\64248754_4.jpg"/>
          <p:cNvPicPr/>
          <p:nvPr/>
        </p:nvPicPr>
        <p:blipFill>
          <a:blip r:embed="rId1"/>
          <a:stretch/>
        </p:blipFill>
        <p:spPr>
          <a:xfrm>
            <a:off x="5334120" y="1357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357120" y="128592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, маргарин, спред, сливочный крем, жирная сметана, сливки, жирный сыр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убойной дозы жира ничего ценного в себе не содержат. Нам уже известно, к чему ведет избыток поступающих в организм с пищей животных жи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потреблять в пищу кефир, ряженку, ценный тв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split dir="in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Консервы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I:\Documents and Settings\User\Рабочий стол\картинки\13066824845038.jpg"/>
          <p:cNvPicPr/>
          <p:nvPr/>
        </p:nvPicPr>
        <p:blipFill>
          <a:blip r:embed="rId1"/>
          <a:stretch/>
        </p:blipFill>
        <p:spPr>
          <a:xfrm rot="1196400">
            <a:off x="5373360" y="14205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4"/>
          <p:cNvSpPr/>
          <p:nvPr/>
        </p:nvSpPr>
        <p:spPr>
          <a:xfrm>
            <a:off x="428760" y="1428840"/>
            <a:ext cx="52862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 компоты, мясные, грибные, рыбные консервы, консервированная плодоовощная продукция (соленые помидоры, огурцы, соки натуральные, фруктово-ягодные смеси и т.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ервы давно уже считаются пищей, не слишком полезной для здоровья. Мнение о том, что свежеприготовленные мясо, рыба, грибы, овощи и фрукты полезнее консервов, не подвергается сомн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ообще не е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I:\Documents and Settings\User\Рабочий стол\картинки\Безымянный 1.bmp"/>
          <p:cNvPicPr/>
          <p:nvPr/>
        </p:nvPicPr>
        <p:blipFill>
          <a:blip r:embed="rId1"/>
          <a:stretch/>
        </p:blipFill>
        <p:spPr>
          <a:xfrm>
            <a:off x="5481720" y="1785960"/>
            <a:ext cx="3662280" cy="25527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428760" y="2143080"/>
            <a:ext cx="485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ин пункт можно вынести вообще малопригодные в пищу продукты: лапшу быстрого приготовления, растворимые супчики, картофельные пюре, растворимые соки «Юпи». Все это сплошная х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йствие многих веществ, добавляемых в продукты современными производителями, сопоставимо с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ействием ядов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редные продукты укорачивают жизнь человека, отравляя его организм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9000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G:\fobiki.jpg"/>
          <p:cNvPicPr/>
          <p:nvPr/>
        </p:nvPicPr>
        <p:blipFill>
          <a:blip r:embed="rId1"/>
          <a:stretch/>
        </p:blipFill>
        <p:spPr>
          <a:xfrm>
            <a:off x="3143160" y="2286000"/>
            <a:ext cx="2928960" cy="2824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G:\CA81IV8T.jpg"/>
          <p:cNvPicPr/>
          <p:nvPr/>
        </p:nvPicPr>
        <p:blipFill>
          <a:blip r:embed="rId2"/>
          <a:stretch/>
        </p:blipFill>
        <p:spPr>
          <a:xfrm>
            <a:off x="642960" y="1071720"/>
            <a:ext cx="1886040" cy="1357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:\CABF1SY1.jpg"/>
          <p:cNvPicPr/>
          <p:nvPr/>
        </p:nvPicPr>
        <p:blipFill>
          <a:blip r:embed="rId3"/>
          <a:stretch/>
        </p:blipFill>
        <p:spPr>
          <a:xfrm>
            <a:off x="6357960" y="2071800"/>
            <a:ext cx="1990800" cy="1500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G:\CADQVPLI.jpg"/>
          <p:cNvPicPr/>
          <p:nvPr/>
        </p:nvPicPr>
        <p:blipFill>
          <a:blip r:embed="rId4"/>
          <a:stretch/>
        </p:blipFill>
        <p:spPr>
          <a:xfrm>
            <a:off x="6072120" y="5270400"/>
            <a:ext cx="1571760" cy="158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G:\CAGXQJ4V.jpg"/>
          <p:cNvPicPr/>
          <p:nvPr/>
        </p:nvPicPr>
        <p:blipFill>
          <a:blip r:embed="rId5"/>
          <a:stretch/>
        </p:blipFill>
        <p:spPr>
          <a:xfrm>
            <a:off x="785880" y="3214800"/>
            <a:ext cx="1900080" cy="1425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CAKFU34H.jpg"/>
          <p:cNvPicPr/>
          <p:nvPr/>
        </p:nvPicPr>
        <p:blipFill>
          <a:blip r:embed="rId6"/>
          <a:stretch/>
        </p:blipFill>
        <p:spPr>
          <a:xfrm>
            <a:off x="5286240" y="428760"/>
            <a:ext cx="1857600" cy="1395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G:\CAODYN8L.jpg"/>
          <p:cNvPicPr/>
          <p:nvPr/>
        </p:nvPicPr>
        <p:blipFill>
          <a:blip r:embed="rId7"/>
          <a:stretch/>
        </p:blipFill>
        <p:spPr>
          <a:xfrm>
            <a:off x="3714840" y="5459400"/>
            <a:ext cx="1857240" cy="1398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G:\CAUBG5ER.jpg"/>
          <p:cNvPicPr/>
          <p:nvPr/>
        </p:nvPicPr>
        <p:blipFill>
          <a:blip r:embed="rId8"/>
          <a:stretch/>
        </p:blipFill>
        <p:spPr>
          <a:xfrm>
            <a:off x="3000240" y="5716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G:\eda_buduschego__33.jpg"/>
          <p:cNvPicPr/>
          <p:nvPr/>
        </p:nvPicPr>
        <p:blipFill>
          <a:blip r:embed="rId9"/>
          <a:stretch/>
        </p:blipFill>
        <p:spPr>
          <a:xfrm>
            <a:off x="7000920" y="3786120"/>
            <a:ext cx="1738440" cy="153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G:\10706.jpg"/>
          <p:cNvPicPr/>
          <p:nvPr/>
        </p:nvPicPr>
        <p:blipFill>
          <a:blip r:embed="rId10"/>
          <a:stretch/>
        </p:blipFill>
        <p:spPr>
          <a:xfrm>
            <a:off x="642960" y="4929120"/>
            <a:ext cx="2424240" cy="1647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5"/>
          <p:cNvSpPr/>
          <p:nvPr/>
        </p:nvSpPr>
        <p:spPr>
          <a:xfrm>
            <a:off x="1785960" y="2714760"/>
            <a:ext cx="557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Arial"/>
              </a:rPr>
              <a:t>Подумай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over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6T10:56:41Z</dcterms:modified>
  <cp:revision>18</cp:revision>
  <dc:subject/>
  <dc:title>Химия в повседневной жизни человека</dc:title>
</cp:coreProperties>
</file>