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680C-485B-4918-A010-D4112F935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0F06-BA5D-42F5-B121-868074E3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00A0-3F88-43B1-AD08-86AFB6400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D380-3827-4F86-81F5-5AF5A00E1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2EB2-FB7D-41C3-ACC9-F0A71D96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C8BB-BD62-4A62-A19F-AFC1F06E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5568-5FA0-45D9-8C2E-59160418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3352-220B-4F01-BB3C-05F26BDF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B1B9-53F4-4621-B6DB-7E5235EC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18E5-262F-48F2-ACED-05A49779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39C7-E2FE-4457-AD49-76B699C0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A68A-BCE2-4AFE-866E-ADCA6055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9A42-8B8A-417C-AA85-2B74B80B8CA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езентацию составил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41911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амбурова Алеся, ученица 10 класса ГБОУ СОШ с. Александров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3200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ешенство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бака находится в угнетенном состоянии, становится беспокойно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висает нижняя челюс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2-4 день наступает смерт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4" descr="18_14"/>
          <p:cNvPicPr/>
          <p:nvPr/>
        </p:nvPicPr>
        <p:blipFill>
          <a:blip r:embed="rId1"/>
          <a:stretch/>
        </p:blipFill>
        <p:spPr>
          <a:xfrm>
            <a:off x="5334120" y="2209680"/>
            <a:ext cx="2835000" cy="41529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 rot="879000">
            <a:off x="4800600" y="914400"/>
            <a:ext cx="3962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ихая фор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2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05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ризнаки бешенства у челове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сто укуса припухает, краснеет, появляется зуд, повышение температуры тела, нарушение с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ступы водобоязни. Приступы длятся несколько секунд, после чего спазмы мышц проходя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ловек агрессивен, кричит и мечется, ломает мебель, проявляя нечеловеческую силу; возможно развитие слуховых и зрительных галлюцинаций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ралитический период начинается с успокоения: исчезает страх, тревоги, приступы гидрофобии, возникает надежда на выздоровление. Наступает паралич конечностей и черепных нервов различной локализации, повышение температуры тела свыше 40 градус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мерть наступает от остановки сердца или паралича дыхательного цент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2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татисти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коло 50000 человек ежегодно в мире умирают от бешен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9 млн. людей ежегодно получают  лечени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2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елью нападения бездомных собак на человека является отнюдь не убийство, собака никогда не рассматривает человека как свою добыч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ичины агресси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8" name="Picture 6" descr="41ec87c63357"/>
          <p:cNvPicPr/>
          <p:nvPr/>
        </p:nvPicPr>
        <p:blipFill>
          <a:blip r:embed="rId1"/>
          <a:stretch/>
        </p:blipFill>
        <p:spPr>
          <a:xfrm>
            <a:off x="4648320" y="2133720"/>
            <a:ext cx="3504960" cy="3301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4572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дной из причиной нападения бездомных собак может быть игра- собакам просто скучно, они ищут развлечения, а кричащий, размахивающий руками на бегу человек является отличной игрушко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ругой причиной  агрессии может быть охрана места или потомств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ечно, причиной нападения может быть и предыдущий негативный опы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5028840" y="456840"/>
            <a:ext cx="3809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ричины агресси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1" name="Picture 4" descr="41ec87c63357"/>
          <p:cNvPicPr/>
          <p:nvPr/>
        </p:nvPicPr>
        <p:blipFill>
          <a:blip r:embed="rId1"/>
          <a:stretch/>
        </p:blipFill>
        <p:spPr>
          <a:xfrm>
            <a:off x="5257800" y="1905120"/>
            <a:ext cx="3505320" cy="3301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оведение при встречи с собако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2520" y="45716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вы окружены стаей собак, то самое лучшее решение- остановится, опустить руки и не шевелитьс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4" descr="P4273562"/>
          <p:cNvPicPr/>
          <p:nvPr/>
        </p:nvPicPr>
        <p:blipFill>
          <a:blip r:embed="rId1"/>
          <a:stretch/>
        </p:blipFill>
        <p:spPr>
          <a:xfrm>
            <a:off x="4952880" y="1523880"/>
            <a:ext cx="3886200" cy="29149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5"/>
          <p:cNvSpPr/>
          <p:nvPr/>
        </p:nvSpPr>
        <p:spPr>
          <a:xfrm>
            <a:off x="609480" y="1371600"/>
            <a:ext cx="42674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тегорически нельзя убегать, поднимать руки или размахивать и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собака просто лает, то самый лучший вариант- не обращать на нее внимания и просто спокойно продолжать ид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пес подскакивает с явным намерением укусить, дайте собаке отпор, но не бейте ее и не замахивайтесь, а, повернувшись к ней, громко и уверенно скажите "Нельзя!"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2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2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8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пособы уменьшения количества бездомных собак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того, чтобы уменьшить распространение бездомных собак, используются следующие метод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лов собак. При этом бездомных собак стерилизуют и отпускаю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правка собак в прию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мерщвление бездомных собак после отло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стрел бродячих собак. Животных отстреливают прямо на том месте, где их обнаружи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2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8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8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8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8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Организации, занимающиеся защитой бездомных собак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9" name="Picture 4" descr="00p26d69"/>
          <p:cNvPicPr/>
          <p:nvPr/>
        </p:nvPicPr>
        <p:blipFill>
          <a:blip r:embed="rId1"/>
          <a:stretch/>
        </p:blipFill>
        <p:spPr>
          <a:xfrm>
            <a:off x="1295280" y="1828800"/>
            <a:ext cx="6553440" cy="4370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53352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мире существует множество организаций и фондов, защищающих бездомных животных. В России, например, такие организации, как «Альянс за права животных», «Спасите животных!», «Вита» и др. борются за права бездомных собак. Они выступают против таких насильственных мер, как усыпление, отстрел и отлов животных.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оме того, в России в 2009 году прошла общероссийская акция, символизировавшая собой протест против негуманного и насильственного отношения к бездомным собакам. Требования митингующих были предельно просты – принятие законодательных актов, которые защищали бы бездомных и бродячих собак жестокого с ними обращен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2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5029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очется надеяться, что все многочисленные акции, проведенные в защиту бездомных животных, не пройдут даром, и наши четвероногие друзья смогут мирно сосуществовать с нами. Ведь нет никакой их вины в том, что они оказались на улице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Picture 4" descr="25229"/>
          <p:cNvPicPr/>
          <p:nvPr/>
        </p:nvPicPr>
        <p:blipFill>
          <a:blip r:embed="rId1"/>
          <a:stretch/>
        </p:blipFill>
        <p:spPr>
          <a:xfrm>
            <a:off x="5715000" y="457200"/>
            <a:ext cx="2898720" cy="33336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оект на тему: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«Бездомные собаки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42640" y="2209320"/>
            <a:ext cx="6553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облема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Тема бездомных собак до сих пор актуальна. Мы неоднократно видим на улицах села стаи бродячих собак. Они опасны как для детей, так и для взрослых. Многие собаки заражены бешенств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ни могут не просто укусить, но и загрызть человек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6840" y="380520"/>
            <a:ext cx="5257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 2 года в Бахилово было 7 случаев нападения собак. 4 их них- на дете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ыл произведен отстрел бешеных лис (3) и собак (5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3912"/>
          <p:cNvPicPr/>
          <p:nvPr/>
        </p:nvPicPr>
        <p:blipFill>
          <a:blip r:embed="rId1"/>
          <a:stretch/>
        </p:blipFill>
        <p:spPr>
          <a:xfrm>
            <a:off x="5791320" y="1066680"/>
            <a:ext cx="2895480" cy="28958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1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Результа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ходе работы были встречи с главой администрации и участковым по поводу данной проблемы. Стали штрафовать неответственных хозяе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ыло вывешено обращение к жителям сел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2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5ffff"/>
                </a:solidFill>
                <a:latin typeface="Tahoma"/>
              </a:rPr>
              <a:t>Спасибо за внимание.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med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оект на тему: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«Бездомные собаки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2640" y="2209320"/>
            <a:ext cx="6553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выявить причины появления бродячих соба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провести просветительскую работу с жителями села и учениками школы по мерам безопас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вызвать переживание к братьям нашим меньши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2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оект на тему: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«Бездомные собаки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42640" y="2209320"/>
            <a:ext cx="6553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Этап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Сентябрь.(выбор темы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Октябрь- ноябрь.(сбор материал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Декабрь (оформление материал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2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533520"/>
            <a:ext cx="30481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чина выбора данной темы неслучайна. Мы неоднократно видим на улицах нашего села  стаи бродячих собак. Особенно часто их можно встретить возле рынка, крупных свалок и около школ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Picture 4" descr="195392858"/>
          <p:cNvPicPr/>
          <p:nvPr/>
        </p:nvPicPr>
        <p:blipFill>
          <a:blip r:embed="rId1"/>
          <a:stretch/>
        </p:blipFill>
        <p:spPr>
          <a:xfrm>
            <a:off x="3429000" y="1523880"/>
            <a:ext cx="5334120" cy="3994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120" y="533160"/>
            <a:ext cx="49532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Человек давно приручил собаку, и процесс ее одомашнивания привел к тому, что у большинства собак изменилась психи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баки страдают без люде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том, что существуют бездомные собаки, и ряды этих бедолаг постоянно пополняются, виноваты, конечно, люд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2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09120" y="533160"/>
            <a:ext cx="49532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Были выявлены основные  «источники» бездомных собак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ервый - хозяева избавляются от надоевших питомце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торой - неконтролируемое разведен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ретий «источник» -потерявшиеся собаки. (Хозяева разрешают собакам гулять без поводка. Собака  испугалась чего-либо  или погналась за другой собакой или кошкой  и потерялась. 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2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4560" y="609120"/>
            <a:ext cx="6095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аше село находится в лесной  местности, очень часто заходят лисы, заражённые бешенством. Нередко лисы заражают соба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2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32763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ешенство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267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бака угнетена, на зов не откликается, прячется в темное мест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которые собаки становятся слишком ласковы, пытаются лизнуть человека, что очень опасно, так как слюна уже заразн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аралич мышц нижней челюст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грессивнос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ступы буйства сменяются апати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мерть наступает на 6-11 ден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Picture 5" descr="7-03"/>
          <p:cNvPicPr/>
          <p:nvPr/>
        </p:nvPicPr>
        <p:blipFill>
          <a:blip r:embed="rId1"/>
          <a:stretch/>
        </p:blipFill>
        <p:spPr>
          <a:xfrm>
            <a:off x="4876920" y="1828800"/>
            <a:ext cx="3773520" cy="42670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6"/>
          <p:cNvSpPr/>
          <p:nvPr/>
        </p:nvSpPr>
        <p:spPr>
          <a:xfrm rot="807000">
            <a:off x="4343040" y="5335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уйная фор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2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sya</cp:lastModifiedBy>
  <dcterms:modified xsi:type="dcterms:W3CDTF">2013-02-26T16:43:49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