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AE74-1A8D-474C-B7A4-F7B71D3CA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DBDA-148B-4A78-A61E-BC3249343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6F01-3ECC-4811-BDF1-132237941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BA73-1B4B-4D4D-94AE-8B2EC48CC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E48FB-3FFC-419D-AFD1-F8F3B0A40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E6C95-387B-457B-A512-946021CE4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197F8-1879-495A-BDB1-58F356824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70BCE-4356-498A-BB4C-23D39F0F3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F538D-2AE3-4100-ADB1-F4E36CB96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85225-486D-430C-B038-03AE551E8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9F499-48A6-46C9-92B8-767EE9EE7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1287-5D18-4A6D-9543-9BB05B63B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73E27-BF0A-4C68-9C80-AADAEBCB4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16B44-C4D4-4064-98AF-F8DA7B9A4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DDB82-E479-4549-B580-4BEAC1887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40F4A-E75C-4C41-A7F3-E91EBDC53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49EC9-4018-4DCE-8CA0-5BF577C6F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67C2-7F0C-44D1-8F3A-11E92DE9C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E17C-A55F-4140-AD42-21D97EE1A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793C-5581-4B38-ADFE-68AD05A94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B539-673B-4A20-98F8-EDCD4567C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F3CF-766F-49A6-96A8-F7891BC01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E903-8724-471B-97EF-1EA7C9D41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94A7-4F8E-4E5F-8D3E-E6641FE14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7F3E04E-B5A9-45C0-B0EB-2A6C2B5EB29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2765865-5E70-4D7F-9BD0-6B88EB61509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falseface.ru/primer/base/contempt.jpg" TargetMode="External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68000" y="1267920"/>
            <a:ext cx="82090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58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Тема: формирование валеологической среды на уроках физической культуры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4000" y="3284640"/>
            <a:ext cx="8134200" cy="26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Цель: сформировать у участников образовательного процесса отношение к своему здоровью, как к ценност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Вывод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Целью этого задания является не только составление комплексов, но и возможность их    дальнейшего использования  в самостоятельных занятиях, как на уроках физической культуры, так и дома. Работа в группе даёт возможность вовлечь в атмосферу творчества всех участников, оценить результат работы в целом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5" dur="8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" dur="8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3104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3880" bIns="4500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Удивление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324000" y="2976480"/>
            <a:ext cx="4103640" cy="292752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2627280" y="3537000"/>
            <a:ext cx="3321000" cy="332100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5364000" y="3219480"/>
            <a:ext cx="3780000" cy="36385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marL="343080" indent="-341640">
              <a:lnSpc>
                <a:spcPct val="93000"/>
              </a:lnSpc>
              <a:spcBef>
                <a:spcPts val="638"/>
              </a:spcBef>
              <a:buClr>
                <a:srgbClr val="000000"/>
              </a:buClr>
              <a:buFont typeface="Symbol" charset="2"/>
              <a:buChar char="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морщить лоб, поднять брови, рот приоткры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Bef>
                <a:spcPts val="638"/>
              </a:spcBef>
              <a:buClr>
                <a:srgbClr val="000000"/>
              </a:buClr>
              <a:buFont typeface="Symbol" charset="2"/>
              <a:buChar char="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лностью расслабить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8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8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8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8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500"/>
                            </p:stCondLst>
                            <p:childTnLst>
                              <p:par>
                                <p:cTn id="16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388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Печаль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ерхние веки слегка опустит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рови приподнят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голки рта опустит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асслабитьс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4932360" y="1700280"/>
            <a:ext cx="3865680" cy="378144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324000" y="3333600"/>
            <a:ext cx="4968720" cy="352440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395280" y="333360"/>
            <a:ext cx="4038480" cy="53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ерхние веки слегка опустит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брови приподнят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голки рта опустит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асслабитьс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4284720" y="1197000"/>
            <a:ext cx="4859280" cy="479916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388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Отвращение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042920" y="3498840"/>
            <a:ext cx="3328920" cy="3359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500"/>
                            </p:stCondLst>
                            <p:childTnLst>
                              <p:par>
                                <p:cTn id="20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Уголок рта приподня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асслабиться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Презрение</a:t>
            </a:r>
            <a:br>
              <a:rPr sz="4400"/>
            </a:b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9" name="" descr="Картинка 62 из 408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067280" y="2205000"/>
            <a:ext cx="5076720" cy="34480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324000" y="3340080"/>
            <a:ext cx="4681440" cy="351792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8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8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8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8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388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Счастье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4043520" cy="44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ебольшие морщинки вокруг глаз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Щёки приподнят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Губы в улыбк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асслабиться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4427640" y="4027320"/>
            <a:ext cx="4160880" cy="283068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4427640" y="1700280"/>
            <a:ext cx="4143240" cy="2295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000"/>
                            </p:stCondLst>
                            <p:childTnLst>
                              <p:par>
                                <p:cTn id="23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388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Обид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ахмуритьс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оджать губ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асслабиться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324000" y="2935440"/>
            <a:ext cx="6264000" cy="392256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500720" y="1268280"/>
            <a:ext cx="4643280" cy="297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457200" y="764640"/>
            <a:ext cx="8229600" cy="53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«Не тот спортсмен,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кто в детстве прыгает,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а тот, кто под старость бегает»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Народная мудрость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2" dur="8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3" dur="8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4" dur="8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7" dur="8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8" dur="8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9" dur="8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2" dur="8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3" dur="8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4" dur="8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9" dur="8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0" dur="8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1" dur="8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Причины отсутствия спорта в нашей жизни: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ам зачастую «некогда» сходить в бассейн, спортклуб, площадку, стадион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сылаемся на дороговизну занятий спортом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тсутствие настроения или «компании»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трах выглядеть хуже, слабее на фоне других занимающихся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Лень - как одна из главных причин откладывания занятий «на завтра»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2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" dur="1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" nodeType="afterEffect" fill="hold" presetClass="entr" presetID="2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" dur="1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4500"/>
                            </p:stCondLst>
                            <p:childTnLst>
                              <p:par>
                                <p:cTn id="30" nodeType="afterEffect" fill="hold" presetClass="entr" presetID="2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" dur="10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6000"/>
                            </p:stCondLst>
                            <p:childTnLst>
                              <p:par>
                                <p:cTn id="36" nodeType="afterEffect" fill="hold" presetClass="entr" presetID="2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" dur="10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3104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9840" bIns="4500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Осанка - это способность без особого напряжения удерживать своё тело в правильной позе сидя, при ходьбе, во время выполнения физических упражнений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50920" y="1989000"/>
            <a:ext cx="5580000" cy="48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 правильной осанке: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638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олова и туловище находятся на одной вертика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638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лечи на одном уровне, развёрнуты, слегка опуще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638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лопатки прижа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638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физиологические кривизны позвоночного столба нормально выраже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638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рудь слегка выпукл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638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живот втяну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638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оги разогнуты в коленных и тазобедренных сустав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364000" y="2781360"/>
            <a:ext cx="3564000" cy="315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Вывод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Таким образом, регулярно выполняемые физические упражнения направленные на гармоничное развитие мышц туловища и подвижность позвоночного столба, служат эффективным средством формирования осанк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8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3104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6240" bIns="4500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Сила- способность человека преодолевать за счёт мышечных усилий (сокращений) внешнее сопротивление или противодействовать внешним силам.</a:t>
            </a: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 marL="343080" indent="-341640">
              <a:lnSpc>
                <a:spcPct val="93000"/>
              </a:lnSpc>
              <a:spcBef>
                <a:spcPts val="638"/>
              </a:spcBef>
              <a:buClr>
                <a:srgbClr val="000000"/>
              </a:buClr>
              <a:buFont typeface="Symbol" charset="2"/>
              <a:buChar char="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инамическая - сила, проявляемая в движе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Bef>
                <a:spcPts val="638"/>
              </a:spcBef>
              <a:buClr>
                <a:srgbClr val="000000"/>
              </a:buClr>
              <a:buFont typeface="Symbol" charset="2"/>
              <a:buChar char="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атическая – не сопровождается движением и  изменением длины мыш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24000" y="3716280"/>
            <a:ext cx="2998800" cy="223848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6300720" y="2924280"/>
            <a:ext cx="2100240" cy="309708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3708360" y="3068640"/>
            <a:ext cx="2438280" cy="308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3104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6240" bIns="4500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Гибкость - морфофункциональное свойство опорно-двигательного аппарата человека, определяющее пределы движений звеньев тела. </a:t>
            </a:r>
            <a:br>
              <a:rPr sz="2400"/>
            </a:b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Различают две формы проявления гибкости: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3352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5000" anchor="t">
            <a:noAutofit/>
          </a:bodyPr>
          <a:p>
            <a:pPr marL="343080" indent="-341640">
              <a:lnSpc>
                <a:spcPct val="93000"/>
              </a:lnSpc>
              <a:spcBef>
                <a:spcPts val="638"/>
              </a:spcBef>
              <a:buClr>
                <a:srgbClr val="000000"/>
              </a:buClr>
              <a:buFont typeface="Symbol" charset="2"/>
              <a:buChar char="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ктивную, характеризуемую величиной амплитуды движений при самостоятельном выполнении упражнений благодаря собственным мышечным усилиям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Bef>
                <a:spcPts val="638"/>
              </a:spcBef>
              <a:buClr>
                <a:srgbClr val="000000"/>
              </a:buClr>
              <a:buFont typeface="Symbol" charset="2"/>
              <a:buChar char="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ассивную, характеризуемую максимальной величиной амплитуды движении, достигаемой воздействии внешних сил, например, с помощью партнёра, либо отягощения и т.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5580000" y="3716280"/>
            <a:ext cx="3232080" cy="212904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3419640" y="4869000"/>
            <a:ext cx="2665080" cy="175896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395280" y="3645000"/>
            <a:ext cx="3456000" cy="230508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131760" y="4724280"/>
            <a:ext cx="1417680" cy="213372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3500"/>
                            </p:stCondLst>
                            <p:childTnLst>
                              <p:par>
                                <p:cTn id="7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8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8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8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оддерживать себя в физической форме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Бороться с гиподинамией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Заниматься профилактикой заболеваний опорно-двигательного аппарата, застоем крови в нижних конечностях и малом тазу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Результат самостоятельных занятий: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320"/>
                            </p:stCondLst>
                            <p:childTnLst>
                              <p:par>
                                <p:cTn id="9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320"/>
                            </p:stCondLst>
                            <p:childTnLst>
                              <p:par>
                                <p:cTn id="9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3320"/>
                            </p:stCondLst>
                            <p:childTnLst>
                              <p:par>
                                <p:cTn id="10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3104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6240" bIns="4500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Сила- способность человека преодолевать за счёт мышечных усилий (сокращений) внешнее сопротивление или противодействовать внешним силам.</a:t>
            </a: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 marL="343080" indent="-341640">
              <a:lnSpc>
                <a:spcPct val="93000"/>
              </a:lnSpc>
              <a:spcBef>
                <a:spcPts val="638"/>
              </a:spcBef>
              <a:buClr>
                <a:srgbClr val="000000"/>
              </a:buClr>
              <a:buFont typeface="Symbol" charset="2"/>
              <a:buChar char="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инамическая - сила, проявляемая в движе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Bef>
                <a:spcPts val="638"/>
              </a:spcBef>
              <a:buClr>
                <a:srgbClr val="000000"/>
              </a:buClr>
              <a:buFont typeface="Symbol" charset="2"/>
              <a:buChar char="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атическая – не сопровождается движением и  изменением длины мыш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324000" y="3716280"/>
            <a:ext cx="2998800" cy="223848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6300720" y="2924280"/>
            <a:ext cx="2100240" cy="309708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3708360" y="3068640"/>
            <a:ext cx="2438280" cy="308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3104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6240" bIns="4500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Гибкость - морфофункциональное свойство опорно-двигательного аппарата человека, определяющее пределы движений звеньев тела. </a:t>
            </a:r>
            <a:br>
              <a:rPr sz="2400"/>
            </a:b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Различают две формы проявления гибкости: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3352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5000" anchor="t">
            <a:noAutofit/>
          </a:bodyPr>
          <a:p>
            <a:pPr marL="343080" indent="-341640">
              <a:lnSpc>
                <a:spcPct val="93000"/>
              </a:lnSpc>
              <a:spcBef>
                <a:spcPts val="638"/>
              </a:spcBef>
              <a:buClr>
                <a:srgbClr val="000000"/>
              </a:buClr>
              <a:buFont typeface="Symbol" charset="2"/>
              <a:buChar char="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ктивную, характеризуемую величиной амплитуды движений при самостоятельном выполнении упражнений благодаря собственным мышечным усилиям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Bef>
                <a:spcPts val="638"/>
              </a:spcBef>
              <a:buClr>
                <a:srgbClr val="000000"/>
              </a:buClr>
              <a:buFont typeface="Symbol" charset="2"/>
              <a:buChar char="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ассивную, характеризуемую максимальной величиной амплитуды движении, достигаемой воздействии внешних сил, например, с помощью партнёра, либо отягощения и т.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580000" y="3716280"/>
            <a:ext cx="3232080" cy="212904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3419640" y="4869000"/>
            <a:ext cx="2665080" cy="175896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395280" y="3645000"/>
            <a:ext cx="3456000" cy="230508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151" name="" descr=""/>
          <p:cNvPicPr/>
          <p:nvPr/>
        </p:nvPicPr>
        <p:blipFill>
          <a:blip r:embed="rId4"/>
          <a:stretch/>
        </p:blipFill>
        <p:spPr>
          <a:xfrm>
            <a:off x="131760" y="4724280"/>
            <a:ext cx="1417680" cy="213372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3500"/>
                            </p:stCondLst>
                            <p:childTnLst>
                              <p:par>
                                <p:cTn id="12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8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8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8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8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3-02-26T15:33:39Z</dcterms:modified>
  <cp:revision>9</cp:revision>
  <dc:subject/>
  <dc:title>Формирование валеологической среды на уроках физической культуры</dc:title>
</cp:coreProperties>
</file>