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3B4-DAA9-4CF8-9A87-0419FD82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59D-3EE3-4C55-8572-68BA3325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6AB-F6CD-48EE-B34D-E6F004FD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D27-67C8-40DA-B204-C1C24BDF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5E1-6FD1-4A13-9E7B-A8088B69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918-EC0E-415B-9F93-17973433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8E6-14E0-4646-BC4D-1B90AE83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95B-74EF-48BA-B025-BCEC3B10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D20-4DAB-4EB2-9D05-2265D78D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D2B-C06D-41AD-8EBC-2A6EB68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3CA-E67A-43E9-97F2-2825841F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CAE-775A-4A9E-9F13-C2F997A0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07D4-99ED-48E9-AECE-9BCC23FC2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form.miass.ru/images/id334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аправление 2. Народные промыслы России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Миндибаева Элина, 13 лет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летение корзин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д. Большое Яумбаева Аргаяшского района Челябинской обла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342 из 950"/>
          <p:cNvPicPr/>
          <p:nvPr/>
        </p:nvPicPr>
        <p:blipFill>
          <a:blip r:embed="rId1"/>
          <a:stretch/>
        </p:blipFill>
        <p:spPr>
          <a:xfrm>
            <a:off x="6781680" y="3352680"/>
            <a:ext cx="2133720" cy="2210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Картинка 763 из 7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87631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1320" y="304920"/>
            <a:ext cx="2057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етение корз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358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й дедушка: Миндибаев Карим Гайфуллович, родился в 1939 году в многодетной семье (8 детей), был вторым ребенком. После армии выучился на тракториста, работал в Кузнецком совхозе. С детства увлекался плетением из ивовых прутьев. Изготавливал корзины-гнезда для гусей, кур, корзинки для грибов и ягод, коробки для вывоза сне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791320" cy="4647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-488448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плетения корз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летения корзин применяют однолетние и двухлетние побеги ивы. Лучшим временем заготовки прутьев считается ранняя весна (когда рост еще не начался) и поздняя осень (когда он уже полностью прекратил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заготовки прутиков лучше всего заготавливать прутья длиной около 60 сантиметров и больше, на месте среза диаметр прутика должен быть около 5 мм, но не больше 8 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у корзины составляет один обруч, к которому перпендикулярно крепится полуобруч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510552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3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тение корз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4320" y="274320"/>
            <a:ext cx="1371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тение корз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обручи разного диаметра располагаются со смещением, тем самым придавая изделию нужную форму. Для крепления полуобручей используется замок-ромб. Он прочно соединяет  полуобручи между собой и создает место для размещения дополнительных полудуг каркаса. Замок выполняется длинными тонкими прутьями. Обручи ставятся на  колени будущей ручкой на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1680" y="-360"/>
            <a:ext cx="190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тение корз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5000" y="167652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кладка пру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уток пропускается так, чтобы он огибал один полуобруч спереди, а следующий за ним сзади, и так далее до замыкания окружности или до конца пру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720" y="274680"/>
            <a:ext cx="2133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тение корз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2057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ез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нцы прутиков обрезают, держа нож под уг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тение корз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7162920" cy="480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5791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нал: корзина сплет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5943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коробок для вывоза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028880"/>
            <a:ext cx="7772400" cy="506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4320" y="228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тение корз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24852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зинка для ягод и декоративная  ваз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086600" cy="5054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0" y="304920"/>
            <a:ext cx="18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тение корз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2-05-02T16:47:4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