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A27-9D88-4368-BA98-5C7ADB89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A69-9CF2-4C50-A4FE-9E4C7D5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CBF-DD50-4C04-A3A0-E4C6137B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0D5-140B-4F64-8106-0474EF39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6E1-6AE6-41D4-BFCE-2E29834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C52-2BB2-4B75-ABEC-3A91FB45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146-C9E9-4E6D-82BD-1AF782A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077-0DE4-4C84-B54D-50B22F5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938-3FE7-4D27-9EF1-21E640F7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8D4-6930-4C4F-B6A4-F52D962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1DA-A2EB-4330-A286-97A6151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B05-9001-467B-8C81-E43C517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0AB9-7E2D-49EC-8812-FAAFE6000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60280"/>
            <a:ext cx="6624720" cy="647640"/>
          </a:xfrm>
          <a:prstGeom prst="rect">
            <a:avLst/>
          </a:prstGeom>
          <a:solidFill>
            <a:srgbClr val="9966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ниципальное автономное образовательное учреждени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чальная общеобразовательная школ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67160" y="6521040"/>
            <a:ext cx="2241360" cy="337320"/>
          </a:xfrm>
          <a:prstGeom prst="rect">
            <a:avLst/>
          </a:prstGeom>
          <a:solidFill>
            <a:srgbClr val="99663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ининград, 2013 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59280" y="5445000"/>
            <a:ext cx="3384720" cy="1465560"/>
          </a:xfrm>
          <a:prstGeom prst="rect">
            <a:avLst/>
          </a:prstGeom>
          <a:solidFill>
            <a:srgbClr val="9966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ила преподав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ва О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ы 3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банько По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1773360"/>
            <a:ext cx="4321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лександ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ергее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ушк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3640" y="4724280"/>
            <a:ext cx="2663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(1799-1837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Irina\Рабочий стол\pushkin_04.jpg"/>
          <p:cNvPicPr/>
          <p:nvPr/>
        </p:nvPicPr>
        <p:blipFill>
          <a:blip r:embed="rId2"/>
          <a:stretch/>
        </p:blipFill>
        <p:spPr>
          <a:xfrm>
            <a:off x="395280" y="260280"/>
            <a:ext cx="2543040" cy="33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новое\новое\pushkin_11.jpg"/>
          <p:cNvPicPr/>
          <p:nvPr/>
        </p:nvPicPr>
        <p:blipFill>
          <a:blip r:embed="rId3"/>
          <a:stretch/>
        </p:blipFill>
        <p:spPr>
          <a:xfrm>
            <a:off x="1116000" y="1268280"/>
            <a:ext cx="2232000" cy="3167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71013144031.jpg"/>
          <p:cNvPicPr/>
          <p:nvPr/>
        </p:nvPicPr>
        <p:blipFill>
          <a:blip r:embed="rId4"/>
          <a:stretch/>
        </p:blipFill>
        <p:spPr>
          <a:xfrm>
            <a:off x="1476360" y="2133720"/>
            <a:ext cx="2881440" cy="40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404280"/>
            <a:ext cx="3745080" cy="916920"/>
          </a:xfrm>
          <a:prstGeom prst="rect">
            <a:avLst/>
          </a:prstGeom>
          <a:solidFill>
            <a:srgbClr val="6633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андр Сергеевич Пушкин родился 26 мая (6 июня) в Москве, в Немецкой слоб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270440"/>
            <a:ext cx="3960720" cy="5306040"/>
          </a:xfrm>
          <a:prstGeom prst="rect">
            <a:avLst/>
          </a:prstGeom>
          <a:solidFill>
            <a:srgbClr val="6633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айший русский поэт и писатель, прозаик, драматург, публицист, критик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оначальник новой русской литературы, создатель русского литературного языка. Окончил Царскосельский (Александровский) лицей (1817). В 1820 году под видом служебного перемещения был сослан на юг (Екатеринослав, Кавказ, Крым, Кишинев, Одесса). В 1824 году уволен со службы и выслан в село Михайловское под полицейский надзор до 1826 года. Скончался от раны, полученной на дуэли. Его произведения переведены почти на все языки ми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Сергей Львович Пушкин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Н.О. Пушкина"/>
          <p:cNvPicPr/>
          <p:nvPr/>
        </p:nvPicPr>
        <p:blipFill>
          <a:blip r:embed="rId3"/>
          <a:stretch/>
        </p:blipFill>
        <p:spPr>
          <a:xfrm>
            <a:off x="6516720" y="765000"/>
            <a:ext cx="207324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О.С. Павлищева"/>
          <p:cNvPicPr/>
          <p:nvPr/>
        </p:nvPicPr>
        <p:blipFill>
          <a:blip r:embed="rId4"/>
          <a:stretch/>
        </p:blipFill>
        <p:spPr>
          <a:xfrm>
            <a:off x="2627280" y="256536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Л.С. Пушкин"/>
          <p:cNvPicPr/>
          <p:nvPr/>
        </p:nvPicPr>
        <p:blipFill>
          <a:blip r:embed="rId5"/>
          <a:stretch/>
        </p:blipFill>
        <p:spPr>
          <a:xfrm>
            <a:off x="4716360" y="2637000"/>
            <a:ext cx="1584360" cy="2160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-181080" y="3068640"/>
            <a:ext cx="26272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88280" indent="-188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ец, Сергей Львович Пушкин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ебогатый помещик, человек образованный, хорошо знал литерату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ыл знаком со многими русскими писателями и сам немного пис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770-1838г.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732720" y="3359880"/>
            <a:ext cx="20160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ь, Надежда Осиповна Пушки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ходилась внучкой арапу Петр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впоследствии русскому генералу Ганнибал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775-1836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268360" y="5084640"/>
            <a:ext cx="21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с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ьга Сергеевна Павлищева (1797-1868г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72000" y="508464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 Сергеевич Пушкин (1805-1852г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476280"/>
            <a:ext cx="3959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Семь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А. С. Пушкин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11344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б семьи Пушки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971640" y="260280"/>
            <a:ext cx="3456000" cy="40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Рабочий стол\пушкин1\arina.jpg"/>
          <p:cNvPicPr/>
          <p:nvPr/>
        </p:nvPicPr>
        <p:blipFill>
          <a:blip r:embed="rId3"/>
          <a:stretch/>
        </p:blipFill>
        <p:spPr>
          <a:xfrm>
            <a:off x="4788000" y="333360"/>
            <a:ext cx="3313080" cy="3930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383480" y="407664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491720" y="40766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8000" y="486900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7:32:00Z</dcterms:created>
  <dc:creator>александр</dc:creator>
  <dc:description/>
  <dc:language>en-US</dc:language>
  <cp:lastModifiedBy>александр</cp:lastModifiedBy>
  <dcterms:modified xsi:type="dcterms:W3CDTF">2013-02-25T19:22:40Z</dcterms:modified>
  <cp:revision>4</cp:revision>
  <dc:subject/>
  <dc:title>Слайд 1</dc:title>
</cp:coreProperties>
</file>