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464-0D0D-4727-9423-EB36530F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6D6-5584-4D78-B062-2AFF7C68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A42-09D9-4655-9973-E7DF725D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117-1CDF-4BB0-A090-DF227152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1458-D590-44EA-9137-6F1F8CDA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2625-AEB5-4BBD-BA6E-0F939A3D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7981-AF4E-43A3-879E-01065492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98D0-2482-4020-97F8-93C7D5C6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FC16-D07A-4C07-BF92-A1D04C10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844D-2EEC-47D5-97B0-7FC0F59C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C403-9A35-480E-945D-A060D836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B54-E0D9-473E-B4F5-B20D9BDC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9FAB-1080-427D-B356-03EB6F2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FB46-EB17-41D4-AECA-86A233A7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A93E-851A-49DB-ACFE-DA92BAFD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51E1-B966-472C-96B7-C52CC2C2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A510-1E1A-4FAB-A82E-68D29E3A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7D8-C7D7-48D9-9FD7-A7A75EE2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07E-9416-408A-BB2D-3B5EE576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C9C-E04F-4FE0-807E-F3A80700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0A3-2198-4FC3-AE88-20F2D27F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679-D771-4C34-84AF-02B5C0A1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F8F-F9F6-4822-9801-24B0ABBE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DFC-DCFA-4E36-AEB7-56C6F2A4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5BC9-7B94-4E6F-9CAD-8A361397BD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DA6D-45BF-4274-9A0D-A940FA3229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258920" y="765000"/>
            <a:ext cx="275256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усские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71640" y="2492280"/>
            <a:ext cx="34290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одные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067280" y="5157720"/>
            <a:ext cx="49244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струменты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95640" y="404640"/>
            <a:ext cx="4809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дарные инструмен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331640" y="1341360"/>
            <a:ext cx="1871640" cy="1079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1341360"/>
            <a:ext cx="0" cy="1079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1413000"/>
            <a:ext cx="1944720" cy="115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9640" y="2852640"/>
            <a:ext cx="117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бе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708360" y="2852640"/>
            <a:ext cx="1333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ж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04000" y="2852640"/>
            <a:ext cx="198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щот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525760" cy="1971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132000" y="3573360"/>
            <a:ext cx="2044800" cy="2044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804000" y="3500280"/>
            <a:ext cx="1911240" cy="19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658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4000" y="189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бен — музыкальный ударный инструмент в виде неширокой круглой деревянной обечайки, с натянутой на одной стороне кожаной мембраной. Иногда внутри обечайки подвешиваются бубенчики и колокольцы, а в прорези стенок вставляются бряцающие металлические пласт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остранен бубен у многих народов: узбекская дойра; армянский, азербайджанский, таджикский дэф; шаманские бубны с длинной ручкой у народов Сибири и Дальнего Востока. О шаманских бубнах можно прочитать на разных сайтах, хотелось бы рассказать о истории бубна на 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1440" y="-171360"/>
            <a:ext cx="9145440" cy="7442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71640" y="907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ожки- русский народный инструмент, состоит из двух обычных деревянных ложек.  Их ударяют одна на другую выпуклыми сторонами и получается четкий, звонкий зв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11163240" cy="7442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26920" y="333360"/>
            <a:ext cx="92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ещотка- инструмент из одних тонких дощечек, которые нанизаны на шнур или ремешок и отделены одна от другой узкими планками. Играющий на трещотках держит шнур за концы и, по разному встряхивая его, извлекает звонкие и сухие звуки в различных рит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258920" y="1557360"/>
            <a:ext cx="6553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620640"/>
            <a:ext cx="1847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уховы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627280" y="620640"/>
            <a:ext cx="292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ль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940360" y="620640"/>
            <a:ext cx="274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струм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331640" y="1341360"/>
            <a:ext cx="1871640" cy="1079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1341360"/>
            <a:ext cx="0" cy="1079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1413000"/>
            <a:ext cx="1944720" cy="115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2781360"/>
            <a:ext cx="1695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вир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4000" y="2637000"/>
            <a:ext cx="1819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жале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093080" y="2781360"/>
            <a:ext cx="1314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ож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2604960" cy="1735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419640" y="3933720"/>
            <a:ext cx="1985760" cy="1986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940360" y="3860640"/>
            <a:ext cx="2914560" cy="19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свирель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9280" y="33336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вирель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— русский инструмент типа продольной флейты. Такой тип инструментов существовал у разных народов с древних времё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вирель представляет собой простую деревянную (иногда металлическую) дудку. На одном конце её есть свистковое устройство в виде «клюва», а на середине лицевой стороны вырезаны разное количество игровых отверстий (обычно шесть). Изготавливается инструмент из крушины, орешника, клёна, ясеня или черёму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6" descr="жалейка2.jpg"/>
          <p:cNvPicPr/>
          <p:nvPr/>
        </p:nvPicPr>
        <p:blipFill>
          <a:blip r:embed="rId1"/>
          <a:stretch/>
        </p:blipFill>
        <p:spPr>
          <a:xfrm>
            <a:off x="0" y="0"/>
            <a:ext cx="940428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50920" y="333360"/>
            <a:ext cx="867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алейка представляет собой небольшую трубочку из ивы или бузины длиной от 10 до 20 см, в верхний конец которой вставлен пищик с одинарным язычком из камыша или гусиного пера, а на нижний надет раструб из коровьего рога или из бересты. Язычок иногда надрезают на самой трубочке. На стволе есть от 3 до 7 игровых отверстий, благодаря чему можно менять высоту зву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3" descr="рожо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33336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Рожок представляет собой конической формы прямую трубу с пятью игровыми отверстиями сверху и одним снизу. На нижнем конце есть небольшой раструб, на верхнем вклеенный мундштук. Общая длина рожка колеблется от 320 до 83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835280" y="692280"/>
            <a:ext cx="5381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унные инструм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331640" y="1341360"/>
            <a:ext cx="1871640" cy="1079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0" cy="1079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27640" y="1413000"/>
            <a:ext cx="1944720" cy="115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2781360"/>
            <a:ext cx="2162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лалай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51280" y="2852640"/>
            <a:ext cx="111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ус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308720" y="2708280"/>
            <a:ext cx="1305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2022480" cy="3198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843280" y="3573360"/>
            <a:ext cx="3209760" cy="2259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638440" cy="21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252360" y="-368280"/>
            <a:ext cx="10206000" cy="7226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Балалай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усский народны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рёхструнный щипковый музыкальный инструмент, от 600—700 мм (балалайка прима) до 1,7 метров (балалайка-контрабас) длиной, с треугольным слегка изогнутым (в XVIII—XIX веках также овальным) деревянным корпу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4800" cy="7477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89000"/>
            <a:ext cx="9217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сли - струнный музыкальный инструмент, наиболее распространён в России. Является наиболее древним русским струнным щипковым музыкальным инструмен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личают крыловидные и шлемовидные гусли. Первые, в более поздних образцах, имеют треугольную форму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 5 до 14 стру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астроенных по ступеням диатонической гаммы, шлемовидные 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-30 стру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акой же настройк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115920" y="-316080"/>
            <a:ext cx="9259920" cy="7442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11280" y="-171360"/>
            <a:ext cx="8136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́мра — русск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одный струнный щипковый музыкальный инструмент с тремя или четырьмя струнами. Для извлечения звука используется меди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ют два типа дом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ёхструнная — строй кварто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ырёхструнная — строй квинт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4:12:38Z</dcterms:created>
  <dc:creator>Admin</dc:creator>
  <dc:description/>
  <dc:language>en-US</dc:language>
  <cp:lastModifiedBy>Admin</cp:lastModifiedBy>
  <dcterms:modified xsi:type="dcterms:W3CDTF">2013-02-26T08:07:55Z</dcterms:modified>
  <cp:revision>6</cp:revision>
  <dc:subject/>
  <dc:title>Слайд 1</dc:title>
</cp:coreProperties>
</file>