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870-A533-423E-A3F7-CF03F492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7CD-62D6-4396-8F86-86144470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316-6D11-4538-A0B5-DE463F19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C09B-FF4E-4965-8AF6-6823ED37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6F1-E4D0-4000-9DE1-7EB9ACD6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2CE-DF0E-4636-A12E-3FDC8487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5967-1BBA-41A5-BB0E-AA4BE02C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5C0-7932-48A7-BAE6-4E1E1559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815-9F47-4E0C-A366-52F58EF7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CD1-68B9-4B53-8F76-06DBD2F4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CC9-3410-4A82-8460-095ADDB6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04C-FBFC-4487-BC7C-AE9DB09F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766B-2396-44F8-B4D8-4A5A24014B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52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Самые</a:t>
            </a:r>
            <a:br>
              <a:rPr sz="8800"/>
            </a:b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умные</a:t>
            </a:r>
            <a:br>
              <a:rPr sz="8800"/>
            </a:b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животные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равьи оказались очень хитрыми созданиями. Они собираются в огромные группы и принимают к себе меньшие колонии, чтобы сделать из них рабов. Также они умеют ориентироваться по солнцу. (Brian.gratwicke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Самые умные животные"/>
          <p:cNvPicPr/>
          <p:nvPr/>
        </p:nvPicPr>
        <p:blipFill>
          <a:blip r:embed="rId1"/>
          <a:stretch/>
        </p:blipFill>
        <p:spPr>
          <a:xfrm>
            <a:off x="888840" y="1600200"/>
            <a:ext cx="736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льфины одни из немногих животных на земле, которые умеют распознавать себя в зеркале. Они знают, кто их мать, лидер их группы и по-разному относятся к своим сородичам. (La Prima Don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Самые умные животные"/>
          <p:cNvPicPr/>
          <p:nvPr/>
        </p:nvPicPr>
        <p:blipFill>
          <a:blip r:embed="rId1"/>
          <a:stretch/>
        </p:blipFill>
        <p:spPr>
          <a:xfrm>
            <a:off x="1182600" y="1600200"/>
            <a:ext cx="677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15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импанзе Канзи в возрасте 29 лет знает около 450 слов и может общаться с человеком при помощи компьютера. Каждый день он использует около 30-40 слов.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Свиньи отличаются отличной памятью и интуицией, они отзываются на свое имя и понимают значение некоторых других слов. У них сложная социальная структура, и они лучше решают тесты на мышление, чем некоторые приматы. (Le vent le cir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Самые умные животные"/>
          <p:cNvPicPr/>
          <p:nvPr/>
        </p:nvPicPr>
        <p:blipFill>
          <a:blip r:embed="rId1"/>
          <a:stretch/>
        </p:blipFill>
        <p:spPr>
          <a:xfrm>
            <a:off x="1285920" y="2000160"/>
            <a:ext cx="67770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пугай жако по праву считается очень умной птицей. Этот вид попугаев поражает своей сообразительностью и верностью. Так, попугай Алекс, с которым занимается американский ученый Ирэн Папперберг из университета Аризоны, различает около 50 разных объектов. Причем свободно общается и умеет логически пояснять различие между разными предметами. (Curryosity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Самые умные животные"/>
          <p:cNvPicPr/>
          <p:nvPr/>
        </p:nvPicPr>
        <p:blipFill>
          <a:blip r:embed="rId1"/>
          <a:stretch/>
        </p:blipFill>
        <p:spPr>
          <a:xfrm>
            <a:off x="1214280" y="214308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оны очень умные и эмоциональные создания. Они горюют по умершим сородичам и иногда могут распознать их по бивням и черепу. Они сутками лежат у умерших сородичей, пока те не начинают разлагаться. (Exfordy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Самые умные животные"/>
          <p:cNvPicPr/>
          <p:nvPr/>
        </p:nvPicPr>
        <p:blipFill>
          <a:blip r:embed="rId1"/>
          <a:stretch/>
        </p:blipFill>
        <p:spPr>
          <a:xfrm>
            <a:off x="1357200" y="1928880"/>
            <a:ext cx="644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ские львы также относятся к животным, которые умеют мыслить логически. Семилетняя морская львица Рио доказала наличие логического мышления с помощью специальных тестов, в которых определила, что если a=b и b=c, то a=c. (Mikebaird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Самые умные животные"/>
          <p:cNvPicPr/>
          <p:nvPr/>
        </p:nvPicPr>
        <p:blipFill>
          <a:blip r:embed="rId1"/>
          <a:stretch/>
        </p:blipFill>
        <p:spPr>
          <a:xfrm>
            <a:off x="1714680" y="2000160"/>
            <a:ext cx="604332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00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импанзе давно известны своими способностями к мышлению. Недавно стало известно, что они даже планируют свое будущее, заранее обдумывая свои дальнейшие действия. (TheBusyBrain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Самые умные животные"/>
          <p:cNvPicPr/>
          <p:nvPr/>
        </p:nvPicPr>
        <p:blipFill>
          <a:blip r:embed="rId1"/>
          <a:stretch/>
        </p:blipFill>
        <p:spPr>
          <a:xfrm>
            <a:off x="1285920" y="2143080"/>
            <a:ext cx="6823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баку издавна считают лучшим другом человека и очень умным животным. Собаки могут изучить до 300 слов, их ум сравнивают с умом двухлетнего ребенка. (Dave-F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Самые умные животные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роны имеют самый большой размер мозга среди пернатых. Они умеют думать, обучаться и испытывают эмоции. Они очень изобретательны и даже могут подобрать нужный инструмент для выполнения определенной операции. (Iggy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Самые умные животные"/>
          <p:cNvPicPr/>
          <p:nvPr/>
        </p:nvPicPr>
        <p:blipFill>
          <a:blip r:embed="rId1"/>
          <a:stretch/>
        </p:blipFill>
        <p:spPr>
          <a:xfrm>
            <a:off x="1643040" y="2000160"/>
            <a:ext cx="6026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к утверждают ученые, африканские бабуины в плане поведения подобны человеку. У них сложные социальные системы, они могут испытывать стресс и умеют абстрактно мыслить. (Chi King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Самые умные животные"/>
          <p:cNvPicPr/>
          <p:nvPr/>
        </p:nvPicPr>
        <p:blipFill>
          <a:blip r:embed="rId1"/>
          <a:stretch/>
        </p:blipFill>
        <p:spPr>
          <a:xfrm>
            <a:off x="1646280" y="2214720"/>
            <a:ext cx="585144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6:29:05Z</dcterms:created>
  <dc:creator>UserXP</dc:creator>
  <dc:description/>
  <dc:language>en-US</dc:language>
  <cp:lastModifiedBy>UserXP</cp:lastModifiedBy>
  <dcterms:modified xsi:type="dcterms:W3CDTF">2011-11-01T04:54:03Z</dcterms:modified>
  <cp:revision>3</cp:revision>
  <dc:subject/>
  <dc:title>Самые – самые…  животные!</dc:title>
</cp:coreProperties>
</file>