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861-CB13-4F1A-9C27-3EC27C74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F9F-09EF-4C34-96B9-F3814B03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CE6-AC86-492E-8239-1EF7C9AB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E75-15BB-4D5B-9195-BD835661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B666-84A2-419C-8283-FF05C106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AB4A-A056-4002-A2C4-91630CA9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5B93-0B98-40A8-B439-18B176D0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72B1-77BF-436A-BFA4-92C130E3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35A3-1C49-49C3-85EB-9D7F18C7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88BE-5062-4D28-B58C-61FE7FF1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99BE-B0D1-48C7-B52F-4D576CFD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705-7118-4CBA-A667-E13F2742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CFFE-6510-421E-9101-4DCAEC96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01CC-B713-4DCA-A2A1-7472C826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15F5-52AD-4DCA-AED8-4A318CDF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2650-D563-46DC-8EB9-E4A16867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194A-1E81-4649-86DE-6B7092D4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D60-4C09-47AA-B8CD-A57F9C58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5A9-2A93-4FBF-AD78-F885C517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557-4695-4ED4-9F1F-FB78CC01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7EF-EEAB-4560-8A43-6EA9CD6A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537-5E2A-4D3B-8D5A-E5C446A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F71-3CC5-4E1F-AB2B-FE790BFB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EFB-06B9-4D3D-893D-F43F54FE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C155-05A2-4542-A4E9-FA314DB242E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8B05-DECD-46B7-AD0B-23B12168AEF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Проект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Школа будущего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Цели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оздание нетрадиционной «Школ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будущего», способствующе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плочению детского коллектив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витие творческих способносте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етей и подрост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кие интересные уроки хотели бы провести в «необычной» школ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кие новые предметы хотели бы ввести в этой школ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истема поощрения учащихс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ценки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«О» - отличн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«Х» - хорош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«С» - старалс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«Н» - нормальн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«Т» - терпим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овые предме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Секреты общения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Военное дело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Хитрология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Смакознание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елекомпания «Огонек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Журналисты – сбор информац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ператоры – съемка сюжето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едакторы – подготовка материалов к эфир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едущие – доносят информацию до телезрител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плочение детского коллектив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азвитие творческих способностей детей и подростков, саморазвитие, самовыражение личности на основе познавательной деятельност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ивлечение внимания общественности к проблемам детей и подростков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учение детей и подростков азам телевизионных професси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5-04T05:17:0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