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86A-559E-4C5D-8A3E-7501CFCB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905-43A7-4C07-8B84-5BDBF33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F71-0791-4682-BDFA-C79925D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779-DC1E-493B-A500-C6E45C55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80A-403F-446D-A4DB-889FC44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9E01-AEB2-4A13-A137-AAB9149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3F6-D50E-434D-BC70-EC2D02B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AA3-94C2-4F60-85B4-EE46140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B9FF-0592-4105-A434-D28B8927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26B-8925-4A8F-89A7-88F984E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86A5-374D-4C15-A79D-0D98D71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68D-FEC7-484F-8A9F-C5EBA0CD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C500-7F0C-49BF-BE9F-8FE73FA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887D-E778-4980-8F09-C7DE95D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5C3-E7FD-4A8E-9124-5E1222E1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CC7F-EE5A-4D59-9DD7-DBF2E02A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6B67-7AC3-462D-BD51-C1EA5F9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8F2-8EE8-4DAD-8F41-86E2EDC2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729-A3FD-46B2-B6E8-B6FEEE8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151-462C-4821-9E62-A6B186CC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E78-6FA4-4D19-A665-C139DE8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7FF-C2B4-4F20-9D32-892B586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47B-8971-4506-88D9-FB750254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238-011B-4050-ACD2-9A7F2E2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B14-4391-4B13-8F95-FEC369CC4D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903-E809-4024-815C-9ED3428647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8508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равнительная характеристика азиатского(индийского) и африканского слоно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88000" y="4723920"/>
            <a:ext cx="435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ту выполнил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 класса «А» </a:t>
            </a:r>
            <a:r>
              <a:rPr b="1" lang="ru-RU" sz="2000" spc="-1" strike="noStrike">
                <a:solidFill>
                  <a:srgbClr val="85c2ff"/>
                </a:solidFill>
                <a:latin typeface="Verdana"/>
              </a:rPr>
              <a:t>Носов Дени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уководитель:</a:t>
            </a:r>
            <a:r>
              <a:rPr b="1" lang="ru-RU" sz="2000" spc="-1" strike="noStrike">
                <a:solidFill>
                  <a:srgbClr val="85c2ff"/>
                </a:solidFill>
                <a:latin typeface="Verdana"/>
              </a:rPr>
              <a:t> Павлова Т.П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индийского слона уши оттопырены и висят по бокам голов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552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ши африканского слона очень большие и толстые, лежат на плеча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8" descr="0243966054"/>
          <p:cNvPicPr/>
          <p:nvPr/>
        </p:nvPicPr>
        <p:blipFill>
          <a:blip r:embed="rId1"/>
          <a:stretch/>
        </p:blipFill>
        <p:spPr>
          <a:xfrm>
            <a:off x="2195640" y="3048120"/>
            <a:ext cx="2879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ив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403848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индийского слона длина бивней в среднем не более 1,5 метра; весят они около 20 к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ивни африканских слонов толще и длиннее — они иногда имеют в длину 2 метра, в редких случаях даже 2,5. Вес таких бивней доходит до 90 килограммов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8" descr="W1J9396"/>
          <p:cNvPicPr/>
          <p:nvPr/>
        </p:nvPicPr>
        <p:blipFill>
          <a:blip r:embed="rId1"/>
          <a:stretch/>
        </p:blipFill>
        <p:spPr>
          <a:xfrm>
            <a:off x="250920" y="3421080"/>
            <a:ext cx="4321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о об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дийский слон живет в Передней Индии, от подножий Гималаев до южной оконечности полуострова Индостан, Индокитай, на Малайском полуострове и на островах Суматра, Борнео и Цейлон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фриканский слон еще сравнительно недавно жил во всей полосе лесов и саванн тропической и Южной Африки. Теперь он встречается только на пространстве, ограниченном с севера озером Чад, а с юга — озером Нгами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а об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Содержимое 3" descr="Aire-éléphant.png"/>
          <p:cNvPicPr/>
          <p:nvPr/>
        </p:nvPicPr>
        <p:blipFill>
          <a:blip r:embed="rId1"/>
          <a:stretch/>
        </p:blipFill>
        <p:spPr>
          <a:xfrm>
            <a:off x="324000" y="1341360"/>
            <a:ext cx="8229600" cy="4426200"/>
          </a:xfrm>
          <a:prstGeom prst="rect">
            <a:avLst/>
          </a:prstGeom>
          <a:ln w="0">
            <a:noFill/>
          </a:ln>
        </p:spPr>
      </p:pic>
      <p:cxnSp>
        <p:nvCxnSpPr>
          <p:cNvPr id="197" name="Прямая со стрелкой 4"/>
          <p:cNvCxnSpPr/>
          <p:nvPr/>
        </p:nvCxnSpPr>
        <p:spPr>
          <a:xfrm flipH="1">
            <a:off x="1834920" y="5767200"/>
            <a:ext cx="2604240" cy="470520"/>
          </a:xfrm>
          <a:prstGeom prst="straightConnector1">
            <a:avLst/>
          </a:prstGeom>
          <a:ln w="3492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98" name="Прямая со стрелкой 6"/>
          <p:cNvCxnSpPr/>
          <p:nvPr/>
        </p:nvCxnSpPr>
        <p:spPr>
          <a:xfrm>
            <a:off x="4438800" y="5767200"/>
            <a:ext cx="2581920" cy="470520"/>
          </a:xfrm>
          <a:prstGeom prst="straightConnector1">
            <a:avLst/>
          </a:prstGeom>
          <a:ln w="3492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99" name="TextBox 7"/>
          <p:cNvSpPr/>
          <p:nvPr/>
        </p:nvSpPr>
        <p:spPr>
          <a:xfrm>
            <a:off x="539640" y="638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фриканские сло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5940360" y="645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дийские сло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множе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000" y="1989000"/>
            <a:ext cx="3538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еменность 22—24 месяца; 1 детеныш, очень редко 2; вес при рождении 90—135 кг, высота 90 см; слониха рождает 1 раз в 4 го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4788000" y="2133720"/>
            <a:ext cx="367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еменность 22 месяца; 1 детеныш, реже 2 и совсем редко 3; при рождении масса 60—115 к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04" name="Прямая со стрелкой 6"/>
          <p:cNvCxnSpPr/>
          <p:nvPr/>
        </p:nvCxnSpPr>
        <p:spPr>
          <a:xfrm flipH="1">
            <a:off x="2555640" y="1125360"/>
            <a:ext cx="1945440" cy="216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05" name="Прямая со стрелкой 7"/>
          <p:cNvCxnSpPr/>
          <p:nvPr/>
        </p:nvCxnSpPr>
        <p:spPr>
          <a:xfrm>
            <a:off x="4427640" y="1125360"/>
            <a:ext cx="1945440" cy="216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sp>
        <p:nvSpPr>
          <p:cNvPr id="206" name="TextBox 12"/>
          <p:cNvSpPr/>
          <p:nvPr/>
        </p:nvSpPr>
        <p:spPr>
          <a:xfrm>
            <a:off x="826920" y="1484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Африканск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5292720" y="1628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Индийск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" descr="http://im6-tub-ru.yandex.net/i?id=574880100-50-72&amp;n=21"/>
          <p:cNvPicPr/>
          <p:nvPr/>
        </p:nvPicPr>
        <p:blipFill>
          <a:blip r:embed="rId1"/>
          <a:stretch/>
        </p:blipFill>
        <p:spPr>
          <a:xfrm>
            <a:off x="5003640" y="4797360"/>
            <a:ext cx="302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щие призна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4734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самые крупные млекопитающие на Земле, относятся к травоядны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обоих видов слонов кожа голая, покрыта складками и как бы исчерчена узкими бороздками, перекрещивающимися в виде сетки. Кожа слонов хотя и толстая, но очень чувствительная, так как обильно снабжена нервами. Оба вида слонов окрашены в желтовато-серый цвет и очень редко встречаются слоны со светлой окраской. И у того и другого есть хобот и бив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2" descr="http://dic.academic.ru/pictures/bse/jpg/0226568969.jpg"/>
          <p:cNvPicPr/>
          <p:nvPr/>
        </p:nvPicPr>
        <p:blipFill>
          <a:blip r:embed="rId1"/>
          <a:stretch/>
        </p:blipFill>
        <p:spPr>
          <a:xfrm>
            <a:off x="5762520" y="2637000"/>
            <a:ext cx="3381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1268280"/>
            <a:ext cx="526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образ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дийский и африканские слоны отличаются внешним видом: особенностями спины, конечностей, размером ушей, бивней и хобота, а так же местом обит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2" descr="http://slovarix.ru/photos/estestvoznanie_entsiklopedicheskiy_slovar/slonyi1.jpg"/>
          <p:cNvPicPr/>
          <p:nvPr/>
        </p:nvPicPr>
        <p:blipFill>
          <a:blip r:embed="rId1"/>
          <a:stretch/>
        </p:blipFill>
        <p:spPr>
          <a:xfrm>
            <a:off x="5965920" y="1484280"/>
            <a:ext cx="29685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Рисунок 4" descr="http://c.universalscraps.com/files/fr/semaine/semaine_054.gif"/>
          <p:cNvPicPr/>
          <p:nvPr/>
        </p:nvPicPr>
        <p:blipFill>
          <a:blip r:embed="rId1"/>
          <a:stretch/>
        </p:blipFill>
        <p:spPr>
          <a:xfrm>
            <a:off x="3059280" y="2565360"/>
            <a:ext cx="3524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эм А.Э. «Жизнь животных» В 3 т. Т.1:Млекопитающие.-М:ТЕРРА,1992.-524 с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ольшая иллюстрированная энциклопедия школьника. М.: из-во «Махаон», 2010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хонтов А. А. Зоология для учителя: Хордовые/Под ред. А. В. Михеева. - 2-е изд. - М.: Просвещение, 1985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OODRUG.RU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нциклопедия животного ми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W.RU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:Познавательный порт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ooschool.ru›wild/elephantidae/1.s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.wikipedia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http://worldofanimals.ucoz.r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Научиться отличать индийского слона от африканского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134136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учить с помощью литературы и интернет-источников информацию о слон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делать сравнительную характеристику двух видов слонов: африканского и индийског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анализировать полученные данные и сделать выво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Рисунок 3" descr="http://files-cdn.formspring.me/photos/20120422/n4f94189fa2ee8.gif"/>
          <p:cNvPicPr/>
          <p:nvPr/>
        </p:nvPicPr>
        <p:blipFill>
          <a:blip r:embed="rId1"/>
          <a:stretch/>
        </p:blipFill>
        <p:spPr>
          <a:xfrm>
            <a:off x="1692360" y="3573360"/>
            <a:ext cx="5904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96640"/>
            <a:ext cx="8686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c2ff"/>
                </a:solidFill>
                <a:latin typeface="Verdana"/>
              </a:rPr>
              <a:t>Предмет: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слон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c2ff"/>
                </a:solidFill>
                <a:latin typeface="Verdana"/>
              </a:rPr>
              <a:t>Объект: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морфологические                       характеристи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2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5c2ff"/>
                </a:solidFill>
                <a:latin typeface="Verdana"/>
              </a:rPr>
              <a:t>Методы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равнен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абота с литературными источникам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меры те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2360" y="836640"/>
            <a:ext cx="44956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ина тела азиатского слона 7 метров: 2м – хобот. 1,5 – хвост. Высота доходит до 3 метров, а вес до 4000к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4956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ина тела африканского -8 метров: 2м – хобот. 1,5 – хвост. Высота доходит до 3,5 метров, а вес до 7000к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8" descr="Afirica-Elephant00005"/>
          <p:cNvPicPr/>
          <p:nvPr/>
        </p:nvPicPr>
        <p:blipFill>
          <a:blip r:embed="rId1"/>
          <a:stretch/>
        </p:blipFill>
        <p:spPr>
          <a:xfrm>
            <a:off x="1979640" y="2924280"/>
            <a:ext cx="5810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азиатского слона спина имеет равномерный изгиб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ина африканского слона позади зашейка довольно круто поднимается к середине тела, а потом круто опускается к хвост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0" descr="elephant14"/>
          <p:cNvPicPr/>
          <p:nvPr/>
        </p:nvPicPr>
        <p:blipFill>
          <a:blip r:embed="rId1"/>
          <a:stretch/>
        </p:blipFill>
        <p:spPr>
          <a:xfrm>
            <a:off x="324000" y="3679920"/>
            <a:ext cx="4313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неч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передних ногах индийского слона  имеется 5 копыт, на задних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600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передних африканского слона ногах имеется 5 копыт, на задних 4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7" descr="Afirica-Elephant00010"/>
          <p:cNvPicPr/>
          <p:nvPr/>
        </p:nvPicPr>
        <p:blipFill>
          <a:blip r:embed="rId1"/>
          <a:stretch/>
        </p:blipFill>
        <p:spPr>
          <a:xfrm>
            <a:off x="1476360" y="3357720"/>
            <a:ext cx="5810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3888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бо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252360" y="69228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индийского слона хобот к концу утончается очень мало и имеет почти цилиндрическую форм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0" y="549000"/>
            <a:ext cx="4788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африканского слона хобот в нижней половине гораздо тоньше, чем в верхней. На конце хобота вместо «пальца» находятся два широких мясистых нароста в виде подвижных лопастей, которые могут прижиматься друг к другу и закрывать отверстия хобота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10" descr="Asian_elephant_trunk"/>
          <p:cNvPicPr/>
          <p:nvPr/>
        </p:nvPicPr>
        <p:blipFill>
          <a:blip r:embed="rId1"/>
          <a:stretch/>
        </p:blipFill>
        <p:spPr>
          <a:xfrm>
            <a:off x="468360" y="3546360"/>
            <a:ext cx="3247920" cy="3311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173723_349963"/>
          <p:cNvPicPr/>
          <p:nvPr/>
        </p:nvPicPr>
        <p:blipFill>
          <a:blip r:embed="rId2"/>
          <a:stretch/>
        </p:blipFill>
        <p:spPr>
          <a:xfrm>
            <a:off x="5580000" y="4508640"/>
            <a:ext cx="356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1:33:26Z</dcterms:created>
  <dc:creator>вова</dc:creator>
  <dc:description/>
  <dc:language>en-US</dc:language>
  <cp:lastModifiedBy>Татьяна</cp:lastModifiedBy>
  <dcterms:modified xsi:type="dcterms:W3CDTF">2013-02-20T18:13:22Z</dcterms:modified>
  <cp:revision>36</cp:revision>
  <dc:subject/>
  <dc:title>Сравнительная характеристика азиатского и африканского слонов</dc:title>
</cp:coreProperties>
</file>