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372-DC87-4B14-A7BF-40152385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21F-8397-4349-875B-A6E4C930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B85-DF4F-436D-AD27-9EE7DF75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418-B204-495B-9483-04855458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00C1-4EFF-4442-AF3C-9B47B32B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1001-D4BF-4194-870D-44A1A7B6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CE26-8D9D-4AA9-A177-ED865BB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CA46-6481-4120-BE7C-ECFE816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F3C-EDBE-4594-94F3-0CAB2E6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9800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411-28F1-483A-BC99-64312B97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8083-EF2C-4001-B71B-3CA19DC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C63-3709-45DE-A4ED-A56D8CB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C293-E401-487B-AEB6-6B72B3A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51BE-BDCA-4457-8E3F-183D465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FAE8-73B2-40C9-B0AD-5D5F5DE2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9F3-B689-4E87-A510-463F65B4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54FD-A70A-4740-A8D2-3D2E20E7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9D3-8B95-4BD7-A4B2-381C1387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8FB-D524-412D-983A-F6DF982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B86-27D9-42E2-A93C-25E3357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9800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867-4B1A-4A8E-AF61-B0F397B5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852-EC05-4F28-8122-F4F6252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8A8-E3E7-48F2-B91C-5BD3B6B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5A3-B24D-4F4D-B5E0-7586F52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Новый рисунок (1)"/>
          <p:cNvPicPr/>
          <p:nvPr/>
        </p:nvPicPr>
        <p:blipFill>
          <a:blip r:embed="rId2"/>
          <a:stretch/>
        </p:blipFill>
        <p:spPr>
          <a:xfrm>
            <a:off x="0" y="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D482-66F0-4CB0-9439-7D27DDD4B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Новый рисунок (2)"/>
          <p:cNvPicPr/>
          <p:nvPr/>
        </p:nvPicPr>
        <p:blipFill>
          <a:blip r:embed="rId2"/>
          <a:stretch/>
        </p:blipFill>
        <p:spPr>
          <a:xfrm>
            <a:off x="6819840" y="0"/>
            <a:ext cx="2324160" cy="417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Новый рисунок (1)"/>
          <p:cNvPicPr/>
          <p:nvPr/>
        </p:nvPicPr>
        <p:blipFill>
          <a:blip r:embed="rId3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0C26-13C6-466E-832A-34087F9A8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</a:rPr>
              <a:t>Социальная среда подростка</a:t>
            </a:r>
            <a:endParaRPr b="1" lang="en-US" sz="5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360" y="19800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СОЦИАЛЬНАЯ  СРЕДА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4920" y="141300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 В ЖИЗНИ ЖИВЕТ В ОБШЕСТВЕ СРЕДИ ДРУГИХ ЛЮДЕЙ  В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СОЦИАЛЬНОМ ОКРУЖЕНИИ, В СОЦИАЛЬНОЙ 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380880" y="2781360"/>
            <a:ext cx="2751120" cy="381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4"/>
          <p:cNvSpPr/>
          <p:nvPr/>
        </p:nvSpPr>
        <p:spPr>
          <a:xfrm>
            <a:off x="3203640" y="4648320"/>
            <a:ext cx="792000" cy="484200"/>
          </a:xfrm>
          <a:prstGeom prst="rightArrow">
            <a:avLst>
              <a:gd name="adj1" fmla="val 50000"/>
              <a:gd name="adj2" fmla="val 40513"/>
            </a:avLst>
          </a:prstGeom>
          <a:solidFill>
            <a:srgbClr val="bbe0e3"/>
          </a:solidFill>
          <a:ln cap="rnd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5"/>
          <p:cNvSpPr/>
          <p:nvPr/>
        </p:nvSpPr>
        <p:spPr>
          <a:xfrm>
            <a:off x="4191120" y="3213000"/>
            <a:ext cx="3909960" cy="3264120"/>
          </a:xfrm>
          <a:prstGeom prst="roundRect">
            <a:avLst>
              <a:gd name="adj" fmla="val 16667"/>
            </a:avLst>
          </a:prstGeom>
          <a:solidFill>
            <a:srgbClr val="94f7dc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СОЦИАЛЬНАЯ СРЕДА ПРЕДОСТАВЛЯЕТ УСЛОВИЯ ДЛЯ  РАЗВИТИЯ  ПОДРО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ЛЮДИ ОКРУЖАЮЩИЕ  ПОДРОС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ИМЕЮТ КОСВЕННОЕ И  ПРЯМОЕ ОТНОШЕНИ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Социальная среда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ружающие человека лю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жайшая среда: семья, родственники, друз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межуточная среда –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льняя среда – незнакомые люди, С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648320" y="2090880"/>
            <a:ext cx="40384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Влияние людей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венное (опосредованное, через других люд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95280" y="19800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ВЛИЯНИЕ НА ПОДРОСТКА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8" name="Овал 2"/>
          <p:cNvSpPr/>
          <p:nvPr/>
        </p:nvSpPr>
        <p:spPr>
          <a:xfrm>
            <a:off x="250920" y="1752480"/>
            <a:ext cx="3178080" cy="4648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g00317_"/>
          <p:cNvPicPr/>
          <p:nvPr/>
        </p:nvPicPr>
        <p:blipFill>
          <a:blip r:embed="rId2"/>
          <a:stretch/>
        </p:blipFill>
        <p:spPr>
          <a:xfrm flipH="1">
            <a:off x="539280" y="1981080"/>
            <a:ext cx="3038760" cy="32767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лево 4"/>
          <p:cNvSpPr/>
          <p:nvPr/>
        </p:nvSpPr>
        <p:spPr>
          <a:xfrm>
            <a:off x="3581280" y="22860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лево 5"/>
          <p:cNvSpPr/>
          <p:nvPr/>
        </p:nvSpPr>
        <p:spPr>
          <a:xfrm>
            <a:off x="3657600" y="51814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029200" y="1523880"/>
            <a:ext cx="3886200" cy="1676520"/>
          </a:xfrm>
          <a:prstGeom prst="rect">
            <a:avLst/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ЯМОЕ ВЛИЯНИЕ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ЕМЬЯ,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105520" y="4191120"/>
            <a:ext cx="3787560" cy="2133360"/>
          </a:xfrm>
          <a:prstGeom prst="rect">
            <a:avLst/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ОСВЕННОЕ ВЛИЯНИЕ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ЗАРПЛАТА РОДИТЕЛЕЙ, ОБЩЕСТВЕН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ЛИНИЯ ПОВЕДЕНИЯ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5" name="Овал 2"/>
          <p:cNvSpPr/>
          <p:nvPr/>
        </p:nvSpPr>
        <p:spPr>
          <a:xfrm>
            <a:off x="324000" y="1700280"/>
            <a:ext cx="3181320" cy="4465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Я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лево 3"/>
          <p:cNvSpPr/>
          <p:nvPr/>
        </p:nvSpPr>
        <p:spPr>
          <a:xfrm>
            <a:off x="3733920" y="39625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с одним скругленным углом 4"/>
          <p:cNvSpPr/>
          <p:nvPr/>
        </p:nvSpPr>
        <p:spPr>
          <a:xfrm>
            <a:off x="4952880" y="1600200"/>
            <a:ext cx="3962520" cy="1523880"/>
          </a:xfrm>
          <a:prstGeom prst="pie">
            <a:avLst/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ВИСИМОСТЬ ОТ  РЕАКЦИИ ОКРУЖАЮЩИХ ЛЮДЕЙ – ПРЯМ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одним скругленным углом 5"/>
          <p:cNvSpPr/>
          <p:nvPr/>
        </p:nvSpPr>
        <p:spPr>
          <a:xfrm>
            <a:off x="5257800" y="4114800"/>
            <a:ext cx="3657600" cy="2209680"/>
          </a:xfrm>
          <a:prstGeom prst="pie">
            <a:avLst/>
          </a:prstGeom>
          <a:solidFill>
            <a:srgbClr val="c3f0fd"/>
          </a:solidFill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ЛОЖИТЕЛЬНЫЕ 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ОТРИЦАТЕЛЬНЫЕ ПОСЛЕДСТВ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ЧУЖИХ ПОСТУПКОВ – КОСВЕН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Схема «Социальная среда подростка»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110" name="Группа 9"/>
          <p:cNvGrpSpPr/>
          <p:nvPr/>
        </p:nvGrpSpPr>
        <p:grpSpPr>
          <a:xfrm>
            <a:off x="395280" y="1628640"/>
            <a:ext cx="4681440" cy="4321440"/>
            <a:chOff x="395280" y="1628640"/>
            <a:chExt cx="4681440" cy="4321440"/>
          </a:xfrm>
        </p:grpSpPr>
        <p:sp>
          <p:nvSpPr>
            <p:cNvPr id="111" name="Овал 8"/>
            <p:cNvSpPr/>
            <p:nvPr/>
          </p:nvSpPr>
          <p:spPr>
            <a:xfrm>
              <a:off x="395280" y="1628640"/>
              <a:ext cx="4681440" cy="432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Овал 7"/>
            <p:cNvSpPr/>
            <p:nvPr/>
          </p:nvSpPr>
          <p:spPr>
            <a:xfrm>
              <a:off x="971280" y="2060280"/>
              <a:ext cx="3529080" cy="3384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6"/>
            <p:cNvSpPr/>
            <p:nvPr/>
          </p:nvSpPr>
          <p:spPr>
            <a:xfrm>
              <a:off x="1476360" y="2420640"/>
              <a:ext cx="2592360" cy="259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5"/>
            <p:cNvSpPr/>
            <p:nvPr/>
          </p:nvSpPr>
          <p:spPr>
            <a:xfrm>
              <a:off x="2268360" y="3284640"/>
              <a:ext cx="1008000" cy="93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0"/>
          <p:cNvSpPr/>
          <p:nvPr/>
        </p:nvSpPr>
        <p:spPr>
          <a:xfrm>
            <a:off x="5435640" y="212868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№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шите название каждой социальной среды и перечислите тех, кто в вашей жизни в них в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Сочинение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шите сочинение-размышление на тем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очему во все времена молодежь ругали за нравы и поведени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98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Домашнее задание</a:t>
            </a:r>
            <a:endParaRPr b="1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10,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2:41:18Z</dcterms:created>
  <dc:creator>Гущина Мрина Евгеньевна</dc:creator>
  <dc:description/>
  <dc:language>en-US</dc:language>
  <cp:lastModifiedBy>люба</cp:lastModifiedBy>
  <dcterms:modified xsi:type="dcterms:W3CDTF">2012-11-30T16:21:05Z</dcterms:modified>
  <cp:revision>36</cp:revision>
  <dc:subject/>
  <dc:title>Социальная среда подростка</dc:title>
</cp:coreProperties>
</file>