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9389-9FE1-4C81-A1E0-4A9B050F7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5A78-1E40-41EA-946C-1091E79FD4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FF6-F2C3-4A68-B021-23DA7CDD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2C3-009C-4A38-9830-AD73C522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4E5-6F91-4177-A30B-1CD25102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2BE-16DF-445E-8640-A581F996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1595-60AF-4FA8-A4D4-F98DA290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6E28-2EE4-4201-A993-F0BC0316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7702-75BF-4A18-9470-9E2E1678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2871-65C5-42E9-86E7-47A128E5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B470-C25F-4460-8FED-A63C8CA6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044A-6002-401C-B417-49DC1FB3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D4C6-6B01-4BFE-8025-FC2F9422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5A3-60D2-4E4F-BABE-C2E824D7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B614-90E5-4CCF-B305-0F22DB01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66BE-EB11-4448-9C91-472EB206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C79F-67B7-4741-B7A6-A76A356E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3822-B7FC-44C1-874F-5C0CB7FB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599D-6D98-4F08-AC5D-C5A38DCE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907-DB58-4491-BB87-85F80FD7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BF6-B461-4D14-A163-18FDD339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B0E-FBAF-4153-994C-B9D24AD2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48C-04C7-402E-8FF7-EC562A84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40C-5AB8-41BA-8B4F-5955B151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649-8237-4C66-8A42-98DC2977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E03-15A7-4E5C-9D6A-70D97A3E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9C6B-5C64-4384-926B-C5A894D68B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0FF4-19C6-4DE7-9457-AA77185787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7200" y="17856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хнология проектной деятельност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85560" y="4500360"/>
            <a:ext cx="60102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тарший воспитатель МДОУ Детский сад № 2 «Теремок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ородского округа Власиха Московской област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013 год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Содержимое 4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089920" cy="6231240"/>
          </a:xfrm>
          <a:prstGeom prst="rect">
            <a:avLst/>
          </a:prstGeom>
          <a:ln w="0">
            <a:noFill/>
          </a:ln>
        </p:spPr>
      </p:pic>
      <p:sp>
        <p:nvSpPr>
          <p:cNvPr id="182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2714760" y="2714760"/>
            <a:ext cx="28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тод проек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Содержимое 4" descr=""/>
          <p:cNvPicPr/>
          <p:nvPr/>
        </p:nvPicPr>
        <p:blipFill>
          <a:blip r:embed="rId1"/>
          <a:stretch/>
        </p:blipFill>
        <p:spPr>
          <a:xfrm>
            <a:off x="-6480" y="480960"/>
            <a:ext cx="9017280" cy="5896080"/>
          </a:xfrm>
          <a:prstGeom prst="rect">
            <a:avLst/>
          </a:prstGeom>
          <a:ln w="0">
            <a:noFill/>
          </a:ln>
        </p:spPr>
      </p:pic>
      <p:sp>
        <p:nvSpPr>
          <p:cNvPr id="185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изнаки проектов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озможность использования того или иного вида проектов для каждого этапа развития ребен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4360" y="1844640"/>
          <a:ext cx="7696080" cy="4226040"/>
        </p:xfrm>
        <a:graphic>
          <a:graphicData uri="http://schemas.openxmlformats.org/drawingml/2006/table">
            <a:tbl>
              <a:tblPr/>
              <a:tblGrid>
                <a:gridCol w="1765080"/>
                <a:gridCol w="1184400"/>
                <a:gridCol w="1152360"/>
                <a:gridCol w="1297080"/>
                <a:gridCol w="1197000"/>
                <a:gridCol w="1100160"/>
              </a:tblGrid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ип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м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м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я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рш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оминирующая в проекте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сследо-ватель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вор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оле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форма-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ктика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риентирова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692280"/>
          <a:ext cx="7696080" cy="5160960"/>
        </p:xfrm>
        <a:graphic>
          <a:graphicData uri="http://schemas.openxmlformats.org/drawingml/2006/table">
            <a:tbl>
              <a:tblPr/>
              <a:tblGrid>
                <a:gridCol w="1765440"/>
                <a:gridCol w="1184040"/>
                <a:gridCol w="1152720"/>
                <a:gridCol w="1296720"/>
                <a:gridCol w="1197000"/>
                <a:gridCol w="1100160"/>
              </a:tblGrid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ип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м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м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я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рш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редметно-содержательн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нопроек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ежпредметный про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Характер координ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крытая координ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крытая координ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4360" y="692280"/>
          <a:ext cx="7696080" cy="4464000"/>
        </p:xfrm>
        <a:graphic>
          <a:graphicData uri="http://schemas.openxmlformats.org/drawingml/2006/table">
            <a:tbl>
              <a:tblPr/>
              <a:tblGrid>
                <a:gridCol w="1765080"/>
                <a:gridCol w="1184400"/>
                <a:gridCol w="1152360"/>
                <a:gridCol w="1297080"/>
                <a:gridCol w="1197000"/>
                <a:gridCol w="1100160"/>
              </a:tblGrid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ип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м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м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я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рш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оличество учас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дивидуаль-ны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пп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лектив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2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5280" y="404640"/>
          <a:ext cx="7696080" cy="5334120"/>
        </p:xfrm>
        <a:graphic>
          <a:graphicData uri="http://schemas.openxmlformats.org/drawingml/2006/table">
            <a:tbl>
              <a:tblPr/>
              <a:tblGrid>
                <a:gridCol w="1757880"/>
                <a:gridCol w="216000"/>
                <a:gridCol w="997200"/>
                <a:gridCol w="181800"/>
                <a:gridCol w="965880"/>
                <a:gridCol w="181800"/>
                <a:gridCol w="1109520"/>
                <a:gridCol w="1191960"/>
                <a:gridCol w="1094040"/>
              </a:tblGrid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ип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м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м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я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рш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родолжительность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аткосроч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есроч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лгосро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Характер конта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нутригруппо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ежгруппо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гио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лассификация проек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Diagram 6"/>
          <p:cNvGrpSpPr/>
          <p:nvPr/>
        </p:nvGrpSpPr>
        <p:grpSpPr>
          <a:xfrm>
            <a:off x="437760" y="778680"/>
            <a:ext cx="7797600" cy="5796720"/>
            <a:chOff x="437760" y="778680"/>
            <a:chExt cx="7797600" cy="5796720"/>
          </a:xfrm>
        </p:grpSpPr>
        <p:sp>
          <p:nvSpPr>
            <p:cNvPr id="199" name="_s1028"/>
            <p:cNvSpPr/>
            <p:nvPr/>
          </p:nvSpPr>
          <p:spPr>
            <a:xfrm flipH="1" flipV="1">
              <a:off x="2457720" y="2953800"/>
              <a:ext cx="940320" cy="36144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_s1029"/>
            <p:cNvSpPr/>
            <p:nvPr/>
          </p:nvSpPr>
          <p:spPr>
            <a:xfrm>
              <a:off x="437760" y="1865160"/>
              <a:ext cx="2167920" cy="1450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оминирующ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_s1030"/>
            <p:cNvSpPr/>
            <p:nvPr/>
          </p:nvSpPr>
          <p:spPr>
            <a:xfrm flipH="1">
              <a:off x="2459880" y="4040280"/>
              <a:ext cx="938160" cy="36324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_s1031"/>
            <p:cNvSpPr/>
            <p:nvPr/>
          </p:nvSpPr>
          <p:spPr>
            <a:xfrm>
              <a:off x="437760" y="4038840"/>
              <a:ext cx="2167920" cy="14497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Характер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контактов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_s1032"/>
            <p:cNvSpPr/>
            <p:nvPr/>
          </p:nvSpPr>
          <p:spPr>
            <a:xfrm>
              <a:off x="4336560" y="4402080"/>
              <a:ext cx="2160" cy="72504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_s1033"/>
            <p:cNvSpPr/>
            <p:nvPr/>
          </p:nvSpPr>
          <p:spPr>
            <a:xfrm>
              <a:off x="3252240" y="5125320"/>
              <a:ext cx="2167920" cy="14500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Продолжительность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_s1034"/>
            <p:cNvSpPr/>
            <p:nvPr/>
          </p:nvSpPr>
          <p:spPr>
            <a:xfrm>
              <a:off x="5274360" y="4040280"/>
              <a:ext cx="941040" cy="36144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_s1035"/>
            <p:cNvSpPr/>
            <p:nvPr/>
          </p:nvSpPr>
          <p:spPr>
            <a:xfrm>
              <a:off x="6066720" y="4038840"/>
              <a:ext cx="2168640" cy="14497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о участников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_s1036"/>
            <p:cNvSpPr/>
            <p:nvPr/>
          </p:nvSpPr>
          <p:spPr>
            <a:xfrm flipV="1">
              <a:off x="5274360" y="2951640"/>
              <a:ext cx="938160" cy="36324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_s1037"/>
            <p:cNvSpPr/>
            <p:nvPr/>
          </p:nvSpPr>
          <p:spPr>
            <a:xfrm>
              <a:off x="6066720" y="1865160"/>
              <a:ext cx="2168640" cy="1450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Характер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координаци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_s1038"/>
            <p:cNvSpPr/>
            <p:nvPr/>
          </p:nvSpPr>
          <p:spPr>
            <a:xfrm flipV="1">
              <a:off x="4336560" y="2228760"/>
              <a:ext cx="0" cy="72504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_s1039"/>
            <p:cNvSpPr/>
            <p:nvPr/>
          </p:nvSpPr>
          <p:spPr>
            <a:xfrm>
              <a:off x="3252240" y="778680"/>
              <a:ext cx="2167920" cy="14497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Предметно-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содержательн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_s1040"/>
            <p:cNvSpPr/>
            <p:nvPr/>
          </p:nvSpPr>
          <p:spPr>
            <a:xfrm>
              <a:off x="3252240" y="2953800"/>
              <a:ext cx="2167920" cy="14497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роект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Исследовательский проект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202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ние познавательной активности, самосто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овое зна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Ценност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лагодаря проекту формируется познавательная актив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Структура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оздание проблемной ситуации- выдвижение гипотез  - проверка каждой гипотезы либо выбор одной гипотезы и её исследование – исследовательская деятельность-представление результатов исследования -рефлексия (осознание трудностей, с которыми столкнулись, выдвижение новых гипотез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Форма продукта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дель, схема, календар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Возможная форма презентации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ла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Оценка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ценивается оригинальность гипотез, способы их проверки, самостоятельность в исследов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ример: «Откуда в дом пришла вода», «Откуда стол пришел»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«Секреты комнатных растений», «Размножение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тений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665964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ворческий проек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691920"/>
            <a:ext cx="7696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здание творческого продук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Результат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Творческий продук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Ценность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процессе создания творческого продукта формируется умение планировать предстоящую деятельность и действовать в соответствии с планом. Формируются предпосылки универсальных учебных действ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Структура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Создание проблемной ситуации- выдвижение гипотез  -определение предполагаемого творческого продукта– распределение на группы- планирование деятельности по созданию творческого продукта- практическая деятельность-представление результатов -рефлексия (осознание трудностей, с которыми столкнулись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Форма продукта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церт, утренник, произведение 9стихи, песни, сказки), кукольный спектакль, коллаж, макет, книга. Газета, выстав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озможная форма презентации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ставка, утренник, спектакл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Оценка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ценивается как деятельность по созданию продукта, так и сам продут, его оригинальнос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Пример: «Украсим группу к празднику», «снежные постройки»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       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«Необычная клумба», «Концерт для мам», «Снимаем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кино», «Поздравим будущих первокласснико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олевой проек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 проблемных ситуаций в игр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Результат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сознание проблем в игровой ситуа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Ценность: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бёнок проживает предполагаемую ситуацию в игр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труктура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оздание проблемной ситуации -распределение ролей – игра-представление результат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Форма продукта: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озможная форма презентации: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льм, альбом, портфолио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Оценка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ценивается деятельность в соответствии с принятой ролью. Участники проекта принимают на себя определенные роли, обусловленные его характером и содержани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мер: «Школа», «Профессия пожарный».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499680"/>
            <a:ext cx="7696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атизировать знания педагогов о педагогических технологиях, их разновидностях и особенностях, знакомить педагогической технологией проектирования, повышать профессиональный уровень педагог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нформационный проек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280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бор и предоставление информ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олная и достаточно необходимая информац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Ценност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ние умения работать с разными источниками, самостоятельно добывать информацию и доносить её до сверстников в полном объем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Структура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оздание проблемной ситуации- выдвижение гипотез по разрешению проблемы – определение путей поиска информации – определение способа работы по поиску информации (индивидуально, в группах) – распределение на группы – поиск информации- представление результатов -рефлексия (рассказ о процессе поиска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Форма продукта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нига, альбом, доклад, фотографии, макет, коллаж, игра, газета, стенд, выставка. Журнал, календарь, мини-музей и пр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Возможная форма презентации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лад, экскурсии, утренни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Оценка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ценивается самостоятельность поиска информации, полнота, достаточность представления информ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ример: «Динозаврики», «История крашеного яичка»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«Путешествие в прошлое автобуса», «Улицы нашего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города», «Что в имени твоем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актико-ориентированный проек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696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шение, как правило, социальных задач, отражающих интересы участников проек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Четко обозначенный результат деятельности, который может быть использован  в жизни группы, детского са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Ценност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лагодаря проекту формируется знания, умения, навы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Структура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оздание практико- ориентированной проблемной ситуации- выдвижение гипотез по разрешению проблемы- распределение на группы –практическое разрешение проблема -представление результа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Форма продукта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дель, алгоритм, памятка, альбом, рисунки дет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Возможная форма презентации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лад, утренник, выстав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Оценка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чество полученных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У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ример: «Развивающие игрушки для малышей», «Самый веселый участок», «Безопасная дорога», «Почему у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крыльца всегда луж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28560" y="3285720"/>
            <a:ext cx="43578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Этапы работ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0" name="Diagram 6"/>
          <p:cNvGrpSpPr/>
          <p:nvPr/>
        </p:nvGrpSpPr>
        <p:grpSpPr>
          <a:xfrm>
            <a:off x="578160" y="337680"/>
            <a:ext cx="7842240" cy="6038640"/>
            <a:chOff x="578160" y="337680"/>
            <a:chExt cx="7842240" cy="6038640"/>
          </a:xfrm>
        </p:grpSpPr>
        <p:sp>
          <p:nvSpPr>
            <p:cNvPr id="231" name="_s2052"/>
            <p:cNvSpPr/>
            <p:nvPr/>
          </p:nvSpPr>
          <p:spPr>
            <a:xfrm>
              <a:off x="3119400" y="471960"/>
              <a:ext cx="2764080" cy="2079720"/>
            </a:xfrm>
            <a:custGeom>
              <a:avLst/>
              <a:gdLst>
                <a:gd name="textAreaLeft" fmla="*/ 0 w 2764080"/>
                <a:gd name="textAreaRight" fmla="*/ 2764440 w 2764080"/>
                <a:gd name="textAreaTop" fmla="*/ 0 h 2079720"/>
                <a:gd name="textAreaBottom" fmla="*/ 2080080 h 207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_s2053"/>
            <p:cNvSpPr/>
            <p:nvPr/>
          </p:nvSpPr>
          <p:spPr>
            <a:xfrm rot="2700000">
              <a:off x="5195160" y="672120"/>
              <a:ext cx="2079720" cy="2763000"/>
            </a:xfrm>
            <a:custGeom>
              <a:avLst/>
              <a:gdLst>
                <a:gd name="textAreaLeft" fmla="*/ 0 w 2079720"/>
                <a:gd name="textAreaRight" fmla="*/ 2080080 w 2079720"/>
                <a:gd name="textAreaTop" fmla="*/ 0 h 2763000"/>
                <a:gd name="textAreaBottom" fmla="*/ 2763360 h 276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_s2054"/>
            <p:cNvSpPr/>
            <p:nvPr/>
          </p:nvSpPr>
          <p:spPr>
            <a:xfrm rot="5400000">
              <a:off x="5910480" y="1976400"/>
              <a:ext cx="2080440" cy="2764080"/>
            </a:xfrm>
            <a:custGeom>
              <a:avLst/>
              <a:gdLst>
                <a:gd name="textAreaLeft" fmla="*/ 0 w 2080440"/>
                <a:gd name="textAreaRight" fmla="*/ 2080800 w 2080440"/>
                <a:gd name="textAreaTop" fmla="*/ 0 h 2764080"/>
                <a:gd name="textAreaBottom" fmla="*/ 2764440 h 27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_s2055"/>
            <p:cNvSpPr/>
            <p:nvPr/>
          </p:nvSpPr>
          <p:spPr>
            <a:xfrm rot="8100000">
              <a:off x="4848840" y="3623040"/>
              <a:ext cx="2764080" cy="2080440"/>
            </a:xfrm>
            <a:custGeom>
              <a:avLst/>
              <a:gdLst>
                <a:gd name="textAreaLeft" fmla="*/ 0 w 2764080"/>
                <a:gd name="textAreaRight" fmla="*/ 2764440 w 2764080"/>
                <a:gd name="textAreaTop" fmla="*/ 0 h 2080440"/>
                <a:gd name="textAreaBottom" fmla="*/ 2080800 h 208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_s2056"/>
            <p:cNvSpPr/>
            <p:nvPr/>
          </p:nvSpPr>
          <p:spPr>
            <a:xfrm rot="10800000">
              <a:off x="3115440" y="4162320"/>
              <a:ext cx="2763000" cy="2080440"/>
            </a:xfrm>
            <a:custGeom>
              <a:avLst/>
              <a:gdLst>
                <a:gd name="textAreaLeft" fmla="*/ 0 w 2763000"/>
                <a:gd name="textAreaRight" fmla="*/ 2763360 w 2763000"/>
                <a:gd name="textAreaTop" fmla="*/ 0 h 2080440"/>
                <a:gd name="textAreaBottom" fmla="*/ 2080800 h 208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_s2057"/>
            <p:cNvSpPr/>
            <p:nvPr/>
          </p:nvSpPr>
          <p:spPr>
            <a:xfrm rot="13500000">
              <a:off x="1723680" y="3278160"/>
              <a:ext cx="2079720" cy="2764080"/>
            </a:xfrm>
            <a:custGeom>
              <a:avLst/>
              <a:gdLst>
                <a:gd name="textAreaLeft" fmla="*/ 0 w 2079720"/>
                <a:gd name="textAreaRight" fmla="*/ 2080080 w 2079720"/>
                <a:gd name="textAreaTop" fmla="*/ 0 h 2764080"/>
                <a:gd name="textAreaBottom" fmla="*/ 2764440 h 27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_s2058"/>
            <p:cNvSpPr/>
            <p:nvPr/>
          </p:nvSpPr>
          <p:spPr>
            <a:xfrm rot="16200000">
              <a:off x="1007280" y="1973160"/>
              <a:ext cx="2080440" cy="2764080"/>
            </a:xfrm>
            <a:custGeom>
              <a:avLst/>
              <a:gdLst>
                <a:gd name="textAreaLeft" fmla="*/ 0 w 2080440"/>
                <a:gd name="textAreaRight" fmla="*/ 2080800 w 2080440"/>
                <a:gd name="textAreaTop" fmla="*/ 0 h 2764080"/>
                <a:gd name="textAreaBottom" fmla="*/ 2764440 h 27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a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_s2059"/>
            <p:cNvSpPr/>
            <p:nvPr/>
          </p:nvSpPr>
          <p:spPr>
            <a:xfrm rot="18900000">
              <a:off x="1385280" y="1010160"/>
              <a:ext cx="2764080" cy="2080440"/>
            </a:xfrm>
            <a:custGeom>
              <a:avLst/>
              <a:gdLst>
                <a:gd name="textAreaLeft" fmla="*/ 0 w 2764080"/>
                <a:gd name="textAreaRight" fmla="*/ 2764440 w 2764080"/>
                <a:gd name="textAreaTop" fmla="*/ 0 h 2080440"/>
                <a:gd name="textAreaBottom" fmla="*/ 2080800 h 208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_s2060"/>
            <p:cNvSpPr/>
            <p:nvPr/>
          </p:nvSpPr>
          <p:spPr>
            <a:xfrm>
              <a:off x="5275080" y="406080"/>
              <a:ext cx="119304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Целеполагание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_s2061"/>
            <p:cNvSpPr/>
            <p:nvPr/>
          </p:nvSpPr>
          <p:spPr>
            <a:xfrm>
              <a:off x="578160" y="1872360"/>
              <a:ext cx="1193040" cy="89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Портфолио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проекта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_s2062"/>
            <p:cNvSpPr/>
            <p:nvPr/>
          </p:nvSpPr>
          <p:spPr>
            <a:xfrm>
              <a:off x="2523600" y="406080"/>
              <a:ext cx="119196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Проблематизация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_s2063"/>
            <p:cNvSpPr/>
            <p:nvPr/>
          </p:nvSpPr>
          <p:spPr>
            <a:xfrm>
              <a:off x="7223760" y="1866240"/>
              <a:ext cx="1193040" cy="89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Планирование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_s2064"/>
            <p:cNvSpPr/>
            <p:nvPr/>
          </p:nvSpPr>
          <p:spPr>
            <a:xfrm>
              <a:off x="7227360" y="3938040"/>
              <a:ext cx="1193040" cy="89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Реализация плана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_s2065"/>
            <p:cNvSpPr/>
            <p:nvPr/>
          </p:nvSpPr>
          <p:spPr>
            <a:xfrm>
              <a:off x="5283000" y="5404680"/>
              <a:ext cx="1193040" cy="89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Презентация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_s2066"/>
            <p:cNvSpPr/>
            <p:nvPr/>
          </p:nvSpPr>
          <p:spPr>
            <a:xfrm>
              <a:off x="2530800" y="5407560"/>
              <a:ext cx="1193040" cy="89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Рефлексия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_s2067"/>
            <p:cNvSpPr/>
            <p:nvPr/>
          </p:nvSpPr>
          <p:spPr>
            <a:xfrm>
              <a:off x="582480" y="3944160"/>
              <a:ext cx="1191960" cy="89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нешняя оценка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проекта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Отличие понятий: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уществуют три связанных друг с другом понятия: «методика», «технология» и «программа»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м отличаются друг от друга эти понятия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Методи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ука о методах преподавания и воспитания. Она рассказывает о всех методах, которые можно применить в той или иной области обучения и воспитания, и не говорит о результат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Технология 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 её основе лежит определённая позиция авторов. Технологическая цепочка выстраивается строго в соответствии с целевыми установками автора. В технологии обязательно прозвучит, что произойдёт с ребёнком, если вы будете использовать данную технологию.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ограмма 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лан деятельности, работ, краткое изложение содержания учебного предме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спользуемая литератур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розова Л.Д. Педагогическое проектирование в ДОУ: от теории к практике. М.,201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чкина Н.А. «Метод проектов в дошкольном образовании» Методическое пособие.- М.: Мозаика –Синтез, 2012.-72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Дата 2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6870600" cy="25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6" descr="772b8853b64c"/>
          <p:cNvPicPr/>
          <p:nvPr/>
        </p:nvPicPr>
        <p:blipFill>
          <a:blip r:embed="rId1"/>
          <a:stretch/>
        </p:blipFill>
        <p:spPr>
          <a:xfrm>
            <a:off x="5219640" y="3213000"/>
            <a:ext cx="27306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85480"/>
            <a:ext cx="7696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временные тенденции и стремительные перемены в социуме приводят к осознанию того, что современные дети должны знать и  уметь много больше, чем их сверстники 15-20 лет  назад, поэтому постоянной заботой педагогов является выбор наиболее эффективных средств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д педагогами стоит задача уже в дошкольном возрасте закладывать позиции самостоятельности, активности, инициативности в поиске ответов на вопросы, систематизировать информацию, использовать полученные знания, умения и навыки в играх и практической деятельности. Как  показывает образовательная практика, такую возможность дает метод проектов, позволяющий педагогам расширить образовательное пространство, познавательного мышления  ребен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5564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стория возникновения метода проектов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тод проектов не являетс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иально новым. Он возник в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ови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ека. Основоположник Джон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ьюи (1859-1952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овные концепци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тинным и ценным является только то, что дает практический результат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бёнок в онтогенезе повторяет путь человечества в познании окружающего мира (от частного к общему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воение знаний – это стихийный, неуправляемый процесс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бёнок может усваивать информацию только благодаря возникшей потребности в знаниях, являясь активным субъектом своего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5" descr="i?id=57154203-12-72&amp;n=2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9280" y="565200"/>
            <a:ext cx="138924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ектная де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это дидактическое средство активизации познавательного и творческого развития ребенка и одновременно формирование личностных качеств ребенка. Знания, приобретаемые детьми в ходе реализации проекта, становятся достоянием их личного опыта. Экспериментируя, ребенок ищет ответ на вопрос и тем самым, развивает творческие способности, коммуникативные навыки. Используя проект, как форму совместной развивающей деятельности детей и взрослых, педагоги организуют воспитательно-образовательную деятельность интересно, творчески, продуктив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мерная схема планирования проек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11280" y="981000"/>
          <a:ext cx="7697520" cy="5127840"/>
        </p:xfrm>
        <a:graphic>
          <a:graphicData uri="http://schemas.openxmlformats.org/drawingml/2006/table">
            <a:tbl>
              <a:tblPr/>
              <a:tblGrid>
                <a:gridCol w="1923840"/>
                <a:gridCol w="1925640"/>
                <a:gridCol w="1924200"/>
                <a:gridCol w="1923840"/>
              </a:tblGrid>
              <a:tr h="403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ктические д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то надо сдел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 будет проводить рабо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то будет дел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требное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ие необходимы 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ветственные за 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обходимое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етод приобретения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вы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ие должны быть приобретены навы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обходимые пособия и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ормы учёта и отчё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ме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Использование проектной технологи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в практике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Содержимое 5" descr=""/>
          <p:cNvPicPr/>
          <p:nvPr/>
        </p:nvPicPr>
        <p:blipFill>
          <a:blip r:embed="rId1"/>
          <a:stretch/>
        </p:blipFill>
        <p:spPr>
          <a:xfrm>
            <a:off x="669960" y="914400"/>
            <a:ext cx="7731000" cy="5102280"/>
          </a:xfrm>
          <a:prstGeom prst="rect">
            <a:avLst/>
          </a:prstGeom>
          <a:ln w="0">
            <a:noFill/>
          </a:ln>
        </p:spPr>
      </p:pic>
      <p:sp>
        <p:nvSpPr>
          <p:cNvPr id="176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6760" y="0"/>
            <a:ext cx="82868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нятие «Метод проектов» имеет следующие определени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хнология организации образовательной ситуации, в которой учащийся ставит и решает собственные проблемы, и технология сопровождения самостоятельной деятельности учащихся по разрешению проблем (Г.Б.Голуб, Е.А.Перелыгина, О.В.Чураков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особ организации педагогического процесса, основанный на взаимодействии педагога и воспитанника, способ взаимодействия с окружающей средой, поэтапная практическая деятельность по достижению поставленной цели (Н.А.Виноградова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стема обучения, гибкая модель организации учебного процесса, ориентированная на творческую самореализацию личности учащихся, развитие их интеллектуальных и физических возможностей, волевых качеств и творческих способностей в процессе создания под контролем учителя нового продукта, обладающего объективной и субъективной новизной, имеющего практическую значимость (А.А.Хромов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стема обучения, модель организации учебного процесса, ориентированная  на самореализацию личности учащегося, развитие его интеллектуальных качеств и творческих способностей (М.В.Чанов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696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мплексный метод обучения, позволяющий строить учебный процесс, исходя из интересов учащихся, дающий возможность учащемуся проявить самостоятельность в планировании, организации и контроле своей учебно-познавательной деятельности, результат которой – создание какого-либо продукта или явления (М.В.Моисеева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вокупность приёмов, действий учащихся в их определенноё последовательности для достижения поставленной задачи – решения определенной проблемы, значимой для учащихся и оформленной в виде некоего конечного продукта (Е.С.Полат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етод обучения, основанный на постановке социально-значимой цели и ее практическом достижении. Не привязан к конкретному содержанию и может быть использован в ходе любого предмета, а также может являться межпредметным (И.С.Сергеев)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дагогическая технология, стержнем которой является самостоятельная исследовательская деятельность детей, в процессе которой ребенок познает себя и окружающий мир, воплощает новые знания в реальные продукты (Л.Л.Тимофеев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аким образом, сущность метода проектов заключатся в том, что ребенок в процессе деятельности осваивает особое умение- самостоятельно приобретать новые знания в процессе решения жизненных пробл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4:38:52Z</dcterms:created>
  <dc:creator>Admin</dc:creator>
  <dc:description/>
  <dc:language>en-US</dc:language>
  <cp:lastModifiedBy>DC</cp:lastModifiedBy>
  <dcterms:modified xsi:type="dcterms:W3CDTF">2013-02-26T12:51:22Z</dcterms:modified>
  <cp:revision>32</cp:revision>
  <dc:subject/>
  <dc:title>Педагогические техологии</dc:title>
</cp:coreProperties>
</file>