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5.wmf" ContentType="image/x-wmf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6CA-F701-419B-AC0D-AC4B4603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EB5-F9BC-417F-9806-D80C9276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6A3-42EF-450E-96B2-4087E750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92A-C941-45F6-B646-CA753A1D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F0BE-D9E3-4D30-9F3B-42D6063D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F642-44AD-4971-824D-4AA0647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D249-74FC-484A-AFBA-4AD73407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4F54-15F8-45C1-B37F-ED290A1A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269C-460F-43A7-BB26-47D08C05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044D-3C05-45C1-B646-A01F000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7E70-EFD9-4AE1-B056-5E8F6DA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3A3-7DE2-4E29-9C75-E801C99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C98-3E1F-4BFC-80E6-66C2658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701C-DB96-4E31-98F0-20A1366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ECF-08A4-4469-AEF1-015BCB51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7E3-C186-4919-9614-E03B0E77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B504-1DE5-4B11-A83C-78122AB8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78B-549D-460D-B279-68D6B9B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CAB-C7A6-470C-914C-5B6A23E0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105-D5A9-4599-B7DB-5C4064F8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085-AA9E-466B-A673-01BCBA4E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8E8-6E2A-4585-BBE2-08B9517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EB1-A041-4990-B646-A36B4061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1C5-59C4-40F2-97D6-0942D94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6AFA-D494-4C6B-AA6E-24F1785FA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9182-EE29-4E6E-ABE3-D68CDDD43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«АТМОСФЕРНОЕ ДАВЛЕНИЕ»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7 класс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ла учитель физики Даневич Наталья Анато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СОШ№1 ст. Отра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адненского района Краснодарского к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21304"/>
                </a:solidFill>
                <a:uFillTx/>
                <a:latin typeface="Times New Roman"/>
              </a:rPr>
              <a:t>Вариант 1</a:t>
            </a:r>
            <a:r>
              <a:rPr b="1" i="1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1" i="1" lang="en-US" sz="2000" spc="-1" strike="noStrike" u="sng">
                <a:solidFill>
                  <a:srgbClr val="221304"/>
                </a:solidFill>
                <a:uFillTx/>
                <a:latin typeface="Times New Roman"/>
              </a:rPr>
              <a:t>Вариант №2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73536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ему вода поднимается вслед за поршн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)…под действием воды в сосуд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) …под действием атмосферного да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) …под поршнем образуется избыточное давление, которое засасывает вод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 …вода вверх не поднимается ни при каки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360" y="692280"/>
            <a:ext cx="37353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исунке изображены два металлических сосуда, доверху наполненных водой. При откачивании воздуха вода поднимается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…только из сосуда 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… только из сосуда Б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отверстием в крыш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…из обоих сосудов одинако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…. вода вверх не поднимается ни  в одном сосу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002040" cy="185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03280" y="1865160"/>
            <a:ext cx="2881440" cy="199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2819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c2056"/>
                </a:solidFill>
                <a:latin typeface="Times New Roman"/>
              </a:rPr>
              <a:t>Время вышло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1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c2056"/>
                </a:solidFill>
                <a:latin typeface="Times New Roman"/>
              </a:rPr>
              <a:t>Время вышло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07920"/>
            <a:ext cx="3600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Зависит ли уровень ртути в опыте Торричелли от диаметра и формы труб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исит от диаметра и фор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висит только от фор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зависит от диаметра и фор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зависит от диаме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907920"/>
            <a:ext cx="3600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ровень ртути в чашке  Торричелли не изменится, если  трубку, не вынимая ее нижнего конца из чашки со ртутью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наклон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…подня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… опуст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…покрутить вокруг о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15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    У подножия горы атмосферное давление равно 760мм рт.ст., а на ее вершине 592 мм рт.ст. Высота горы равна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0,16 м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016 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08 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50,04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8840" y="83772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во показание барометра на уровне высоты телевизионной башн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та  башни 540 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если показания барометра у ее поднож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0 мм рт.ст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3,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рт.ст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805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рт.ст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15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рт.ст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авление одинаково и у подножия и на высот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943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c2056"/>
                </a:solidFill>
                <a:latin typeface="Times New Roman"/>
              </a:rPr>
              <a:t>Время вышло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1602000" cy="15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80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c2056"/>
                </a:solidFill>
                <a:latin typeface="Times New Roman"/>
              </a:rPr>
              <a:t>РАБОТА ЗАКОНЧ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Перепишите ответы в тетрад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дайте листочки учителю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29280" y="28288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6740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c2056"/>
                </a:solidFill>
                <a:latin typeface="Times New Roman"/>
              </a:rPr>
              <a:t>ОЦЕНИ СВОЮ РАБОТУ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6818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Если ты правильно ответил на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или 3 – твоя оценка </a:t>
            </a:r>
            <a:r>
              <a:rPr b="1" i="1" lang="en-US" sz="3200" spc="-1" strike="noStrike">
                <a:solidFill>
                  <a:srgbClr val="dc2056"/>
                </a:solidFill>
                <a:latin typeface="Times New Roman"/>
              </a:rPr>
              <a:t>“3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,3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2,3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– твоя оценка </a:t>
            </a:r>
            <a:r>
              <a:rPr b="1" i="1" lang="en-US" sz="3200" spc="-1" strike="noStrike">
                <a:solidFill>
                  <a:srgbClr val="dc2056"/>
                </a:solidFill>
                <a:latin typeface="Times New Roman"/>
              </a:rPr>
              <a:t>“4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– твоя оценка </a:t>
            </a:r>
            <a:r>
              <a:rPr b="1" i="1" lang="en-US" sz="3200" spc="-1" strike="noStrike">
                <a:solidFill>
                  <a:srgbClr val="dc2056"/>
                </a:solidFill>
                <a:latin typeface="Times New Roman"/>
              </a:rPr>
              <a:t>“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Вариант №1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Вариант №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. 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2. А,Б,В,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.  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7:24:59Z</dcterms:created>
  <dc:creator>Наталья</dc:creator>
  <dc:description/>
  <dc:language>en-US</dc:language>
  <cp:lastModifiedBy>поиск</cp:lastModifiedBy>
  <dcterms:modified xsi:type="dcterms:W3CDTF">2013-02-17T13:20:19Z</dcterms:modified>
  <cp:revision>14</cp:revision>
  <dc:subject/>
  <dc:title>Вариант 1    Вариант №2 </dc:title>
</cp:coreProperties>
</file>