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3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E2FB8-3E5F-4E44-AAF2-A78FAF802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00B53-13ED-4E6B-9CFA-949EDC252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30907-F0AB-448C-BBCF-EB29CE055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0154B-9B82-4A55-ABA7-3AB2A88D0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02738-39CA-452B-82AC-26E56F459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817C7-99EB-47C1-A370-108276336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7446B-226F-41C2-A40A-462629035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AD537-BC8A-43ED-AC1B-032FE81BD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D0A65-714C-4D25-9B8E-FCE50B9E5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E84F3-5FB3-4E7D-A935-7C88E9DD4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8A602-1BB6-4764-84B0-878696D37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96F2D-9583-4FA7-96FF-D9376E201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5E32A-3951-4843-9F7C-351280714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8D4F9-F96C-4282-AE33-BCCAE41DF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8650B-4281-4A3D-927F-E3140C254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CFB36-5060-479E-9BCA-C1B38915C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2CAA9-4DED-4964-B5D0-7B079116A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9F8432-8FDB-412D-9CB1-662368D72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0C6E76-7C7D-4DEB-8456-1F1BBD3DD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9E7F09-7DAA-476B-A67A-718BBCCD2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C20BCA-CA0C-4634-A707-F3CB386ED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FE324B-2904-4068-86B8-1C38D0DE2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00FEE-E9AB-417B-9CBD-8E3B70B12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807C8C-D717-4120-944B-0B096EC78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86C5C7-4485-421D-BF9E-81B172458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2B807E-8103-4232-9E57-CFED3AF7D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75C8FB-F306-4E0B-B780-3AD209AA5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4AAA30-8449-41B4-8CBA-D56718E7A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2F7F1F-0A21-487A-8566-B7E5A9A2D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C5A8E9-EEBB-4ECC-8303-1AD1E233E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717B2B-8268-4B5F-9231-EF6058A90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8A5B32-E844-487C-8412-DA9C5D8C0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84A7C2-D356-41B3-87A4-B44BD4AAA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B892F-F1D0-4BFC-B083-D88101AC2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C9B3E6-D625-4920-93DB-1302765BE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13B417-9AA3-47A9-9BE8-9FB536C91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637875-C566-4104-B92F-45FB6820C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3292B3-AD16-4EBC-AA1D-F55C044E3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B3AAED-FE32-41EC-B505-40BC99154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2D7F9E-33FB-4D97-B8DF-52160C1A7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69858C-9971-42DF-802A-9C83DD9F8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44204B-4E79-4538-AB8F-21ED1AE00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F706FC-51A7-4513-BD87-A3452707E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E9BAAB-4B8E-4459-AED9-936A7DBCC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B5882-D734-416D-8628-A5E488133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C136ED-2A3D-4745-B653-0C14CC3F8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F84CC1-9C4F-4DBE-9C3E-81A305835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2E681C-8BB2-441E-88F2-15C477D2F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B36174-C51E-4675-AB86-12CEAC363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E62991-57F4-41DB-BEBD-C60BFAE1A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D379B2-62B8-4551-858D-4B484431A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BCE06C-8AF7-43BF-87EC-21CE22201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41ABFC-5BFE-487F-9BB4-34D91C98A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130B81-B40A-40C0-BEE5-FE6D067A4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EFD467-D863-40DC-9A80-64F30EA98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6A53B-2E37-435B-98A8-97D1B76BF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72A013-1457-4D9B-995D-8EB4A576E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A2A2B-7F3D-4093-B6E0-BDD17C1A9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17862-6791-439D-A9CC-9D09E5001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B2976-0778-4288-B847-F8FD85E3B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2BC84-467C-4755-9AC8-67B1114193DF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47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3938A-38EA-4F1A-BDB1-48400D4E1C7A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CDEFA-A124-4CF3-A229-A6556D2AF9EE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4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4e7ed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75E85-C784-40A6-B3D2-0B55111E7F86}" type="slidenum">
              <a:rPr b="0" lang="ru-RU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53818-489A-47F7-8041-F9055B82CD56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image" Target="../media/image17.jpe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Заголовок 1" descr=""/>
          <p:cNvPicPr/>
          <p:nvPr/>
        </p:nvPicPr>
        <p:blipFill>
          <a:blip r:embed="rId1"/>
          <a:stretch/>
        </p:blipFill>
        <p:spPr>
          <a:xfrm>
            <a:off x="3035160" y="92160"/>
            <a:ext cx="5761080" cy="2479680"/>
          </a:xfrm>
          <a:prstGeom prst="rect">
            <a:avLst/>
          </a:prstGeom>
          <a:ln w="0">
            <a:noFill/>
          </a:ln>
        </p:spPr>
      </p:pic>
      <p:pic>
        <p:nvPicPr>
          <p:cNvPr id="221" name="Рисунок 3" descr="IMG_4479.JPG"/>
          <p:cNvPicPr/>
          <p:nvPr/>
        </p:nvPicPr>
        <p:blipFill>
          <a:blip r:embed="rId2"/>
          <a:stretch/>
        </p:blipFill>
        <p:spPr>
          <a:xfrm>
            <a:off x="3924360" y="3213000"/>
            <a:ext cx="4187880" cy="31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457200" y="620640"/>
            <a:ext cx="7238880" cy="58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74396"/>
                </a:solidFill>
                <a:latin typeface="Trebuchet MS"/>
              </a:rPr>
              <a:t>A big black bug bit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74396"/>
                </a:solidFill>
                <a:latin typeface="Trebuchet MS"/>
              </a:rPr>
              <a:t> </a:t>
            </a:r>
            <a:r>
              <a:rPr b="1" lang="en-US" sz="4800" spc="-1" strike="noStrike">
                <a:solidFill>
                  <a:srgbClr val="874396"/>
                </a:solidFill>
                <a:latin typeface="Trebuchet MS"/>
              </a:rPr>
              <a:t>a big black dog on his big black nose.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3" name="Рисунок 3" descr="i666.jpg"/>
          <p:cNvPicPr/>
          <p:nvPr/>
        </p:nvPicPr>
        <p:blipFill>
          <a:blip r:embed="rId1"/>
          <a:stretch/>
        </p:blipFill>
        <p:spPr>
          <a:xfrm>
            <a:off x="1979640" y="3284640"/>
            <a:ext cx="4248000" cy="30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457200" y="620640"/>
            <a:ext cx="7238880" cy="58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7030a0"/>
                </a:solidFill>
                <a:latin typeface="Trebuchet MS"/>
              </a:rPr>
              <a:t>Would you like to visit London one day? Why?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7030a0"/>
                </a:solidFill>
                <a:latin typeface="Trebuchet MS"/>
              </a:rPr>
              <a:t>(3 reasons)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5" name="Рисунок 4" descr="i88.jpg"/>
          <p:cNvPicPr/>
          <p:nvPr/>
        </p:nvPicPr>
        <p:blipFill>
          <a:blip r:embed="rId1"/>
          <a:stretch/>
        </p:blipFill>
        <p:spPr>
          <a:xfrm>
            <a:off x="1692360" y="2708280"/>
            <a:ext cx="5111640" cy="32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Содержимое 3" descr="i99.jpg"/>
          <p:cNvPicPr/>
          <p:nvPr/>
        </p:nvPicPr>
        <p:blipFill>
          <a:blip r:embed="rId1"/>
          <a:stretch/>
        </p:blipFill>
        <p:spPr>
          <a:xfrm>
            <a:off x="468360" y="476280"/>
            <a:ext cx="3711600" cy="5460840"/>
          </a:xfrm>
          <a:prstGeom prst="rect">
            <a:avLst/>
          </a:prstGeom>
          <a:ln w="0">
            <a:noFill/>
          </a:ln>
        </p:spPr>
      </p:pic>
      <p:pic>
        <p:nvPicPr>
          <p:cNvPr id="227" name="Рисунок 4" descr="555.jpg"/>
          <p:cNvPicPr/>
          <p:nvPr/>
        </p:nvPicPr>
        <p:blipFill>
          <a:blip r:embed="rId2"/>
          <a:stretch/>
        </p:blipFill>
        <p:spPr>
          <a:xfrm>
            <a:off x="4108320" y="3500280"/>
            <a:ext cx="503568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457200" y="475920"/>
            <a:ext cx="7238880" cy="59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0000"/>
                </a:solidFill>
                <a:latin typeface="Trebuchet MS"/>
              </a:rPr>
              <a:t>1.</a:t>
            </a:r>
            <a:r>
              <a:rPr b="1" lang="en-US" sz="2900" spc="-1" strike="noStrike">
                <a:solidFill>
                  <a:srgbClr val="7030a0"/>
                </a:solidFill>
                <a:latin typeface="Trebuchet MS"/>
              </a:rPr>
              <a:t> Capital        A</a:t>
            </a: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0000"/>
                </a:solidFill>
                <a:latin typeface="Trebuchet MS"/>
              </a:rPr>
              <a:t>2.</a:t>
            </a:r>
            <a:r>
              <a:rPr b="1" lang="en-US" sz="2900" spc="-1" strike="noStrike">
                <a:solidFill>
                  <a:srgbClr val="7030a0"/>
                </a:solidFill>
                <a:latin typeface="Trebuchet MS"/>
              </a:rPr>
              <a:t> Place                             B</a:t>
            </a: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0000"/>
                </a:solidFill>
                <a:latin typeface="Trebuchet MS"/>
              </a:rPr>
              <a:t>3.</a:t>
            </a:r>
            <a:r>
              <a:rPr b="1" lang="en-US" sz="2900" spc="-1" strike="noStrike">
                <a:solidFill>
                  <a:srgbClr val="7030a0"/>
                </a:solidFill>
                <a:latin typeface="Trebuchet MS"/>
              </a:rPr>
              <a:t> Tower       C</a:t>
            </a: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0000"/>
                </a:solidFill>
                <a:latin typeface="Trebuchet MS"/>
              </a:rPr>
              <a:t>4.</a:t>
            </a:r>
            <a:r>
              <a:rPr b="1" lang="en-US" sz="2900" spc="-1" strike="noStrike">
                <a:solidFill>
                  <a:srgbClr val="7030a0"/>
                </a:solidFill>
                <a:latin typeface="Trebuchet MS"/>
              </a:rPr>
              <a:t> Square                           D</a:t>
            </a: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0000"/>
                </a:solidFill>
                <a:latin typeface="Trebuchet MS"/>
              </a:rPr>
              <a:t>5.</a:t>
            </a:r>
            <a:r>
              <a:rPr b="1" lang="en-US" sz="2900" spc="-1" strike="noStrike">
                <a:solidFill>
                  <a:srgbClr val="7030a0"/>
                </a:solidFill>
                <a:latin typeface="Trebuchet MS"/>
              </a:rPr>
              <a:t> Tall           E</a:t>
            </a: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0000"/>
                </a:solidFill>
                <a:latin typeface="Trebuchet MS"/>
              </a:rPr>
              <a:t>6.</a:t>
            </a:r>
            <a:r>
              <a:rPr b="1" lang="en-US" sz="2900" spc="-1" strike="noStrike">
                <a:solidFill>
                  <a:srgbClr val="7030a0"/>
                </a:solidFill>
                <a:latin typeface="Trebuchet MS"/>
              </a:rPr>
              <a:t> Monument                      F</a:t>
            </a: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0000"/>
                </a:solidFill>
                <a:latin typeface="Trebuchet MS"/>
              </a:rPr>
              <a:t>7.</a:t>
            </a:r>
            <a:r>
              <a:rPr b="1" lang="en-US" sz="2900" spc="-1" strike="noStrike">
                <a:solidFill>
                  <a:srgbClr val="7030a0"/>
                </a:solidFill>
                <a:latin typeface="Trebuchet MS"/>
              </a:rPr>
              <a:t> Bell          G</a:t>
            </a: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9" name="Рисунок 3" descr="111.jpg"/>
          <p:cNvPicPr/>
          <p:nvPr/>
        </p:nvPicPr>
        <p:blipFill>
          <a:blip r:embed="rId1"/>
          <a:stretch/>
        </p:blipFill>
        <p:spPr>
          <a:xfrm>
            <a:off x="3419640" y="189000"/>
            <a:ext cx="1501560" cy="1109520"/>
          </a:xfrm>
          <a:prstGeom prst="rect">
            <a:avLst/>
          </a:prstGeom>
          <a:ln w="0">
            <a:noFill/>
          </a:ln>
        </p:spPr>
      </p:pic>
      <p:pic>
        <p:nvPicPr>
          <p:cNvPr id="230" name="Рисунок 4" descr="777.jpg"/>
          <p:cNvPicPr/>
          <p:nvPr/>
        </p:nvPicPr>
        <p:blipFill>
          <a:blip r:embed="rId2"/>
          <a:stretch/>
        </p:blipFill>
        <p:spPr>
          <a:xfrm>
            <a:off x="5580000" y="836640"/>
            <a:ext cx="1621080" cy="1146240"/>
          </a:xfrm>
          <a:prstGeom prst="rect">
            <a:avLst/>
          </a:prstGeom>
          <a:ln w="0">
            <a:noFill/>
          </a:ln>
        </p:spPr>
      </p:pic>
      <p:pic>
        <p:nvPicPr>
          <p:cNvPr id="231" name="Рисунок 5" descr="55555.jpg"/>
          <p:cNvPicPr/>
          <p:nvPr/>
        </p:nvPicPr>
        <p:blipFill>
          <a:blip r:embed="rId3"/>
          <a:stretch/>
        </p:blipFill>
        <p:spPr>
          <a:xfrm>
            <a:off x="3203640" y="1557360"/>
            <a:ext cx="1719360" cy="1146240"/>
          </a:xfrm>
          <a:prstGeom prst="rect">
            <a:avLst/>
          </a:prstGeom>
          <a:ln w="0">
            <a:noFill/>
          </a:ln>
        </p:spPr>
      </p:pic>
      <p:pic>
        <p:nvPicPr>
          <p:cNvPr id="232" name="Рисунок 6" descr="66666.jpg"/>
          <p:cNvPicPr/>
          <p:nvPr/>
        </p:nvPicPr>
        <p:blipFill>
          <a:blip r:embed="rId4"/>
          <a:stretch/>
        </p:blipFill>
        <p:spPr>
          <a:xfrm>
            <a:off x="5651640" y="2637000"/>
            <a:ext cx="1674720" cy="1145880"/>
          </a:xfrm>
          <a:prstGeom prst="rect">
            <a:avLst/>
          </a:prstGeom>
          <a:ln w="0">
            <a:noFill/>
          </a:ln>
        </p:spPr>
      </p:pic>
      <p:pic>
        <p:nvPicPr>
          <p:cNvPr id="233" name="Рисунок 8" descr="i9999.jpg"/>
          <p:cNvPicPr/>
          <p:nvPr/>
        </p:nvPicPr>
        <p:blipFill>
          <a:blip r:embed="rId5"/>
          <a:stretch/>
        </p:blipFill>
        <p:spPr>
          <a:xfrm>
            <a:off x="3132000" y="3213000"/>
            <a:ext cx="1941480" cy="1217880"/>
          </a:xfrm>
          <a:prstGeom prst="rect">
            <a:avLst/>
          </a:prstGeom>
          <a:ln w="0">
            <a:noFill/>
          </a:ln>
        </p:spPr>
      </p:pic>
      <p:pic>
        <p:nvPicPr>
          <p:cNvPr id="234" name="Рисунок 10" descr="i8888.jpg"/>
          <p:cNvPicPr/>
          <p:nvPr/>
        </p:nvPicPr>
        <p:blipFill>
          <a:blip r:embed="rId6"/>
          <a:stretch/>
        </p:blipFill>
        <p:spPr>
          <a:xfrm>
            <a:off x="5724360" y="4076640"/>
            <a:ext cx="1689120" cy="1266840"/>
          </a:xfrm>
          <a:prstGeom prst="rect">
            <a:avLst/>
          </a:prstGeom>
          <a:ln w="0">
            <a:noFill/>
          </a:ln>
        </p:spPr>
      </p:pic>
      <p:pic>
        <p:nvPicPr>
          <p:cNvPr id="235" name="Рисунок 12" descr="i222.jpg"/>
          <p:cNvPicPr/>
          <p:nvPr/>
        </p:nvPicPr>
        <p:blipFill>
          <a:blip r:embed="rId7"/>
          <a:stretch/>
        </p:blipFill>
        <p:spPr>
          <a:xfrm>
            <a:off x="3132000" y="5013360"/>
            <a:ext cx="190512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457200" y="475920"/>
            <a:ext cx="7238880" cy="59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rebuchet MS"/>
              </a:rPr>
              <a:t>A capital – capitals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rebuchet MS"/>
              </a:rPr>
              <a:t>A place – places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rebuchet MS"/>
              </a:rPr>
              <a:t>A tower – towers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rebuchet MS"/>
              </a:rPr>
              <a:t>Square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rebuchet MS"/>
              </a:rPr>
              <a:t>Tall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rebuchet MS"/>
              </a:rPr>
              <a:t>A monument – monuments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rebuchet MS"/>
              </a:rPr>
              <a:t>A bell - bells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457200" y="259920"/>
            <a:ext cx="7238880" cy="61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Trebuchet MS"/>
              </a:rPr>
              <a:t>Think of the correct word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74396"/>
                </a:solidFill>
                <a:latin typeface="Trebuchet MS"/>
              </a:rPr>
              <a:t>Washington is the … of the USA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74396"/>
                </a:solidFill>
                <a:latin typeface="Trebuchet MS"/>
              </a:rPr>
              <a:t>Hyde Park is a popular … for Londoners on hot summer days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74396"/>
                </a:solidFill>
                <a:latin typeface="Trebuchet MS"/>
              </a:rPr>
              <a:t>The … of London was a prison many years ago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74396"/>
                </a:solidFill>
                <a:latin typeface="Trebuchet MS"/>
              </a:rPr>
              <a:t>Yesterday we bought a … table for our kitchen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74396"/>
                </a:solidFill>
                <a:latin typeface="Trebuchet MS"/>
              </a:rPr>
              <a:t>There is a … monument to Admiral Nelson in Trafalgar Square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74396"/>
                </a:solidFill>
                <a:latin typeface="Trebuchet MS"/>
              </a:rPr>
              <a:t>I have just  heard a school … 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74396"/>
                </a:solidFill>
                <a:latin typeface="Trebuchet MS"/>
              </a:rPr>
              <a:t>You can see a famous … to Pushkin in one of Moscow squares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457200" y="549360"/>
            <a:ext cx="7238880" cy="59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70000" indent="-270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74396"/>
                </a:solidFill>
                <a:latin typeface="Trebuchet MS"/>
              </a:rPr>
              <a:t>listen to 43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74396"/>
                </a:solidFill>
                <a:latin typeface="Trebuchet MS"/>
              </a:rPr>
              <a:t>ex.7 p. 170-171 rt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74396"/>
                </a:solidFill>
                <a:latin typeface="Trebuchet MS"/>
              </a:rPr>
              <a:t>vocabulary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74396"/>
                </a:solidFill>
                <a:latin typeface="Trebuchet MS"/>
              </a:rPr>
              <a:t>( learn the words!)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74396"/>
                </a:solidFill>
                <a:latin typeface="Trebuchet MS"/>
              </a:rPr>
              <a:t>         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9" name="Рисунок 4" descr="i77.jpg"/>
          <p:cNvPicPr/>
          <p:nvPr/>
        </p:nvPicPr>
        <p:blipFill>
          <a:blip r:embed="rId1"/>
          <a:stretch/>
        </p:blipFill>
        <p:spPr>
          <a:xfrm>
            <a:off x="1835280" y="260280"/>
            <a:ext cx="3960720" cy="30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Содержимое 3" descr="i88888.jpg"/>
          <p:cNvPicPr/>
          <p:nvPr/>
        </p:nvPicPr>
        <p:blipFill>
          <a:blip r:embed="rId1"/>
          <a:stretch/>
        </p:blipFill>
        <p:spPr>
          <a:xfrm>
            <a:off x="961920" y="434880"/>
            <a:ext cx="6131160" cy="608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25T17:45:05Z</dcterms:created>
  <dc:creator>Учитель</dc:creator>
  <dc:description/>
  <dc:language>en-US</dc:language>
  <cp:lastModifiedBy>Учитель</cp:lastModifiedBy>
  <dcterms:modified xsi:type="dcterms:W3CDTF">2013-02-25T20:01:30Z</dcterms:modified>
  <cp:revision>13</cp:revision>
  <dc:subject/>
  <dc:title>Town Life London</dc:title>
</cp:coreProperties>
</file>