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6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3.png" ContentType="image/png"/>
  <Override PartName="/ppt/media/image7.gif" ContentType="image/gif"/>
  <Override PartName="/ppt/media/image5.jpeg" ContentType="image/jpeg"/>
  <Override PartName="/ppt/media/image12.gif" ContentType="image/gif"/>
  <Override PartName="/ppt/media/image15.png" ContentType="image/png"/>
  <Override PartName="/ppt/media/image8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BCD4-3991-4653-BE22-8E06726B9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7BC9-E81C-44F4-BECC-19987F500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7CD8-EA70-48DE-B77E-0D7010BA8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B8B8-866F-4C47-A0D3-1E5D58174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1E8-00EC-4338-AA98-D991FF1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2EC-DD04-4CDC-9DDA-5CEF3553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A0B-021A-480E-92FE-66CB0911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5CE-640C-4271-8263-4B44E685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60A-9A39-4CFB-969E-AFD1A99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FE1-D441-4E17-BA3B-982BB136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3D7-0D4E-4190-A92A-2546ED6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46F2-062C-49EC-BE2D-A3F252ED4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5F8-6DFE-412A-9200-69199B7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8D6-4A69-424A-8BB1-63ABB31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382-89AF-41D7-ADD6-A4BE301E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B61-ACB8-46B5-8471-035FF9C0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5B2-A84C-4C94-BAAF-9EA0F6CC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0445F-22D5-425B-A0BC-543F4944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43678-8B08-41AC-8D0A-4F4A26F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56656-99E1-4F61-9B1E-AD9BFE49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F1DD3-89B0-4569-9166-0BED7E28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F9F48-BA09-4F0E-91DF-C728B33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5CB4-BDCD-4347-ABCC-3BA320542B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2BBB4-EBCE-4613-B44B-B65D0F7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72344-7259-47E4-8781-6333D9A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021E1-CA8A-4AA4-AB68-5948BB5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1521E-45D5-4AF6-A132-24537CE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4F274-05F7-469E-A04B-73BC2B8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D8355-0664-41BA-9DDE-DC8B8718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EC657-B0E1-4CF0-9129-D51E71B4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43770-4822-4DB7-BD28-C4413287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10835-300B-4CBA-8254-72722DDB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65EA5-D65C-45EC-9B0A-1CE898C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05B5-7E2B-4FA3-8025-7277D48819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4ED3B-90C1-464F-8AA5-E12647D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22457-F712-4F61-946E-2B202D8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DF371-9CD3-4F2F-A172-7986A713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19CA7-D0B0-48C5-972F-6467AEC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2EB5F-1333-44FB-8DFB-A40A661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64285-D8A5-4433-9473-D7CCDAE1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8B0AC-E7E5-4064-BC2A-5D940C47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4C57A-51B6-4C6E-8329-29780C6C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12ACE-C2DA-4A58-A9E7-EA6851FF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8122D-3DD9-444C-B0B1-8FE59F35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FF0D-C6B6-483E-84B5-3E81559F6E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3C548-37BB-4527-A4EC-F7B6D80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95A990-51E4-404F-A6AE-D32A684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F354F-5A61-4571-9F76-48DF98C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FDEE8-30B9-4800-B5FA-E958A4F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495E3-FF23-4930-87FE-BD19631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6CD467-366A-49A2-9102-58AEACE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D1171-1627-44FB-A5D6-ABEB0248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C5DC64-66DA-45C2-9F01-FA0F2C7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63C38-328A-421B-A7C0-9D1D453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9E34E2-62C6-4EFF-B525-E9FA3DD3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763C-2D28-41C8-9E06-3EDE82003F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8298E-5129-45B4-9662-EE887F5E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09A9-D1F5-4AE8-90DF-B9CFB2CCE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CEEE-353C-48A5-908A-ABFF65A24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B9D0-2F70-4929-8AFC-9E55FD0B5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A7E2-F6E8-4FCC-8FC0-2B15857AEB06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B7B4-4547-4A97-A748-EC346F07A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17FE-1BBD-4386-AD45-1EDDC80D0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8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9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0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7750-6BC7-42C8-8489-9ADA0B40D8B1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3E47-E1E0-4DE6-A7AD-F6DF6B46F6E8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" Target=""/><Relationship Id="rId8" Type="http://schemas.openxmlformats.org/officeDocument/2006/relationships/slide" Target="slide2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23.xml"/><Relationship Id="rId12" Type="http://schemas.openxmlformats.org/officeDocument/2006/relationships/hyperlink" Target="C:\&#1059;&#1084;&#1085;&#1086;&#1078;&#1077;&#1085;&#1080;&#1077;\&#1064;&#1082;&#1086;&#1083;&#1072;.exe" TargetMode="External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8.gif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png"/><Relationship Id="rId8" Type="http://schemas.openxmlformats.org/officeDocument/2006/relationships/image" Target="../media/image14.gi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1.png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slide" Target="slide9.xml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slide" Target="slide11.xml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1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png"/><Relationship Id="rId19" Type="http://schemas.openxmlformats.org/officeDocument/2006/relationships/slide" Target="slide13.xml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1.png"/><Relationship Id="rId22" Type="http://schemas.openxmlformats.org/officeDocument/2006/relationships/image" Target="../media/image12.gif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871560" cy="1008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276720" y="765000"/>
            <a:ext cx="242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лан урока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1908000" y="189000"/>
            <a:ext cx="839880" cy="1150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7380360" y="333360"/>
            <a:ext cx="1439640" cy="10699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971640" y="2071800"/>
            <a:ext cx="7896240" cy="755640"/>
            <a:chOff x="971640" y="2071800"/>
            <a:chExt cx="7896240" cy="755640"/>
          </a:xfrm>
        </p:grpSpPr>
        <p:sp>
          <p:nvSpPr>
            <p:cNvPr id="230" name="">
              <a:hlinkClick r:id="rId7" action="ppaction://hlinksldjump"/>
            </p:cNvPr>
            <p:cNvSpPr/>
            <p:nvPr/>
          </p:nvSpPr>
          <p:spPr>
            <a:xfrm>
              <a:off x="971640" y="207180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71520" y="220212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32" name="">
              <a:hlinkClick r:id="rId8" action="ppaction://hlinksldjump"/>
            </p:cNvPr>
            <p:cNvSpPr/>
            <p:nvPr/>
          </p:nvSpPr>
          <p:spPr>
            <a:xfrm>
              <a:off x="986040" y="2071800"/>
              <a:ext cx="788184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Актуализация знаний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71640" y="3006720"/>
            <a:ext cx="7885080" cy="763560"/>
            <a:chOff x="971640" y="3006720"/>
            <a:chExt cx="7885080" cy="763560"/>
          </a:xfrm>
        </p:grpSpPr>
        <p:sp>
          <p:nvSpPr>
            <p:cNvPr id="234" name=""/>
            <p:cNvSpPr/>
            <p:nvPr/>
          </p:nvSpPr>
          <p:spPr>
            <a:xfrm>
              <a:off x="971640" y="300672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71520" y="31366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36" name="">
              <a:hlinkClick r:id="rId9" action="ppaction://hlinksldjump"/>
            </p:cNvPr>
            <p:cNvSpPr/>
            <p:nvPr/>
          </p:nvSpPr>
          <p:spPr>
            <a:xfrm>
              <a:off x="986040" y="301464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Изучение новой темы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971640" y="3932280"/>
            <a:ext cx="7885080" cy="766800"/>
            <a:chOff x="971640" y="3932280"/>
            <a:chExt cx="7885080" cy="766800"/>
          </a:xfrm>
        </p:grpSpPr>
        <p:sp>
          <p:nvSpPr>
            <p:cNvPr id="238" name=""/>
            <p:cNvSpPr/>
            <p:nvPr/>
          </p:nvSpPr>
          <p:spPr>
            <a:xfrm>
              <a:off x="971640" y="394344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71520" y="407376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40" name="">
              <a:hlinkClick r:id="rId10" action="ppaction://hlinksldjump"/>
            </p:cNvPr>
            <p:cNvSpPr/>
            <p:nvPr/>
          </p:nvSpPr>
          <p:spPr>
            <a:xfrm>
              <a:off x="986040" y="393228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репление изученного материал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971640" y="4869000"/>
            <a:ext cx="7885080" cy="766800"/>
            <a:chOff x="971640" y="4869000"/>
            <a:chExt cx="7885080" cy="766800"/>
          </a:xfrm>
        </p:grpSpPr>
        <p:sp>
          <p:nvSpPr>
            <p:cNvPr id="242" name=""/>
            <p:cNvSpPr/>
            <p:nvPr/>
          </p:nvSpPr>
          <p:spPr>
            <a:xfrm>
              <a:off x="971640" y="48801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71520" y="50104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44" name="">
              <a:hlinkClick r:id="rId11" action="ppaction://hlinksldjump"/>
            </p:cNvPr>
            <p:cNvSpPr/>
            <p:nvPr/>
          </p:nvSpPr>
          <p:spPr>
            <a:xfrm>
              <a:off x="986040" y="486900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одведение итогов урок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45" name="">
            <a:hlinkClick r:id="rId12"/>
          </p:cNvPr>
          <p:cNvSpPr/>
          <p:nvPr/>
        </p:nvSpPr>
        <p:spPr>
          <a:xfrm>
            <a:off x="0" y="333360"/>
            <a:ext cx="1297080" cy="115272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3500000"/>
          </a:gra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заставка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endshow"/>
          </p:cNvPr>
          <p:cNvSpPr/>
          <p:nvPr/>
        </p:nvSpPr>
        <p:spPr>
          <a:xfrm>
            <a:off x="6732720" y="5950080"/>
            <a:ext cx="2016000" cy="5032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6477" h="21600">
                <a:moveTo>
                  <a:pt x="0" y="0"/>
                </a:moveTo>
                <a:lnTo>
                  <a:pt x="86477" y="0"/>
                </a:lnTo>
                <a:lnTo>
                  <a:pt x="86477" y="21600"/>
                </a:lnTo>
                <a:lnTo>
                  <a:pt x="0" y="21600"/>
                </a:lnTo>
                <a:close/>
              </a:path>
              <a:path fill="lightenLess" w="86477" h="21600">
                <a:moveTo>
                  <a:pt x="0" y="0"/>
                </a:moveTo>
                <a:lnTo>
                  <a:pt x="86477" y="0"/>
                </a:lnTo>
                <a:lnTo>
                  <a:pt x="85077" y="1400"/>
                </a:lnTo>
                <a:lnTo>
                  <a:pt x="1400" y="1400"/>
                </a:lnTo>
                <a:close/>
              </a:path>
              <a:path fill="darken" w="86477" h="21600">
                <a:moveTo>
                  <a:pt x="86477" y="0"/>
                </a:moveTo>
                <a:lnTo>
                  <a:pt x="86477" y="21600"/>
                </a:lnTo>
                <a:lnTo>
                  <a:pt x="85077" y="20200"/>
                </a:lnTo>
                <a:lnTo>
                  <a:pt x="85077" y="1400"/>
                </a:lnTo>
                <a:close/>
              </a:path>
              <a:path fill="darkenLess" w="86477" h="21600">
                <a:moveTo>
                  <a:pt x="86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77" y="20200"/>
                </a:lnTo>
                <a:close/>
              </a:path>
              <a:path fill="lighten" w="86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15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200"/>
                            </p:stCondLst>
                            <p:childTnLst>
                              <p:par>
                                <p:cTn id="2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200"/>
                            </p:stCondLst>
                            <p:childTnLst>
                              <p:par>
                                <p:cTn id="26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2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2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2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200"/>
                            </p:stCondLst>
                            <p:childTnLst>
                              <p:par>
                                <p:cTn id="66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7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7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907920"/>
                <a:ext cx="2021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0" y="2781360"/>
                <a:ext cx="2617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50920" y="4508640"/>
                <a:ext cx="23428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3277800" y="33336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7596360" y="549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65040" y="47628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Произведение положительного и отрицательного числа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равило: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При умножении положительного числа на отрицательное  число  перемножаем модули данных чисел и перед результатом ставим знак минус.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3600" y="2276640"/>
            <a:ext cx="527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• (-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b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)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= - │a│• │b│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429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332000" y="4411800"/>
                <a:ext cx="5545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773360" y="3284640"/>
                <a:ext cx="4867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7380360" y="5445000"/>
            <a:ext cx="1187280" cy="40500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3285" h="21600">
                <a:moveTo>
                  <a:pt x="0" y="0"/>
                </a:moveTo>
                <a:lnTo>
                  <a:pt x="63285" y="0"/>
                </a:lnTo>
                <a:lnTo>
                  <a:pt x="63285" y="21600"/>
                </a:lnTo>
                <a:lnTo>
                  <a:pt x="0" y="21600"/>
                </a:lnTo>
                <a:close/>
              </a:path>
              <a:path fill="lightenLess" w="63285" h="21600">
                <a:moveTo>
                  <a:pt x="0" y="0"/>
                </a:moveTo>
                <a:lnTo>
                  <a:pt x="63285" y="0"/>
                </a:lnTo>
                <a:lnTo>
                  <a:pt x="61885" y="1400"/>
                </a:lnTo>
                <a:lnTo>
                  <a:pt x="1400" y="1400"/>
                </a:lnTo>
                <a:close/>
              </a:path>
              <a:path fill="darken" w="63285" h="21600">
                <a:moveTo>
                  <a:pt x="63285" y="0"/>
                </a:moveTo>
                <a:lnTo>
                  <a:pt x="63285" y="21600"/>
                </a:lnTo>
                <a:lnTo>
                  <a:pt x="61885" y="20200"/>
                </a:lnTo>
                <a:lnTo>
                  <a:pt x="61885" y="1400"/>
                </a:lnTo>
                <a:close/>
              </a:path>
              <a:path fill="darkenLess" w="63285" h="21600">
                <a:moveTo>
                  <a:pt x="63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85" y="20200"/>
                </a:lnTo>
                <a:close/>
              </a:path>
              <a:path fill="lighten" w="63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1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1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5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50"/>
                            </p:stCondLst>
                            <p:childTnLst>
                              <p:par>
                                <p:cTn id="329" nodeType="afterEffect" fill="hold" presetClass="emph" presetID="35" repeatCount="indefinite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5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1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1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50"/>
                            </p:stCondLst>
                            <p:childTnLst>
                              <p:par>
                                <p:cTn id="3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4550"/>
                            </p:stCondLst>
                            <p:childTnLst>
                              <p:par>
                                <p:cTn id="3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55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57040" y="907920"/>
                <a:ext cx="1865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2781360"/>
                <a:ext cx="2894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14480" y="4508640"/>
                <a:ext cx="261756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9080" y="404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7596360" y="549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65400" y="476280"/>
            <a:ext cx="67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Произведение двух отрицательных  чисел.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равило: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При умножении отрицательного числа на отрицательное  число  перемножаем модули данных чисел и перед результатом ставим знак плюс.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3240" y="2276640"/>
            <a:ext cx="527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-а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• (-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b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)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=  │a│• │b│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429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77800" y="4411800"/>
                <a:ext cx="52516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86040" y="3284640"/>
                <a:ext cx="4641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7380360" y="5445000"/>
            <a:ext cx="1187280" cy="40500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3285" h="21600">
                <a:moveTo>
                  <a:pt x="0" y="0"/>
                </a:moveTo>
                <a:lnTo>
                  <a:pt x="63285" y="0"/>
                </a:lnTo>
                <a:lnTo>
                  <a:pt x="63285" y="21600"/>
                </a:lnTo>
                <a:lnTo>
                  <a:pt x="0" y="21600"/>
                </a:lnTo>
                <a:close/>
              </a:path>
              <a:path fill="lightenLess" w="63285" h="21600">
                <a:moveTo>
                  <a:pt x="0" y="0"/>
                </a:moveTo>
                <a:lnTo>
                  <a:pt x="63285" y="0"/>
                </a:lnTo>
                <a:lnTo>
                  <a:pt x="61885" y="1400"/>
                </a:lnTo>
                <a:lnTo>
                  <a:pt x="1400" y="1400"/>
                </a:lnTo>
                <a:close/>
              </a:path>
              <a:path fill="darken" w="63285" h="21600">
                <a:moveTo>
                  <a:pt x="63285" y="0"/>
                </a:moveTo>
                <a:lnTo>
                  <a:pt x="63285" y="21600"/>
                </a:lnTo>
                <a:lnTo>
                  <a:pt x="61885" y="20200"/>
                </a:lnTo>
                <a:lnTo>
                  <a:pt x="61885" y="1400"/>
                </a:lnTo>
                <a:close/>
              </a:path>
              <a:path fill="darkenLess" w="63285" h="21600">
                <a:moveTo>
                  <a:pt x="63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85" y="20200"/>
                </a:lnTo>
                <a:close/>
              </a:path>
              <a:path fill="lighten" w="63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mph" presetID="35" repeatCount="indefinite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1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1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0" y="1052640"/>
                <a:ext cx="31622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0" y="2781360"/>
                <a:ext cx="3306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0" y="4508640"/>
                <a:ext cx="30304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3349080" y="404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8" name="">
            <a:hlinkClick r:id="rId1" action="ppaction://hlinksldjump"/>
          </p:cNvPr>
          <p:cNvSpPr/>
          <p:nvPr/>
        </p:nvSpPr>
        <p:spPr>
          <a:xfrm>
            <a:off x="7596360" y="549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7885080" cy="766800"/>
            <a:chOff x="0" y="0"/>
            <a:chExt cx="7885080" cy="766800"/>
          </a:xfrm>
        </p:grpSpPr>
        <p:sp>
          <p:nvSpPr>
            <p:cNvPr id="380" name=""/>
            <p:cNvSpPr/>
            <p:nvPr/>
          </p:nvSpPr>
          <p:spPr>
            <a:xfrm>
              <a:off x="0" y="111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9880" y="1414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00" y="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репление изученного материал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75112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80" y="155736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5280" y="1916280"/>
                <a:ext cx="23781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24000" y="2924280"/>
                <a:ext cx="2331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24000" y="4149720"/>
                <a:ext cx="3357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4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68360" y="5445000"/>
                <a:ext cx="2844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4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643280" y="1916280"/>
                <a:ext cx="28911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643280" y="2924280"/>
                <a:ext cx="34974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03640" y="3645000"/>
                <a:ext cx="28911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788000" y="5013360"/>
                <a:ext cx="26589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7307280" y="907920"/>
            <a:ext cx="1836720" cy="576360"/>
          </a:xfrm>
          <a:custGeom>
            <a:avLst/>
            <a:gdLst>
              <a:gd name="textAreaLeft" fmla="*/ 37080 w 1836720"/>
              <a:gd name="textAreaRight" fmla="*/ 1799640 w 18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8804" h="21600">
                <a:moveTo>
                  <a:pt x="0" y="0"/>
                </a:moveTo>
                <a:lnTo>
                  <a:pt x="68804" y="0"/>
                </a:lnTo>
                <a:lnTo>
                  <a:pt x="68804" y="21600"/>
                </a:lnTo>
                <a:lnTo>
                  <a:pt x="0" y="21600"/>
                </a:lnTo>
                <a:close/>
              </a:path>
              <a:path fill="lightenLess" w="68804" h="21600">
                <a:moveTo>
                  <a:pt x="0" y="0"/>
                </a:moveTo>
                <a:lnTo>
                  <a:pt x="68804" y="0"/>
                </a:lnTo>
                <a:lnTo>
                  <a:pt x="67405" y="1400"/>
                </a:lnTo>
                <a:lnTo>
                  <a:pt x="1400" y="1400"/>
                </a:lnTo>
                <a:close/>
              </a:path>
              <a:path fill="darken" w="68804" h="21600">
                <a:moveTo>
                  <a:pt x="68804" y="0"/>
                </a:moveTo>
                <a:lnTo>
                  <a:pt x="68804" y="21600"/>
                </a:lnTo>
                <a:lnTo>
                  <a:pt x="67405" y="20200"/>
                </a:lnTo>
                <a:lnTo>
                  <a:pt x="67405" y="1400"/>
                </a:lnTo>
                <a:close/>
              </a:path>
              <a:path fill="darkenLess" w="68804" h="21600">
                <a:moveTo>
                  <a:pt x="68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405" y="20200"/>
                </a:lnTo>
                <a:close/>
              </a:path>
              <a:path fill="lighten" w="68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7885080" cy="766800"/>
            <a:chOff x="0" y="0"/>
            <a:chExt cx="7885080" cy="766800"/>
          </a:xfrm>
        </p:grpSpPr>
        <p:sp>
          <p:nvSpPr>
            <p:cNvPr id="395" name=""/>
            <p:cNvSpPr/>
            <p:nvPr/>
          </p:nvSpPr>
          <p:spPr>
            <a:xfrm>
              <a:off x="0" y="111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9880" y="1414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400" y="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репление изученного материал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75112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20" y="15573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роверьте ответ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0" y="2060640"/>
                <a:ext cx="3240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0" y="2997360"/>
                <a:ext cx="35449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4076640"/>
                <a:ext cx="466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0" y="5445000"/>
                <a:ext cx="47116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4,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103640" y="1916280"/>
                <a:ext cx="3684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967200" y="2924280"/>
                <a:ext cx="48499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003640" y="3789360"/>
                <a:ext cx="3776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03640" y="5013360"/>
                <a:ext cx="36388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7307280" y="907920"/>
            <a:ext cx="1836720" cy="576360"/>
          </a:xfrm>
          <a:custGeom>
            <a:avLst/>
            <a:gdLst>
              <a:gd name="textAreaLeft" fmla="*/ 37080 w 1836720"/>
              <a:gd name="textAreaRight" fmla="*/ 1799640 w 18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8804" h="21600">
                <a:moveTo>
                  <a:pt x="0" y="0"/>
                </a:moveTo>
                <a:lnTo>
                  <a:pt x="68804" y="0"/>
                </a:lnTo>
                <a:lnTo>
                  <a:pt x="68804" y="21600"/>
                </a:lnTo>
                <a:lnTo>
                  <a:pt x="0" y="21600"/>
                </a:lnTo>
                <a:close/>
              </a:path>
              <a:path fill="lightenLess" w="68804" h="21600">
                <a:moveTo>
                  <a:pt x="0" y="0"/>
                </a:moveTo>
                <a:lnTo>
                  <a:pt x="68804" y="0"/>
                </a:lnTo>
                <a:lnTo>
                  <a:pt x="67405" y="1400"/>
                </a:lnTo>
                <a:lnTo>
                  <a:pt x="1400" y="1400"/>
                </a:lnTo>
                <a:close/>
              </a:path>
              <a:path fill="darken" w="68804" h="21600">
                <a:moveTo>
                  <a:pt x="68804" y="0"/>
                </a:moveTo>
                <a:lnTo>
                  <a:pt x="68804" y="21600"/>
                </a:lnTo>
                <a:lnTo>
                  <a:pt x="67405" y="20200"/>
                </a:lnTo>
                <a:lnTo>
                  <a:pt x="67405" y="1400"/>
                </a:lnTo>
                <a:close/>
              </a:path>
              <a:path fill="darkenLess" w="68804" h="21600">
                <a:moveTo>
                  <a:pt x="68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405" y="20200"/>
                </a:lnTo>
                <a:close/>
              </a:path>
              <a:path fill="lighten" w="68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7885080" cy="766800"/>
            <a:chOff x="0" y="0"/>
            <a:chExt cx="7885080" cy="766800"/>
          </a:xfrm>
        </p:grpSpPr>
        <p:sp>
          <p:nvSpPr>
            <p:cNvPr id="410" name=""/>
            <p:cNvSpPr/>
            <p:nvPr/>
          </p:nvSpPr>
          <p:spPr>
            <a:xfrm>
              <a:off x="0" y="111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9880" y="1414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00" y="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репление изученного материал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53440" y="1676520"/>
            <a:ext cx="81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Сколько правил по новой теме должно быть записано?</a:t>
            </a:r>
            <a:endParaRPr b="0" lang="en-US" sz="2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2280" y="2900520"/>
            <a:ext cx="771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Какое правило помогает </a:t>
            </a: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превратить</a:t>
            </a: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 три правила в два?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6960" y="2325600"/>
            <a:ext cx="366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Прочитайте эти </a:t>
            </a:r>
            <a:r>
              <a:rPr b="1" lang="en-US" sz="2200" spc="-1" strike="noStrike">
                <a:solidFill>
                  <a:srgbClr val="464646"/>
                </a:solidFill>
                <a:latin typeface="Arial"/>
              </a:rPr>
              <a:t>правила.</a:t>
            </a:r>
            <a:endParaRPr b="0" lang="en-US" sz="2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9960" y="3597120"/>
            <a:ext cx="837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Если перемножить четыре отрицательных числа, каков будет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результат?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9240" y="4508640"/>
            <a:ext cx="807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Если перемножить семь отрицательных чисел, каков будет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результат?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7960" y="5300640"/>
            <a:ext cx="87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Сформулируйте правило для умножения отрицательных чисел с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помощью понятий «чётный» и нечётный»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307280" y="907920"/>
            <a:ext cx="1836720" cy="576360"/>
          </a:xfrm>
          <a:custGeom>
            <a:avLst/>
            <a:gdLst>
              <a:gd name="textAreaLeft" fmla="*/ 37080 w 1836720"/>
              <a:gd name="textAreaRight" fmla="*/ 1799640 w 1836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8804" h="21600">
                <a:moveTo>
                  <a:pt x="0" y="0"/>
                </a:moveTo>
                <a:lnTo>
                  <a:pt x="68804" y="0"/>
                </a:lnTo>
                <a:lnTo>
                  <a:pt x="68804" y="21600"/>
                </a:lnTo>
                <a:lnTo>
                  <a:pt x="0" y="21600"/>
                </a:lnTo>
                <a:close/>
              </a:path>
              <a:path fill="lightenLess" w="68804" h="21600">
                <a:moveTo>
                  <a:pt x="0" y="0"/>
                </a:moveTo>
                <a:lnTo>
                  <a:pt x="68804" y="0"/>
                </a:lnTo>
                <a:lnTo>
                  <a:pt x="67405" y="1400"/>
                </a:lnTo>
                <a:lnTo>
                  <a:pt x="1400" y="1400"/>
                </a:lnTo>
                <a:close/>
              </a:path>
              <a:path fill="darken" w="68804" h="21600">
                <a:moveTo>
                  <a:pt x="68804" y="0"/>
                </a:moveTo>
                <a:lnTo>
                  <a:pt x="68804" y="21600"/>
                </a:lnTo>
                <a:lnTo>
                  <a:pt x="67405" y="20200"/>
                </a:lnTo>
                <a:lnTo>
                  <a:pt x="67405" y="1400"/>
                </a:lnTo>
                <a:close/>
              </a:path>
              <a:path fill="darkenLess" w="68804" h="21600">
                <a:moveTo>
                  <a:pt x="68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405" y="20200"/>
                </a:lnTo>
                <a:close/>
              </a:path>
              <a:path fill="lighten" w="68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3,-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4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971640" y="1628640"/>
                <a:ext cx="63244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7740720" y="907920"/>
            <a:ext cx="1187280" cy="40500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3285" h="21600">
                <a:moveTo>
                  <a:pt x="0" y="0"/>
                </a:moveTo>
                <a:lnTo>
                  <a:pt x="63285" y="0"/>
                </a:lnTo>
                <a:lnTo>
                  <a:pt x="63285" y="21600"/>
                </a:lnTo>
                <a:lnTo>
                  <a:pt x="0" y="21600"/>
                </a:lnTo>
                <a:close/>
              </a:path>
              <a:path fill="lightenLess" w="63285" h="21600">
                <a:moveTo>
                  <a:pt x="0" y="0"/>
                </a:moveTo>
                <a:lnTo>
                  <a:pt x="63285" y="0"/>
                </a:lnTo>
                <a:lnTo>
                  <a:pt x="61885" y="1400"/>
                </a:lnTo>
                <a:lnTo>
                  <a:pt x="1400" y="1400"/>
                </a:lnTo>
                <a:close/>
              </a:path>
              <a:path fill="darken" w="63285" h="21600">
                <a:moveTo>
                  <a:pt x="63285" y="0"/>
                </a:moveTo>
                <a:lnTo>
                  <a:pt x="63285" y="21600"/>
                </a:lnTo>
                <a:lnTo>
                  <a:pt x="61885" y="20200"/>
                </a:lnTo>
                <a:lnTo>
                  <a:pt x="61885" y="1400"/>
                </a:lnTo>
                <a:close/>
              </a:path>
              <a:path fill="darkenLess" w="63285" h="21600">
                <a:moveTo>
                  <a:pt x="63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85" y="20200"/>
                </a:lnTo>
                <a:close/>
              </a:path>
              <a:path fill="lighten" w="63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15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9216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0"/>
            <a:ext cx="7885080" cy="766800"/>
            <a:chOff x="0" y="0"/>
            <a:chExt cx="7885080" cy="766800"/>
          </a:xfrm>
        </p:grpSpPr>
        <p:sp>
          <p:nvSpPr>
            <p:cNvPr id="424" name=""/>
            <p:cNvSpPr/>
            <p:nvPr/>
          </p:nvSpPr>
          <p:spPr>
            <a:xfrm>
              <a:off x="0" y="111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9880" y="1414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00" y="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репление изученного материал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47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3120" y="857160"/>
            <a:ext cx="71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4646"/>
                </a:solidFill>
                <a:latin typeface="Arial"/>
              </a:rPr>
              <a:t>Определите каким числом (положительным или отрица-тельным) является значение выражения: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15880" y="1574640"/>
                <a:ext cx="7236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7740720" y="907920"/>
            <a:ext cx="1187280" cy="40500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3285" h="21600">
                <a:moveTo>
                  <a:pt x="0" y="0"/>
                </a:moveTo>
                <a:lnTo>
                  <a:pt x="63285" y="0"/>
                </a:lnTo>
                <a:lnTo>
                  <a:pt x="63285" y="21600"/>
                </a:lnTo>
                <a:lnTo>
                  <a:pt x="0" y="21600"/>
                </a:lnTo>
                <a:close/>
              </a:path>
              <a:path fill="lightenLess" w="63285" h="21600">
                <a:moveTo>
                  <a:pt x="0" y="0"/>
                </a:moveTo>
                <a:lnTo>
                  <a:pt x="63285" y="0"/>
                </a:lnTo>
                <a:lnTo>
                  <a:pt x="61885" y="1400"/>
                </a:lnTo>
                <a:lnTo>
                  <a:pt x="1400" y="1400"/>
                </a:lnTo>
                <a:close/>
              </a:path>
              <a:path fill="darken" w="63285" h="21600">
                <a:moveTo>
                  <a:pt x="63285" y="0"/>
                </a:moveTo>
                <a:lnTo>
                  <a:pt x="63285" y="21600"/>
                </a:lnTo>
                <a:lnTo>
                  <a:pt x="61885" y="20200"/>
                </a:lnTo>
                <a:lnTo>
                  <a:pt x="61885" y="1400"/>
                </a:lnTo>
                <a:close/>
              </a:path>
              <a:path fill="darkenLess" w="63285" h="21600">
                <a:moveTo>
                  <a:pt x="63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85" y="20200"/>
                </a:lnTo>
                <a:close/>
              </a:path>
              <a:path fill="lighten" w="63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15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9216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7885080" cy="766800"/>
            <a:chOff x="0" y="0"/>
            <a:chExt cx="7885080" cy="766800"/>
          </a:xfrm>
        </p:grpSpPr>
        <p:sp>
          <p:nvSpPr>
            <p:cNvPr id="433" name=""/>
            <p:cNvSpPr/>
            <p:nvPr/>
          </p:nvSpPr>
          <p:spPr>
            <a:xfrm>
              <a:off x="0" y="111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9880" y="1414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00" y="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репление изученного материал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447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3120" y="857160"/>
            <a:ext cx="71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4646"/>
                </a:solidFill>
                <a:latin typeface="Arial"/>
              </a:rPr>
              <a:t>Определите каким числом (положительным или отрица-тельным) является значение выражения: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826920" y="333360"/>
            <a:ext cx="7896240" cy="755640"/>
            <a:chOff x="826920" y="333360"/>
            <a:chExt cx="7896240" cy="755640"/>
          </a:xfrm>
        </p:grpSpPr>
        <p:sp>
          <p:nvSpPr>
            <p:cNvPr id="248" name="">
              <a:hlinkClick r:id="rId2" action="ppaction://hlinksldjump"/>
            </p:cNvPr>
            <p:cNvSpPr/>
            <p:nvPr/>
          </p:nvSpPr>
          <p:spPr>
            <a:xfrm>
              <a:off x="826920" y="33336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26800" y="46368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1320" y="333360"/>
              <a:ext cx="788184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Актуализация знаний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2896800">
            <a:off x="4680000" y="2889000"/>
            <a:ext cx="2160360" cy="503280"/>
          </a:xfrm>
          <a:custGeom>
            <a:avLst/>
            <a:gdLst>
              <a:gd name="textAreaLeft" fmla="*/ 337320 w 2160360"/>
              <a:gd name="textAreaRight" fmla="*/ 1890360 w 2160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902000"/>
          </a:gra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rot="19076400">
            <a:off x="2049840" y="2852640"/>
            <a:ext cx="2160720" cy="503280"/>
          </a:xfrm>
          <a:custGeom>
            <a:avLst/>
            <a:gdLst>
              <a:gd name="textAreaLeft" fmla="*/ 337680 w 2160720"/>
              <a:gd name="textAreaRight" fmla="*/ 1891080 w 2160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274000"/>
          </a:gra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933720"/>
            <a:ext cx="2303640" cy="719280"/>
          </a:xfrm>
          <a:custGeom>
            <a:avLst/>
            <a:gdLst>
              <a:gd name="textAreaLeft" fmla="*/ 46440 w 2303640"/>
              <a:gd name="textAreaRight" fmla="*/ 2257200 w 230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69155" h="21600">
                <a:moveTo>
                  <a:pt x="0" y="0"/>
                </a:moveTo>
                <a:lnTo>
                  <a:pt x="69155" y="0"/>
                </a:lnTo>
                <a:lnTo>
                  <a:pt x="69155" y="21600"/>
                </a:lnTo>
                <a:lnTo>
                  <a:pt x="0" y="21600"/>
                </a:lnTo>
                <a:close/>
              </a:path>
              <a:path fill="lightenLess" w="69155" h="21600">
                <a:moveTo>
                  <a:pt x="0" y="0"/>
                </a:moveTo>
                <a:lnTo>
                  <a:pt x="69155" y="0"/>
                </a:lnTo>
                <a:lnTo>
                  <a:pt x="67755" y="1400"/>
                </a:lnTo>
                <a:lnTo>
                  <a:pt x="1400" y="1400"/>
                </a:lnTo>
                <a:close/>
              </a:path>
              <a:path fill="darken" w="69155" h="21600">
                <a:moveTo>
                  <a:pt x="69155" y="0"/>
                </a:moveTo>
                <a:lnTo>
                  <a:pt x="69155" y="21600"/>
                </a:lnTo>
                <a:lnTo>
                  <a:pt x="67755" y="20200"/>
                </a:lnTo>
                <a:lnTo>
                  <a:pt x="67755" y="1400"/>
                </a:lnTo>
                <a:close/>
              </a:path>
              <a:path fill="darkenLess" w="69155" h="21600">
                <a:moveTo>
                  <a:pt x="69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55" y="20200"/>
                </a:lnTo>
                <a:close/>
              </a:path>
              <a:path fill="lighten" w="69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Задание №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5292720" y="4005360"/>
            <a:ext cx="2303640" cy="718920"/>
          </a:xfrm>
          <a:custGeom>
            <a:avLst/>
            <a:gdLst>
              <a:gd name="textAreaLeft" fmla="*/ 46440 w 2303640"/>
              <a:gd name="textAreaRight" fmla="*/ 2257200 w 230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9189" h="21600">
                <a:moveTo>
                  <a:pt x="0" y="0"/>
                </a:moveTo>
                <a:lnTo>
                  <a:pt x="69189" y="0"/>
                </a:lnTo>
                <a:lnTo>
                  <a:pt x="69189" y="21600"/>
                </a:lnTo>
                <a:lnTo>
                  <a:pt x="0" y="21600"/>
                </a:lnTo>
                <a:close/>
              </a:path>
              <a:path fill="lightenLess" w="69189" h="21600">
                <a:moveTo>
                  <a:pt x="0" y="0"/>
                </a:moveTo>
                <a:lnTo>
                  <a:pt x="69189" y="0"/>
                </a:lnTo>
                <a:lnTo>
                  <a:pt x="67789" y="1400"/>
                </a:lnTo>
                <a:lnTo>
                  <a:pt x="1400" y="1400"/>
                </a:lnTo>
                <a:close/>
              </a:path>
              <a:path fill="darken" w="69189" h="21600">
                <a:moveTo>
                  <a:pt x="69189" y="0"/>
                </a:moveTo>
                <a:lnTo>
                  <a:pt x="69189" y="21600"/>
                </a:lnTo>
                <a:lnTo>
                  <a:pt x="67789" y="20200"/>
                </a:lnTo>
                <a:lnTo>
                  <a:pt x="67789" y="1400"/>
                </a:lnTo>
                <a:close/>
              </a:path>
              <a:path fill="darkenLess" w="69189" h="21600">
                <a:moveTo>
                  <a:pt x="69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89" y="20200"/>
                </a:lnTo>
                <a:close/>
              </a:path>
              <a:path fill="lighten" w="69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Задание №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140360" y="1773360"/>
            <a:ext cx="865080" cy="77616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rId5" action="ppaction://hlinksldjump"/>
          </p:cNvPr>
          <p:cNvSpPr/>
          <p:nvPr/>
        </p:nvSpPr>
        <p:spPr>
          <a:xfrm>
            <a:off x="7524720" y="5734080"/>
            <a:ext cx="1224000" cy="64764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12" h="21600">
                <a:moveTo>
                  <a:pt x="0" y="0"/>
                </a:moveTo>
                <a:lnTo>
                  <a:pt x="40812" y="0"/>
                </a:lnTo>
                <a:lnTo>
                  <a:pt x="40812" y="21600"/>
                </a:lnTo>
                <a:lnTo>
                  <a:pt x="0" y="21600"/>
                </a:lnTo>
                <a:close/>
              </a:path>
              <a:path fill="lightenLess" w="40812" h="21600">
                <a:moveTo>
                  <a:pt x="0" y="0"/>
                </a:moveTo>
                <a:lnTo>
                  <a:pt x="40812" y="0"/>
                </a:lnTo>
                <a:lnTo>
                  <a:pt x="39412" y="1400"/>
                </a:lnTo>
                <a:lnTo>
                  <a:pt x="1400" y="1400"/>
                </a:lnTo>
                <a:close/>
              </a:path>
              <a:path fill="darken" w="40812" h="21600">
                <a:moveTo>
                  <a:pt x="40812" y="0"/>
                </a:moveTo>
                <a:lnTo>
                  <a:pt x="40812" y="21600"/>
                </a:lnTo>
                <a:lnTo>
                  <a:pt x="39412" y="20200"/>
                </a:lnTo>
                <a:lnTo>
                  <a:pt x="39412" y="1400"/>
                </a:lnTo>
                <a:close/>
              </a:path>
              <a:path fill="darkenLess" w="40812" h="21600">
                <a:moveTo>
                  <a:pt x="40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12" y="20200"/>
                </a:lnTo>
                <a:close/>
              </a:path>
              <a:path fill="lighten" w="40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12" h="21600">
                <a:moveTo>
                  <a:pt x="16907" y="10800"/>
                </a:moveTo>
                <a:lnTo>
                  <a:pt x="27412" y="3794"/>
                </a:lnTo>
                <a:lnTo>
                  <a:pt x="27412" y="17806"/>
                </a:lnTo>
                <a:close/>
              </a:path>
              <a:path fill="darken" w="40812" h="21600">
                <a:moveTo>
                  <a:pt x="13400" y="3794"/>
                </a:moveTo>
                <a:lnTo>
                  <a:pt x="15062" y="3794"/>
                </a:lnTo>
                <a:lnTo>
                  <a:pt x="15062" y="17806"/>
                </a:lnTo>
                <a:lnTo>
                  <a:pt x="13400" y="17806"/>
                </a:lnTo>
                <a:close/>
              </a:path>
            </a:pathLst>
          </a:custGeom>
          <a:solidFill>
            <a:srgbClr val="f15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25080" y="53006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9640" y="1125360"/>
                <a:ext cx="7878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⋅</m:t>
                    </m:r>
                    <m:r>
                      <m:t xml:space="preserve">2,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3349080" y="404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7596360" y="549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87440" y="1125360"/>
                <a:ext cx="79851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,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349080" y="404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7596360" y="549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403280" y="765000"/>
                <a:ext cx="616284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3349080" y="4046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шите примеры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7596360" y="549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6676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258920" y="260280"/>
            <a:ext cx="7885080" cy="766800"/>
            <a:chOff x="1258920" y="260280"/>
            <a:chExt cx="7885080" cy="766800"/>
          </a:xfrm>
        </p:grpSpPr>
        <p:sp>
          <p:nvSpPr>
            <p:cNvPr id="449" name=""/>
            <p:cNvSpPr/>
            <p:nvPr/>
          </p:nvSpPr>
          <p:spPr>
            <a:xfrm>
              <a:off x="1258920" y="27144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58800" y="40176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73320" y="26028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одведение итогов урока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97440" y="1125360"/>
            <a:ext cx="31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О чём узнали?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1040" y="692280"/>
            <a:ext cx="68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Чему мы научились на этом уроке?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62960" y="1773360"/>
            <a:ext cx="6845400" cy="1386000"/>
            <a:chOff x="462960" y="1773360"/>
            <a:chExt cx="6845400" cy="1386000"/>
          </a:xfrm>
        </p:grpSpPr>
        <p:grpSp>
          <p:nvGrpSpPr>
            <p:cNvPr id="455" name=""/>
            <p:cNvGrpSpPr/>
            <p:nvPr/>
          </p:nvGrpSpPr>
          <p:grpSpPr>
            <a:xfrm>
              <a:off x="2773440" y="1773360"/>
              <a:ext cx="1744200" cy="1312920"/>
              <a:chOff x="2773440" y="1773360"/>
              <a:chExt cx="1744200" cy="131292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670200" y="2025360"/>
                <a:ext cx="847440" cy="1008360"/>
                <a:chOff x="3670200" y="2025360"/>
                <a:chExt cx="847440" cy="1008360"/>
              </a:xfrm>
            </p:grpSpPr>
            <p:graphicFrame>
              <p:nvGraphicFramePr>
                <p:cNvPr id="457" name=""/>
                <p:cNvGraphicFramePr/>
                <p:nvPr/>
              </p:nvGraphicFramePr>
              <p:xfrm>
                <a:off x="3670200" y="2088000"/>
                <a:ext cx="847440" cy="83592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45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3670200" y="2088000"/>
                          <a:ext cx="847440" cy="83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59" name=""/>
                <p:cNvSpPr/>
                <p:nvPr/>
              </p:nvSpPr>
              <p:spPr>
                <a:xfrm>
                  <a:off x="3798720" y="2025360"/>
                  <a:ext cx="55908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ffffff"/>
                      </a:solidFill>
                      <a:latin typeface="Arial"/>
                    </a:rPr>
                    <a:t>+</a:t>
                  </a:r>
                  <a:endParaRPr b="0" lang="en-US" sz="60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773440" y="1773360"/>
                <a:ext cx="847440" cy="1312920"/>
                <a:chOff x="2773440" y="1773360"/>
                <a:chExt cx="847440" cy="1312920"/>
              </a:xfrm>
            </p:grpSpPr>
            <p:graphicFrame>
              <p:nvGraphicFramePr>
                <p:cNvPr id="461" name=""/>
                <p:cNvGraphicFramePr/>
                <p:nvPr/>
              </p:nvGraphicFramePr>
              <p:xfrm>
                <a:off x="2773440" y="2079720"/>
                <a:ext cx="847440" cy="83592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462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773440" y="2079720"/>
                          <a:ext cx="847440" cy="83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3" name=""/>
                <p:cNvSpPr/>
                <p:nvPr/>
              </p:nvSpPr>
              <p:spPr>
                <a:xfrm>
                  <a:off x="2903400" y="1773360"/>
                  <a:ext cx="51912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0" spc="-1" strike="noStrike">
                      <a:solidFill>
                        <a:srgbClr val="ffffff"/>
                      </a:solidFill>
                      <a:latin typeface="Arial"/>
                    </a:rPr>
                    <a:t>-</a:t>
                  </a:r>
                  <a:endParaRPr b="0" lang="en-US" sz="80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"/>
            <p:cNvSpPr/>
            <p:nvPr/>
          </p:nvSpPr>
          <p:spPr>
            <a:xfrm>
              <a:off x="462960" y="1846440"/>
              <a:ext cx="515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  <a:p>
              <a:pPr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6699"/>
                  </a:solidFill>
                  <a:latin typeface="Arial"/>
                </a:rPr>
                <a:t>Правила                          и   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508720" y="1846440"/>
              <a:ext cx="1799640" cy="1312920"/>
              <a:chOff x="5508720" y="1846440"/>
              <a:chExt cx="1799640" cy="131292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5508720" y="1846440"/>
                <a:ext cx="843480" cy="1312920"/>
                <a:chOff x="5508720" y="1846440"/>
                <a:chExt cx="843480" cy="1312920"/>
              </a:xfrm>
            </p:grpSpPr>
            <p:graphicFrame>
              <p:nvGraphicFramePr>
                <p:cNvPr id="467" name=""/>
                <p:cNvGraphicFramePr/>
                <p:nvPr/>
              </p:nvGraphicFramePr>
              <p:xfrm>
                <a:off x="5508720" y="2133720"/>
                <a:ext cx="843480" cy="7840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46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5508720" y="2133720"/>
                          <a:ext cx="843480" cy="784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9" name=""/>
                <p:cNvSpPr/>
                <p:nvPr/>
              </p:nvSpPr>
              <p:spPr>
                <a:xfrm>
                  <a:off x="5637600" y="1846440"/>
                  <a:ext cx="51912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0" spc="-1" strike="noStrike">
                      <a:solidFill>
                        <a:srgbClr val="ffffff"/>
                      </a:solidFill>
                      <a:latin typeface="Arial"/>
                    </a:rPr>
                    <a:t>-</a:t>
                  </a:r>
                  <a:endParaRPr b="0" lang="en-US" sz="80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464880" y="1846440"/>
                <a:ext cx="843480" cy="1312920"/>
                <a:chOff x="6464880" y="1846440"/>
                <a:chExt cx="843480" cy="1312920"/>
              </a:xfrm>
            </p:grpSpPr>
            <p:graphicFrame>
              <p:nvGraphicFramePr>
                <p:cNvPr id="471" name=""/>
                <p:cNvGraphicFramePr/>
                <p:nvPr/>
              </p:nvGraphicFramePr>
              <p:xfrm>
                <a:off x="6464880" y="2133720"/>
                <a:ext cx="843480" cy="78408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72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6464880" y="2133720"/>
                          <a:ext cx="843480" cy="784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73" name=""/>
                <p:cNvSpPr/>
                <p:nvPr/>
              </p:nvSpPr>
              <p:spPr>
                <a:xfrm>
                  <a:off x="6593760" y="1846440"/>
                  <a:ext cx="51912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0" spc="-1" strike="noStrike">
                      <a:solidFill>
                        <a:srgbClr val="ffffff"/>
                      </a:solidFill>
                      <a:latin typeface="Arial"/>
                    </a:rPr>
                    <a:t>-</a:t>
                  </a:r>
                  <a:endParaRPr b="0" lang="en-US" sz="80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4" name=""/>
          <p:cNvSpPr/>
          <p:nvPr/>
        </p:nvSpPr>
        <p:spPr>
          <a:xfrm>
            <a:off x="464400" y="2565360"/>
            <a:ext cx="82062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Задание на дом: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127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г,д,е,з,к)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128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в,г,д)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№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129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в,г,д)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99"/>
                </a:solidFill>
                <a:latin typeface="Arial"/>
              </a:rPr>
              <a:t>Определите каким числом (положительным </a:t>
            </a: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99"/>
                </a:solidFill>
                <a:latin typeface="Arial"/>
              </a:rPr>
              <a:t>или отрицательным) является значение вы-</a:t>
            </a: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6699"/>
                </a:solidFill>
                <a:latin typeface="Arial"/>
              </a:rPr>
              <a:t>ражения:</a:t>
            </a: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•(-2)•(-3)•…• (-999)=</a:t>
            </a: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•(-1)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•(-1)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•…• (-1)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Arial"/>
              </a:rPr>
              <a:t>50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7667640" y="1125360"/>
            <a:ext cx="1187280" cy="40500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3285" h="21600">
                <a:moveTo>
                  <a:pt x="0" y="0"/>
                </a:moveTo>
                <a:lnTo>
                  <a:pt x="63285" y="0"/>
                </a:lnTo>
                <a:lnTo>
                  <a:pt x="63285" y="21600"/>
                </a:lnTo>
                <a:lnTo>
                  <a:pt x="0" y="21600"/>
                </a:lnTo>
                <a:close/>
              </a:path>
              <a:path fill="lightenLess" w="63285" h="21600">
                <a:moveTo>
                  <a:pt x="0" y="0"/>
                </a:moveTo>
                <a:lnTo>
                  <a:pt x="63285" y="0"/>
                </a:lnTo>
                <a:lnTo>
                  <a:pt x="61885" y="1400"/>
                </a:lnTo>
                <a:lnTo>
                  <a:pt x="1400" y="1400"/>
                </a:lnTo>
                <a:close/>
              </a:path>
              <a:path fill="darken" w="63285" h="21600">
                <a:moveTo>
                  <a:pt x="63285" y="0"/>
                </a:moveTo>
                <a:lnTo>
                  <a:pt x="63285" y="21600"/>
                </a:lnTo>
                <a:lnTo>
                  <a:pt x="61885" y="20200"/>
                </a:lnTo>
                <a:lnTo>
                  <a:pt x="61885" y="1400"/>
                </a:lnTo>
                <a:close/>
              </a:path>
              <a:path fill="darkenLess" w="63285" h="21600">
                <a:moveTo>
                  <a:pt x="63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85" y="20200"/>
                </a:lnTo>
                <a:close/>
              </a:path>
              <a:path fill="lighten" w="63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500"/>
                            </p:stCondLst>
                            <p:childTnLst>
                              <p:par>
                                <p:cTn id="8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16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00000" y="765000"/>
            <a:ext cx="3745080" cy="576360"/>
          </a:xfrm>
          <a:custGeom>
            <a:avLst/>
            <a:gdLst>
              <a:gd name="textAreaLeft" fmla="*/ 37080 w 3745080"/>
              <a:gd name="textAreaRight" fmla="*/ 3708000 w 374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0279" h="21600">
                <a:moveTo>
                  <a:pt x="0" y="0"/>
                </a:moveTo>
                <a:lnTo>
                  <a:pt x="140279" y="0"/>
                </a:lnTo>
                <a:lnTo>
                  <a:pt x="140279" y="21600"/>
                </a:lnTo>
                <a:lnTo>
                  <a:pt x="0" y="21600"/>
                </a:lnTo>
                <a:close/>
              </a:path>
              <a:path fill="lightenLess" w="140279" h="21600">
                <a:moveTo>
                  <a:pt x="0" y="0"/>
                </a:moveTo>
                <a:lnTo>
                  <a:pt x="140279" y="0"/>
                </a:lnTo>
                <a:lnTo>
                  <a:pt x="138879" y="1400"/>
                </a:lnTo>
                <a:lnTo>
                  <a:pt x="1400" y="1400"/>
                </a:lnTo>
                <a:close/>
              </a:path>
              <a:path fill="darken" w="140279" h="21600">
                <a:moveTo>
                  <a:pt x="140279" y="0"/>
                </a:moveTo>
                <a:lnTo>
                  <a:pt x="140279" y="21600"/>
                </a:lnTo>
                <a:lnTo>
                  <a:pt x="138879" y="20200"/>
                </a:lnTo>
                <a:lnTo>
                  <a:pt x="138879" y="1400"/>
                </a:lnTo>
                <a:close/>
              </a:path>
              <a:path fill="darkenLess" w="140279" h="21600">
                <a:moveTo>
                  <a:pt x="14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79" y="20200"/>
                </a:lnTo>
                <a:close/>
              </a:path>
              <a:path fill="lighten" w="14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Проверить ответ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-3772080"/>
            <a:ext cx="5183280" cy="3373560"/>
          </a:xfrm>
          <a:prstGeom prst="rect">
            <a:avLst/>
          </a:prstGeom>
          <a:ln w="0">
            <a:noFill/>
          </a:ln>
        </p:spPr>
      </p:pic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5796000" y="76500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8" dur="indefinite" restart="never" nodeType="tmRoot">
          <p:childTnLst>
            <p:seq>
              <p:cTn id="88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3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894" dur="1" fill="hold">
                                    <p:stCondLst>
                                      <p:cond evt="end">
                                        <p:tn val="892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71640" y="836640"/>
            <a:ext cx="3744720" cy="576360"/>
          </a:xfrm>
          <a:custGeom>
            <a:avLst/>
            <a:gdLst>
              <a:gd name="textAreaLeft" fmla="*/ 37080 w 3744720"/>
              <a:gd name="textAreaRight" fmla="*/ 3707640 w 3744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0265" h="21600">
                <a:moveTo>
                  <a:pt x="0" y="0"/>
                </a:moveTo>
                <a:lnTo>
                  <a:pt x="140265" y="0"/>
                </a:lnTo>
                <a:lnTo>
                  <a:pt x="140265" y="21600"/>
                </a:lnTo>
                <a:lnTo>
                  <a:pt x="0" y="21600"/>
                </a:lnTo>
                <a:close/>
              </a:path>
              <a:path fill="lightenLess" w="140265" h="21600">
                <a:moveTo>
                  <a:pt x="0" y="0"/>
                </a:moveTo>
                <a:lnTo>
                  <a:pt x="140265" y="0"/>
                </a:lnTo>
                <a:lnTo>
                  <a:pt x="138865" y="1400"/>
                </a:lnTo>
                <a:lnTo>
                  <a:pt x="1400" y="1400"/>
                </a:lnTo>
                <a:close/>
              </a:path>
              <a:path fill="darken" w="140265" h="21600">
                <a:moveTo>
                  <a:pt x="140265" y="0"/>
                </a:moveTo>
                <a:lnTo>
                  <a:pt x="140265" y="21600"/>
                </a:lnTo>
                <a:lnTo>
                  <a:pt x="138865" y="20200"/>
                </a:lnTo>
                <a:lnTo>
                  <a:pt x="138865" y="1400"/>
                </a:lnTo>
                <a:close/>
              </a:path>
              <a:path fill="darkenLess" w="140265" h="21600">
                <a:moveTo>
                  <a:pt x="140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65" y="20200"/>
                </a:lnTo>
                <a:close/>
              </a:path>
              <a:path fill="lighten" w="140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Проверить ответ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5580000" y="836640"/>
            <a:ext cx="2160720" cy="64764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2036" h="21600">
                <a:moveTo>
                  <a:pt x="0" y="0"/>
                </a:moveTo>
                <a:lnTo>
                  <a:pt x="72036" y="0"/>
                </a:lnTo>
                <a:lnTo>
                  <a:pt x="72036" y="21600"/>
                </a:lnTo>
                <a:lnTo>
                  <a:pt x="0" y="21600"/>
                </a:lnTo>
                <a:close/>
              </a:path>
              <a:path fill="lightenLess" w="72036" h="21600">
                <a:moveTo>
                  <a:pt x="0" y="0"/>
                </a:moveTo>
                <a:lnTo>
                  <a:pt x="72036" y="0"/>
                </a:lnTo>
                <a:lnTo>
                  <a:pt x="70636" y="1400"/>
                </a:lnTo>
                <a:lnTo>
                  <a:pt x="1400" y="1400"/>
                </a:lnTo>
                <a:close/>
              </a:path>
              <a:path fill="darken" w="72036" h="21600">
                <a:moveTo>
                  <a:pt x="72036" y="0"/>
                </a:moveTo>
                <a:lnTo>
                  <a:pt x="72036" y="21600"/>
                </a:lnTo>
                <a:lnTo>
                  <a:pt x="70636" y="20200"/>
                </a:lnTo>
                <a:lnTo>
                  <a:pt x="70636" y="1400"/>
                </a:lnTo>
                <a:close/>
              </a:path>
              <a:path fill="darkenLess" w="72036" h="21600">
                <a:moveTo>
                  <a:pt x="7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36" y="20200"/>
                </a:lnTo>
                <a:close/>
              </a:path>
              <a:path fill="lighten" w="7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26920" y="-3556080"/>
            <a:ext cx="4824720" cy="31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98" dur="indefinite" restart="never" nodeType="tmRoot">
          <p:childTnLst>
            <p:seq>
              <p:cTn id="899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3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41440" y="2822040"/>
            <a:ext cx="3557520" cy="23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340000" y="-171360"/>
                <a:ext cx="417672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5280" y="4365720"/>
                <a:ext cx="8906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348000" y="3573360"/>
                <a:ext cx="18003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164360" y="3645000"/>
                <a:ext cx="113652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478160" y="31417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ыберите вариант ответа: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8520" y="90792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6838920" y="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41440" y="2822040"/>
            <a:ext cx="3557520" cy="23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340000" y="0"/>
                <a:ext cx="4176720" cy="34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28520" y="3608280"/>
                <a:ext cx="1425600" cy="276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441600" y="3573360"/>
                <a:ext cx="16113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927840" y="3645000"/>
                <a:ext cx="16113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78160" y="31417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ыберите вариант ответа: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8520" y="90792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6838920" y="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41440" y="2822040"/>
            <a:ext cx="3557520" cy="23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340000" y="231840"/>
                <a:ext cx="4176720" cy="29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24000" y="3573360"/>
                <a:ext cx="1871640" cy="445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635280" y="4292640"/>
                <a:ext cx="18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973920" y="4354560"/>
                <a:ext cx="15177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478160" y="31417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ыберите вариант ответа: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8520" y="90792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6838920" y="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41440" y="2822040"/>
            <a:ext cx="3557520" cy="23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33600" y="231840"/>
                <a:ext cx="3987720" cy="29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25400" y="3573360"/>
                <a:ext cx="1068480" cy="445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728880" y="3583080"/>
                <a:ext cx="16113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642000" y="4354560"/>
                <a:ext cx="21812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1478160" y="31417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ыберите вариант ответа: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8520" y="90792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6838920" y="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441440" y="2822040"/>
            <a:ext cx="3557520" cy="23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340000" y="84240"/>
                <a:ext cx="4176720" cy="32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1000" y="3608280"/>
                <a:ext cx="979200" cy="276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5080" y="3573360"/>
                <a:ext cx="208440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691320" y="3645000"/>
                <a:ext cx="208440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478160" y="314172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ыберите вариант ответа: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8520" y="90792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6838920" y="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755640" y="476280"/>
            <a:ext cx="7885080" cy="763560"/>
            <a:chOff x="755640" y="476280"/>
            <a:chExt cx="7885080" cy="763560"/>
          </a:xfrm>
        </p:grpSpPr>
        <p:sp>
          <p:nvSpPr>
            <p:cNvPr id="299" name=""/>
            <p:cNvSpPr/>
            <p:nvPr/>
          </p:nvSpPr>
          <p:spPr>
            <a:xfrm>
              <a:off x="755640" y="476280"/>
              <a:ext cx="7870680" cy="755640"/>
            </a:xfrm>
            <a:prstGeom prst="roundRect">
              <a:avLst>
                <a:gd name="adj" fmla="val 16667"/>
              </a:avLst>
            </a:prstGeom>
            <a:solidFill>
              <a:srgbClr val="4646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5520" y="606240"/>
              <a:ext cx="503280" cy="503280"/>
            </a:xfrm>
            <a:prstGeom prst="roundRect">
              <a:avLst>
                <a:gd name="adj" fmla="val 16667"/>
              </a:avLst>
            </a:prstGeom>
            <a:solidFill>
              <a:srgbClr val="f1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1" name="">
              <a:hlinkClick r:id="rId2" action="ppaction://hlinksldjump"/>
            </p:cNvPr>
            <p:cNvSpPr/>
            <p:nvPr/>
          </p:nvSpPr>
          <p:spPr>
            <a:xfrm>
              <a:off x="770040" y="484200"/>
              <a:ext cx="7870680" cy="755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0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Изучение новой темы</a:t>
              </a:r>
              <a:endParaRPr b="0" lang="en-US" sz="32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696320" y="184464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Произведение двух чисел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50920" y="2924280"/>
            <a:ext cx="2031840" cy="1023480"/>
            <a:chOff x="250920" y="2924280"/>
            <a:chExt cx="2031840" cy="1023480"/>
          </a:xfrm>
        </p:grpSpPr>
        <p:grpSp>
          <p:nvGrpSpPr>
            <p:cNvPr id="304" name=""/>
            <p:cNvGrpSpPr/>
            <p:nvPr/>
          </p:nvGrpSpPr>
          <p:grpSpPr>
            <a:xfrm>
              <a:off x="1330200" y="2924280"/>
              <a:ext cx="952560" cy="1023480"/>
              <a:chOff x="1330200" y="2924280"/>
              <a:chExt cx="952560" cy="1023480"/>
            </a:xfrm>
          </p:grpSpPr>
          <p:graphicFrame>
            <p:nvGraphicFramePr>
              <p:cNvPr id="305" name=""/>
              <p:cNvGraphicFramePr/>
              <p:nvPr/>
            </p:nvGraphicFramePr>
            <p:xfrm>
              <a:off x="1330200" y="2995560"/>
              <a:ext cx="952560" cy="952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30200" y="2995560"/>
                        <a:ext cx="952560" cy="95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7" name=""/>
              <p:cNvSpPr/>
              <p:nvPr/>
            </p:nvSpPr>
            <p:spPr>
              <a:xfrm>
                <a:off x="1476360" y="2924280"/>
                <a:ext cx="6256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6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0920" y="2924280"/>
              <a:ext cx="952200" cy="1023480"/>
              <a:chOff x="250920" y="2924280"/>
              <a:chExt cx="952200" cy="1023480"/>
            </a:xfrm>
          </p:grpSpPr>
          <p:graphicFrame>
            <p:nvGraphicFramePr>
              <p:cNvPr id="309" name=""/>
              <p:cNvGraphicFramePr/>
              <p:nvPr/>
            </p:nvGraphicFramePr>
            <p:xfrm>
              <a:off x="250920" y="2995560"/>
              <a:ext cx="952200" cy="952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0920" y="2995560"/>
                        <a:ext cx="952200" cy="95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1" name=""/>
              <p:cNvSpPr/>
              <p:nvPr/>
            </p:nvSpPr>
            <p:spPr>
              <a:xfrm>
                <a:off x="396360" y="2924280"/>
                <a:ext cx="6256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6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24000" y="4365720"/>
            <a:ext cx="1960560" cy="1312920"/>
            <a:chOff x="324000" y="4365720"/>
            <a:chExt cx="1960560" cy="1312920"/>
          </a:xfrm>
        </p:grpSpPr>
        <p:grpSp>
          <p:nvGrpSpPr>
            <p:cNvPr id="313" name=""/>
            <p:cNvGrpSpPr/>
            <p:nvPr/>
          </p:nvGrpSpPr>
          <p:grpSpPr>
            <a:xfrm>
              <a:off x="1332000" y="4652640"/>
              <a:ext cx="952560" cy="1023480"/>
              <a:chOff x="1332000" y="4652640"/>
              <a:chExt cx="952560" cy="102348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1332000" y="4723920"/>
              <a:ext cx="952560" cy="952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32000" y="4723920"/>
                        <a:ext cx="952560" cy="95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6" name="">
                <a:hlinkClick r:id="rId9" action="ppaction://hlinksldjump"/>
              </p:cNvPr>
              <p:cNvSpPr/>
              <p:nvPr/>
            </p:nvSpPr>
            <p:spPr>
              <a:xfrm>
                <a:off x="1478160" y="4652640"/>
                <a:ext cx="6256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6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24000" y="4365720"/>
              <a:ext cx="952200" cy="1312920"/>
              <a:chOff x="324000" y="4365720"/>
              <a:chExt cx="952200" cy="1312920"/>
            </a:xfrm>
          </p:grpSpPr>
          <p:graphicFrame>
            <p:nvGraphicFramePr>
              <p:cNvPr id="318" name=""/>
              <p:cNvGraphicFramePr/>
              <p:nvPr/>
            </p:nvGraphicFramePr>
            <p:xfrm>
              <a:off x="324000" y="4714560"/>
              <a:ext cx="952200" cy="952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1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24000" y="4714560"/>
                        <a:ext cx="952200" cy="95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0" name=""/>
              <p:cNvSpPr/>
              <p:nvPr/>
            </p:nvSpPr>
            <p:spPr>
              <a:xfrm>
                <a:off x="469800" y="436572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8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6732720" y="2637000"/>
            <a:ext cx="2031480" cy="1312920"/>
            <a:chOff x="6732720" y="2637000"/>
            <a:chExt cx="2031480" cy="1312920"/>
          </a:xfrm>
        </p:grpSpPr>
        <p:grpSp>
          <p:nvGrpSpPr>
            <p:cNvPr id="322" name=""/>
            <p:cNvGrpSpPr/>
            <p:nvPr/>
          </p:nvGrpSpPr>
          <p:grpSpPr>
            <a:xfrm>
              <a:off x="6732720" y="2924280"/>
              <a:ext cx="952560" cy="1023480"/>
              <a:chOff x="6732720" y="2924280"/>
              <a:chExt cx="952560" cy="1023480"/>
            </a:xfrm>
          </p:grpSpPr>
          <p:graphicFrame>
            <p:nvGraphicFramePr>
              <p:cNvPr id="323" name=""/>
              <p:cNvGraphicFramePr/>
              <p:nvPr/>
            </p:nvGraphicFramePr>
            <p:xfrm>
              <a:off x="6732720" y="2995560"/>
              <a:ext cx="952560" cy="9522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732720" y="2995560"/>
                        <a:ext cx="952560" cy="95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5" name="">
                <a:hlinkClick r:id="rId14" action="ppaction://hlinksldjump"/>
              </p:cNvPr>
              <p:cNvSpPr/>
              <p:nvPr/>
            </p:nvSpPr>
            <p:spPr>
              <a:xfrm>
                <a:off x="6878880" y="2924280"/>
                <a:ext cx="6256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6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812000" y="2637000"/>
              <a:ext cx="952200" cy="1312920"/>
              <a:chOff x="7812000" y="2637000"/>
              <a:chExt cx="952200" cy="1312920"/>
            </a:xfrm>
          </p:grpSpPr>
          <p:graphicFrame>
            <p:nvGraphicFramePr>
              <p:cNvPr id="327" name=""/>
              <p:cNvGraphicFramePr/>
              <p:nvPr/>
            </p:nvGraphicFramePr>
            <p:xfrm>
              <a:off x="7812000" y="2985840"/>
              <a:ext cx="952200" cy="952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28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812000" y="2985840"/>
                        <a:ext cx="952200" cy="95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9" name=""/>
              <p:cNvSpPr/>
              <p:nvPr/>
            </p:nvSpPr>
            <p:spPr>
              <a:xfrm>
                <a:off x="7957800" y="263700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8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6732720" y="4221000"/>
            <a:ext cx="2031480" cy="1312920"/>
            <a:chOff x="6732720" y="4221000"/>
            <a:chExt cx="2031480" cy="1312920"/>
          </a:xfrm>
        </p:grpSpPr>
        <p:grpSp>
          <p:nvGrpSpPr>
            <p:cNvPr id="331" name=""/>
            <p:cNvGrpSpPr/>
            <p:nvPr/>
          </p:nvGrpSpPr>
          <p:grpSpPr>
            <a:xfrm>
              <a:off x="6732720" y="4221000"/>
              <a:ext cx="952200" cy="1312920"/>
              <a:chOff x="6732720" y="4221000"/>
              <a:chExt cx="952200" cy="1312920"/>
            </a:xfrm>
          </p:grpSpPr>
          <p:graphicFrame>
            <p:nvGraphicFramePr>
              <p:cNvPr id="332" name=""/>
              <p:cNvGraphicFramePr/>
              <p:nvPr/>
            </p:nvGraphicFramePr>
            <p:xfrm>
              <a:off x="6732720" y="4570200"/>
              <a:ext cx="952200" cy="9525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3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732720" y="4570200"/>
                        <a:ext cx="9522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4" name="">
                <a:hlinkClick r:id="rId19" action="ppaction://hlinksldjump"/>
              </p:cNvPr>
              <p:cNvSpPr/>
              <p:nvPr/>
            </p:nvSpPr>
            <p:spPr>
              <a:xfrm>
                <a:off x="6878520" y="422100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8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812000" y="4221000"/>
              <a:ext cx="952200" cy="1312920"/>
              <a:chOff x="7812000" y="4221000"/>
              <a:chExt cx="952200" cy="1312920"/>
            </a:xfrm>
          </p:grpSpPr>
          <p:graphicFrame>
            <p:nvGraphicFramePr>
              <p:cNvPr id="336" name=""/>
              <p:cNvGraphicFramePr/>
              <p:nvPr/>
            </p:nvGraphicFramePr>
            <p:xfrm>
              <a:off x="7812000" y="4570200"/>
              <a:ext cx="952200" cy="9525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37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7812000" y="4570200"/>
                        <a:ext cx="9522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8" name=""/>
              <p:cNvSpPr/>
              <p:nvPr/>
            </p:nvSpPr>
            <p:spPr>
              <a:xfrm>
                <a:off x="7957800" y="422100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80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 rot="10800000">
            <a:off x="755280" y="2133720"/>
            <a:ext cx="934920" cy="576000"/>
          </a:xfrm>
          <a:custGeom>
            <a:avLst/>
            <a:gdLst>
              <a:gd name="textAreaLeft" fmla="*/ 311760 w 934920"/>
              <a:gd name="textAreaRight" fmla="*/ 801000 w 93492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d5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0800000">
            <a:off x="7234920" y="2133720"/>
            <a:ext cx="934920" cy="576000"/>
          </a:xfrm>
          <a:custGeom>
            <a:avLst/>
            <a:gdLst>
              <a:gd name="textAreaLeft" fmla="*/ 311760 w 934920"/>
              <a:gd name="textAreaRight" fmla="*/ 801000 w 93492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d5f"/>
          </a:solidFill>
          <a:ln w="93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2"/>
          <a:stretch/>
        </p:blipFill>
        <p:spPr>
          <a:xfrm>
            <a:off x="3851280" y="3573360"/>
            <a:ext cx="1590840" cy="130176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firstslide"/>
          </p:cNvPr>
          <p:cNvSpPr/>
          <p:nvPr/>
        </p:nvSpPr>
        <p:spPr>
          <a:xfrm>
            <a:off x="3635280" y="4941720"/>
            <a:ext cx="2305080" cy="5763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6346" h="21600">
                <a:moveTo>
                  <a:pt x="0" y="0"/>
                </a:moveTo>
                <a:lnTo>
                  <a:pt x="86346" y="0"/>
                </a:lnTo>
                <a:lnTo>
                  <a:pt x="86346" y="21600"/>
                </a:lnTo>
                <a:lnTo>
                  <a:pt x="0" y="21600"/>
                </a:lnTo>
                <a:close/>
              </a:path>
              <a:path fill="lightenLess" w="86346" h="21600">
                <a:moveTo>
                  <a:pt x="0" y="0"/>
                </a:moveTo>
                <a:lnTo>
                  <a:pt x="86346" y="0"/>
                </a:lnTo>
                <a:lnTo>
                  <a:pt x="84946" y="1400"/>
                </a:lnTo>
                <a:lnTo>
                  <a:pt x="1400" y="1400"/>
                </a:lnTo>
                <a:close/>
              </a:path>
              <a:path fill="darken" w="86346" h="21600">
                <a:moveTo>
                  <a:pt x="86346" y="0"/>
                </a:moveTo>
                <a:lnTo>
                  <a:pt x="86346" y="21600"/>
                </a:lnTo>
                <a:lnTo>
                  <a:pt x="84946" y="20200"/>
                </a:lnTo>
                <a:lnTo>
                  <a:pt x="84946" y="1400"/>
                </a:lnTo>
                <a:close/>
              </a:path>
              <a:path fill="darkenLess" w="86346" h="21600">
                <a:moveTo>
                  <a:pt x="86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6" y="20200"/>
                </a:lnTo>
                <a:close/>
              </a:path>
              <a:path fill="lighten" w="86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Возврат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11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3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65040" y="47628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Произведение отрицательного и положительного числа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равило: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При умножении отрицательного числа на положительное число  перемножаем модули данных чисел и перед результатом ставим знак минус.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03600" y="227664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-а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•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b = - │a│• │b│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429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332000" y="4365720"/>
                <a:ext cx="554508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908000" y="3284640"/>
                <a:ext cx="4597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7380360" y="5445000"/>
            <a:ext cx="1187280" cy="40500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3285" h="21600">
                <a:moveTo>
                  <a:pt x="0" y="0"/>
                </a:moveTo>
                <a:lnTo>
                  <a:pt x="63285" y="0"/>
                </a:lnTo>
                <a:lnTo>
                  <a:pt x="63285" y="21600"/>
                </a:lnTo>
                <a:lnTo>
                  <a:pt x="0" y="21600"/>
                </a:lnTo>
                <a:close/>
              </a:path>
              <a:path fill="lightenLess" w="63285" h="21600">
                <a:moveTo>
                  <a:pt x="0" y="0"/>
                </a:moveTo>
                <a:lnTo>
                  <a:pt x="63285" y="0"/>
                </a:lnTo>
                <a:lnTo>
                  <a:pt x="61885" y="1400"/>
                </a:lnTo>
                <a:lnTo>
                  <a:pt x="1400" y="1400"/>
                </a:lnTo>
                <a:close/>
              </a:path>
              <a:path fill="darken" w="63285" h="21600">
                <a:moveTo>
                  <a:pt x="63285" y="0"/>
                </a:moveTo>
                <a:lnTo>
                  <a:pt x="63285" y="21600"/>
                </a:lnTo>
                <a:lnTo>
                  <a:pt x="61885" y="20200"/>
                </a:lnTo>
                <a:lnTo>
                  <a:pt x="61885" y="1400"/>
                </a:lnTo>
                <a:close/>
              </a:path>
              <a:path fill="darkenLess" w="63285" h="21600">
                <a:moveTo>
                  <a:pt x="63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85" y="20200"/>
                </a:lnTo>
                <a:close/>
              </a:path>
              <a:path fill="lighten" w="63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5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50"/>
                            </p:stCondLst>
                            <p:childTnLst>
                              <p:par>
                                <p:cTn id="241" nodeType="afterEffect" fill="hold" presetClass="emph" presetID="35" repeatCount="indefinite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05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55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55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55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4:15:45Z</dcterms:created>
  <dc:creator> </dc:creator>
  <dc:description/>
  <dc:language>en-US</dc:language>
  <cp:lastModifiedBy>1</cp:lastModifiedBy>
  <dcterms:modified xsi:type="dcterms:W3CDTF">2007-02-27T06:31:38Z</dcterms:modified>
  <cp:revision>21</cp:revision>
  <dc:subject/>
  <dc:title>Слайд 1</dc:title>
</cp:coreProperties>
</file>