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DE6A-1408-40B0-B630-C3E01AA94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71C8-FC45-4B10-B49D-0CF74203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A653-90CF-4FFF-BBD3-5B6E65F47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FE47-A9B6-4EAF-8528-403DC2142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9E32-A416-4B71-B346-2F6C16607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25A9-9498-4D82-A622-D5ECCF05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EDC3-DFFA-4119-9F2A-6684CB4D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124E-430A-48A6-A414-19BCCF1C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3873-001A-4995-83F5-A84636BE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4EA57-2054-4360-97F0-606925FD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531F-2368-4C6F-B617-3074FBD8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19A7-9448-44D2-B299-3CDF510A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A19F-DDC1-4DED-BDDB-483A9597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845C-3D19-4CBA-8745-32B3A029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3CC77-1338-45B6-B63C-C928C0E3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849A-4F90-4ECC-9387-756EC27FE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BB05-D88C-440E-AB55-F4E94B993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DED9-FB3F-47A1-BD10-5ED81A53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BCE0-693B-4EA2-B844-FC1BD243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AC1F-F762-4BDD-A990-0BF5B704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9B4D-019D-4060-8C89-18862A1C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22C0-37BB-437D-B7DC-4F39CA9D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0639-1781-4F41-BFC2-51631A5D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4310-C10C-4898-A959-F8B8A643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3333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0000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95D1-6A06-4A0F-A3EE-93FAE655A558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5CCE-9B7D-4027-BB28-63BDEEDB33C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hyperlink" Target="data\runer.exe zadachi\Ur7_pr1.bas" TargetMode="External"/><Relationship Id="rId2" Type="http://schemas.openxmlformats.org/officeDocument/2006/relationships/hyperlink" Target="data\runer.exe zadachi\Ur7_pr1.pas" TargetMode="External"/><Relationship Id="rId3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hyperlink" Target="data\runer.exe zadachi\Ur7_pr2.bas" TargetMode="External"/><Relationship Id="rId2" Type="http://schemas.openxmlformats.org/officeDocument/2006/relationships/hyperlink" Target="data\runer.exe zadachi\Ur7_pr3.pas" TargetMode="External"/><Relationship Id="rId3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hyperlink" Target="data\runer.exe zadachi\Ur7_pr4.bas" TargetMode="External"/><Relationship Id="rId2" Type="http://schemas.openxmlformats.org/officeDocument/2006/relationships/hyperlink" Target="data\runer.exe zadachi\Ur7_pr4.pas" TargetMode="External"/><Relationship Id="rId3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hyperlink" Target="data\runer.exe zadachi\Ur7_pr5.bas" TargetMode="External"/><Relationship Id="rId2" Type="http://schemas.openxmlformats.org/officeDocument/2006/relationships/hyperlink" Target="data\runer.exe zadachi\Ur7_pr5.pas" TargetMode="External"/><Relationship Id="rId3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20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" Target="slide17.xml"/><Relationship Id="rId6" Type="http://schemas.openxmlformats.org/officeDocument/2006/relationships/slide" Target="slide17.xml"/><Relationship Id="rId7" Type="http://schemas.openxmlformats.org/officeDocument/2006/relationships/slide" Target="slide17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9.xml"/><Relationship Id="rId12" Type="http://schemas.openxmlformats.org/officeDocument/2006/relationships/slide" Target="slide19.xml"/><Relationship Id="rId13" Type="http://schemas.openxmlformats.org/officeDocument/2006/relationships/slide" Target="slide19.xml"/><Relationship Id="rId1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" Target="slide22.xml"/><Relationship Id="rId7" Type="http://schemas.openxmlformats.org/officeDocument/2006/relationships/slide" Target="slide22.xml"/><Relationship Id="rId8" Type="http://schemas.openxmlformats.org/officeDocument/2006/relationships/slide" Target="slide22.xml"/><Relationship Id="rId9" Type="http://schemas.openxmlformats.org/officeDocument/2006/relationships/slide" Target="slide23.xml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data\runer.exe zadachi\Ur3_pr2.pas" TargetMode="External"/><Relationship Id="rId2" Type="http://schemas.openxmlformats.org/officeDocument/2006/relationships/hyperlink" Target="data\runer.exe zadachi\Ur3_pr2.bas" TargetMode="External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data\runer.exe zadachi\Ur4_pr1.bas" TargetMode="External"/><Relationship Id="rId2" Type="http://schemas.openxmlformats.org/officeDocument/2006/relationships/hyperlink" Target="data\runer.exe zadachi\Ur4_pr1.pas" TargetMode="External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data\runer.exe zadachi\Ur4_pr2.bas" TargetMode="External"/><Relationship Id="rId2" Type="http://schemas.openxmlformats.org/officeDocument/2006/relationships/hyperlink" Target="data\runer.exe zadachi\Ur4_pr2.pas" TargetMode="Externa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data\runer.exe zadachi\Ur5_pr1.bas" TargetMode="External"/><Relationship Id="rId2" Type="http://schemas.openxmlformats.org/officeDocument/2006/relationships/hyperlink" Target="data\runer.exe zadachi\Ur5_pr1.pas" TargetMode="External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hyperlink" Target="data\runer.exe zadachi\Ur5_pr2.pas" TargetMode="External"/><Relationship Id="rId2" Type="http://schemas.openxmlformats.org/officeDocument/2006/relationships/hyperlink" Target="data\runer.exe zadachi\Ur5_pr2.bas" TargetMode="External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hyperlink" Target="data\runer.exe zadachi\Ur5_pr3.bas" TargetMode="External"/><Relationship Id="rId2" Type="http://schemas.openxmlformats.org/officeDocument/2006/relationships/hyperlink" Target="data\runer.exe zadachi\Ur5_pr3.pas" TargetMode="External"/><Relationship Id="rId3" Type="http://schemas.openxmlformats.org/officeDocument/2006/relationships/hyperlink" Target="\Language\BP\BIN\bp.exe  zadachi\Ur5_pr3.pas" TargetMode="External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hyperlink" Target="data\runer.exe zadachi\Ur6_pr1.bas" TargetMode="External"/><Relationship Id="rId2" Type="http://schemas.openxmlformats.org/officeDocument/2006/relationships/hyperlink" Target="data\runer.exe zadachi\Ur6_pr1.pas" TargetMode="External"/><Relationship Id="rId3" Type="http://schemas.openxmlformats.org/officeDocument/2006/relationships/slideLayout" Target="../slideLayouts/slideLayout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hyperlink" Target="data\runer.exe zadachi\Ur6_pr2.bas" TargetMode="External"/><Relationship Id="rId2" Type="http://schemas.openxmlformats.org/officeDocument/2006/relationships/hyperlink" Target="data\runer.exe zadachi\Ur6_pr2.pas" TargetMode="External"/><Relationship Id="rId3" Type="http://schemas.openxmlformats.org/officeDocument/2006/relationships/slideLayout" Target="../slideLayouts/slideLayout4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hyperlink" Target="data\runer.exe zadachi\Ur6_pr3.bas" TargetMode="External"/><Relationship Id="rId2" Type="http://schemas.openxmlformats.org/officeDocument/2006/relationships/hyperlink" Target="data\runer.exe zadachi\Ur6_pr3.pas" TargetMode="External"/><Relationship Id="rId3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149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692000" cy="11048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1042920" y="4076640"/>
            <a:ext cx="727416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Языки программирования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Qbasic и Turbo Pascal 7.0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50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7020000" y="6643800"/>
            <a:ext cx="1871280" cy="214200"/>
            <a:chOff x="7020000" y="6643800"/>
            <a:chExt cx="1871280" cy="214200"/>
          </a:xfrm>
        </p:grpSpPr>
        <p:sp>
          <p:nvSpPr>
            <p:cNvPr id="194" name="">
              <a:hlinkClick r:id="" action="ppaction://hlinkshowjump?jump=previousslide"/>
            </p:cNvPr>
            <p:cNvSpPr/>
            <p:nvPr/>
          </p:nvSpPr>
          <p:spPr>
            <a:xfrm>
              <a:off x="7020000" y="6643800"/>
              <a:ext cx="999000" cy="214200"/>
            </a:xfrm>
            <a:custGeom>
              <a:avLst/>
              <a:gdLst>
                <a:gd name="textAreaLeft" fmla="*/ 13680 w 999000"/>
                <a:gd name="textAreaRight" fmla="*/ 985320 w 999000"/>
                <a:gd name="textAreaTop" fmla="*/ 13680 h 214200"/>
                <a:gd name="textAreaBottom" fmla="*/ 200520 h 214200"/>
              </a:gdLst>
              <a:ahLst/>
              <a:rect l="textAreaLeft" t="textAreaTop" r="textAreaRight" b="textAreaBottom"/>
              <a:pathLst>
                <a:path w="100607" h="21600">
                  <a:moveTo>
                    <a:pt x="0" y="0"/>
                  </a:moveTo>
                  <a:lnTo>
                    <a:pt x="100607" y="0"/>
                  </a:lnTo>
                  <a:lnTo>
                    <a:pt x="100607" y="21600"/>
                  </a:lnTo>
                  <a:lnTo>
                    <a:pt x="0" y="21600"/>
                  </a:lnTo>
                  <a:close/>
                </a:path>
                <a:path fill="lightenLess" w="100607" h="21600">
                  <a:moveTo>
                    <a:pt x="0" y="0"/>
                  </a:moveTo>
                  <a:lnTo>
                    <a:pt x="100607" y="0"/>
                  </a:lnTo>
                  <a:lnTo>
                    <a:pt x="99207" y="1400"/>
                  </a:lnTo>
                  <a:lnTo>
                    <a:pt x="1400" y="1400"/>
                  </a:lnTo>
                  <a:close/>
                </a:path>
                <a:path fill="darken" w="100607" h="21600">
                  <a:moveTo>
                    <a:pt x="100607" y="0"/>
                  </a:moveTo>
                  <a:lnTo>
                    <a:pt x="100607" y="21600"/>
                  </a:lnTo>
                  <a:lnTo>
                    <a:pt x="99207" y="20200"/>
                  </a:lnTo>
                  <a:lnTo>
                    <a:pt x="99207" y="1400"/>
                  </a:lnTo>
                  <a:close/>
                </a:path>
                <a:path fill="darkenLess" w="100607" h="21600">
                  <a:moveTo>
                    <a:pt x="10060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99207" y="20200"/>
                  </a:lnTo>
                  <a:close/>
                </a:path>
                <a:path fill="lighten" w="10060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100607" h="21600">
                  <a:moveTo>
                    <a:pt x="43297" y="10800"/>
                  </a:moveTo>
                  <a:lnTo>
                    <a:pt x="57310" y="3794"/>
                  </a:lnTo>
                  <a:lnTo>
                    <a:pt x="57310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>
              <a:hlinkClick r:id="" action="ppaction://hlinkshowjump?jump=nextslide"/>
            </p:cNvPr>
            <p:cNvSpPr/>
            <p:nvPr/>
          </p:nvSpPr>
          <p:spPr>
            <a:xfrm>
              <a:off x="8080920" y="6643800"/>
              <a:ext cx="810360" cy="214200"/>
            </a:xfrm>
            <a:custGeom>
              <a:avLst/>
              <a:gdLst>
                <a:gd name="textAreaLeft" fmla="*/ 13680 w 810360"/>
                <a:gd name="textAreaRight" fmla="*/ 796680 w 810360"/>
                <a:gd name="textAreaTop" fmla="*/ 13680 h 214200"/>
                <a:gd name="textAreaBottom" fmla="*/ 200520 h 214200"/>
              </a:gdLst>
              <a:ahLst/>
              <a:rect l="textAreaLeft" t="textAreaTop" r="textAreaRight" b="textAreaBottom"/>
              <a:pathLst>
                <a:path w="81616" h="21600">
                  <a:moveTo>
                    <a:pt x="0" y="0"/>
                  </a:moveTo>
                  <a:lnTo>
                    <a:pt x="81616" y="0"/>
                  </a:lnTo>
                  <a:lnTo>
                    <a:pt x="81616" y="21600"/>
                  </a:lnTo>
                  <a:lnTo>
                    <a:pt x="0" y="21600"/>
                  </a:lnTo>
                  <a:close/>
                </a:path>
                <a:path fill="lightenLess" w="81616" h="21600">
                  <a:moveTo>
                    <a:pt x="0" y="0"/>
                  </a:moveTo>
                  <a:lnTo>
                    <a:pt x="81616" y="0"/>
                  </a:lnTo>
                  <a:lnTo>
                    <a:pt x="80216" y="1400"/>
                  </a:lnTo>
                  <a:lnTo>
                    <a:pt x="1400" y="1400"/>
                  </a:lnTo>
                  <a:close/>
                </a:path>
                <a:path fill="darken" w="81616" h="21600">
                  <a:moveTo>
                    <a:pt x="81616" y="0"/>
                  </a:moveTo>
                  <a:lnTo>
                    <a:pt x="81616" y="21600"/>
                  </a:lnTo>
                  <a:lnTo>
                    <a:pt x="80216" y="20200"/>
                  </a:lnTo>
                  <a:lnTo>
                    <a:pt x="80216" y="1400"/>
                  </a:lnTo>
                  <a:close/>
                </a:path>
                <a:path fill="darkenLess" w="81616" h="21600">
                  <a:moveTo>
                    <a:pt x="816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80216" y="20200"/>
                  </a:lnTo>
                  <a:close/>
                </a:path>
                <a:path fill="lighten" w="816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81616" h="21600">
                  <a:moveTo>
                    <a:pt x="33802" y="3794"/>
                  </a:moveTo>
                  <a:lnTo>
                    <a:pt x="47815" y="10800"/>
                  </a:lnTo>
                  <a:lnTo>
                    <a:pt x="33802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Проверка домашнего задания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50920" y="1197000"/>
            <a:ext cx="8281800" cy="52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1.1 Дана последовательность операторо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а =1 : b=1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а:=1; b:=1;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while a+b&lt;8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while a+b&lt;8 do  Be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а=а+1: b=b+2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а:=а+1; b:=b+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wend: s=a+b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End; s:=a+b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Сколько раз будет повторен цикл,  и какими будут значения переменных а, b, и s после завершения этой последовательности операторов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Ответ: 2 раза, s=8, a=3, b=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1.2. Определить значение переменной s после выполнения следующих операторо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s=0 : i=l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s:=0; i:=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DO : s=s+5 \ i : i= i - l: LOOP Until i&lt;=1    Repeat s:=s+5 Div i; i:= i -l; Until i&lt;=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Ответ: s=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675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0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7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/>
          </p:nvPr>
        </p:nvSpPr>
        <p:spPr>
          <a:xfrm>
            <a:off x="250920" y="1844280"/>
            <a:ext cx="8066160" cy="41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При  решении некоторых задач приходится использовать вложенные циклы.  Внутренний и внешний циклы могут быть любыми из трех рассмотренных ранее видов: циклами С параметром, циклами с предусловием или циклами с постусловием. Правила организации как внешнего, так и внутреннего циклов такие же, как и для простого цикла каждого из этих видов. Но при использовании вложенных циклов необходимо соблюдать следующее условие: внутренний цикл должен полностью укладываться в циклическую часть внешнего цикл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title"/>
          </p:nvPr>
        </p:nvSpPr>
        <p:spPr>
          <a:xfrm>
            <a:off x="456840" y="475920"/>
            <a:ext cx="75438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900" spc="-1" strike="noStrike">
                <a:solidFill>
                  <a:srgbClr val="ffffff"/>
                </a:solidFill>
                <a:latin typeface="Tahoma"/>
              </a:rPr>
              <a:t>Вложенные циклы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680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  <p:timing>
    <p:tnLst>
      <p:par>
        <p:cTn id="1338" dur="indefinite" restart="never" nodeType="tmRoot">
          <p:childTnLst>
            <p:seq>
              <p:cTn id="1339" dur="indefinite" nodeType="mainSeq">
                <p:childTnLst>
                  <p:par>
                    <p:cTn id="1340" fill="hold">
                      <p:stCondLst>
                        <p:cond delay="0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4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500"/>
                            </p:stCondLst>
                            <p:childTnLst>
                              <p:par>
                                <p:cTn id="1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8" dur="5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324000" y="1989000"/>
            <a:ext cx="813564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Например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Даны натуральные числа п и k. Составить программу вычисления выражения  1k+2k+...+nk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Реше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Для вычисления указанной суммы целесообразно организовать цикл с параметром i, в котором, во-первых, вычислялось бы очередное значение y=ik и, во-вторых, осуществлялось бы накопление суммы прибавлением полученного слагаемого к сумме всех предшествующих (s= s+y)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Вложенные циклы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685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  <p:timing>
    <p:tnLst>
      <p:par>
        <p:cTn id="1349" dur="indefinite" restart="never" nodeType="tmRoot">
          <p:childTnLst>
            <p:seq>
              <p:cTn id="1350" dur="indefinite" nodeType="mainSeq">
                <p:childTnLst>
                  <p:par>
                    <p:cTn id="1351" fill="hold">
                      <p:stCondLst>
                        <p:cond delay="0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395280" y="176040"/>
            <a:ext cx="8352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‘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PRIM 1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Program Prim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uses cr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DEFINT I, K, M-N,S,Y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Var n, k, y, i, s, m: Integer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Be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CLS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clrsc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INPUT” N=,K=”; N,K:S=0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Writeln ('n=  k='); ReadLn(n, k); s:=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FOR I=1 TO N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For i:=1 To n Do Be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Y=1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y:=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For M=1 To K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For m:=1 To k Do Be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Нахождение степени k числа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Y= Y*I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y:= y*i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Next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End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Нахождение промежуточной суммы.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S=S + Y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s:=s+у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Next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 En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PRINT “ Отвem=”;S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WriteLn(' Отвem: ',s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Readln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END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                   E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>
            <a:hlinkClick r:id="rId1"/>
          </p:cNvPr>
          <p:cNvSpPr/>
          <p:nvPr/>
        </p:nvSpPr>
        <p:spPr>
          <a:xfrm>
            <a:off x="6877080" y="6353280"/>
            <a:ext cx="1079640" cy="504720"/>
          </a:xfrm>
          <a:custGeom>
            <a:avLst/>
            <a:gdLst>
              <a:gd name="textAreaLeft" fmla="*/ 32400 w 1079640"/>
              <a:gd name="textAreaRight" fmla="*/ 1047240 w 1079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6187" h="21600">
                <a:moveTo>
                  <a:pt x="0" y="0"/>
                </a:moveTo>
                <a:lnTo>
                  <a:pt x="46187" y="0"/>
                </a:lnTo>
                <a:lnTo>
                  <a:pt x="46187" y="21600"/>
                </a:lnTo>
                <a:lnTo>
                  <a:pt x="0" y="21600"/>
                </a:lnTo>
                <a:close/>
              </a:path>
              <a:path fill="lightenLess" w="46187" h="21600">
                <a:moveTo>
                  <a:pt x="0" y="0"/>
                </a:moveTo>
                <a:lnTo>
                  <a:pt x="46187" y="0"/>
                </a:lnTo>
                <a:lnTo>
                  <a:pt x="44787" y="1400"/>
                </a:lnTo>
                <a:lnTo>
                  <a:pt x="1400" y="1400"/>
                </a:lnTo>
                <a:close/>
              </a:path>
              <a:path fill="darken" w="46187" h="21600">
                <a:moveTo>
                  <a:pt x="46187" y="0"/>
                </a:moveTo>
                <a:lnTo>
                  <a:pt x="46187" y="21600"/>
                </a:lnTo>
                <a:lnTo>
                  <a:pt x="44787" y="20200"/>
                </a:lnTo>
                <a:lnTo>
                  <a:pt x="44787" y="1400"/>
                </a:lnTo>
                <a:close/>
              </a:path>
              <a:path fill="darkenLess" w="46187" h="21600">
                <a:moveTo>
                  <a:pt x="46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787" y="20200"/>
                </a:lnTo>
                <a:close/>
              </a:path>
              <a:path fill="lighten" w="46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>
            <a:hlinkClick r:id="rId2"/>
          </p:cNvPr>
          <p:cNvSpPr/>
          <p:nvPr/>
        </p:nvSpPr>
        <p:spPr>
          <a:xfrm>
            <a:off x="8028000" y="6353280"/>
            <a:ext cx="936720" cy="503280"/>
          </a:xfrm>
          <a:custGeom>
            <a:avLst/>
            <a:gdLst>
              <a:gd name="textAreaLeft" fmla="*/ 32400 w 936720"/>
              <a:gd name="textAreaRight" fmla="*/ 904320 w 936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0189" h="21600">
                <a:moveTo>
                  <a:pt x="0" y="0"/>
                </a:moveTo>
                <a:lnTo>
                  <a:pt x="40189" y="0"/>
                </a:lnTo>
                <a:lnTo>
                  <a:pt x="40189" y="21600"/>
                </a:lnTo>
                <a:lnTo>
                  <a:pt x="0" y="21600"/>
                </a:lnTo>
                <a:close/>
              </a:path>
              <a:path fill="lightenLess" w="40189" h="21600">
                <a:moveTo>
                  <a:pt x="0" y="0"/>
                </a:moveTo>
                <a:lnTo>
                  <a:pt x="40189" y="0"/>
                </a:lnTo>
                <a:lnTo>
                  <a:pt x="38789" y="1400"/>
                </a:lnTo>
                <a:lnTo>
                  <a:pt x="1400" y="1400"/>
                </a:lnTo>
                <a:close/>
              </a:path>
              <a:path fill="darken" w="40189" h="21600">
                <a:moveTo>
                  <a:pt x="40189" y="0"/>
                </a:moveTo>
                <a:lnTo>
                  <a:pt x="40189" y="21600"/>
                </a:lnTo>
                <a:lnTo>
                  <a:pt x="38789" y="20200"/>
                </a:lnTo>
                <a:lnTo>
                  <a:pt x="38789" y="1400"/>
                </a:lnTo>
                <a:close/>
              </a:path>
              <a:path fill="darkenLess" w="40189" h="21600">
                <a:moveTo>
                  <a:pt x="40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89" y="20200"/>
                </a:lnTo>
                <a:close/>
              </a:path>
              <a:path fill="lighten" w="40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2124000" y="6453360"/>
            <a:ext cx="1008000" cy="215640"/>
            <a:chOff x="2124000" y="6453360"/>
            <a:chExt cx="1008000" cy="215640"/>
          </a:xfrm>
        </p:grpSpPr>
        <p:sp>
          <p:nvSpPr>
            <p:cNvPr id="691" name="">
              <a:hlinkClick r:id="" action="ppaction://hlinkshowjump?jump=previousslide"/>
            </p:cNvPr>
            <p:cNvSpPr/>
            <p:nvPr/>
          </p:nvSpPr>
          <p:spPr>
            <a:xfrm>
              <a:off x="2124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>
              <a:hlinkClick r:id="" action="ppaction://hlinkshowjump?jump=nextslide"/>
            </p:cNvPr>
            <p:cNvSpPr/>
            <p:nvPr/>
          </p:nvSpPr>
          <p:spPr>
            <a:xfrm>
              <a:off x="2695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/>
          </p:nvPr>
        </p:nvSpPr>
        <p:spPr>
          <a:xfrm>
            <a:off x="250920" y="764640"/>
            <a:ext cx="7921440" cy="558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Модифицировать предыдущую программу так, чтобы она вычисляла сумму 11+22+...+n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Реше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Данная задача отличается от предыдущей тем, что показатель степени очередного слагаемого совпадает со значением ее основания, следовательно, параметры внутреннего цикла (цикла, в котором вычисляется очередное слагаемое) совпадают с параметрами внешнего цикл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For m=1 To i 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For m:=1 To i Do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695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  <p:timing>
    <p:tnLst>
      <p:par>
        <p:cTn id="1356" dur="indefinite" restart="never" nodeType="tmRoot">
          <p:childTnLst>
            <p:seq>
              <p:cTn id="1357" dur="indefinite" nodeType="mainSeq">
                <p:childTnLst>
                  <p:par>
                    <p:cTn id="1358" fill="hold">
                      <p:stCondLst>
                        <p:cond delay="0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2" dur="5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5" dur="5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8" dur="500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1" dur="500"/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468360" y="692280"/>
            <a:ext cx="831528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Пример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Старинная задача. Сколько можно купить быков, коров и телят, если плата за быка 10 рублей, за корову — 5 рублей, за теленка — полтинник (0,5 рубля), если на 100 рублей надо купить 100 голов скот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Реше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Обозначим через b — количество быков; k — количество коров; t — количество телят. После этого  можно записать два уравнения: 10b+5k+0.5t=100 и b+k+t=100. Преобразуем их: 20b+10k+t=200 и b+k+t=100. На 100 рублей можно купить: не более 10 быков, т.е. 0&lt;=b&lt;=1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-  не более 20 коров, т.е. 0&lt;=k&lt;=2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- не более 200 телят, т.е. 0&lt;=t&lt;=200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Таким образом, получаем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699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1" name=""/>
          <p:cNvGraphicFramePr/>
          <p:nvPr/>
        </p:nvGraphicFramePr>
        <p:xfrm>
          <a:off x="179280" y="189000"/>
          <a:ext cx="8353440" cy="6379920"/>
        </p:xfrm>
        <a:graphic>
          <a:graphicData uri="http://schemas.openxmlformats.org/drawingml/2006/table">
            <a:tbl>
              <a:tblPr/>
              <a:tblGrid>
                <a:gridCol w="3876840"/>
                <a:gridCol w="4476600"/>
              </a:tblGrid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‘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PRIM3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Program prim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uses crt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DEFINT b,k,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Var b, k, t: Integer;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Beg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lrscr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or b:=0 To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or b:=0 To 10 D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or k:=0 To 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or k:=0 To 20 D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or t:=0 To 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or t:=0 To 200 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If (20*b+10*k+t=200) And (b+k+t=100) Th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If (20*b+10*k+t=200) And (b+k+t=100) The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PRINT”Быков “;b;”коров “;k;”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телят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 “;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WriteLn('Быков ',b,'коров ',k,' телят ',t)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NEXT t,k,b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Readln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END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End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2" name="">
            <a:hlinkClick r:id="rId1"/>
          </p:cNvPr>
          <p:cNvSpPr/>
          <p:nvPr/>
        </p:nvSpPr>
        <p:spPr>
          <a:xfrm>
            <a:off x="6732720" y="5950080"/>
            <a:ext cx="1079280" cy="50472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6171" h="21600">
                <a:moveTo>
                  <a:pt x="0" y="0"/>
                </a:moveTo>
                <a:lnTo>
                  <a:pt x="46171" y="0"/>
                </a:lnTo>
                <a:lnTo>
                  <a:pt x="46171" y="21600"/>
                </a:lnTo>
                <a:lnTo>
                  <a:pt x="0" y="21600"/>
                </a:lnTo>
                <a:close/>
              </a:path>
              <a:path fill="lightenLess" w="46171" h="21600">
                <a:moveTo>
                  <a:pt x="0" y="0"/>
                </a:moveTo>
                <a:lnTo>
                  <a:pt x="46171" y="0"/>
                </a:lnTo>
                <a:lnTo>
                  <a:pt x="44771" y="1400"/>
                </a:lnTo>
                <a:lnTo>
                  <a:pt x="1400" y="1400"/>
                </a:lnTo>
                <a:close/>
              </a:path>
              <a:path fill="darken" w="46171" h="21600">
                <a:moveTo>
                  <a:pt x="46171" y="0"/>
                </a:moveTo>
                <a:lnTo>
                  <a:pt x="46171" y="21600"/>
                </a:lnTo>
                <a:lnTo>
                  <a:pt x="44771" y="20200"/>
                </a:lnTo>
                <a:lnTo>
                  <a:pt x="44771" y="1400"/>
                </a:lnTo>
                <a:close/>
              </a:path>
              <a:path fill="darkenLess" w="46171" h="21600">
                <a:moveTo>
                  <a:pt x="46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771" y="20200"/>
                </a:lnTo>
                <a:close/>
              </a:path>
              <a:path fill="lighten" w="46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>
            <a:hlinkClick r:id="rId2"/>
          </p:cNvPr>
          <p:cNvSpPr/>
          <p:nvPr/>
        </p:nvSpPr>
        <p:spPr>
          <a:xfrm>
            <a:off x="7883640" y="5950080"/>
            <a:ext cx="936360" cy="503280"/>
          </a:xfrm>
          <a:custGeom>
            <a:avLst/>
            <a:gdLst>
              <a:gd name="textAreaLeft" fmla="*/ 32400 w 936360"/>
              <a:gd name="textAreaRight" fmla="*/ 903960 w 93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0174" h="21600">
                <a:moveTo>
                  <a:pt x="0" y="0"/>
                </a:moveTo>
                <a:lnTo>
                  <a:pt x="40174" y="0"/>
                </a:lnTo>
                <a:lnTo>
                  <a:pt x="40174" y="21600"/>
                </a:lnTo>
                <a:lnTo>
                  <a:pt x="0" y="21600"/>
                </a:lnTo>
                <a:close/>
              </a:path>
              <a:path fill="lightenLess" w="40174" h="21600">
                <a:moveTo>
                  <a:pt x="0" y="0"/>
                </a:moveTo>
                <a:lnTo>
                  <a:pt x="40174" y="0"/>
                </a:lnTo>
                <a:lnTo>
                  <a:pt x="38774" y="1400"/>
                </a:lnTo>
                <a:lnTo>
                  <a:pt x="1400" y="1400"/>
                </a:lnTo>
                <a:close/>
              </a:path>
              <a:path fill="darken" w="40174" h="21600">
                <a:moveTo>
                  <a:pt x="40174" y="0"/>
                </a:moveTo>
                <a:lnTo>
                  <a:pt x="40174" y="21600"/>
                </a:lnTo>
                <a:lnTo>
                  <a:pt x="38774" y="20200"/>
                </a:lnTo>
                <a:lnTo>
                  <a:pt x="38774" y="1400"/>
                </a:lnTo>
                <a:close/>
              </a:path>
              <a:path fill="darkenLess" w="40174" h="21600">
                <a:moveTo>
                  <a:pt x="40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74" y="20200"/>
                </a:lnTo>
                <a:close/>
              </a:path>
              <a:path fill="lighten" w="40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1619280" y="6381720"/>
            <a:ext cx="1008000" cy="215640"/>
            <a:chOff x="1619280" y="6381720"/>
            <a:chExt cx="1008000" cy="215640"/>
          </a:xfrm>
        </p:grpSpPr>
        <p:sp>
          <p:nvSpPr>
            <p:cNvPr id="705" name="">
              <a:hlinkClick r:id="" action="ppaction://hlinkshowjump?jump=previousslide"/>
            </p:cNvPr>
            <p:cNvSpPr/>
            <p:nvPr/>
          </p:nvSpPr>
          <p:spPr>
            <a:xfrm>
              <a:off x="1619280" y="638172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>
              <a:hlinkClick r:id="" action="ppaction://hlinkshowjump?jump=nextslide"/>
            </p:cNvPr>
            <p:cNvSpPr/>
            <p:nvPr/>
          </p:nvSpPr>
          <p:spPr>
            <a:xfrm>
              <a:off x="2190960" y="638172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7489800" cy="16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писать программу, которая находит и выводит на печать все четырехзначные    abcd, числа a, b, c, d— различные цифры, для которых выполняется:   ab—cd=a+b+c+d.  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Реше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Задачу можно решать несколькими способами. Одним из возможных способов является перебор всех четырехзначных чисел и проверка для каждого из них выполнения условий. Попробуем сократить перебор, для этого преобразуем второе условие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10a+b-(10c+d)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+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+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+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d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9(a-c)=2(c+d)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(a-c)/(c+d)=2/9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Проанализировав первое условие, получаем, что а=с+2, d=9-c, следовательно  0&lt;=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&lt;=7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710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  <p:timing>
    <p:tnLst>
      <p:par>
        <p:cTn id="1372" dur="indefinite" restart="never" nodeType="tmRoot">
          <p:childTnLst>
            <p:seq>
              <p:cTn id="1373" dur="indefinite" nodeType="mainSeq">
                <p:childTnLst>
                  <p:par>
                    <p:cTn id="1374" fill="hold">
                      <p:stCondLst>
                        <p:cond delay="0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8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500"/>
                            </p:stCondLst>
                            <p:childTnLst>
                              <p:par>
                                <p:cTn id="1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2" dur="50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6" dur="500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0" dur="500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4" dur="500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8" dur="500"/>
                                        <p:tgtEl>
                                          <p:spTgt spid="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500"/>
                                        <p:tgtEl>
                                          <p:spTgt spid="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3026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im 4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gram Prim4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uses cr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EFINT A-D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ar a,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,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,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: Integer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LS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clrscr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r c = 0 To 7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For c:=0 To 7 Do Beg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 = c+2: d = 9-c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a:=c+2; d:=9-c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r b = 0 To 9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r b:=0 To 9 Do Beg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f b&lt;&gt;c And b&lt;&gt;a And b&lt;&gt;d Then Print a,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,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,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f (b&lt;&gt;c)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nd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b&lt;&gt;a)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nd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b&lt;&gt;d) Then    Write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a,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,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,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'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int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Writel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EXT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End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EXT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n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adl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nd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>
            <a:hlinkClick r:id="rId1"/>
          </p:cNvPr>
          <p:cNvSpPr/>
          <p:nvPr/>
        </p:nvSpPr>
        <p:spPr>
          <a:xfrm>
            <a:off x="6732720" y="5950080"/>
            <a:ext cx="1079280" cy="50472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6171" h="21600">
                <a:moveTo>
                  <a:pt x="0" y="0"/>
                </a:moveTo>
                <a:lnTo>
                  <a:pt x="46171" y="0"/>
                </a:lnTo>
                <a:lnTo>
                  <a:pt x="46171" y="21600"/>
                </a:lnTo>
                <a:lnTo>
                  <a:pt x="0" y="21600"/>
                </a:lnTo>
                <a:close/>
              </a:path>
              <a:path fill="lightenLess" w="46171" h="21600">
                <a:moveTo>
                  <a:pt x="0" y="0"/>
                </a:moveTo>
                <a:lnTo>
                  <a:pt x="46171" y="0"/>
                </a:lnTo>
                <a:lnTo>
                  <a:pt x="44771" y="1400"/>
                </a:lnTo>
                <a:lnTo>
                  <a:pt x="1400" y="1400"/>
                </a:lnTo>
                <a:close/>
              </a:path>
              <a:path fill="darken" w="46171" h="21600">
                <a:moveTo>
                  <a:pt x="46171" y="0"/>
                </a:moveTo>
                <a:lnTo>
                  <a:pt x="46171" y="21600"/>
                </a:lnTo>
                <a:lnTo>
                  <a:pt x="44771" y="20200"/>
                </a:lnTo>
                <a:lnTo>
                  <a:pt x="44771" y="1400"/>
                </a:lnTo>
                <a:close/>
              </a:path>
              <a:path fill="darkenLess" w="46171" h="21600">
                <a:moveTo>
                  <a:pt x="46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771" y="20200"/>
                </a:lnTo>
                <a:close/>
              </a:path>
              <a:path fill="lighten" w="46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>
            <a:hlinkClick r:id="rId2"/>
          </p:cNvPr>
          <p:cNvSpPr/>
          <p:nvPr/>
        </p:nvSpPr>
        <p:spPr>
          <a:xfrm>
            <a:off x="7883640" y="5950080"/>
            <a:ext cx="936360" cy="503280"/>
          </a:xfrm>
          <a:custGeom>
            <a:avLst/>
            <a:gdLst>
              <a:gd name="textAreaLeft" fmla="*/ 32400 w 936360"/>
              <a:gd name="textAreaRight" fmla="*/ 903960 w 93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0174" h="21600">
                <a:moveTo>
                  <a:pt x="0" y="0"/>
                </a:moveTo>
                <a:lnTo>
                  <a:pt x="40174" y="0"/>
                </a:lnTo>
                <a:lnTo>
                  <a:pt x="40174" y="21600"/>
                </a:lnTo>
                <a:lnTo>
                  <a:pt x="0" y="21600"/>
                </a:lnTo>
                <a:close/>
              </a:path>
              <a:path fill="lightenLess" w="40174" h="21600">
                <a:moveTo>
                  <a:pt x="0" y="0"/>
                </a:moveTo>
                <a:lnTo>
                  <a:pt x="40174" y="0"/>
                </a:lnTo>
                <a:lnTo>
                  <a:pt x="38774" y="1400"/>
                </a:lnTo>
                <a:lnTo>
                  <a:pt x="1400" y="1400"/>
                </a:lnTo>
                <a:close/>
              </a:path>
              <a:path fill="darken" w="40174" h="21600">
                <a:moveTo>
                  <a:pt x="40174" y="0"/>
                </a:moveTo>
                <a:lnTo>
                  <a:pt x="40174" y="21600"/>
                </a:lnTo>
                <a:lnTo>
                  <a:pt x="38774" y="20200"/>
                </a:lnTo>
                <a:lnTo>
                  <a:pt x="38774" y="1400"/>
                </a:lnTo>
                <a:close/>
              </a:path>
              <a:path fill="darkenLess" w="40174" h="21600">
                <a:moveTo>
                  <a:pt x="40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74" y="20200"/>
                </a:lnTo>
                <a:close/>
              </a:path>
              <a:path fill="lighten" w="40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2050920" y="6308640"/>
            <a:ext cx="1008000" cy="215640"/>
            <a:chOff x="2050920" y="6308640"/>
            <a:chExt cx="1008000" cy="215640"/>
          </a:xfrm>
        </p:grpSpPr>
        <p:sp>
          <p:nvSpPr>
            <p:cNvPr id="716" name="">
              <a:hlinkClick r:id="" action="ppaction://hlinkshowjump?jump=previousslide"/>
            </p:cNvPr>
            <p:cNvSpPr/>
            <p:nvPr/>
          </p:nvSpPr>
          <p:spPr>
            <a:xfrm>
              <a:off x="2050920" y="630864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>
              <a:hlinkClick r:id="" action="ppaction://hlinkshowjump?jump=nextslide"/>
            </p:cNvPr>
            <p:cNvSpPr/>
            <p:nvPr/>
          </p:nvSpPr>
          <p:spPr>
            <a:xfrm>
              <a:off x="2622600" y="630864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/>
          </p:nvPr>
        </p:nvSpPr>
        <p:spPr>
          <a:xfrm>
            <a:off x="323640" y="1052280"/>
            <a:ext cx="7561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10000"/>
              </a:lnSpc>
              <a:spcBef>
                <a:spcPts val="550"/>
              </a:spcBef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Если мы сложим все цифры какого-либо числа, затем все цифры найденной суммы и будем повторять много раз, мы, наконец, получим однозначное число (цифру), называемое цифровым корнем данного числа. Например, цифровой корень числа 34697 равен 2 (3+4+6+9+7=29; 2+9=11; 1+1=2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550"/>
              </a:spcBef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550"/>
              </a:spcBef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Составим программу для нахождения цифрового корня натурального числ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720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Цель урока: Дать основные понятия о языках программиро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лан урок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1. Проверка домашнего зад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2. Переменные, константы в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QBasic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3. Раздел описания типов в Turbo Pascal 7.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4. Домашнее зад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308720" y="6453360"/>
            <a:ext cx="1511280" cy="215640"/>
            <a:chOff x="7308720" y="6453360"/>
            <a:chExt cx="1511280" cy="215640"/>
          </a:xfrm>
        </p:grpSpPr>
        <p:sp>
          <p:nvSpPr>
            <p:cNvPr id="198" name="">
              <a:hlinkClick r:id="" action="ppaction://hlinkshowjump?jump=previousslide"/>
            </p:cNvPr>
            <p:cNvSpPr/>
            <p:nvPr/>
          </p:nvSpPr>
          <p:spPr>
            <a:xfrm>
              <a:off x="7308720" y="6453360"/>
              <a:ext cx="806400" cy="215640"/>
            </a:xfrm>
            <a:custGeom>
              <a:avLst/>
              <a:gdLst>
                <a:gd name="textAreaLeft" fmla="*/ 13680 w 806400"/>
                <a:gd name="textAreaRight" fmla="*/ 792720 w 80640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80676" h="21600">
                  <a:moveTo>
                    <a:pt x="0" y="0"/>
                  </a:moveTo>
                  <a:lnTo>
                    <a:pt x="80676" y="0"/>
                  </a:lnTo>
                  <a:lnTo>
                    <a:pt x="80676" y="21600"/>
                  </a:lnTo>
                  <a:lnTo>
                    <a:pt x="0" y="21600"/>
                  </a:lnTo>
                  <a:close/>
                </a:path>
                <a:path fill="lightenLess" w="80676" h="21600">
                  <a:moveTo>
                    <a:pt x="0" y="0"/>
                  </a:moveTo>
                  <a:lnTo>
                    <a:pt x="80676" y="0"/>
                  </a:lnTo>
                  <a:lnTo>
                    <a:pt x="79276" y="1400"/>
                  </a:lnTo>
                  <a:lnTo>
                    <a:pt x="1400" y="1400"/>
                  </a:lnTo>
                  <a:close/>
                </a:path>
                <a:path fill="darken" w="80676" h="21600">
                  <a:moveTo>
                    <a:pt x="80676" y="0"/>
                  </a:moveTo>
                  <a:lnTo>
                    <a:pt x="80676" y="21600"/>
                  </a:lnTo>
                  <a:lnTo>
                    <a:pt x="79276" y="20200"/>
                  </a:lnTo>
                  <a:lnTo>
                    <a:pt x="79276" y="1400"/>
                  </a:lnTo>
                  <a:close/>
                </a:path>
                <a:path fill="darkenLess" w="80676" h="21600">
                  <a:moveTo>
                    <a:pt x="8067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9276" y="20200"/>
                  </a:lnTo>
                  <a:close/>
                </a:path>
                <a:path fill="lighten" w="8067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80676" h="21600">
                  <a:moveTo>
                    <a:pt x="33332" y="10800"/>
                  </a:moveTo>
                  <a:lnTo>
                    <a:pt x="47344" y="3794"/>
                  </a:lnTo>
                  <a:lnTo>
                    <a:pt x="47344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>
              <a:hlinkClick r:id="" action="ppaction://hlinkshowjump?jump=nextslide"/>
            </p:cNvPr>
            <p:cNvSpPr/>
            <p:nvPr/>
          </p:nvSpPr>
          <p:spPr>
            <a:xfrm>
              <a:off x="8165520" y="6453360"/>
              <a:ext cx="654480" cy="215640"/>
            </a:xfrm>
            <a:custGeom>
              <a:avLst/>
              <a:gdLst>
                <a:gd name="textAreaLeft" fmla="*/ 13680 w 654480"/>
                <a:gd name="textAreaRight" fmla="*/ 640800 w 65448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65484" h="21600">
                  <a:moveTo>
                    <a:pt x="0" y="0"/>
                  </a:moveTo>
                  <a:lnTo>
                    <a:pt x="65484" y="0"/>
                  </a:lnTo>
                  <a:lnTo>
                    <a:pt x="65484" y="21600"/>
                  </a:lnTo>
                  <a:lnTo>
                    <a:pt x="0" y="21600"/>
                  </a:lnTo>
                  <a:close/>
                </a:path>
                <a:path fill="lightenLess" w="65484" h="21600">
                  <a:moveTo>
                    <a:pt x="0" y="0"/>
                  </a:moveTo>
                  <a:lnTo>
                    <a:pt x="65484" y="0"/>
                  </a:lnTo>
                  <a:lnTo>
                    <a:pt x="64084" y="1400"/>
                  </a:lnTo>
                  <a:lnTo>
                    <a:pt x="1400" y="1400"/>
                  </a:lnTo>
                  <a:close/>
                </a:path>
                <a:path fill="darken" w="65484" h="21600">
                  <a:moveTo>
                    <a:pt x="65484" y="0"/>
                  </a:moveTo>
                  <a:lnTo>
                    <a:pt x="65484" y="21600"/>
                  </a:lnTo>
                  <a:lnTo>
                    <a:pt x="64084" y="20200"/>
                  </a:lnTo>
                  <a:lnTo>
                    <a:pt x="64084" y="1400"/>
                  </a:lnTo>
                  <a:close/>
                </a:path>
                <a:path fill="darkenLess" w="65484" h="21600">
                  <a:moveTo>
                    <a:pt x="6548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4084" y="20200"/>
                  </a:lnTo>
                  <a:close/>
                </a:path>
                <a:path fill="lighten" w="6548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65484" h="21600">
                  <a:moveTo>
                    <a:pt x="25736" y="3794"/>
                  </a:moveTo>
                  <a:lnTo>
                    <a:pt x="39748" y="10800"/>
                  </a:lnTo>
                  <a:lnTo>
                    <a:pt x="2573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Тема урока: </a:t>
            </a: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Языки программирования 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QBasic</a:t>
            </a: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 и Turbo Pascal 7.0.</a:t>
            </a: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250920" y="476280"/>
            <a:ext cx="7777080" cy="53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Реш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Сколько переменных потребуется для решения задачи, какого типа будут эти переменны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Всегда ли необходимо вычислять сумму цифр чис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а если введенное число является однозначным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Вычислим сумму цифр числа: для этого будем выделять цифры числа и увеличивать текущую сумму. Какую конструкцию необходимо использовать для этог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В результате выполнения цикла мы получили число. Является ли оно однозначным (корнем данного числа)? Какую конструкцию необходимо использовать для нахождения корня числа? Какие действия должна выполнять программа внутри этой конструкци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Программа, вычисляющая корень данного числа, может выглядеть следующим образом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724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/>
          </p:nvPr>
        </p:nvSpPr>
        <p:spPr>
          <a:xfrm>
            <a:off x="394920" y="260280"/>
            <a:ext cx="83026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PRIM 5 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Program prim5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uses crt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DEFLNG N,K,S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Var n,k,s: Longint;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Begi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CLS 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clrscr;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INPUT” число N=”;N:S=N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Writeln(' число='); Readln(n); s:=n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Пока сумма является двузначным числом.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While S&gt;9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While s&gt;9 Do    Begi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K=S: S=0 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            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k:=s; s:=0;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              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Вычисляем сумму цифр числа.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DO 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          Repeat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S=S+K Mod 10: K = K \ 10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S:=s+k Mod 10; k:=k Div 10;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LOOP Until K=0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          Until k=0;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Wend 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En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PRINT “цифр. корень числа 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Writeln(' цифр. корень числа ',n,‘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равен “;S 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равен ',s);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Readln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End 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End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1476360" y="6381720"/>
            <a:ext cx="1439640" cy="252360"/>
            <a:chOff x="1476360" y="6381720"/>
            <a:chExt cx="1439640" cy="252360"/>
          </a:xfrm>
        </p:grpSpPr>
        <p:sp>
          <p:nvSpPr>
            <p:cNvPr id="728" name="">
              <a:hlinkClick r:id="" action="ppaction://hlinkshowjump?jump=previousslide"/>
            </p:cNvPr>
            <p:cNvSpPr/>
            <p:nvPr/>
          </p:nvSpPr>
          <p:spPr>
            <a:xfrm>
              <a:off x="1476360" y="6381720"/>
              <a:ext cx="768600" cy="252360"/>
            </a:xfrm>
            <a:custGeom>
              <a:avLst/>
              <a:gdLst>
                <a:gd name="textAreaLeft" fmla="*/ 16200 w 768600"/>
                <a:gd name="textAreaRight" fmla="*/ 752400 w 768600"/>
                <a:gd name="textAreaTop" fmla="*/ 16200 h 252360"/>
                <a:gd name="textAreaBottom" fmla="*/ 236160 h 252360"/>
              </a:gdLst>
              <a:ahLst/>
              <a:rect l="textAreaLeft" t="textAreaTop" r="textAreaRight" b="textAreaBottom"/>
              <a:pathLst>
                <a:path w="65723" h="21600">
                  <a:moveTo>
                    <a:pt x="0" y="0"/>
                  </a:moveTo>
                  <a:lnTo>
                    <a:pt x="65723" y="0"/>
                  </a:lnTo>
                  <a:lnTo>
                    <a:pt x="65723" y="21600"/>
                  </a:lnTo>
                  <a:lnTo>
                    <a:pt x="0" y="21600"/>
                  </a:lnTo>
                  <a:close/>
                </a:path>
                <a:path fill="lightenLess" w="65723" h="21600">
                  <a:moveTo>
                    <a:pt x="0" y="0"/>
                  </a:moveTo>
                  <a:lnTo>
                    <a:pt x="65723" y="0"/>
                  </a:lnTo>
                  <a:lnTo>
                    <a:pt x="64323" y="1400"/>
                  </a:lnTo>
                  <a:lnTo>
                    <a:pt x="1400" y="1400"/>
                  </a:lnTo>
                  <a:close/>
                </a:path>
                <a:path fill="darken" w="65723" h="21600">
                  <a:moveTo>
                    <a:pt x="65723" y="0"/>
                  </a:moveTo>
                  <a:lnTo>
                    <a:pt x="65723" y="21600"/>
                  </a:lnTo>
                  <a:lnTo>
                    <a:pt x="64323" y="20200"/>
                  </a:lnTo>
                  <a:lnTo>
                    <a:pt x="64323" y="1400"/>
                  </a:lnTo>
                  <a:close/>
                </a:path>
                <a:path fill="darkenLess" w="65723" h="21600">
                  <a:moveTo>
                    <a:pt x="6572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4323" y="20200"/>
                  </a:lnTo>
                  <a:close/>
                </a:path>
                <a:path fill="lighten" w="6572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65723" h="21600">
                  <a:moveTo>
                    <a:pt x="25855" y="10800"/>
                  </a:moveTo>
                  <a:lnTo>
                    <a:pt x="39868" y="3794"/>
                  </a:lnTo>
                  <a:lnTo>
                    <a:pt x="3986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>
              <a:hlinkClick r:id="" action="ppaction://hlinkshowjump?jump=nextslide"/>
            </p:cNvPr>
            <p:cNvSpPr/>
            <p:nvPr/>
          </p:nvSpPr>
          <p:spPr>
            <a:xfrm>
              <a:off x="2292480" y="6381720"/>
              <a:ext cx="623520" cy="252360"/>
            </a:xfrm>
            <a:custGeom>
              <a:avLst/>
              <a:gdLst>
                <a:gd name="textAreaLeft" fmla="*/ 16200 w 623520"/>
                <a:gd name="textAreaRight" fmla="*/ 607320 w 623520"/>
                <a:gd name="textAreaTop" fmla="*/ 16200 h 252360"/>
                <a:gd name="textAreaBottom" fmla="*/ 236160 h 252360"/>
              </a:gdLst>
              <a:ahLst/>
              <a:rect l="textAreaLeft" t="textAreaTop" r="textAreaRight" b="textAreaBottom"/>
              <a:pathLst>
                <a:path w="53323" h="21600">
                  <a:moveTo>
                    <a:pt x="0" y="0"/>
                  </a:moveTo>
                  <a:lnTo>
                    <a:pt x="53323" y="0"/>
                  </a:lnTo>
                  <a:lnTo>
                    <a:pt x="53323" y="21600"/>
                  </a:lnTo>
                  <a:lnTo>
                    <a:pt x="0" y="21600"/>
                  </a:lnTo>
                  <a:close/>
                </a:path>
                <a:path fill="lightenLess" w="53323" h="21600">
                  <a:moveTo>
                    <a:pt x="0" y="0"/>
                  </a:moveTo>
                  <a:lnTo>
                    <a:pt x="53323" y="0"/>
                  </a:lnTo>
                  <a:lnTo>
                    <a:pt x="51923" y="1400"/>
                  </a:lnTo>
                  <a:lnTo>
                    <a:pt x="1400" y="1400"/>
                  </a:lnTo>
                  <a:close/>
                </a:path>
                <a:path fill="darken" w="53323" h="21600">
                  <a:moveTo>
                    <a:pt x="53323" y="0"/>
                  </a:moveTo>
                  <a:lnTo>
                    <a:pt x="53323" y="21600"/>
                  </a:lnTo>
                  <a:lnTo>
                    <a:pt x="51923" y="20200"/>
                  </a:lnTo>
                  <a:lnTo>
                    <a:pt x="51923" y="1400"/>
                  </a:lnTo>
                  <a:close/>
                </a:path>
                <a:path fill="darkenLess" w="53323" h="21600">
                  <a:moveTo>
                    <a:pt x="5332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1923" y="20200"/>
                  </a:lnTo>
                  <a:close/>
                </a:path>
                <a:path fill="lighten" w="5332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3323" h="21600">
                  <a:moveTo>
                    <a:pt x="19655" y="3794"/>
                  </a:moveTo>
                  <a:lnTo>
                    <a:pt x="33668" y="10800"/>
                  </a:lnTo>
                  <a:lnTo>
                    <a:pt x="19655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0" name="">
            <a:hlinkClick r:id="rId1"/>
          </p:cNvPr>
          <p:cNvSpPr/>
          <p:nvPr/>
        </p:nvSpPr>
        <p:spPr>
          <a:xfrm>
            <a:off x="6732720" y="5950080"/>
            <a:ext cx="1079280" cy="50472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6171" h="21600">
                <a:moveTo>
                  <a:pt x="0" y="0"/>
                </a:moveTo>
                <a:lnTo>
                  <a:pt x="46171" y="0"/>
                </a:lnTo>
                <a:lnTo>
                  <a:pt x="46171" y="21600"/>
                </a:lnTo>
                <a:lnTo>
                  <a:pt x="0" y="21600"/>
                </a:lnTo>
                <a:close/>
              </a:path>
              <a:path fill="lightenLess" w="46171" h="21600">
                <a:moveTo>
                  <a:pt x="0" y="0"/>
                </a:moveTo>
                <a:lnTo>
                  <a:pt x="46171" y="0"/>
                </a:lnTo>
                <a:lnTo>
                  <a:pt x="44771" y="1400"/>
                </a:lnTo>
                <a:lnTo>
                  <a:pt x="1400" y="1400"/>
                </a:lnTo>
                <a:close/>
              </a:path>
              <a:path fill="darken" w="46171" h="21600">
                <a:moveTo>
                  <a:pt x="46171" y="0"/>
                </a:moveTo>
                <a:lnTo>
                  <a:pt x="46171" y="21600"/>
                </a:lnTo>
                <a:lnTo>
                  <a:pt x="44771" y="20200"/>
                </a:lnTo>
                <a:lnTo>
                  <a:pt x="44771" y="1400"/>
                </a:lnTo>
                <a:close/>
              </a:path>
              <a:path fill="darkenLess" w="46171" h="21600">
                <a:moveTo>
                  <a:pt x="46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771" y="20200"/>
                </a:lnTo>
                <a:close/>
              </a:path>
              <a:path fill="lighten" w="46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>
            <a:hlinkClick r:id="rId2"/>
          </p:cNvPr>
          <p:cNvSpPr/>
          <p:nvPr/>
        </p:nvSpPr>
        <p:spPr>
          <a:xfrm>
            <a:off x="7883640" y="5950080"/>
            <a:ext cx="936360" cy="503280"/>
          </a:xfrm>
          <a:custGeom>
            <a:avLst/>
            <a:gdLst>
              <a:gd name="textAreaLeft" fmla="*/ 32400 w 936360"/>
              <a:gd name="textAreaRight" fmla="*/ 903960 w 93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0174" h="21600">
                <a:moveTo>
                  <a:pt x="0" y="0"/>
                </a:moveTo>
                <a:lnTo>
                  <a:pt x="40174" y="0"/>
                </a:lnTo>
                <a:lnTo>
                  <a:pt x="40174" y="21600"/>
                </a:lnTo>
                <a:lnTo>
                  <a:pt x="0" y="21600"/>
                </a:lnTo>
                <a:close/>
              </a:path>
              <a:path fill="lightenLess" w="40174" h="21600">
                <a:moveTo>
                  <a:pt x="0" y="0"/>
                </a:moveTo>
                <a:lnTo>
                  <a:pt x="40174" y="0"/>
                </a:lnTo>
                <a:lnTo>
                  <a:pt x="38774" y="1400"/>
                </a:lnTo>
                <a:lnTo>
                  <a:pt x="1400" y="1400"/>
                </a:lnTo>
                <a:close/>
              </a:path>
              <a:path fill="darken" w="40174" h="21600">
                <a:moveTo>
                  <a:pt x="40174" y="0"/>
                </a:moveTo>
                <a:lnTo>
                  <a:pt x="40174" y="21600"/>
                </a:lnTo>
                <a:lnTo>
                  <a:pt x="38774" y="20200"/>
                </a:lnTo>
                <a:lnTo>
                  <a:pt x="38774" y="1400"/>
                </a:lnTo>
                <a:close/>
              </a:path>
              <a:path fill="darkenLess" w="40174" h="21600">
                <a:moveTo>
                  <a:pt x="40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74" y="20200"/>
                </a:lnTo>
                <a:close/>
              </a:path>
              <a:path fill="lighten" w="40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Что будет выведено на экране монитора после выполнения следующего фрагмента программы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A=28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а:=28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FOR I = 1 ТO  A\2  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For i:=1 То a div 2 Do   Begi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IF A MOD I=0 THEN PRINT I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 if a mod i =0 then  Writeln(i)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NEXT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End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Решение какой задачи выражает этот фрагмент программы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735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  <p:timing>
    <p:tnLst>
      <p:par>
        <p:cTn id="1403" dur="indefinite" restart="never" nodeType="tmRoot">
          <p:childTnLst>
            <p:seq>
              <p:cTn id="1404" dur="indefinite" nodeType="mainSeq">
                <p:childTnLst>
                  <p:par>
                    <p:cTn id="1405" fill="hold">
                      <p:stCondLst>
                        <p:cond delay="0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9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3" dur="500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7" dur="500"/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1" dur="500"/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5" dur="500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9" dur="500"/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3" dur="500"/>
                                        <p:tgtEl>
                                          <p:spTgt spid="7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нтрольная работа №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323640" y="1098720"/>
            <a:ext cx="8445240" cy="48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Вариант №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1. Дано натуральное число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(a) найти сумму цифр этого числ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(b) верно ли, что число начинается и заканчивается одной и той же цифро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2. Найти все трехзначные числа, такие, что сумма цифр равна А, а само число делится на В (А и В вводятся с клавиатуры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3.  Дано натуральное число. Приписать к нему такое же число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740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324000" y="426960"/>
            <a:ext cx="7993080" cy="54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Вариант №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1.   Дано натуральное число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(a) найти произведение цифр числ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(b) верно ли, что в данном числе нет данной цифры А (цифру А вводить с клавиатуры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2. Найти все трехзначные числа, которые при увеличении на 1 делятся на 2, при увеличении на 2 делятся на 3, при увеличении на 3 делятся на 4, а при увеличении на 4 делятся на 5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3. Из данного натурального числа удалить все цифры А (А вводится с клавиатуры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744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7905600" cy="59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Вариант №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1.  Дано натуральное число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(a) найти количество цифр данного числ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(b) верно ли, что данное число заканчивается на нечетную цифру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2. Найти количество трехзначных чисел, сумма цифр которых равна А, а само число заканчивается цифрой В (А и В вводятся с клавиатуры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3. Найти все трехзначные симметричные натуральные числа из промежутка от А до В (А и В вводятся с клавиатуры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748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250920" y="765000"/>
            <a:ext cx="806436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Вариант №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1.   Дано натуральное число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(a) найти количество четных цифр числ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(b) верно ли, что данная цифра А встречается в числе более двух раз (А вводить с клавиатуры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2.  Найти все четырехзначные числа, у которых сумма крайних цифр равна сумме средних цифр, а само число делится на 6 и 27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3.   Найти количество различных цифр данного натурального числ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752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тветы к контрольной работе №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3739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Вариант №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N=121, сумма равна 4,  верно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А=15, В=17,  357, 663,816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45, 454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Вариант №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А=5, N=121, не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121, 181, 241,301, 361, 421, 481, 541, 601, 661, 721, 781, 841, 901, 96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N=1234, А=3, N=12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757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611280" y="549360"/>
            <a:ext cx="72723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Вариант №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N=1235, К=4, д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А=17, В=5, 395, 485, 575, 665, 755, 845, 93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А=478, В=535, 484, 494, 505, 515, 525, 53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Вариант №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N=12242, А=2 , цифра 2  встречается более двух раз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1185, 1458, 1728, 3186, 3456, 3726, 5184, 5454, 5724, 7182, 7452, 7722, 9180, 9450, 872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N=13234, различных цифр 4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761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нтрольная работа №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Вариант № 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1. Найти количество делителей натурального числа. Сколько из них четных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2. Найти все натуральные числа а, b и с из интервала от 1 до 20, для,  которых выполняется равенство: a2+b2=с2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7956720" y="6381720"/>
            <a:ext cx="1007640" cy="216000"/>
            <a:chOff x="7956720" y="6381720"/>
            <a:chExt cx="1007640" cy="216000"/>
          </a:xfrm>
        </p:grpSpPr>
        <p:sp>
          <p:nvSpPr>
            <p:cNvPr id="766" name="">
              <a:hlinkClick r:id="" action="ppaction://hlinkshowjump?jump=previousslide"/>
            </p:cNvPr>
            <p:cNvSpPr/>
            <p:nvPr/>
          </p:nvSpPr>
          <p:spPr>
            <a:xfrm>
              <a:off x="7956720" y="6381720"/>
              <a:ext cx="537840" cy="216000"/>
            </a:xfrm>
            <a:custGeom>
              <a:avLst/>
              <a:gdLst>
                <a:gd name="textAreaLeft" fmla="*/ 13680 w 537840"/>
                <a:gd name="textAreaRight" fmla="*/ 524160 w 537840"/>
                <a:gd name="textAreaTop" fmla="*/ 13680 h 216000"/>
                <a:gd name="textAreaBottom" fmla="*/ 202320 h 216000"/>
              </a:gdLst>
              <a:ahLst/>
              <a:rect l="textAreaLeft" t="textAreaTop" r="textAreaRight" b="textAreaBottom"/>
              <a:pathLst>
                <a:path w="53730" h="21600">
                  <a:moveTo>
                    <a:pt x="0" y="0"/>
                  </a:moveTo>
                  <a:lnTo>
                    <a:pt x="53730" y="0"/>
                  </a:lnTo>
                  <a:lnTo>
                    <a:pt x="53730" y="21600"/>
                  </a:lnTo>
                  <a:lnTo>
                    <a:pt x="0" y="21600"/>
                  </a:lnTo>
                  <a:close/>
                </a:path>
                <a:path fill="lightenLess" w="53730" h="21600">
                  <a:moveTo>
                    <a:pt x="0" y="0"/>
                  </a:moveTo>
                  <a:lnTo>
                    <a:pt x="53730" y="0"/>
                  </a:lnTo>
                  <a:lnTo>
                    <a:pt x="52330" y="1400"/>
                  </a:lnTo>
                  <a:lnTo>
                    <a:pt x="1400" y="1400"/>
                  </a:lnTo>
                  <a:close/>
                </a:path>
                <a:path fill="darken" w="53730" h="21600">
                  <a:moveTo>
                    <a:pt x="53730" y="0"/>
                  </a:moveTo>
                  <a:lnTo>
                    <a:pt x="53730" y="21600"/>
                  </a:lnTo>
                  <a:lnTo>
                    <a:pt x="52330" y="20200"/>
                  </a:lnTo>
                  <a:lnTo>
                    <a:pt x="52330" y="1400"/>
                  </a:lnTo>
                  <a:close/>
                </a:path>
                <a:path fill="darkenLess" w="53730" h="21600">
                  <a:moveTo>
                    <a:pt x="5373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2330" y="20200"/>
                  </a:lnTo>
                  <a:close/>
                </a:path>
                <a:path fill="lighten" w="5373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3730" h="21600">
                  <a:moveTo>
                    <a:pt x="19859" y="10800"/>
                  </a:moveTo>
                  <a:lnTo>
                    <a:pt x="33872" y="3794"/>
                  </a:lnTo>
                  <a:lnTo>
                    <a:pt x="33872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>
              <a:hlinkClick r:id="" action="ppaction://hlinkshowjump?jump=nextslide"/>
            </p:cNvPr>
            <p:cNvSpPr/>
            <p:nvPr/>
          </p:nvSpPr>
          <p:spPr>
            <a:xfrm>
              <a:off x="8528040" y="6381720"/>
              <a:ext cx="436320" cy="21600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6000"/>
                <a:gd name="textAreaBottom" fmla="*/ 202320 h 216000"/>
              </a:gdLst>
              <a:ahLst/>
              <a:rect l="textAreaLeft" t="textAreaTop" r="textAreaRight" b="textAreaBottom"/>
              <a:pathLst>
                <a:path w="43595" h="21600">
                  <a:moveTo>
                    <a:pt x="0" y="0"/>
                  </a:moveTo>
                  <a:lnTo>
                    <a:pt x="43595" y="0"/>
                  </a:lnTo>
                  <a:lnTo>
                    <a:pt x="43595" y="21600"/>
                  </a:lnTo>
                  <a:lnTo>
                    <a:pt x="0" y="21600"/>
                  </a:lnTo>
                  <a:close/>
                </a:path>
                <a:path fill="lightenLess" w="43595" h="21600">
                  <a:moveTo>
                    <a:pt x="0" y="0"/>
                  </a:moveTo>
                  <a:lnTo>
                    <a:pt x="43595" y="0"/>
                  </a:lnTo>
                  <a:lnTo>
                    <a:pt x="42195" y="1400"/>
                  </a:lnTo>
                  <a:lnTo>
                    <a:pt x="1400" y="1400"/>
                  </a:lnTo>
                  <a:close/>
                </a:path>
                <a:path fill="darken" w="43595" h="21600">
                  <a:moveTo>
                    <a:pt x="43595" y="0"/>
                  </a:moveTo>
                  <a:lnTo>
                    <a:pt x="43595" y="21600"/>
                  </a:lnTo>
                  <a:lnTo>
                    <a:pt x="42195" y="20200"/>
                  </a:lnTo>
                  <a:lnTo>
                    <a:pt x="42195" y="1400"/>
                  </a:lnTo>
                  <a:close/>
                </a:path>
                <a:path fill="darkenLess" w="43595" h="21600">
                  <a:moveTo>
                    <a:pt x="4359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95" y="20200"/>
                  </a:lnTo>
                  <a:close/>
                </a:path>
                <a:path fill="lighten" w="4359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95" h="21600">
                  <a:moveTo>
                    <a:pt x="14791" y="3794"/>
                  </a:moveTo>
                  <a:lnTo>
                    <a:pt x="28804" y="10800"/>
                  </a:lnTo>
                  <a:lnTo>
                    <a:pt x="14791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468360" y="3213000"/>
            <a:ext cx="799128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Вариант № 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Найти сумму нечетных делителей натурального числ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Найти все равновеликие прямоугольники, стороны которых выражены целыми числами а и b, а площадь равна S (а и b принадлежат интервалу от 1 до 20, а S вводится с клавиатуры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44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Проверка домашнего задания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Вопрос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Для чего служит компьютер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Что называется алгоритмо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Что называется алфавитом язы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Что такое интерпретация и компиляц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Что представляет собой программ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В каком разделе происходит описание переменных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7667640" y="6568920"/>
            <a:ext cx="1295280" cy="289080"/>
            <a:chOff x="7667640" y="6568920"/>
            <a:chExt cx="1295280" cy="289080"/>
          </a:xfrm>
        </p:grpSpPr>
        <p:sp>
          <p:nvSpPr>
            <p:cNvPr id="204" name="">
              <a:hlinkClick r:id="" action="ppaction://hlinkshowjump?jump=previousslide"/>
            </p:cNvPr>
            <p:cNvSpPr/>
            <p:nvPr/>
          </p:nvSpPr>
          <p:spPr>
            <a:xfrm>
              <a:off x="7667640" y="6568920"/>
              <a:ext cx="691200" cy="289080"/>
            </a:xfrm>
            <a:custGeom>
              <a:avLst/>
              <a:gdLst>
                <a:gd name="textAreaLeft" fmla="*/ 18720 w 691200"/>
                <a:gd name="textAreaRight" fmla="*/ 672480 w 691200"/>
                <a:gd name="textAreaTop" fmla="*/ 18720 h 289080"/>
                <a:gd name="textAreaBottom" fmla="*/ 270360 h 289080"/>
              </a:gdLst>
              <a:ahLst/>
              <a:rect l="textAreaLeft" t="textAreaTop" r="textAreaRight" b="textAreaBottom"/>
              <a:pathLst>
                <a:path w="51609" h="21600">
                  <a:moveTo>
                    <a:pt x="0" y="0"/>
                  </a:moveTo>
                  <a:lnTo>
                    <a:pt x="51609" y="0"/>
                  </a:lnTo>
                  <a:lnTo>
                    <a:pt x="51609" y="21600"/>
                  </a:lnTo>
                  <a:lnTo>
                    <a:pt x="0" y="21600"/>
                  </a:lnTo>
                  <a:close/>
                </a:path>
                <a:path fill="lightenLess" w="51609" h="21600">
                  <a:moveTo>
                    <a:pt x="0" y="0"/>
                  </a:moveTo>
                  <a:lnTo>
                    <a:pt x="51609" y="0"/>
                  </a:lnTo>
                  <a:lnTo>
                    <a:pt x="50209" y="1400"/>
                  </a:lnTo>
                  <a:lnTo>
                    <a:pt x="1400" y="1400"/>
                  </a:lnTo>
                  <a:close/>
                </a:path>
                <a:path fill="darken" w="51609" h="21600">
                  <a:moveTo>
                    <a:pt x="51609" y="0"/>
                  </a:moveTo>
                  <a:lnTo>
                    <a:pt x="51609" y="21600"/>
                  </a:lnTo>
                  <a:lnTo>
                    <a:pt x="50209" y="20200"/>
                  </a:lnTo>
                  <a:lnTo>
                    <a:pt x="50209" y="1400"/>
                  </a:lnTo>
                  <a:close/>
                </a:path>
                <a:path fill="darkenLess" w="51609" h="21600">
                  <a:moveTo>
                    <a:pt x="5160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0209" y="20200"/>
                  </a:lnTo>
                  <a:close/>
                </a:path>
                <a:path fill="lighten" w="5160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1609" h="21600">
                  <a:moveTo>
                    <a:pt x="18798" y="10800"/>
                  </a:moveTo>
                  <a:lnTo>
                    <a:pt x="32811" y="3794"/>
                  </a:lnTo>
                  <a:lnTo>
                    <a:pt x="32811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>
              <a:hlinkClick r:id="" action="ppaction://hlinkshowjump?jump=nextslide"/>
            </p:cNvPr>
            <p:cNvSpPr/>
            <p:nvPr/>
          </p:nvSpPr>
          <p:spPr>
            <a:xfrm>
              <a:off x="8402040" y="6568920"/>
              <a:ext cx="560880" cy="289080"/>
            </a:xfrm>
            <a:custGeom>
              <a:avLst/>
              <a:gdLst>
                <a:gd name="textAreaLeft" fmla="*/ 18720 w 560880"/>
                <a:gd name="textAreaRight" fmla="*/ 542160 w 560880"/>
                <a:gd name="textAreaTop" fmla="*/ 18720 h 289080"/>
                <a:gd name="textAreaBottom" fmla="*/ 270360 h 289080"/>
              </a:gdLst>
              <a:ahLst/>
              <a:rect l="textAreaLeft" t="textAreaTop" r="textAreaRight" b="textAreaBottom"/>
              <a:pathLst>
                <a:path w="41884" h="21600">
                  <a:moveTo>
                    <a:pt x="0" y="0"/>
                  </a:moveTo>
                  <a:lnTo>
                    <a:pt x="41884" y="0"/>
                  </a:lnTo>
                  <a:lnTo>
                    <a:pt x="41884" y="21600"/>
                  </a:lnTo>
                  <a:lnTo>
                    <a:pt x="0" y="21600"/>
                  </a:lnTo>
                  <a:close/>
                </a:path>
                <a:path fill="lightenLess" w="41884" h="21600">
                  <a:moveTo>
                    <a:pt x="0" y="0"/>
                  </a:moveTo>
                  <a:lnTo>
                    <a:pt x="41884" y="0"/>
                  </a:lnTo>
                  <a:lnTo>
                    <a:pt x="40484" y="1400"/>
                  </a:lnTo>
                  <a:lnTo>
                    <a:pt x="1400" y="1400"/>
                  </a:lnTo>
                  <a:close/>
                </a:path>
                <a:path fill="darken" w="41884" h="21600">
                  <a:moveTo>
                    <a:pt x="41884" y="0"/>
                  </a:moveTo>
                  <a:lnTo>
                    <a:pt x="41884" y="21600"/>
                  </a:lnTo>
                  <a:lnTo>
                    <a:pt x="40484" y="20200"/>
                  </a:lnTo>
                  <a:lnTo>
                    <a:pt x="40484" y="1400"/>
                  </a:lnTo>
                  <a:close/>
                </a:path>
                <a:path fill="darkenLess" w="41884" h="21600">
                  <a:moveTo>
                    <a:pt x="4188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0484" y="20200"/>
                  </a:lnTo>
                  <a:close/>
                </a:path>
                <a:path fill="lighten" w="4188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1884" h="21600">
                  <a:moveTo>
                    <a:pt x="13935" y="3794"/>
                  </a:moveTo>
                  <a:lnTo>
                    <a:pt x="27948" y="10800"/>
                  </a:lnTo>
                  <a:lnTo>
                    <a:pt x="13935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395280" y="404640"/>
            <a:ext cx="7704000" cy="34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Вариант №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89"/>
              </a:spcBef>
              <a:spcAft>
                <a:spcPts val="550"/>
              </a:spcAft>
              <a:buClr>
                <a:srgbClr val="ffffff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Найти все натуральные числа из промежутка от 1 до 200, у которых количество делителей равно N (N вводить с клавиатуры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89"/>
              </a:spcBef>
              <a:spcAft>
                <a:spcPts val="550"/>
              </a:spcAft>
              <a:buClr>
                <a:srgbClr val="ffffff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Найти все натуральные числа а, b  и с из интервала от 1 до 20, для которых выполняется равенство: а+b2=с2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771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3" name=""/>
          <p:cNvSpPr/>
          <p:nvPr/>
        </p:nvSpPr>
        <p:spPr>
          <a:xfrm>
            <a:off x="395280" y="3645000"/>
            <a:ext cx="7848720" cy="29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Вариант № 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Найти количество делителей натурального числа, больших К (К ввод. с клавиатуры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Найти все такие тройки натуральных чисел х, у и z из интервала от 1 до 20, для которых выполняется равенство: х2—у =z2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75438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тветы к контрольной работе №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Вариант №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1.   N=24, К=7, четных 5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2.   3, 4, 5      4, 3, 5      5, 12, 13      6, 8, 10     8, 6, 10      8, 15, 17       9, 12, 15    12, 5, 1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12, 9, 15         12, 16,20         15, 8,  17         16, 12, 20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Вариант №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1. N=27, нечетных 3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2. S=42, 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3,14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6,7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7,6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14,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777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324000" y="333360"/>
            <a:ext cx="813564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Вариант №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N=9,  49, 80, 112, 162, 176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3 1 2         5 2 3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7 3 4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     8 1 3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9 4 5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 11 5 6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12  2  4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13  6  7    15 1 4       15 7 8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16 3 5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   17 8 9        19 9 10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 20 4 6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Вариант №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N=196, К=6 , количество делителей больших К пять. Это  7, 14, 28, 49, 98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2,3,1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3,5,2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   3,8,1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4,7,3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  4,12,2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4,15,1         5,9,4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5,16,3          6,4,5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  6,20,4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7,13,6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  8,15,7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 9,17,8      10,19,9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781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Переменные в QBasic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97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Переменная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- это величина, которая может меняться  при выполнении программы. Объявляя переменную или константу заданного типа, Вы отводите в памяти место,  где будет храниться ее значение. Тип определяет размер и структуру памяти под переменн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В QBasic  существует две основные категории данных: числовые и символьные. Каждая категория включает в себя элементарные типы данны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7956720" y="6524640"/>
            <a:ext cx="934560" cy="333360"/>
            <a:chOff x="7956720" y="6524640"/>
            <a:chExt cx="934560" cy="333360"/>
          </a:xfrm>
        </p:grpSpPr>
        <p:sp>
          <p:nvSpPr>
            <p:cNvPr id="209" name="">
              <a:hlinkClick r:id="" action="ppaction://hlinkshowjump?jump=previousslide"/>
            </p:cNvPr>
            <p:cNvSpPr/>
            <p:nvPr/>
          </p:nvSpPr>
          <p:spPr>
            <a:xfrm>
              <a:off x="7956720" y="6524640"/>
              <a:ext cx="498960" cy="333360"/>
            </a:xfrm>
            <a:custGeom>
              <a:avLst/>
              <a:gdLst>
                <a:gd name="textAreaLeft" fmla="*/ 21600 w 498960"/>
                <a:gd name="textAreaRight" fmla="*/ 477360 w 498960"/>
                <a:gd name="textAreaTop" fmla="*/ 21600 h 333360"/>
                <a:gd name="textAreaBottom" fmla="*/ 311760 h 333360"/>
              </a:gdLst>
              <a:ahLst/>
              <a:rect l="textAreaLeft" t="textAreaTop" r="textAreaRight" b="textAreaBottom"/>
              <a:pathLst>
                <a:path w="32318" h="21600">
                  <a:moveTo>
                    <a:pt x="0" y="0"/>
                  </a:moveTo>
                  <a:lnTo>
                    <a:pt x="32318" y="0"/>
                  </a:lnTo>
                  <a:lnTo>
                    <a:pt x="32318" y="21600"/>
                  </a:lnTo>
                  <a:lnTo>
                    <a:pt x="0" y="21600"/>
                  </a:lnTo>
                  <a:close/>
                </a:path>
                <a:path fill="lightenLess" w="32318" h="21600">
                  <a:moveTo>
                    <a:pt x="0" y="0"/>
                  </a:moveTo>
                  <a:lnTo>
                    <a:pt x="32318" y="0"/>
                  </a:lnTo>
                  <a:lnTo>
                    <a:pt x="30918" y="1400"/>
                  </a:lnTo>
                  <a:lnTo>
                    <a:pt x="1400" y="1400"/>
                  </a:lnTo>
                  <a:close/>
                </a:path>
                <a:path fill="darken" w="32318" h="21600">
                  <a:moveTo>
                    <a:pt x="32318" y="0"/>
                  </a:moveTo>
                  <a:lnTo>
                    <a:pt x="32318" y="21600"/>
                  </a:lnTo>
                  <a:lnTo>
                    <a:pt x="30918" y="20200"/>
                  </a:lnTo>
                  <a:lnTo>
                    <a:pt x="30918" y="1400"/>
                  </a:lnTo>
                  <a:close/>
                </a:path>
                <a:path fill="darkenLess" w="32318" h="21600">
                  <a:moveTo>
                    <a:pt x="3231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0918" y="20200"/>
                  </a:lnTo>
                  <a:close/>
                </a:path>
                <a:path fill="lighten" w="3231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318" h="21600">
                  <a:moveTo>
                    <a:pt x="9153" y="10800"/>
                  </a:moveTo>
                  <a:lnTo>
                    <a:pt x="23166" y="3794"/>
                  </a:lnTo>
                  <a:lnTo>
                    <a:pt x="2316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>
              <a:hlinkClick r:id="" action="ppaction://hlinkshowjump?jump=nextslide"/>
            </p:cNvPr>
            <p:cNvSpPr/>
            <p:nvPr/>
          </p:nvSpPr>
          <p:spPr>
            <a:xfrm>
              <a:off x="8486640" y="6524640"/>
              <a:ext cx="404640" cy="333360"/>
            </a:xfrm>
            <a:custGeom>
              <a:avLst/>
              <a:gdLst>
                <a:gd name="textAreaLeft" fmla="*/ 21600 w 404640"/>
                <a:gd name="textAreaRight" fmla="*/ 383040 w 404640"/>
                <a:gd name="textAreaTop" fmla="*/ 21600 h 333360"/>
                <a:gd name="textAreaBottom" fmla="*/ 311760 h 333360"/>
              </a:gdLst>
              <a:ahLst/>
              <a:rect l="textAreaLeft" t="textAreaTop" r="textAreaRight" b="textAreaBottom"/>
              <a:pathLst>
                <a:path w="26214" h="21600">
                  <a:moveTo>
                    <a:pt x="0" y="0"/>
                  </a:moveTo>
                  <a:lnTo>
                    <a:pt x="26214" y="0"/>
                  </a:lnTo>
                  <a:lnTo>
                    <a:pt x="26214" y="21600"/>
                  </a:lnTo>
                  <a:lnTo>
                    <a:pt x="0" y="21600"/>
                  </a:lnTo>
                  <a:close/>
                </a:path>
                <a:path fill="lightenLess" w="26214" h="21600">
                  <a:moveTo>
                    <a:pt x="0" y="0"/>
                  </a:moveTo>
                  <a:lnTo>
                    <a:pt x="26214" y="0"/>
                  </a:lnTo>
                  <a:lnTo>
                    <a:pt x="24814" y="1400"/>
                  </a:lnTo>
                  <a:lnTo>
                    <a:pt x="1400" y="1400"/>
                  </a:lnTo>
                  <a:close/>
                </a:path>
                <a:path fill="darken" w="26214" h="21600">
                  <a:moveTo>
                    <a:pt x="26214" y="0"/>
                  </a:moveTo>
                  <a:lnTo>
                    <a:pt x="26214" y="21600"/>
                  </a:lnTo>
                  <a:lnTo>
                    <a:pt x="24814" y="20200"/>
                  </a:lnTo>
                  <a:lnTo>
                    <a:pt x="24814" y="1400"/>
                  </a:lnTo>
                  <a:close/>
                </a:path>
                <a:path fill="darkenLess" w="26214" h="21600">
                  <a:moveTo>
                    <a:pt x="2621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814" y="20200"/>
                  </a:lnTo>
                  <a:close/>
                </a:path>
                <a:path fill="lighten" w="2621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214" h="21600">
                  <a:moveTo>
                    <a:pt x="6100" y="3794"/>
                  </a:moveTo>
                  <a:lnTo>
                    <a:pt x="20113" y="10800"/>
                  </a:lnTo>
                  <a:lnTo>
                    <a:pt x="6100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66"/>
                </a:solidFill>
                <a:uFillTx/>
                <a:latin typeface="Arial"/>
                <a:hlinkClick r:id="rId1" action="ppaction://hlinksldjump"/>
              </a:rPr>
              <a:t>Переменные числового типа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66"/>
                </a:solidFill>
                <a:uFillTx/>
                <a:latin typeface="Arial"/>
                <a:hlinkClick r:id="rId2" action="ppaction://hlinksldjump"/>
              </a:rPr>
              <a:t>Переменные символьного типа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Переменные в QBasic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214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ПЕРЕМЕННЫЕ ЧИСЛОВОГО ТИП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66"/>
                </a:solidFill>
                <a:uFillTx/>
                <a:latin typeface="Comic Sans MS"/>
                <a:hlinkClick r:id="rId1" action="ppaction://hlinksldjump"/>
              </a:rPr>
              <a:t>ЦЕЛЫЕ (</a:t>
            </a:r>
            <a:r>
              <a:rPr b="0" lang="en-US" sz="3200" spc="-1" strike="noStrike" u="sng">
                <a:solidFill>
                  <a:srgbClr val="ffff66"/>
                </a:solidFill>
                <a:uFillTx/>
                <a:latin typeface="Comic Sans MS"/>
                <a:hlinkClick r:id="rId2" action="ppaction://hlinksldjump"/>
              </a:rPr>
              <a:t>INTEGER</a:t>
            </a:r>
            <a:r>
              <a:rPr b="0" lang="ru-RU" sz="3200" spc="-1" strike="noStrike" u="sng">
                <a:solidFill>
                  <a:srgbClr val="ffff66"/>
                </a:solidFill>
                <a:uFillTx/>
                <a:latin typeface="Comic Sans MS"/>
                <a:hlinkClick r:id="rId3" action="ppaction://hlinksldjump"/>
              </a:rPr>
              <a:t>)</a:t>
            </a:r>
            <a:r>
              <a:rPr b="0" lang="ru-RU" sz="3600" spc="-1" strike="noStrike" u="sng">
                <a:solidFill>
                  <a:srgbClr val="ffff66"/>
                </a:solidFill>
                <a:uFillTx/>
                <a:latin typeface="Comic Sans MS"/>
                <a:hlinkClick r:id="rId4" action="ppaction://hlinksldjump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66"/>
                </a:solidFill>
                <a:uFillTx/>
                <a:latin typeface="Comic Sans MS"/>
                <a:hlinkClick r:id="rId5" action="ppaction://hlinksldjump"/>
              </a:rPr>
              <a:t>ДЛИННЫЕ ЦЕЛЫЕ (</a:t>
            </a:r>
            <a:r>
              <a:rPr b="0" lang="en-US" sz="3200" spc="-1" strike="noStrike" u="sng">
                <a:solidFill>
                  <a:srgbClr val="ffff66"/>
                </a:solidFill>
                <a:uFillTx/>
                <a:latin typeface="Comic Sans MS"/>
                <a:hlinkClick r:id="rId6" action="ppaction://hlinksldjump"/>
              </a:rPr>
              <a:t>LONG</a:t>
            </a:r>
            <a:r>
              <a:rPr b="0" lang="ru-RU" sz="3200" spc="-1" strike="noStrike" u="sng">
                <a:solidFill>
                  <a:srgbClr val="ffff66"/>
                </a:solidFill>
                <a:uFillTx/>
                <a:latin typeface="Comic Sans MS"/>
                <a:hlinkClick r:id="rId7" action="ppaction://hlinksldjump"/>
              </a:rPr>
              <a:t>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66"/>
                </a:solidFill>
                <a:uFillTx/>
                <a:latin typeface="Comic Sans MS"/>
                <a:hlinkClick r:id="rId8" action="ppaction://hlinksldjump"/>
              </a:rPr>
              <a:t>Переменные ОБЫЧНОЙ ТОЧНОСТИ  (</a:t>
            </a:r>
            <a:r>
              <a:rPr b="0" lang="en-US" sz="3000" spc="-1" strike="noStrike" u="sng">
                <a:solidFill>
                  <a:srgbClr val="ffff66"/>
                </a:solidFill>
                <a:uFillTx/>
                <a:latin typeface="Comic Sans MS"/>
                <a:hlinkClick r:id="rId9" action="ppaction://hlinksldjump"/>
              </a:rPr>
              <a:t>SINGLE</a:t>
            </a:r>
            <a:r>
              <a:rPr b="0" lang="ru-RU" sz="3000" spc="-1" strike="noStrike" u="sng">
                <a:solidFill>
                  <a:srgbClr val="ffff66"/>
                </a:solidFill>
                <a:uFillTx/>
                <a:latin typeface="Comic Sans MS"/>
                <a:hlinkClick r:id="rId10" action="ppaction://hlinksldjump"/>
              </a:rPr>
              <a:t>)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3600" spc="-1" strike="noStrike" u="sng">
                <a:solidFill>
                  <a:srgbClr val="ffff66"/>
                </a:solidFill>
                <a:uFillTx/>
                <a:latin typeface="Comic Sans MS"/>
                <a:hlinkClick r:id="rId11" action="ppaction://hlinksldjump"/>
              </a:rPr>
              <a:t>Переменные двойной точности (</a:t>
            </a:r>
            <a:r>
              <a:rPr b="0" lang="en-US" sz="3600" spc="-1" strike="noStrike" u="sng">
                <a:solidFill>
                  <a:srgbClr val="ffff66"/>
                </a:solidFill>
                <a:uFillTx/>
                <a:latin typeface="Comic Sans MS"/>
                <a:hlinkClick r:id="rId12" action="ppaction://hlinksldjump"/>
              </a:rPr>
              <a:t>DOUBLE</a:t>
            </a:r>
            <a:r>
              <a:rPr b="0" lang="ru-RU" sz="3600" spc="-1" strike="noStrike" u="sng">
                <a:solidFill>
                  <a:srgbClr val="ffff66"/>
                </a:solidFill>
                <a:uFillTx/>
                <a:latin typeface="Comic Sans MS"/>
                <a:hlinkClick r:id="rId13" action="ppaction://hlinksldjump"/>
              </a:rPr>
              <a:t>)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219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95280" y="1719360"/>
            <a:ext cx="842472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ЦЕЛЫЕ (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TEGER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) -занимают в памяти 2 байта. Диапазон от-32768 до 327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Присвоить переменной целый тип можно следующем образом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А) поставить в начале программы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EFINT A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Б)  с помощью суффикса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В) использовать оператор описания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IM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 AS INTE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39492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Comic Sans MS"/>
              </a:rPr>
              <a:t>ЦЕЛЫЕ (</a:t>
            </a: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INTEGER</a:t>
            </a:r>
            <a:r>
              <a:rPr b="1" lang="ru-RU" sz="37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224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24000" y="1719360"/>
            <a:ext cx="83628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занимают в памяти 4 байта. Диапазон  - 2147483648 до 214748364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Присвоить переменной  тип длинные целые можно следующем образом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А) поставить в начале программы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EFLNG A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Б)  с помощью суффикса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&amp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В) использовать оператор описания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IM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 AS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ONG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456840" y="549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Comic Sans MS"/>
              </a:rPr>
              <a:t>ДЛИННЫЕ ЦЕЛЫЕ (</a:t>
            </a: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LONG</a:t>
            </a:r>
            <a:r>
              <a:rPr b="1" lang="ru-RU" sz="37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229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763272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Переменные обычной точности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44704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mic Sans MS"/>
              </a:rPr>
              <a:t>Переменные ОБЫЧНОЙ ТОЧНОСТИ  (</a:t>
            </a: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SINGLE</a:t>
            </a:r>
            <a:r>
              <a:rPr b="1" lang="ru-RU" sz="2600" spc="-1" strike="noStrike">
                <a:solidFill>
                  <a:srgbClr val="ffffff"/>
                </a:solidFill>
                <a:latin typeface="Comic Sans MS"/>
              </a:rPr>
              <a:t>) -занимают в памяти 4 байта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mic Sans MS"/>
              </a:rPr>
              <a:t>Диапазон от -3.402823</a:t>
            </a: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E</a:t>
            </a:r>
            <a:r>
              <a:rPr b="1" lang="ru-RU" sz="2600" spc="-1" strike="noStrike">
                <a:solidFill>
                  <a:srgbClr val="ffffff"/>
                </a:solidFill>
                <a:latin typeface="Comic Sans MS"/>
              </a:rPr>
              <a:t>+38 до –2.802597Е-45 и 2.8002597Е-45 до +3.402823</a:t>
            </a: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E</a:t>
            </a:r>
            <a:r>
              <a:rPr b="1" lang="ru-RU" sz="2600" spc="-1" strike="noStrike">
                <a:solidFill>
                  <a:srgbClr val="ffffff"/>
                </a:solidFill>
                <a:latin typeface="Comic Sans MS"/>
              </a:rPr>
              <a:t>+38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mic Sans MS"/>
              </a:rPr>
              <a:t>Присвоить переменной тип обычной точности можно следующем образом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mic Sans MS"/>
              </a:rPr>
              <a:t>А) поставить в начале программы  </a:t>
            </a: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DEFSGN A</a:t>
            </a:r>
            <a:r>
              <a:rPr b="1" lang="ru-RU" sz="26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mic Sans MS"/>
              </a:rPr>
              <a:t>Б)  с помощью суффикса  </a:t>
            </a: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1" lang="ru-RU" sz="2600" spc="-1" strike="noStrike">
                <a:solidFill>
                  <a:srgbClr val="ffffff"/>
                </a:solidFill>
                <a:latin typeface="Comic Sans MS"/>
              </a:rPr>
              <a:t>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mic Sans MS"/>
              </a:rPr>
              <a:t>В) использовать оператор описания </a:t>
            </a: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DIM</a:t>
            </a:r>
            <a:r>
              <a:rPr b="1" lang="ru-RU" sz="2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A AS</a:t>
            </a:r>
            <a:r>
              <a:rPr b="1" lang="ru-RU" sz="2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SING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7740720" y="6597720"/>
            <a:ext cx="1403280" cy="260280"/>
            <a:chOff x="7740720" y="6597720"/>
            <a:chExt cx="1403280" cy="260280"/>
          </a:xfrm>
        </p:grpSpPr>
        <p:sp>
          <p:nvSpPr>
            <p:cNvPr id="234" name="">
              <a:hlinkClick r:id="" action="ppaction://hlinkshowjump?jump=previousslide"/>
            </p:cNvPr>
            <p:cNvSpPr/>
            <p:nvPr/>
          </p:nvSpPr>
          <p:spPr>
            <a:xfrm>
              <a:off x="7740720" y="6597720"/>
              <a:ext cx="749160" cy="260280"/>
            </a:xfrm>
            <a:custGeom>
              <a:avLst/>
              <a:gdLst>
                <a:gd name="textAreaLeft" fmla="*/ 16560 w 749160"/>
                <a:gd name="textAreaRight" fmla="*/ 732600 w 7491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62115" h="21600">
                  <a:moveTo>
                    <a:pt x="0" y="0"/>
                  </a:moveTo>
                  <a:lnTo>
                    <a:pt x="62115" y="0"/>
                  </a:lnTo>
                  <a:lnTo>
                    <a:pt x="62115" y="21600"/>
                  </a:lnTo>
                  <a:lnTo>
                    <a:pt x="0" y="21600"/>
                  </a:lnTo>
                  <a:close/>
                </a:path>
                <a:path fill="lightenLess" w="62115" h="21600">
                  <a:moveTo>
                    <a:pt x="0" y="0"/>
                  </a:moveTo>
                  <a:lnTo>
                    <a:pt x="62115" y="0"/>
                  </a:lnTo>
                  <a:lnTo>
                    <a:pt x="60715" y="1400"/>
                  </a:lnTo>
                  <a:lnTo>
                    <a:pt x="1400" y="1400"/>
                  </a:lnTo>
                  <a:close/>
                </a:path>
                <a:path fill="darken" w="62115" h="21600">
                  <a:moveTo>
                    <a:pt x="62115" y="0"/>
                  </a:moveTo>
                  <a:lnTo>
                    <a:pt x="62115" y="21600"/>
                  </a:lnTo>
                  <a:lnTo>
                    <a:pt x="60715" y="20200"/>
                  </a:lnTo>
                  <a:lnTo>
                    <a:pt x="60715" y="1400"/>
                  </a:lnTo>
                  <a:close/>
                </a:path>
                <a:path fill="darkenLess" w="62115" h="21600">
                  <a:moveTo>
                    <a:pt x="6211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0715" y="20200"/>
                  </a:lnTo>
                  <a:close/>
                </a:path>
                <a:path fill="lighten" w="6211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62115" h="21600">
                  <a:moveTo>
                    <a:pt x="24051" y="10800"/>
                  </a:moveTo>
                  <a:lnTo>
                    <a:pt x="38064" y="3794"/>
                  </a:lnTo>
                  <a:lnTo>
                    <a:pt x="38064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>
              <a:hlinkClick r:id="" action="ppaction://hlinkshowjump?jump=nextslide"/>
            </p:cNvPr>
            <p:cNvSpPr/>
            <p:nvPr/>
          </p:nvSpPr>
          <p:spPr>
            <a:xfrm>
              <a:off x="8535960" y="6597720"/>
              <a:ext cx="608040" cy="260280"/>
            </a:xfrm>
            <a:custGeom>
              <a:avLst/>
              <a:gdLst>
                <a:gd name="textAreaLeft" fmla="*/ 16560 w 608040"/>
                <a:gd name="textAreaRight" fmla="*/ 591480 w 60804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50420" h="21600">
                  <a:moveTo>
                    <a:pt x="0" y="0"/>
                  </a:moveTo>
                  <a:lnTo>
                    <a:pt x="50420" y="0"/>
                  </a:lnTo>
                  <a:lnTo>
                    <a:pt x="50420" y="21600"/>
                  </a:lnTo>
                  <a:lnTo>
                    <a:pt x="0" y="21600"/>
                  </a:lnTo>
                  <a:close/>
                </a:path>
                <a:path fill="lightenLess" w="50420" h="21600">
                  <a:moveTo>
                    <a:pt x="0" y="0"/>
                  </a:moveTo>
                  <a:lnTo>
                    <a:pt x="50420" y="0"/>
                  </a:lnTo>
                  <a:lnTo>
                    <a:pt x="49020" y="1400"/>
                  </a:lnTo>
                  <a:lnTo>
                    <a:pt x="1400" y="1400"/>
                  </a:lnTo>
                  <a:close/>
                </a:path>
                <a:path fill="darken" w="50420" h="21600">
                  <a:moveTo>
                    <a:pt x="50420" y="0"/>
                  </a:moveTo>
                  <a:lnTo>
                    <a:pt x="50420" y="21600"/>
                  </a:lnTo>
                  <a:lnTo>
                    <a:pt x="49020" y="20200"/>
                  </a:lnTo>
                  <a:lnTo>
                    <a:pt x="49020" y="1400"/>
                  </a:lnTo>
                  <a:close/>
                </a:path>
                <a:path fill="darkenLess" w="50420" h="21600">
                  <a:moveTo>
                    <a:pt x="5042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9020" y="20200"/>
                  </a:lnTo>
                  <a:close/>
                </a:path>
                <a:path fill="lighten" w="5042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0420" h="21600">
                  <a:moveTo>
                    <a:pt x="18203" y="3794"/>
                  </a:moveTo>
                  <a:lnTo>
                    <a:pt x="32216" y="10800"/>
                  </a:lnTo>
                  <a:lnTo>
                    <a:pt x="18203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250560" y="155700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omic Sans MS"/>
              </a:rPr>
              <a:t>занимают в памяти 8 байта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500" spc="-1" strike="noStrike">
                <a:solidFill>
                  <a:srgbClr val="ffffff"/>
                </a:solidFill>
                <a:latin typeface="Comic Sans MS"/>
              </a:rPr>
              <a:t>Диапазон от – 1.797693134862331</a:t>
            </a:r>
            <a:r>
              <a:rPr b="1" lang="en-US" sz="25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1" lang="ru-RU" sz="2500" spc="-1" strike="noStrike">
                <a:solidFill>
                  <a:srgbClr val="ffffff"/>
                </a:solidFill>
                <a:latin typeface="Comic Sans MS"/>
              </a:rPr>
              <a:t>+308   до –4.940656458412465</a:t>
            </a:r>
            <a:r>
              <a:rPr b="1" lang="en-US" sz="25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1" lang="ru-RU" sz="2500" spc="-1" strike="noStrike">
                <a:solidFill>
                  <a:srgbClr val="ffffff"/>
                </a:solidFill>
                <a:latin typeface="Comic Sans MS"/>
              </a:rPr>
              <a:t> -324  и  4.940656458412465</a:t>
            </a:r>
            <a:r>
              <a:rPr b="1" lang="en-US" sz="25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1" lang="ru-RU" sz="2500" spc="-1" strike="noStrike">
                <a:solidFill>
                  <a:srgbClr val="ffffff"/>
                </a:solidFill>
                <a:latin typeface="Comic Sans MS"/>
              </a:rPr>
              <a:t> -324  до  1.79769313486231</a:t>
            </a:r>
            <a:r>
              <a:rPr b="1" lang="en-US" sz="25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1" lang="ru-RU" sz="2500" spc="-1" strike="noStrike">
                <a:solidFill>
                  <a:srgbClr val="ffffff"/>
                </a:solidFill>
                <a:latin typeface="Comic Sans MS"/>
              </a:rPr>
              <a:t> +308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omic Sans MS"/>
              </a:rPr>
              <a:t>Присвоить переменной  тип двойной точности  можно следующем образом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omic Sans MS"/>
              </a:rPr>
              <a:t>А) поставить в начале программы  </a:t>
            </a:r>
            <a:r>
              <a:rPr b="1" lang="en-US" sz="2500" spc="-1" strike="noStrike">
                <a:solidFill>
                  <a:srgbClr val="ffffff"/>
                </a:solidFill>
                <a:latin typeface="Comic Sans MS"/>
              </a:rPr>
              <a:t>DEFDBL A</a:t>
            </a:r>
            <a:r>
              <a:rPr b="1" lang="ru-RU" sz="2500" spc="-1" strike="noStrike">
                <a:solidFill>
                  <a:srgbClr val="ffffff"/>
                </a:solidFill>
                <a:latin typeface="Comic Sans MS"/>
              </a:rPr>
              <a:t>-С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omic Sans MS"/>
              </a:rPr>
              <a:t>Б)  с помощью суффикса  </a:t>
            </a:r>
            <a:r>
              <a:rPr b="1" lang="en-US" sz="25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1" lang="ru-RU" sz="2500" spc="-1" strike="noStrike">
                <a:solidFill>
                  <a:srgbClr val="ffffff"/>
                </a:solidFill>
                <a:latin typeface="Comic Sans MS"/>
              </a:rPr>
              <a:t>#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omic Sans MS"/>
              </a:rPr>
              <a:t>В) использовать оператор описания </a:t>
            </a:r>
            <a:r>
              <a:rPr b="1" lang="en-US" sz="2500" spc="-1" strike="noStrike">
                <a:solidFill>
                  <a:srgbClr val="ffffff"/>
                </a:solidFill>
                <a:latin typeface="Comic Sans MS"/>
              </a:rPr>
              <a:t>DIM</a:t>
            </a:r>
            <a:r>
              <a:rPr b="1" lang="ru-RU" sz="25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Comic Sans MS"/>
              </a:rPr>
              <a:t>A AS</a:t>
            </a:r>
            <a:r>
              <a:rPr b="1" lang="ru-RU" sz="25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Comic Sans MS"/>
              </a:rPr>
              <a:t>DOUBLE</a:t>
            </a:r>
            <a:r>
              <a:rPr b="1" lang="ru-RU" sz="25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Comic Sans MS"/>
              </a:rPr>
              <a:t>Переменные двойной точности (</a:t>
            </a: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DOUBLE</a:t>
            </a:r>
            <a:r>
              <a:rPr b="1" lang="ru-RU" sz="3700" spc="-1" strike="noStrike">
                <a:solidFill>
                  <a:srgbClr val="ffffff"/>
                </a:solidFill>
                <a:latin typeface="Comic Sans MS"/>
              </a:rPr>
              <a:t>) 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239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4920" y="1125000"/>
            <a:ext cx="799164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Цель урока: Дать основные понятия о языках программиро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План урока: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. Основные сведения о языках программирования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2.  Основные средства языков.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Алфавит языков. Служебные слова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3.  Структура программ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4.  Домашнее зад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7524720" y="6453360"/>
            <a:ext cx="966960" cy="215640"/>
            <a:chOff x="7524720" y="6453360"/>
            <a:chExt cx="966960" cy="215640"/>
          </a:xfrm>
        </p:grpSpPr>
        <p:sp>
          <p:nvSpPr>
            <p:cNvPr id="155" name="">
              <a:hlinkClick r:id="" action="ppaction://hlinkshowjump?jump=previousslide"/>
            </p:cNvPr>
            <p:cNvSpPr/>
            <p:nvPr/>
          </p:nvSpPr>
          <p:spPr>
            <a:xfrm>
              <a:off x="7524720" y="6453360"/>
              <a:ext cx="434880" cy="215640"/>
            </a:xfrm>
            <a:custGeom>
              <a:avLst/>
              <a:gdLst>
                <a:gd name="textAreaLeft" fmla="*/ 13680 w 434880"/>
                <a:gd name="textAreaRight" fmla="*/ 421200 w 43488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24" h="21600">
                  <a:moveTo>
                    <a:pt x="0" y="0"/>
                  </a:moveTo>
                  <a:lnTo>
                    <a:pt x="43524" y="0"/>
                  </a:lnTo>
                  <a:lnTo>
                    <a:pt x="43524" y="21600"/>
                  </a:lnTo>
                  <a:lnTo>
                    <a:pt x="0" y="21600"/>
                  </a:lnTo>
                  <a:close/>
                </a:path>
                <a:path fill="lightenLess" w="43524" h="21600">
                  <a:moveTo>
                    <a:pt x="0" y="0"/>
                  </a:moveTo>
                  <a:lnTo>
                    <a:pt x="43524" y="0"/>
                  </a:lnTo>
                  <a:lnTo>
                    <a:pt x="42124" y="1400"/>
                  </a:lnTo>
                  <a:lnTo>
                    <a:pt x="1400" y="1400"/>
                  </a:lnTo>
                  <a:close/>
                </a:path>
                <a:path fill="darken" w="43524" h="21600">
                  <a:moveTo>
                    <a:pt x="43524" y="0"/>
                  </a:moveTo>
                  <a:lnTo>
                    <a:pt x="43524" y="21600"/>
                  </a:lnTo>
                  <a:lnTo>
                    <a:pt x="42124" y="20200"/>
                  </a:lnTo>
                  <a:lnTo>
                    <a:pt x="42124" y="1400"/>
                  </a:lnTo>
                  <a:close/>
                </a:path>
                <a:path fill="darkenLess" w="43524" h="21600">
                  <a:moveTo>
                    <a:pt x="435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24" y="20200"/>
                  </a:lnTo>
                  <a:close/>
                </a:path>
                <a:path fill="lighten" w="435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24" h="21600">
                  <a:moveTo>
                    <a:pt x="14756" y="10800"/>
                  </a:moveTo>
                  <a:lnTo>
                    <a:pt x="28768" y="3794"/>
                  </a:lnTo>
                  <a:lnTo>
                    <a:pt x="2876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>
              <a:hlinkClick r:id="" action="ppaction://hlinkshowjump?jump=nextslide"/>
            </p:cNvPr>
            <p:cNvSpPr/>
            <p:nvPr/>
          </p:nvSpPr>
          <p:spPr>
            <a:xfrm>
              <a:off x="805644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3794"/>
                  </a:moveTo>
                  <a:lnTo>
                    <a:pt x="28786" y="10800"/>
                  </a:lnTo>
                  <a:lnTo>
                    <a:pt x="14774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ПЕРЕМЕННЫЕ СИМВОЛЬНОГО ТИПА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66"/>
                </a:solidFill>
                <a:uFillTx/>
                <a:latin typeface="Comic Sans MS"/>
                <a:hlinkClick r:id="rId1" action="ppaction://hlinksldjump"/>
              </a:rPr>
              <a:t>Строка переменной длины  (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Comic Sans MS"/>
                <a:hlinkClick r:id="rId2" action="ppaction://hlinksldjump"/>
              </a:rPr>
              <a:t>STRING</a:t>
            </a:r>
            <a:r>
              <a:rPr b="0" lang="ru-RU" sz="2800" spc="-1" strike="noStrike" u="sng">
                <a:solidFill>
                  <a:srgbClr val="ffff66"/>
                </a:solidFill>
                <a:uFillTx/>
                <a:latin typeface="Comic Sans MS"/>
                <a:hlinkClick r:id="rId3" action="ppaction://hlinksldjump"/>
              </a:rPr>
              <a:t>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66"/>
                </a:solidFill>
                <a:uFillTx/>
                <a:latin typeface="Comic Sans MS"/>
                <a:hlinkClick r:id="rId4" action="ppaction://hlinksldjump"/>
              </a:rPr>
              <a:t>Строка фиксированной длины (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Comic Sans MS"/>
                <a:hlinkClick r:id="rId5" action="ppaction://hlinksldjump"/>
              </a:rPr>
              <a:t>STRING</a:t>
            </a:r>
            <a:r>
              <a:rPr b="0" lang="ru-RU" sz="2800" spc="-1" strike="noStrike" u="sng">
                <a:solidFill>
                  <a:srgbClr val="ffff66"/>
                </a:solidFill>
                <a:uFillTx/>
                <a:latin typeface="Comic Sans MS"/>
                <a:hlinkClick r:id="rId6" action="ppaction://hlinksldjump"/>
              </a:rPr>
              <a:t>*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Comic Sans MS"/>
                <a:hlinkClick r:id="rId7" action="ppaction://hlinksldjump"/>
              </a:rPr>
              <a:t>N</a:t>
            </a:r>
            <a:r>
              <a:rPr b="0" lang="ru-RU" sz="2800" spc="-1" strike="noStrike" u="sng">
                <a:solidFill>
                  <a:srgbClr val="ffff66"/>
                </a:solidFill>
                <a:uFillTx/>
                <a:latin typeface="Comic Sans MS"/>
                <a:hlinkClick r:id="rId8" action="ppaction://hlinksldjump"/>
              </a:rPr>
              <a:t>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66"/>
                </a:solidFill>
                <a:uFillTx/>
                <a:latin typeface="Comic Sans MS"/>
                <a:hlinkClick r:id="rId9" action="ppaction://hlinksldjump"/>
              </a:rPr>
              <a:t>Переменные пользовательского тип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244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34544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Comic Sans MS"/>
              </a:rPr>
              <a:t>СТРОКА ПЕРЕМЕННОЙ ДЛИНЫ  (</a:t>
            </a:r>
            <a:r>
              <a:rPr b="1" lang="en-US" sz="3300" spc="-1" strike="noStrike">
                <a:solidFill>
                  <a:srgbClr val="ffffff"/>
                </a:solidFill>
                <a:latin typeface="Comic Sans MS"/>
              </a:rPr>
              <a:t>STRING</a:t>
            </a:r>
            <a:r>
              <a:rPr b="1" lang="ru-RU" sz="33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3739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СТРОКА ПЕРЕМЕННОЙ ДЛИНЫ  (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TRING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) – это последовательность длиной до 32567 символов  таблицы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SCII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.  В памяти занимает столько байт, какова ее длина +4 байта на описате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рисвоить переменной символьный  тип можно следующем образо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А) поставить в начале программы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EFSTRING A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-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Б)  с помощью суффикса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В) использовать оператор описания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IM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AS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TRING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7740720" y="6669000"/>
            <a:ext cx="1403280" cy="189000"/>
            <a:chOff x="7740720" y="6669000"/>
            <a:chExt cx="1403280" cy="189000"/>
          </a:xfrm>
        </p:grpSpPr>
        <p:sp>
          <p:nvSpPr>
            <p:cNvPr id="249" name="">
              <a:hlinkClick r:id="" action="ppaction://hlinkshowjump?jump=previousslide"/>
            </p:cNvPr>
            <p:cNvSpPr/>
            <p:nvPr/>
          </p:nvSpPr>
          <p:spPr>
            <a:xfrm>
              <a:off x="7740720" y="6669000"/>
              <a:ext cx="748800" cy="189000"/>
            </a:xfrm>
            <a:custGeom>
              <a:avLst/>
              <a:gdLst>
                <a:gd name="textAreaLeft" fmla="*/ 12240 w 748800"/>
                <a:gd name="textAreaRight" fmla="*/ 736560 w 748800"/>
                <a:gd name="textAreaTop" fmla="*/ 12240 h 189000"/>
                <a:gd name="textAreaBottom" fmla="*/ 176760 h 189000"/>
              </a:gdLst>
              <a:ahLst/>
              <a:rect l="textAreaLeft" t="textAreaTop" r="textAreaRight" b="textAreaBottom"/>
              <a:pathLst>
                <a:path w="85456" h="21600">
                  <a:moveTo>
                    <a:pt x="0" y="0"/>
                  </a:moveTo>
                  <a:lnTo>
                    <a:pt x="85456" y="0"/>
                  </a:lnTo>
                  <a:lnTo>
                    <a:pt x="85456" y="21600"/>
                  </a:lnTo>
                  <a:lnTo>
                    <a:pt x="0" y="21600"/>
                  </a:lnTo>
                  <a:close/>
                </a:path>
                <a:path fill="lightenLess" w="85456" h="21600">
                  <a:moveTo>
                    <a:pt x="0" y="0"/>
                  </a:moveTo>
                  <a:lnTo>
                    <a:pt x="85456" y="0"/>
                  </a:lnTo>
                  <a:lnTo>
                    <a:pt x="84056" y="1400"/>
                  </a:lnTo>
                  <a:lnTo>
                    <a:pt x="1400" y="1400"/>
                  </a:lnTo>
                  <a:close/>
                </a:path>
                <a:path fill="darken" w="85456" h="21600">
                  <a:moveTo>
                    <a:pt x="85456" y="0"/>
                  </a:moveTo>
                  <a:lnTo>
                    <a:pt x="85456" y="21600"/>
                  </a:lnTo>
                  <a:lnTo>
                    <a:pt x="84056" y="20200"/>
                  </a:lnTo>
                  <a:lnTo>
                    <a:pt x="84056" y="1400"/>
                  </a:lnTo>
                  <a:close/>
                </a:path>
                <a:path fill="darkenLess" w="85456" h="21600">
                  <a:moveTo>
                    <a:pt x="8545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84056" y="20200"/>
                  </a:lnTo>
                  <a:close/>
                </a:path>
                <a:path fill="lighten" w="8545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85456" h="21600">
                  <a:moveTo>
                    <a:pt x="35721" y="10800"/>
                  </a:moveTo>
                  <a:lnTo>
                    <a:pt x="49734" y="3794"/>
                  </a:lnTo>
                  <a:lnTo>
                    <a:pt x="49734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>
              <a:hlinkClick r:id="" action="ppaction://hlinkshowjump?jump=nextslide"/>
            </p:cNvPr>
            <p:cNvSpPr/>
            <p:nvPr/>
          </p:nvSpPr>
          <p:spPr>
            <a:xfrm>
              <a:off x="8536320" y="6669000"/>
              <a:ext cx="607680" cy="189000"/>
            </a:xfrm>
            <a:custGeom>
              <a:avLst/>
              <a:gdLst>
                <a:gd name="textAreaLeft" fmla="*/ 12240 w 607680"/>
                <a:gd name="textAreaRight" fmla="*/ 595440 w 607680"/>
                <a:gd name="textAreaTop" fmla="*/ 12240 h 189000"/>
                <a:gd name="textAreaBottom" fmla="*/ 176760 h 189000"/>
              </a:gdLst>
              <a:ahLst/>
              <a:rect l="textAreaLeft" t="textAreaTop" r="textAreaRight" b="textAreaBottom"/>
              <a:pathLst>
                <a:path w="69358" h="21600">
                  <a:moveTo>
                    <a:pt x="0" y="0"/>
                  </a:moveTo>
                  <a:lnTo>
                    <a:pt x="69358" y="0"/>
                  </a:lnTo>
                  <a:lnTo>
                    <a:pt x="69358" y="21600"/>
                  </a:lnTo>
                  <a:lnTo>
                    <a:pt x="0" y="21600"/>
                  </a:lnTo>
                  <a:close/>
                </a:path>
                <a:path fill="lightenLess" w="69358" h="21600">
                  <a:moveTo>
                    <a:pt x="0" y="0"/>
                  </a:moveTo>
                  <a:lnTo>
                    <a:pt x="69358" y="0"/>
                  </a:lnTo>
                  <a:lnTo>
                    <a:pt x="67958" y="1400"/>
                  </a:lnTo>
                  <a:lnTo>
                    <a:pt x="1400" y="1400"/>
                  </a:lnTo>
                  <a:close/>
                </a:path>
                <a:path fill="darken" w="69358" h="21600">
                  <a:moveTo>
                    <a:pt x="69358" y="0"/>
                  </a:moveTo>
                  <a:lnTo>
                    <a:pt x="69358" y="21600"/>
                  </a:lnTo>
                  <a:lnTo>
                    <a:pt x="67958" y="20200"/>
                  </a:lnTo>
                  <a:lnTo>
                    <a:pt x="67958" y="1400"/>
                  </a:lnTo>
                  <a:close/>
                </a:path>
                <a:path fill="darkenLess" w="69358" h="21600">
                  <a:moveTo>
                    <a:pt x="6935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7958" y="20200"/>
                  </a:lnTo>
                  <a:close/>
                </a:path>
                <a:path fill="lighten" w="6935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69358" h="21600">
                  <a:moveTo>
                    <a:pt x="27673" y="3794"/>
                  </a:moveTo>
                  <a:lnTo>
                    <a:pt x="41686" y="10800"/>
                  </a:lnTo>
                  <a:lnTo>
                    <a:pt x="27673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826920" y="1916280"/>
            <a:ext cx="784872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СТРОКА ФИКСИРОВАННОЙ ДЛИНЫ (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TRING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) – символьная строка длинною N байт. В памяти такая строка занимает N бай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рисвоить переменной символьный  тип можно следующем образо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) использовать оператор описания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IM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AS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TRING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Comic Sans MS"/>
              </a:rPr>
              <a:t>СТРОКА ФИКСИРОВАННОЙ ДЛИНЫ (</a:t>
            </a: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STRING</a:t>
            </a:r>
            <a:r>
              <a:rPr b="1" lang="ru-RU" sz="37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1" lang="ru-RU" sz="37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254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ПЕРЕМЕННЫЕ ПОЛЬЗОВАТЕЛЬСКОГО ТИПА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Если данные, которые вы используете в программе, необходимо сгруппировать по какому-либо признаку, то для этого очень удобно использовать пользовательский тип данных (записи). Он составляется из простых типов данных (числовых и символьных), описанных выш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259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7632720" cy="56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Например, нам необходимо ввести табельный номер работника, его фамилию и тарифную ставк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Определяем пользовательский тип данных оператором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YPE</a:t>
            </a: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YPE  RECO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abnom AS INTE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am AS STRING*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taw AS DAU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END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Присваиваем переменной 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RABOT</a:t>
            </a: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  пользовательский тип данн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DIM RABOT AS RECO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Пользовательский тип данных занимает в памяти столько байт, сколько занимают в сумме каждый из составляющих его элементов. (У нас длина равна  2+15+8=25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В пользовательском типе данных используются  только строки  фиксированной   дли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7667640" y="6643800"/>
            <a:ext cx="1223640" cy="214200"/>
            <a:chOff x="7667640" y="6643800"/>
            <a:chExt cx="1223640" cy="214200"/>
          </a:xfrm>
        </p:grpSpPr>
        <p:sp>
          <p:nvSpPr>
            <p:cNvPr id="263" name="">
              <a:hlinkClick r:id="" action="ppaction://hlinkshowjump?jump=previousslide"/>
            </p:cNvPr>
            <p:cNvSpPr/>
            <p:nvPr/>
          </p:nvSpPr>
          <p:spPr>
            <a:xfrm>
              <a:off x="7667640" y="6643800"/>
              <a:ext cx="653400" cy="214200"/>
            </a:xfrm>
            <a:custGeom>
              <a:avLst/>
              <a:gdLst>
                <a:gd name="textAreaLeft" fmla="*/ 13680 w 653400"/>
                <a:gd name="textAreaRight" fmla="*/ 639720 w 653400"/>
                <a:gd name="textAreaTop" fmla="*/ 13680 h 214200"/>
                <a:gd name="textAreaBottom" fmla="*/ 200520 h 214200"/>
              </a:gdLst>
              <a:ahLst/>
              <a:rect l="textAreaLeft" t="textAreaTop" r="textAreaRight" b="textAreaBottom"/>
              <a:pathLst>
                <a:path w="65815" h="21600">
                  <a:moveTo>
                    <a:pt x="0" y="0"/>
                  </a:moveTo>
                  <a:lnTo>
                    <a:pt x="65815" y="0"/>
                  </a:lnTo>
                  <a:lnTo>
                    <a:pt x="65815" y="21600"/>
                  </a:lnTo>
                  <a:lnTo>
                    <a:pt x="0" y="21600"/>
                  </a:lnTo>
                  <a:close/>
                </a:path>
                <a:path fill="lightenLess" w="65815" h="21600">
                  <a:moveTo>
                    <a:pt x="0" y="0"/>
                  </a:moveTo>
                  <a:lnTo>
                    <a:pt x="65815" y="0"/>
                  </a:lnTo>
                  <a:lnTo>
                    <a:pt x="64415" y="1400"/>
                  </a:lnTo>
                  <a:lnTo>
                    <a:pt x="1400" y="1400"/>
                  </a:lnTo>
                  <a:close/>
                </a:path>
                <a:path fill="darken" w="65815" h="21600">
                  <a:moveTo>
                    <a:pt x="65815" y="0"/>
                  </a:moveTo>
                  <a:lnTo>
                    <a:pt x="65815" y="21600"/>
                  </a:lnTo>
                  <a:lnTo>
                    <a:pt x="64415" y="20200"/>
                  </a:lnTo>
                  <a:lnTo>
                    <a:pt x="64415" y="1400"/>
                  </a:lnTo>
                  <a:close/>
                </a:path>
                <a:path fill="darkenLess" w="65815" h="21600">
                  <a:moveTo>
                    <a:pt x="6581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4415" y="20200"/>
                  </a:lnTo>
                  <a:close/>
                </a:path>
                <a:path fill="lighten" w="6581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65815" h="21600">
                  <a:moveTo>
                    <a:pt x="25901" y="10800"/>
                  </a:moveTo>
                  <a:lnTo>
                    <a:pt x="39914" y="3794"/>
                  </a:lnTo>
                  <a:lnTo>
                    <a:pt x="39914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>
              <a:hlinkClick r:id="" action="ppaction://hlinkshowjump?jump=nextslide"/>
            </p:cNvPr>
            <p:cNvSpPr/>
            <p:nvPr/>
          </p:nvSpPr>
          <p:spPr>
            <a:xfrm>
              <a:off x="8361360" y="6643800"/>
              <a:ext cx="529920" cy="214200"/>
            </a:xfrm>
            <a:custGeom>
              <a:avLst/>
              <a:gdLst>
                <a:gd name="textAreaLeft" fmla="*/ 13680 w 529920"/>
                <a:gd name="textAreaRight" fmla="*/ 516240 w 529920"/>
                <a:gd name="textAreaTop" fmla="*/ 13680 h 214200"/>
                <a:gd name="textAreaBottom" fmla="*/ 200520 h 214200"/>
              </a:gdLst>
              <a:ahLst/>
              <a:rect l="textAreaLeft" t="textAreaTop" r="textAreaRight" b="textAreaBottom"/>
              <a:pathLst>
                <a:path w="53384" h="21600">
                  <a:moveTo>
                    <a:pt x="0" y="0"/>
                  </a:moveTo>
                  <a:lnTo>
                    <a:pt x="53384" y="0"/>
                  </a:lnTo>
                  <a:lnTo>
                    <a:pt x="53384" y="21600"/>
                  </a:lnTo>
                  <a:lnTo>
                    <a:pt x="0" y="21600"/>
                  </a:lnTo>
                  <a:close/>
                </a:path>
                <a:path fill="lightenLess" w="53384" h="21600">
                  <a:moveTo>
                    <a:pt x="0" y="0"/>
                  </a:moveTo>
                  <a:lnTo>
                    <a:pt x="53384" y="0"/>
                  </a:lnTo>
                  <a:lnTo>
                    <a:pt x="51984" y="1400"/>
                  </a:lnTo>
                  <a:lnTo>
                    <a:pt x="1400" y="1400"/>
                  </a:lnTo>
                  <a:close/>
                </a:path>
                <a:path fill="darken" w="53384" h="21600">
                  <a:moveTo>
                    <a:pt x="53384" y="0"/>
                  </a:moveTo>
                  <a:lnTo>
                    <a:pt x="53384" y="21600"/>
                  </a:lnTo>
                  <a:lnTo>
                    <a:pt x="51984" y="20200"/>
                  </a:lnTo>
                  <a:lnTo>
                    <a:pt x="51984" y="1400"/>
                  </a:lnTo>
                  <a:close/>
                </a:path>
                <a:path fill="darkenLess" w="53384" h="21600">
                  <a:moveTo>
                    <a:pt x="5338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1984" y="20200"/>
                  </a:lnTo>
                  <a:close/>
                </a:path>
                <a:path fill="lighten" w="5338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3384" h="21600">
                  <a:moveTo>
                    <a:pt x="19685" y="3794"/>
                  </a:moveTo>
                  <a:lnTo>
                    <a:pt x="33698" y="10800"/>
                  </a:lnTo>
                  <a:lnTo>
                    <a:pt x="19685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5"/>
            </a:gs>
            <a:gs pos="50000">
              <a:srgbClr val="000054"/>
            </a:gs>
            <a:gs pos="100000">
              <a:srgbClr val="19196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ВОДНАЯ ТАБЛИЦА ОПИСАНИЯ ТИПОВ ДАННЫХ в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QBasi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402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250920" y="1341360"/>
          <a:ext cx="8497800" cy="4897440"/>
        </p:xfrm>
        <a:graphic>
          <a:graphicData uri="http://schemas.openxmlformats.org/drawingml/2006/table">
            <a:tbl>
              <a:tblPr/>
              <a:tblGrid>
                <a:gridCol w="1008000"/>
                <a:gridCol w="2017800"/>
                <a:gridCol w="1401480"/>
                <a:gridCol w="1549440"/>
                <a:gridCol w="2521080"/>
              </a:tblGrid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уффикс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Ти</a:t>
                      </a: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en-US" sz="15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еременно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бъявление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DEF_тип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писание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S_</a:t>
                      </a:r>
                      <a:r>
                        <a:rPr b="0" lang="ru-RU" sz="15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тип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Занимаемы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бъем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л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FI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TEG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бай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amp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линные цел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FL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бай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ычной точ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FS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ING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бай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войной точ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FDB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 бай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ока переменной длин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FST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R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байт на каждый символ + 4 байта на описате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ока фиксированной  длин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RING*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 бай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ьзовательский ти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нимает столько байт, сколько занимают в сумме отдельные элемен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8" name=""/>
          <p:cNvGrpSpPr/>
          <p:nvPr/>
        </p:nvGrpSpPr>
        <p:grpSpPr>
          <a:xfrm>
            <a:off x="8064360" y="6524640"/>
            <a:ext cx="1079280" cy="214200"/>
            <a:chOff x="8064360" y="6524640"/>
            <a:chExt cx="1079280" cy="214200"/>
          </a:xfrm>
        </p:grpSpPr>
        <p:sp>
          <p:nvSpPr>
            <p:cNvPr id="269" name="">
              <a:hlinkClick r:id="" action="ppaction://hlinkshowjump?jump=previousslide"/>
            </p:cNvPr>
            <p:cNvSpPr/>
            <p:nvPr/>
          </p:nvSpPr>
          <p:spPr>
            <a:xfrm>
              <a:off x="8064360" y="6524640"/>
              <a:ext cx="576360" cy="214200"/>
            </a:xfrm>
            <a:custGeom>
              <a:avLst/>
              <a:gdLst>
                <a:gd name="textAreaLeft" fmla="*/ 13680 w 576360"/>
                <a:gd name="textAreaRight" fmla="*/ 562680 w 576360"/>
                <a:gd name="textAreaTop" fmla="*/ 13680 h 214200"/>
                <a:gd name="textAreaBottom" fmla="*/ 200520 h 214200"/>
              </a:gdLst>
              <a:ahLst/>
              <a:rect l="textAreaLeft" t="textAreaTop" r="textAreaRight" b="textAreaBottom"/>
              <a:pathLst>
                <a:path w="58059" h="21600">
                  <a:moveTo>
                    <a:pt x="0" y="0"/>
                  </a:moveTo>
                  <a:lnTo>
                    <a:pt x="58059" y="0"/>
                  </a:lnTo>
                  <a:lnTo>
                    <a:pt x="58059" y="21600"/>
                  </a:lnTo>
                  <a:lnTo>
                    <a:pt x="0" y="21600"/>
                  </a:lnTo>
                  <a:close/>
                </a:path>
                <a:path fill="lightenLess" w="58059" h="21600">
                  <a:moveTo>
                    <a:pt x="0" y="0"/>
                  </a:moveTo>
                  <a:lnTo>
                    <a:pt x="58059" y="0"/>
                  </a:lnTo>
                  <a:lnTo>
                    <a:pt x="56659" y="1400"/>
                  </a:lnTo>
                  <a:lnTo>
                    <a:pt x="1400" y="1400"/>
                  </a:lnTo>
                  <a:close/>
                </a:path>
                <a:path fill="darken" w="58059" h="21600">
                  <a:moveTo>
                    <a:pt x="58059" y="0"/>
                  </a:moveTo>
                  <a:lnTo>
                    <a:pt x="58059" y="21600"/>
                  </a:lnTo>
                  <a:lnTo>
                    <a:pt x="56659" y="20200"/>
                  </a:lnTo>
                  <a:lnTo>
                    <a:pt x="56659" y="1400"/>
                  </a:lnTo>
                  <a:close/>
                </a:path>
                <a:path fill="darkenLess" w="58059" h="21600">
                  <a:moveTo>
                    <a:pt x="5805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6659" y="20200"/>
                  </a:lnTo>
                  <a:close/>
                </a:path>
                <a:path fill="lighten" w="5805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8059" h="21600">
                  <a:moveTo>
                    <a:pt x="22023" y="10800"/>
                  </a:moveTo>
                  <a:lnTo>
                    <a:pt x="36036" y="3794"/>
                  </a:lnTo>
                  <a:lnTo>
                    <a:pt x="3603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>
              <a:hlinkClick r:id="" action="ppaction://hlinkshowjump?jump=nextslide"/>
            </p:cNvPr>
            <p:cNvSpPr/>
            <p:nvPr/>
          </p:nvSpPr>
          <p:spPr>
            <a:xfrm>
              <a:off x="8676360" y="6524640"/>
              <a:ext cx="467280" cy="214200"/>
            </a:xfrm>
            <a:custGeom>
              <a:avLst/>
              <a:gdLst>
                <a:gd name="textAreaLeft" fmla="*/ 13680 w 467280"/>
                <a:gd name="textAreaRight" fmla="*/ 453600 w 467280"/>
                <a:gd name="textAreaTop" fmla="*/ 13680 h 214200"/>
                <a:gd name="textAreaBottom" fmla="*/ 200520 h 214200"/>
              </a:gdLst>
              <a:ahLst/>
              <a:rect l="textAreaLeft" t="textAreaTop" r="textAreaRight" b="textAreaBottom"/>
              <a:pathLst>
                <a:path w="47078" h="21600">
                  <a:moveTo>
                    <a:pt x="0" y="0"/>
                  </a:moveTo>
                  <a:lnTo>
                    <a:pt x="47078" y="0"/>
                  </a:lnTo>
                  <a:lnTo>
                    <a:pt x="47078" y="21600"/>
                  </a:lnTo>
                  <a:lnTo>
                    <a:pt x="0" y="21600"/>
                  </a:lnTo>
                  <a:close/>
                </a:path>
                <a:path fill="lightenLess" w="47078" h="21600">
                  <a:moveTo>
                    <a:pt x="0" y="0"/>
                  </a:moveTo>
                  <a:lnTo>
                    <a:pt x="47078" y="0"/>
                  </a:lnTo>
                  <a:lnTo>
                    <a:pt x="45678" y="1400"/>
                  </a:lnTo>
                  <a:lnTo>
                    <a:pt x="1400" y="1400"/>
                  </a:lnTo>
                  <a:close/>
                </a:path>
                <a:path fill="darken" w="47078" h="21600">
                  <a:moveTo>
                    <a:pt x="47078" y="0"/>
                  </a:moveTo>
                  <a:lnTo>
                    <a:pt x="47078" y="21600"/>
                  </a:lnTo>
                  <a:lnTo>
                    <a:pt x="45678" y="20200"/>
                  </a:lnTo>
                  <a:lnTo>
                    <a:pt x="45678" y="1400"/>
                  </a:lnTo>
                  <a:close/>
                </a:path>
                <a:path fill="darkenLess" w="47078" h="21600">
                  <a:moveTo>
                    <a:pt x="4707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678" y="20200"/>
                  </a:lnTo>
                  <a:close/>
                </a:path>
                <a:path fill="lighten" w="4707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7078" h="21600">
                  <a:moveTo>
                    <a:pt x="16532" y="3794"/>
                  </a:moveTo>
                  <a:lnTo>
                    <a:pt x="30545" y="10800"/>
                  </a:lnTo>
                  <a:lnTo>
                    <a:pt x="16532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79280" y="5661000"/>
            <a:ext cx="1873440" cy="1197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Числа, символы, строки,  которые не изменяют своего значения в процессе выполнения программы -  констан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Неименованные константы символьные, числовые применяются тогда, когда их значение заранее известно и не подлежит измен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Например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Рrint “Средняя заработная плата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Именованные констан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Они также бывают символьные и  числовые, тех же типов, что и неименнованные. Чтобы использовать именованную константу, ее необходимо объявить при помощи ключевого слова CONST, например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CONST M%=6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CONST T$=” число работников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В дальнейшем к константе можно обращаться по име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7740720" y="6597720"/>
            <a:ext cx="1403280" cy="260280"/>
            <a:chOff x="7740720" y="6597720"/>
            <a:chExt cx="1403280" cy="260280"/>
          </a:xfrm>
        </p:grpSpPr>
        <p:sp>
          <p:nvSpPr>
            <p:cNvPr id="274" name="">
              <a:hlinkClick r:id="" action="ppaction://hlinkshowjump?jump=previousslide"/>
            </p:cNvPr>
            <p:cNvSpPr/>
            <p:nvPr/>
          </p:nvSpPr>
          <p:spPr>
            <a:xfrm>
              <a:off x="7740720" y="6597720"/>
              <a:ext cx="748800" cy="260280"/>
            </a:xfrm>
            <a:custGeom>
              <a:avLst/>
              <a:gdLst>
                <a:gd name="textAreaLeft" fmla="*/ 16560 w 748800"/>
                <a:gd name="textAreaRight" fmla="*/ 732240 w 74880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62085" h="21600">
                  <a:moveTo>
                    <a:pt x="0" y="0"/>
                  </a:moveTo>
                  <a:lnTo>
                    <a:pt x="62085" y="0"/>
                  </a:lnTo>
                  <a:lnTo>
                    <a:pt x="62085" y="21600"/>
                  </a:lnTo>
                  <a:lnTo>
                    <a:pt x="0" y="21600"/>
                  </a:lnTo>
                  <a:close/>
                </a:path>
                <a:path fill="lightenLess" w="62085" h="21600">
                  <a:moveTo>
                    <a:pt x="0" y="0"/>
                  </a:moveTo>
                  <a:lnTo>
                    <a:pt x="62085" y="0"/>
                  </a:lnTo>
                  <a:lnTo>
                    <a:pt x="60685" y="1400"/>
                  </a:lnTo>
                  <a:lnTo>
                    <a:pt x="1400" y="1400"/>
                  </a:lnTo>
                  <a:close/>
                </a:path>
                <a:path fill="darken" w="62085" h="21600">
                  <a:moveTo>
                    <a:pt x="62085" y="0"/>
                  </a:moveTo>
                  <a:lnTo>
                    <a:pt x="62085" y="21600"/>
                  </a:lnTo>
                  <a:lnTo>
                    <a:pt x="60685" y="20200"/>
                  </a:lnTo>
                  <a:lnTo>
                    <a:pt x="60685" y="1400"/>
                  </a:lnTo>
                  <a:close/>
                </a:path>
                <a:path fill="darkenLess" w="62085" h="21600">
                  <a:moveTo>
                    <a:pt x="6208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0685" y="20200"/>
                  </a:lnTo>
                  <a:close/>
                </a:path>
                <a:path fill="lighten" w="6208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62085" h="21600">
                  <a:moveTo>
                    <a:pt x="24036" y="10800"/>
                  </a:moveTo>
                  <a:lnTo>
                    <a:pt x="38049" y="3794"/>
                  </a:lnTo>
                  <a:lnTo>
                    <a:pt x="38049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>
              <a:hlinkClick r:id="" action="ppaction://hlinkshowjump?jump=nextslide"/>
            </p:cNvPr>
            <p:cNvSpPr/>
            <p:nvPr/>
          </p:nvSpPr>
          <p:spPr>
            <a:xfrm>
              <a:off x="8536320" y="6597720"/>
              <a:ext cx="607680" cy="260280"/>
            </a:xfrm>
            <a:custGeom>
              <a:avLst/>
              <a:gdLst>
                <a:gd name="textAreaLeft" fmla="*/ 16560 w 607680"/>
                <a:gd name="textAreaRight" fmla="*/ 591120 w 60768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50390" h="21600">
                  <a:moveTo>
                    <a:pt x="0" y="0"/>
                  </a:moveTo>
                  <a:lnTo>
                    <a:pt x="50390" y="0"/>
                  </a:lnTo>
                  <a:lnTo>
                    <a:pt x="50390" y="21600"/>
                  </a:lnTo>
                  <a:lnTo>
                    <a:pt x="0" y="21600"/>
                  </a:lnTo>
                  <a:close/>
                </a:path>
                <a:path fill="lightenLess" w="50390" h="21600">
                  <a:moveTo>
                    <a:pt x="0" y="0"/>
                  </a:moveTo>
                  <a:lnTo>
                    <a:pt x="50390" y="0"/>
                  </a:lnTo>
                  <a:lnTo>
                    <a:pt x="48990" y="1400"/>
                  </a:lnTo>
                  <a:lnTo>
                    <a:pt x="1400" y="1400"/>
                  </a:lnTo>
                  <a:close/>
                </a:path>
                <a:path fill="darken" w="50390" h="21600">
                  <a:moveTo>
                    <a:pt x="50390" y="0"/>
                  </a:moveTo>
                  <a:lnTo>
                    <a:pt x="50390" y="21600"/>
                  </a:lnTo>
                  <a:lnTo>
                    <a:pt x="48990" y="20200"/>
                  </a:lnTo>
                  <a:lnTo>
                    <a:pt x="48990" y="1400"/>
                  </a:lnTo>
                  <a:close/>
                </a:path>
                <a:path fill="darkenLess" w="50390" h="21600">
                  <a:moveTo>
                    <a:pt x="5039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8990" y="20200"/>
                  </a:lnTo>
                  <a:close/>
                </a:path>
                <a:path fill="lighten" w="5039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0390" h="21600">
                  <a:moveTo>
                    <a:pt x="18189" y="3794"/>
                  </a:moveTo>
                  <a:lnTo>
                    <a:pt x="32202" y="10800"/>
                  </a:lnTo>
                  <a:lnTo>
                    <a:pt x="18189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504360" y="287280"/>
            <a:ext cx="7488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КОНСТАНТЫ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7543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Разде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описания типов в Turbo Pascal 7.0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3008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1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mic Sans MS"/>
              </a:rPr>
              <a:t>В языке Turbo Pascal 7.0  все данные, используемые программой, должны принадлежать к какому-либо заранее известному типу данны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mic Sans MS"/>
              </a:rPr>
              <a:t>Тип данных определяет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mic Sans MS"/>
              </a:rPr>
              <a:t>- формат представления данных в памяти ЭВМ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mic Sans MS"/>
              </a:rPr>
              <a:t>- множество допустимых значений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mic Sans MS"/>
              </a:rPr>
              <a:t>- множество допустимых операций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7956720" y="6669000"/>
            <a:ext cx="1187280" cy="189000"/>
            <a:chOff x="7956720" y="6669000"/>
            <a:chExt cx="1187280" cy="189000"/>
          </a:xfrm>
        </p:grpSpPr>
        <p:sp>
          <p:nvSpPr>
            <p:cNvPr id="280" name="">
              <a:hlinkClick r:id="" action="ppaction://hlinkshowjump?jump=previousslide"/>
            </p:cNvPr>
            <p:cNvSpPr/>
            <p:nvPr/>
          </p:nvSpPr>
          <p:spPr>
            <a:xfrm>
              <a:off x="7956720" y="6669000"/>
              <a:ext cx="633600" cy="189000"/>
            </a:xfrm>
            <a:custGeom>
              <a:avLst/>
              <a:gdLst>
                <a:gd name="textAreaLeft" fmla="*/ 12240 w 633600"/>
                <a:gd name="textAreaRight" fmla="*/ 621360 w 633600"/>
                <a:gd name="textAreaTop" fmla="*/ 12240 h 189000"/>
                <a:gd name="textAreaBottom" fmla="*/ 176760 h 189000"/>
              </a:gdLst>
              <a:ahLst/>
              <a:rect l="textAreaLeft" t="textAreaTop" r="textAreaRight" b="textAreaBottom"/>
              <a:pathLst>
                <a:path w="72315" h="21600">
                  <a:moveTo>
                    <a:pt x="0" y="0"/>
                  </a:moveTo>
                  <a:lnTo>
                    <a:pt x="72315" y="0"/>
                  </a:lnTo>
                  <a:lnTo>
                    <a:pt x="72315" y="21600"/>
                  </a:lnTo>
                  <a:lnTo>
                    <a:pt x="0" y="21600"/>
                  </a:lnTo>
                  <a:close/>
                </a:path>
                <a:path fill="lightenLess" w="72315" h="21600">
                  <a:moveTo>
                    <a:pt x="0" y="0"/>
                  </a:moveTo>
                  <a:lnTo>
                    <a:pt x="72315" y="0"/>
                  </a:lnTo>
                  <a:lnTo>
                    <a:pt x="70915" y="1400"/>
                  </a:lnTo>
                  <a:lnTo>
                    <a:pt x="1400" y="1400"/>
                  </a:lnTo>
                  <a:close/>
                </a:path>
                <a:path fill="darken" w="72315" h="21600">
                  <a:moveTo>
                    <a:pt x="72315" y="0"/>
                  </a:moveTo>
                  <a:lnTo>
                    <a:pt x="72315" y="21600"/>
                  </a:lnTo>
                  <a:lnTo>
                    <a:pt x="70915" y="20200"/>
                  </a:lnTo>
                  <a:lnTo>
                    <a:pt x="70915" y="1400"/>
                  </a:lnTo>
                  <a:close/>
                </a:path>
                <a:path fill="darkenLess" w="72315" h="21600">
                  <a:moveTo>
                    <a:pt x="7231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0915" y="20200"/>
                  </a:lnTo>
                  <a:close/>
                </a:path>
                <a:path fill="lighten" w="7231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2315" h="21600">
                  <a:moveTo>
                    <a:pt x="29151" y="10800"/>
                  </a:moveTo>
                  <a:lnTo>
                    <a:pt x="43164" y="3794"/>
                  </a:lnTo>
                  <a:lnTo>
                    <a:pt x="43164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>
              <a:hlinkClick r:id="" action="ppaction://hlinkshowjump?jump=nextslide"/>
            </p:cNvPr>
            <p:cNvSpPr/>
            <p:nvPr/>
          </p:nvSpPr>
          <p:spPr>
            <a:xfrm>
              <a:off x="8629920" y="6669000"/>
              <a:ext cx="514080" cy="189000"/>
            </a:xfrm>
            <a:custGeom>
              <a:avLst/>
              <a:gdLst>
                <a:gd name="textAreaLeft" fmla="*/ 12240 w 514080"/>
                <a:gd name="textAreaRight" fmla="*/ 501840 w 514080"/>
                <a:gd name="textAreaTop" fmla="*/ 12240 h 189000"/>
                <a:gd name="textAreaBottom" fmla="*/ 176760 h 189000"/>
              </a:gdLst>
              <a:ahLst/>
              <a:rect l="textAreaLeft" t="textAreaTop" r="textAreaRight" b="textAreaBottom"/>
              <a:pathLst>
                <a:path w="58681" h="21600">
                  <a:moveTo>
                    <a:pt x="0" y="0"/>
                  </a:moveTo>
                  <a:lnTo>
                    <a:pt x="58681" y="0"/>
                  </a:lnTo>
                  <a:lnTo>
                    <a:pt x="58681" y="21600"/>
                  </a:lnTo>
                  <a:lnTo>
                    <a:pt x="0" y="21600"/>
                  </a:lnTo>
                  <a:close/>
                </a:path>
                <a:path fill="lightenLess" w="58681" h="21600">
                  <a:moveTo>
                    <a:pt x="0" y="0"/>
                  </a:moveTo>
                  <a:lnTo>
                    <a:pt x="58681" y="0"/>
                  </a:lnTo>
                  <a:lnTo>
                    <a:pt x="57281" y="1400"/>
                  </a:lnTo>
                  <a:lnTo>
                    <a:pt x="1400" y="1400"/>
                  </a:lnTo>
                  <a:close/>
                </a:path>
                <a:path fill="darken" w="58681" h="21600">
                  <a:moveTo>
                    <a:pt x="58681" y="0"/>
                  </a:moveTo>
                  <a:lnTo>
                    <a:pt x="58681" y="21600"/>
                  </a:lnTo>
                  <a:lnTo>
                    <a:pt x="57281" y="20200"/>
                  </a:lnTo>
                  <a:lnTo>
                    <a:pt x="57281" y="1400"/>
                  </a:lnTo>
                  <a:close/>
                </a:path>
                <a:path fill="darkenLess" w="58681" h="21600">
                  <a:moveTo>
                    <a:pt x="5868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7281" y="20200"/>
                  </a:lnTo>
                  <a:close/>
                </a:path>
                <a:path fill="lighten" w="5868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8681" h="21600">
                  <a:moveTo>
                    <a:pt x="22334" y="3794"/>
                  </a:moveTo>
                  <a:lnTo>
                    <a:pt x="36347" y="10800"/>
                  </a:lnTo>
                  <a:lnTo>
                    <a:pt x="22334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Раздел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описания типов в Turbo Pascal 7.0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640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Типы данных в языке программирования Turbo Pascal 7.0 делятся на пять основных классов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403200" y="1263600"/>
            <a:ext cx="8661240" cy="4837320"/>
            <a:chOff x="403200" y="1263600"/>
            <a:chExt cx="8661240" cy="4837320"/>
          </a:xfrm>
        </p:grpSpPr>
        <p:sp>
          <p:nvSpPr>
            <p:cNvPr id="285" name="_s266286"/>
            <p:cNvSpPr/>
            <p:nvPr/>
          </p:nvSpPr>
          <p:spPr>
            <a:xfrm flipH="1" flipV="1">
              <a:off x="2594160" y="3465720"/>
              <a:ext cx="1071000" cy="202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_s266256"/>
            <p:cNvSpPr/>
            <p:nvPr/>
          </p:nvSpPr>
          <p:spPr>
            <a:xfrm>
              <a:off x="403200" y="2614320"/>
              <a:ext cx="2247480" cy="130176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ffff"/>
                  </a:solidFill>
                  <a:latin typeface="Arial"/>
                </a:rPr>
                <a:t>объектные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_s266285"/>
            <p:cNvSpPr/>
            <p:nvPr/>
          </p:nvSpPr>
          <p:spPr>
            <a:xfrm flipH="1">
              <a:off x="3413520" y="4395240"/>
              <a:ext cx="661320" cy="527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_s266254"/>
            <p:cNvSpPr/>
            <p:nvPr/>
          </p:nvSpPr>
          <p:spPr>
            <a:xfrm>
              <a:off x="1628280" y="4799160"/>
              <a:ext cx="2247480" cy="130176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ffff"/>
                  </a:solidFill>
                  <a:latin typeface="Arial"/>
                </a:rPr>
                <a:t>процедурные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_s266284"/>
            <p:cNvSpPr/>
            <p:nvPr/>
          </p:nvSpPr>
          <p:spPr>
            <a:xfrm>
              <a:off x="5395680" y="4395240"/>
              <a:ext cx="661320" cy="527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_s266252"/>
            <p:cNvSpPr/>
            <p:nvPr/>
          </p:nvSpPr>
          <p:spPr>
            <a:xfrm>
              <a:off x="5591880" y="4799160"/>
              <a:ext cx="2247480" cy="130176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ffff"/>
                  </a:solidFill>
                  <a:latin typeface="Arial"/>
                </a:rPr>
                <a:t>ссылочные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_s266283"/>
            <p:cNvSpPr/>
            <p:nvPr/>
          </p:nvSpPr>
          <p:spPr>
            <a:xfrm flipV="1">
              <a:off x="5801400" y="3466080"/>
              <a:ext cx="1071720" cy="20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_s266250"/>
            <p:cNvSpPr/>
            <p:nvPr/>
          </p:nvSpPr>
          <p:spPr>
            <a:xfrm>
              <a:off x="6816960" y="2614320"/>
              <a:ext cx="2247480" cy="130176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ffffff"/>
                  </a:solidFill>
                  <a:latin typeface="Arial"/>
                </a:rPr>
                <a:t>структуриро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ffffff"/>
                  </a:solidFill>
                  <a:latin typeface="Arial"/>
                </a:rPr>
                <a:t>ванные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_s266282"/>
            <p:cNvSpPr/>
            <p:nvPr/>
          </p:nvSpPr>
          <p:spPr>
            <a:xfrm flipV="1">
              <a:off x="4733640" y="2565360"/>
              <a:ext cx="0" cy="653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_s266248"/>
            <p:cNvSpPr/>
            <p:nvPr/>
          </p:nvSpPr>
          <p:spPr>
            <a:xfrm>
              <a:off x="3610080" y="1263600"/>
              <a:ext cx="2247480" cy="130176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ffff"/>
                  </a:solidFill>
                  <a:latin typeface="Arial"/>
                </a:rPr>
                <a:t>простые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_s266247"/>
            <p:cNvSpPr/>
            <p:nvPr/>
          </p:nvSpPr>
          <p:spPr>
            <a:xfrm>
              <a:off x="3610080" y="3218760"/>
              <a:ext cx="2247480" cy="130176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Типы данных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xit" presetID="58">
                                  <p:stCondLst>
                                    <p:cond delay="50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86" dur="5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" dur="5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Простые типы данных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468360" y="1484280"/>
            <a:ext cx="8208000" cy="4392000"/>
            <a:chOff x="468360" y="1484280"/>
            <a:chExt cx="8208000" cy="4392000"/>
          </a:xfrm>
        </p:grpSpPr>
        <p:cxnSp>
          <p:nvCxnSpPr>
            <p:cNvPr id="298" name="_s155664"/>
            <p:cNvCxnSpPr>
              <a:stCxn id="299" idx="0"/>
              <a:endCxn id="300" idx="2"/>
            </p:cNvCxnSpPr>
            <p:nvPr/>
          </p:nvCxnSpPr>
          <p:spPr>
            <a:xfrm flipV="1">
              <a:off x="2659680" y="3159360"/>
              <a:ext cx="4680" cy="335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1" name="_s155661"/>
            <p:cNvCxnSpPr>
              <a:stCxn id="302" idx="0"/>
              <a:endCxn id="303" idx="2"/>
            </p:cNvCxnSpPr>
            <p:nvPr/>
          </p:nvCxnSpPr>
          <p:spPr>
            <a:xfrm flipV="1" rot="16200000">
              <a:off x="5627880" y="1274760"/>
              <a:ext cx="335880" cy="2094120"/>
            </a:xfrm>
            <a:prstGeom prst="bentConnector3">
              <a:avLst>
                <a:gd name="adj1" fmla="val 3412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4" name="_s155660"/>
            <p:cNvCxnSpPr>
              <a:stCxn id="300" idx="0"/>
              <a:endCxn id="303" idx="2"/>
            </p:cNvCxnSpPr>
            <p:nvPr/>
          </p:nvCxnSpPr>
          <p:spPr>
            <a:xfrm flipH="1" flipV="1" rot="5400000">
              <a:off x="3536640" y="1276920"/>
              <a:ext cx="335880" cy="2089800"/>
            </a:xfrm>
            <a:prstGeom prst="bentConnector3">
              <a:avLst>
                <a:gd name="adj1" fmla="val 3412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03" name="_s155656"/>
            <p:cNvSpPr/>
            <p:nvPr/>
          </p:nvSpPr>
          <p:spPr>
            <a:xfrm>
              <a:off x="826200" y="1484280"/>
              <a:ext cx="7850160" cy="670320"/>
            </a:xfrm>
            <a:prstGeom prst="roundRect">
              <a:avLst>
                <a:gd name="adj" fmla="val 16667"/>
              </a:avLst>
            </a:prstGeom>
            <a:solidFill>
              <a:srgbClr val="3333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ffff"/>
                  </a:solidFill>
                  <a:latin typeface="Verdana"/>
                </a:rPr>
                <a:t>ПРОСТЫЕ ТИПЫ ДАННЫХ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_s155657"/>
            <p:cNvSpPr/>
            <p:nvPr/>
          </p:nvSpPr>
          <p:spPr>
            <a:xfrm>
              <a:off x="841680" y="2489760"/>
              <a:ext cx="3633840" cy="670320"/>
            </a:xfrm>
            <a:prstGeom prst="roundRect">
              <a:avLst>
                <a:gd name="adj" fmla="val 16667"/>
              </a:avLst>
            </a:prstGeom>
            <a:solidFill>
              <a:srgbClr val="3333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Verdana"/>
                </a:rPr>
                <a:t>ПОРЯДКОВЫЕ</a:t>
              </a:r>
              <a:r>
                <a:rPr b="1" lang="en-US" sz="20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_s155658"/>
            <p:cNvSpPr/>
            <p:nvPr/>
          </p:nvSpPr>
          <p:spPr>
            <a:xfrm>
              <a:off x="5023800" y="2489760"/>
              <a:ext cx="3633840" cy="670320"/>
            </a:xfrm>
            <a:prstGeom prst="roundRect">
              <a:avLst>
                <a:gd name="adj" fmla="val 16667"/>
              </a:avLst>
            </a:prstGeom>
            <a:solidFill>
              <a:srgbClr val="3333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Verdana"/>
                </a:rPr>
                <a:t>ВЕЩЕСТВЕННЫЙ</a:t>
              </a:r>
              <a:r>
                <a:rPr b="1" lang="en-US" sz="20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_s155663"/>
            <p:cNvSpPr/>
            <p:nvPr/>
          </p:nvSpPr>
          <p:spPr>
            <a:xfrm>
              <a:off x="468360" y="3495240"/>
              <a:ext cx="4380120" cy="2381040"/>
            </a:xfrm>
            <a:prstGeom prst="roundRect">
              <a:avLst>
                <a:gd name="adj" fmla="val 16667"/>
              </a:avLst>
            </a:prstGeom>
            <a:solidFill>
              <a:srgbClr val="3333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Verdana"/>
                </a:rPr>
                <a:t>— 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Verdana"/>
                </a:rPr>
                <a:t>ЦЕЛЫ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Verdana"/>
                </a:rPr>
                <a:t>— 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Verdana"/>
                </a:rPr>
                <a:t>ЛОГИЧЕСКИ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Verdana"/>
                </a:rPr>
                <a:t>— 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Verdana"/>
                </a:rPr>
                <a:t>СИМВОЛЬНЫ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Verdana"/>
                </a:rPr>
                <a:t>— 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Verdana"/>
                </a:rPr>
                <a:t>ОГРАНИЧЕННЫ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Verdana"/>
                </a:rPr>
                <a:t>— 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Verdana"/>
                </a:rPr>
                <a:t>ПЕРЕЧИСЛЯЕМЫ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7885080" y="6597720"/>
            <a:ext cx="1258560" cy="260280"/>
            <a:chOff x="7885080" y="6597720"/>
            <a:chExt cx="1258560" cy="260280"/>
          </a:xfrm>
        </p:grpSpPr>
        <p:sp>
          <p:nvSpPr>
            <p:cNvPr id="306" name="">
              <a:hlinkClick r:id="" action="ppaction://hlinkshowjump?jump=previousslide"/>
            </p:cNvPr>
            <p:cNvSpPr/>
            <p:nvPr/>
          </p:nvSpPr>
          <p:spPr>
            <a:xfrm>
              <a:off x="7885080" y="6597720"/>
              <a:ext cx="671760" cy="260280"/>
            </a:xfrm>
            <a:custGeom>
              <a:avLst/>
              <a:gdLst>
                <a:gd name="textAreaLeft" fmla="*/ 16560 w 671760"/>
                <a:gd name="textAreaRight" fmla="*/ 655200 w 6717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55701" h="21600">
                  <a:moveTo>
                    <a:pt x="0" y="0"/>
                  </a:moveTo>
                  <a:lnTo>
                    <a:pt x="55701" y="0"/>
                  </a:lnTo>
                  <a:lnTo>
                    <a:pt x="55701" y="21600"/>
                  </a:lnTo>
                  <a:lnTo>
                    <a:pt x="0" y="21600"/>
                  </a:lnTo>
                  <a:close/>
                </a:path>
                <a:path fill="lightenLess" w="55701" h="21600">
                  <a:moveTo>
                    <a:pt x="0" y="0"/>
                  </a:moveTo>
                  <a:lnTo>
                    <a:pt x="55701" y="0"/>
                  </a:lnTo>
                  <a:lnTo>
                    <a:pt x="54301" y="1400"/>
                  </a:lnTo>
                  <a:lnTo>
                    <a:pt x="1400" y="1400"/>
                  </a:lnTo>
                  <a:close/>
                </a:path>
                <a:path fill="darken" w="55701" h="21600">
                  <a:moveTo>
                    <a:pt x="55701" y="0"/>
                  </a:moveTo>
                  <a:lnTo>
                    <a:pt x="55701" y="21600"/>
                  </a:lnTo>
                  <a:lnTo>
                    <a:pt x="54301" y="20200"/>
                  </a:lnTo>
                  <a:lnTo>
                    <a:pt x="54301" y="1400"/>
                  </a:lnTo>
                  <a:close/>
                </a:path>
                <a:path fill="darkenLess" w="55701" h="21600">
                  <a:moveTo>
                    <a:pt x="5570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4301" y="20200"/>
                  </a:lnTo>
                  <a:close/>
                </a:path>
                <a:path fill="lighten" w="5570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5701" h="21600">
                  <a:moveTo>
                    <a:pt x="20844" y="10800"/>
                  </a:moveTo>
                  <a:lnTo>
                    <a:pt x="34857" y="3794"/>
                  </a:lnTo>
                  <a:lnTo>
                    <a:pt x="34857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>
              <a:hlinkClick r:id="" action="ppaction://hlinkshowjump?jump=nextslide"/>
            </p:cNvPr>
            <p:cNvSpPr/>
            <p:nvPr/>
          </p:nvSpPr>
          <p:spPr>
            <a:xfrm>
              <a:off x="8598600" y="6597720"/>
              <a:ext cx="545040" cy="260280"/>
            </a:xfrm>
            <a:custGeom>
              <a:avLst/>
              <a:gdLst>
                <a:gd name="textAreaLeft" fmla="*/ 16560 w 545040"/>
                <a:gd name="textAreaRight" fmla="*/ 528480 w 54504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45199" h="21600">
                  <a:moveTo>
                    <a:pt x="0" y="0"/>
                  </a:moveTo>
                  <a:lnTo>
                    <a:pt x="45199" y="0"/>
                  </a:lnTo>
                  <a:lnTo>
                    <a:pt x="45199" y="21600"/>
                  </a:lnTo>
                  <a:lnTo>
                    <a:pt x="0" y="21600"/>
                  </a:lnTo>
                  <a:close/>
                </a:path>
                <a:path fill="lightenLess" w="45199" h="21600">
                  <a:moveTo>
                    <a:pt x="0" y="0"/>
                  </a:moveTo>
                  <a:lnTo>
                    <a:pt x="45199" y="0"/>
                  </a:lnTo>
                  <a:lnTo>
                    <a:pt x="43799" y="1400"/>
                  </a:lnTo>
                  <a:lnTo>
                    <a:pt x="1400" y="1400"/>
                  </a:lnTo>
                  <a:close/>
                </a:path>
                <a:path fill="darken" w="45199" h="21600">
                  <a:moveTo>
                    <a:pt x="45199" y="0"/>
                  </a:moveTo>
                  <a:lnTo>
                    <a:pt x="45199" y="21600"/>
                  </a:lnTo>
                  <a:lnTo>
                    <a:pt x="43799" y="20200"/>
                  </a:lnTo>
                  <a:lnTo>
                    <a:pt x="43799" y="1400"/>
                  </a:lnTo>
                  <a:close/>
                </a:path>
                <a:path fill="darkenLess" w="45199" h="21600">
                  <a:moveTo>
                    <a:pt x="4519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3799" y="20200"/>
                  </a:lnTo>
                  <a:close/>
                </a:path>
                <a:path fill="lighten" w="4519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5199" h="21600">
                  <a:moveTo>
                    <a:pt x="15593" y="3794"/>
                  </a:moveTo>
                  <a:lnTo>
                    <a:pt x="29606" y="10800"/>
                  </a:lnTo>
                  <a:lnTo>
                    <a:pt x="15593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712944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Основные сведения о языках программирования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Под языком понимают любую систему знаков (Знак – это объект, специально выделенный для передачи информа-ции: буква, жест, положение переключателя и т.п.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И здесь возникает следующая проблема - язык ЭВМ (машинный язык) весьма далек от понятий, которыми оперирует человек: регистр, переслать, перейти по адресу и т. д.,  и все это записывается в машинных кодах. Поэтому, чтобы компьютер  мог понять написанную программу, она должна быть переведена на язык, понятный самому компьютеру. Этот процесс перевода называется трансляци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Существует два различных подхода к трансляции – интерпретация и компиляц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7740720" y="6453360"/>
            <a:ext cx="1007640" cy="144360"/>
            <a:chOff x="7740720" y="6453360"/>
            <a:chExt cx="1007640" cy="144360"/>
          </a:xfrm>
        </p:grpSpPr>
        <p:sp>
          <p:nvSpPr>
            <p:cNvPr id="160" name="">
              <a:hlinkClick r:id="" action="ppaction://hlinkshowjump?jump=previousslide"/>
            </p:cNvPr>
            <p:cNvSpPr/>
            <p:nvPr/>
          </p:nvSpPr>
          <p:spPr>
            <a:xfrm>
              <a:off x="7740720" y="6453360"/>
              <a:ext cx="537840" cy="144360"/>
            </a:xfrm>
            <a:custGeom>
              <a:avLst/>
              <a:gdLst>
                <a:gd name="textAreaLeft" fmla="*/ 9360 w 537840"/>
                <a:gd name="textAreaRight" fmla="*/ 528480 w 537840"/>
                <a:gd name="textAreaTop" fmla="*/ 9360 h 144360"/>
                <a:gd name="textAreaBottom" fmla="*/ 135000 h 144360"/>
              </a:gdLst>
              <a:ahLst/>
              <a:rect l="textAreaLeft" t="textAreaTop" r="textAreaRight" b="textAreaBottom"/>
              <a:pathLst>
                <a:path w="80328" h="21600">
                  <a:moveTo>
                    <a:pt x="0" y="0"/>
                  </a:moveTo>
                  <a:lnTo>
                    <a:pt x="80328" y="0"/>
                  </a:lnTo>
                  <a:lnTo>
                    <a:pt x="80328" y="21600"/>
                  </a:lnTo>
                  <a:lnTo>
                    <a:pt x="0" y="21600"/>
                  </a:lnTo>
                  <a:close/>
                </a:path>
                <a:path fill="lightenLess" w="80328" h="21600">
                  <a:moveTo>
                    <a:pt x="0" y="0"/>
                  </a:moveTo>
                  <a:lnTo>
                    <a:pt x="80328" y="0"/>
                  </a:lnTo>
                  <a:lnTo>
                    <a:pt x="78928" y="1400"/>
                  </a:lnTo>
                  <a:lnTo>
                    <a:pt x="1400" y="1400"/>
                  </a:lnTo>
                  <a:close/>
                </a:path>
                <a:path fill="darken" w="80328" h="21600">
                  <a:moveTo>
                    <a:pt x="80328" y="0"/>
                  </a:moveTo>
                  <a:lnTo>
                    <a:pt x="80328" y="21600"/>
                  </a:lnTo>
                  <a:lnTo>
                    <a:pt x="78928" y="20200"/>
                  </a:lnTo>
                  <a:lnTo>
                    <a:pt x="78928" y="1400"/>
                  </a:lnTo>
                  <a:close/>
                </a:path>
                <a:path fill="darkenLess" w="80328" h="21600">
                  <a:moveTo>
                    <a:pt x="803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8928" y="20200"/>
                  </a:lnTo>
                  <a:close/>
                </a:path>
                <a:path fill="lighten" w="803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80328" h="21600">
                  <a:moveTo>
                    <a:pt x="33158" y="10800"/>
                  </a:moveTo>
                  <a:lnTo>
                    <a:pt x="47171" y="3794"/>
                  </a:lnTo>
                  <a:lnTo>
                    <a:pt x="47171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>
              <a:hlinkClick r:id="" action="ppaction://hlinkshowjump?jump=nextslide"/>
            </p:cNvPr>
            <p:cNvSpPr/>
            <p:nvPr/>
          </p:nvSpPr>
          <p:spPr>
            <a:xfrm>
              <a:off x="8312040" y="6453360"/>
              <a:ext cx="436320" cy="144360"/>
            </a:xfrm>
            <a:custGeom>
              <a:avLst/>
              <a:gdLst>
                <a:gd name="textAreaLeft" fmla="*/ 9360 w 436320"/>
                <a:gd name="textAreaRight" fmla="*/ 426960 w 436320"/>
                <a:gd name="textAreaTop" fmla="*/ 9360 h 144360"/>
                <a:gd name="textAreaBottom" fmla="*/ 135000 h 144360"/>
              </a:gdLst>
              <a:ahLst/>
              <a:rect l="textAreaLeft" t="textAreaTop" r="textAreaRight" b="textAreaBottom"/>
              <a:pathLst>
                <a:path w="65176" h="21600">
                  <a:moveTo>
                    <a:pt x="0" y="0"/>
                  </a:moveTo>
                  <a:lnTo>
                    <a:pt x="65176" y="0"/>
                  </a:lnTo>
                  <a:lnTo>
                    <a:pt x="65176" y="21600"/>
                  </a:lnTo>
                  <a:lnTo>
                    <a:pt x="0" y="21600"/>
                  </a:lnTo>
                  <a:close/>
                </a:path>
                <a:path fill="lightenLess" w="65176" h="21600">
                  <a:moveTo>
                    <a:pt x="0" y="0"/>
                  </a:moveTo>
                  <a:lnTo>
                    <a:pt x="65176" y="0"/>
                  </a:lnTo>
                  <a:lnTo>
                    <a:pt x="63776" y="1400"/>
                  </a:lnTo>
                  <a:lnTo>
                    <a:pt x="1400" y="1400"/>
                  </a:lnTo>
                  <a:close/>
                </a:path>
                <a:path fill="darken" w="65176" h="21600">
                  <a:moveTo>
                    <a:pt x="65176" y="0"/>
                  </a:moveTo>
                  <a:lnTo>
                    <a:pt x="65176" y="21600"/>
                  </a:lnTo>
                  <a:lnTo>
                    <a:pt x="63776" y="20200"/>
                  </a:lnTo>
                  <a:lnTo>
                    <a:pt x="63776" y="1400"/>
                  </a:lnTo>
                  <a:close/>
                </a:path>
                <a:path fill="darkenLess" w="65176" h="21600">
                  <a:moveTo>
                    <a:pt x="6517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3776" y="20200"/>
                  </a:lnTo>
                  <a:close/>
                </a:path>
                <a:path fill="lighten" w="6517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65176" h="21600">
                  <a:moveTo>
                    <a:pt x="25582" y="3794"/>
                  </a:moveTo>
                  <a:lnTo>
                    <a:pt x="39595" y="10800"/>
                  </a:lnTo>
                  <a:lnTo>
                    <a:pt x="25582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5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244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В математике порядковым числом называется номер элемента при перечислен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244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244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Под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порядковым типом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понимают тип данных, областью значений которых является упорядоченное счетное множество. Каждому элементу такого множества соответствует некоторое порядковое число, являющееся как раз его номером при перечисле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7777080" y="6453360"/>
            <a:ext cx="1366560" cy="260280"/>
            <a:chOff x="7777080" y="6453360"/>
            <a:chExt cx="1366560" cy="260280"/>
          </a:xfrm>
        </p:grpSpPr>
        <p:sp>
          <p:nvSpPr>
            <p:cNvPr id="310" name="">
              <a:hlinkClick r:id="" action="ppaction://hlinkshowjump?jump=previousslide"/>
            </p:cNvPr>
            <p:cNvSpPr/>
            <p:nvPr/>
          </p:nvSpPr>
          <p:spPr>
            <a:xfrm>
              <a:off x="7777080" y="6453360"/>
              <a:ext cx="729360" cy="260280"/>
            </a:xfrm>
            <a:custGeom>
              <a:avLst/>
              <a:gdLst>
                <a:gd name="textAreaLeft" fmla="*/ 16560 w 729360"/>
                <a:gd name="textAreaRight" fmla="*/ 712800 w 729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60474" h="21600">
                  <a:moveTo>
                    <a:pt x="0" y="0"/>
                  </a:moveTo>
                  <a:lnTo>
                    <a:pt x="60474" y="0"/>
                  </a:lnTo>
                  <a:lnTo>
                    <a:pt x="60474" y="21600"/>
                  </a:lnTo>
                  <a:lnTo>
                    <a:pt x="0" y="21600"/>
                  </a:lnTo>
                  <a:close/>
                </a:path>
                <a:path fill="lightenLess" w="60474" h="21600">
                  <a:moveTo>
                    <a:pt x="0" y="0"/>
                  </a:moveTo>
                  <a:lnTo>
                    <a:pt x="60474" y="0"/>
                  </a:lnTo>
                  <a:lnTo>
                    <a:pt x="59074" y="1400"/>
                  </a:lnTo>
                  <a:lnTo>
                    <a:pt x="1400" y="1400"/>
                  </a:lnTo>
                  <a:close/>
                </a:path>
                <a:path fill="darken" w="60474" h="21600">
                  <a:moveTo>
                    <a:pt x="60474" y="0"/>
                  </a:moveTo>
                  <a:lnTo>
                    <a:pt x="60474" y="21600"/>
                  </a:lnTo>
                  <a:lnTo>
                    <a:pt x="59074" y="20200"/>
                  </a:lnTo>
                  <a:lnTo>
                    <a:pt x="59074" y="1400"/>
                  </a:lnTo>
                  <a:close/>
                </a:path>
                <a:path fill="darkenLess" w="60474" h="21600">
                  <a:moveTo>
                    <a:pt x="6047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9074" y="20200"/>
                  </a:lnTo>
                  <a:close/>
                </a:path>
                <a:path fill="lighten" w="6047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60474" h="21600">
                  <a:moveTo>
                    <a:pt x="23231" y="10800"/>
                  </a:moveTo>
                  <a:lnTo>
                    <a:pt x="37243" y="3794"/>
                  </a:lnTo>
                  <a:lnTo>
                    <a:pt x="37243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>
              <a:hlinkClick r:id="" action="ppaction://hlinkshowjump?jump=nextslide"/>
            </p:cNvPr>
            <p:cNvSpPr/>
            <p:nvPr/>
          </p:nvSpPr>
          <p:spPr>
            <a:xfrm>
              <a:off x="8551800" y="6453360"/>
              <a:ext cx="591840" cy="260280"/>
            </a:xfrm>
            <a:custGeom>
              <a:avLst/>
              <a:gdLst>
                <a:gd name="textAreaLeft" fmla="*/ 16560 w 591840"/>
                <a:gd name="textAreaRight" fmla="*/ 575280 w 59184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49077" h="21600">
                  <a:moveTo>
                    <a:pt x="0" y="0"/>
                  </a:moveTo>
                  <a:lnTo>
                    <a:pt x="49077" y="0"/>
                  </a:lnTo>
                  <a:lnTo>
                    <a:pt x="49077" y="21600"/>
                  </a:lnTo>
                  <a:lnTo>
                    <a:pt x="0" y="21600"/>
                  </a:lnTo>
                  <a:close/>
                </a:path>
                <a:path fill="lightenLess" w="49077" h="21600">
                  <a:moveTo>
                    <a:pt x="0" y="0"/>
                  </a:moveTo>
                  <a:lnTo>
                    <a:pt x="49077" y="0"/>
                  </a:lnTo>
                  <a:lnTo>
                    <a:pt x="47677" y="1400"/>
                  </a:lnTo>
                  <a:lnTo>
                    <a:pt x="1400" y="1400"/>
                  </a:lnTo>
                  <a:close/>
                </a:path>
                <a:path fill="darken" w="49077" h="21600">
                  <a:moveTo>
                    <a:pt x="49077" y="0"/>
                  </a:moveTo>
                  <a:lnTo>
                    <a:pt x="49077" y="21600"/>
                  </a:lnTo>
                  <a:lnTo>
                    <a:pt x="47677" y="20200"/>
                  </a:lnTo>
                  <a:lnTo>
                    <a:pt x="47677" y="1400"/>
                  </a:lnTo>
                  <a:close/>
                </a:path>
                <a:path fill="darkenLess" w="49077" h="21600">
                  <a:moveTo>
                    <a:pt x="4907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77" y="20200"/>
                  </a:lnTo>
                  <a:close/>
                </a:path>
                <a:path fill="lighten" w="4907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77" h="21600">
                  <a:moveTo>
                    <a:pt x="17532" y="3794"/>
                  </a:moveTo>
                  <a:lnTo>
                    <a:pt x="31545" y="10800"/>
                  </a:lnTo>
                  <a:lnTo>
                    <a:pt x="17532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Порядковый тип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324000" y="1052280"/>
            <a:ext cx="7704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В любом порядковом типе для каждого значения, кроме первого, существует предшествующее значение, и для каждого значения, кроме последнего, существует последующее значение. В языке Turbo Pascal 7.0 существуют стандартные функции, позволяющие определять соответ-ствующие значения для заданного значения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функция Pred(x) определяет предыдущее значение величины х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функция Succ(x) определяет последующее значение величины х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функция Ord(x) возвращает порядковый номер величины х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394920" y="33300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Порядковый тип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316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759"/>
            </a:gs>
            <a:gs pos="50000">
              <a:srgbClr val="000054"/>
            </a:gs>
            <a:gs pos="100000">
              <a:srgbClr val="07075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543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Целочисленные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типы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468360" y="1628640"/>
          <a:ext cx="8229600" cy="4679640"/>
        </p:xfrm>
        <a:graphic>
          <a:graphicData uri="http://schemas.openxmlformats.org/drawingml/2006/table">
            <a:tbl>
              <a:tblPr/>
              <a:tblGrid>
                <a:gridCol w="1306440"/>
                <a:gridCol w="3816360"/>
                <a:gridCol w="310680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Тип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Диапазон возможных значений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Формат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horting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-128.. 12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1 байт со знаком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Intege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-32768..3276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2 байта со знаком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Longin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-2147483648..214748364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4 байта со знаком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Byt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0..25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1 байт без знак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Wor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0..6553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2 байта без знак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20" name=""/>
          <p:cNvGrpSpPr/>
          <p:nvPr/>
        </p:nvGrpSpPr>
        <p:grpSpPr>
          <a:xfrm>
            <a:off x="8064360" y="6643800"/>
            <a:ext cx="1079280" cy="214200"/>
            <a:chOff x="8064360" y="6643800"/>
            <a:chExt cx="1079280" cy="214200"/>
          </a:xfrm>
        </p:grpSpPr>
        <p:sp>
          <p:nvSpPr>
            <p:cNvPr id="321" name="">
              <a:hlinkClick r:id="" action="ppaction://hlinkshowjump?jump=previousslide"/>
            </p:cNvPr>
            <p:cNvSpPr/>
            <p:nvPr/>
          </p:nvSpPr>
          <p:spPr>
            <a:xfrm>
              <a:off x="8064360" y="6643800"/>
              <a:ext cx="576360" cy="214200"/>
            </a:xfrm>
            <a:custGeom>
              <a:avLst/>
              <a:gdLst>
                <a:gd name="textAreaLeft" fmla="*/ 13680 w 576360"/>
                <a:gd name="textAreaRight" fmla="*/ 562680 w 576360"/>
                <a:gd name="textAreaTop" fmla="*/ 13680 h 214200"/>
                <a:gd name="textAreaBottom" fmla="*/ 200520 h 214200"/>
              </a:gdLst>
              <a:ahLst/>
              <a:rect l="textAreaLeft" t="textAreaTop" r="textAreaRight" b="textAreaBottom"/>
              <a:pathLst>
                <a:path w="58059" h="21600">
                  <a:moveTo>
                    <a:pt x="0" y="0"/>
                  </a:moveTo>
                  <a:lnTo>
                    <a:pt x="58059" y="0"/>
                  </a:lnTo>
                  <a:lnTo>
                    <a:pt x="58059" y="21600"/>
                  </a:lnTo>
                  <a:lnTo>
                    <a:pt x="0" y="21600"/>
                  </a:lnTo>
                  <a:close/>
                </a:path>
                <a:path fill="lightenLess" w="58059" h="21600">
                  <a:moveTo>
                    <a:pt x="0" y="0"/>
                  </a:moveTo>
                  <a:lnTo>
                    <a:pt x="58059" y="0"/>
                  </a:lnTo>
                  <a:lnTo>
                    <a:pt x="56659" y="1400"/>
                  </a:lnTo>
                  <a:lnTo>
                    <a:pt x="1400" y="1400"/>
                  </a:lnTo>
                  <a:close/>
                </a:path>
                <a:path fill="darken" w="58059" h="21600">
                  <a:moveTo>
                    <a:pt x="58059" y="0"/>
                  </a:moveTo>
                  <a:lnTo>
                    <a:pt x="58059" y="21600"/>
                  </a:lnTo>
                  <a:lnTo>
                    <a:pt x="56659" y="20200"/>
                  </a:lnTo>
                  <a:lnTo>
                    <a:pt x="56659" y="1400"/>
                  </a:lnTo>
                  <a:close/>
                </a:path>
                <a:path fill="darkenLess" w="58059" h="21600">
                  <a:moveTo>
                    <a:pt x="5805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6659" y="20200"/>
                  </a:lnTo>
                  <a:close/>
                </a:path>
                <a:path fill="lighten" w="5805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8059" h="21600">
                  <a:moveTo>
                    <a:pt x="22023" y="10800"/>
                  </a:moveTo>
                  <a:lnTo>
                    <a:pt x="36036" y="3794"/>
                  </a:lnTo>
                  <a:lnTo>
                    <a:pt x="3603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>
              <a:hlinkClick r:id="" action="ppaction://hlinkshowjump?jump=nextslide"/>
            </p:cNvPr>
            <p:cNvSpPr/>
            <p:nvPr/>
          </p:nvSpPr>
          <p:spPr>
            <a:xfrm>
              <a:off x="8676360" y="6643800"/>
              <a:ext cx="467280" cy="214200"/>
            </a:xfrm>
            <a:custGeom>
              <a:avLst/>
              <a:gdLst>
                <a:gd name="textAreaLeft" fmla="*/ 13680 w 467280"/>
                <a:gd name="textAreaRight" fmla="*/ 453600 w 467280"/>
                <a:gd name="textAreaTop" fmla="*/ 13680 h 214200"/>
                <a:gd name="textAreaBottom" fmla="*/ 200520 h 214200"/>
              </a:gdLst>
              <a:ahLst/>
              <a:rect l="textAreaLeft" t="textAreaTop" r="textAreaRight" b="textAreaBottom"/>
              <a:pathLst>
                <a:path w="47078" h="21600">
                  <a:moveTo>
                    <a:pt x="0" y="0"/>
                  </a:moveTo>
                  <a:lnTo>
                    <a:pt x="47078" y="0"/>
                  </a:lnTo>
                  <a:lnTo>
                    <a:pt x="47078" y="21600"/>
                  </a:lnTo>
                  <a:lnTo>
                    <a:pt x="0" y="21600"/>
                  </a:lnTo>
                  <a:close/>
                </a:path>
                <a:path fill="lightenLess" w="47078" h="21600">
                  <a:moveTo>
                    <a:pt x="0" y="0"/>
                  </a:moveTo>
                  <a:lnTo>
                    <a:pt x="47078" y="0"/>
                  </a:lnTo>
                  <a:lnTo>
                    <a:pt x="45678" y="1400"/>
                  </a:lnTo>
                  <a:lnTo>
                    <a:pt x="1400" y="1400"/>
                  </a:lnTo>
                  <a:close/>
                </a:path>
                <a:path fill="darken" w="47078" h="21600">
                  <a:moveTo>
                    <a:pt x="47078" y="0"/>
                  </a:moveTo>
                  <a:lnTo>
                    <a:pt x="47078" y="21600"/>
                  </a:lnTo>
                  <a:lnTo>
                    <a:pt x="45678" y="20200"/>
                  </a:lnTo>
                  <a:lnTo>
                    <a:pt x="45678" y="1400"/>
                  </a:lnTo>
                  <a:close/>
                </a:path>
                <a:path fill="darkenLess" w="47078" h="21600">
                  <a:moveTo>
                    <a:pt x="4707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678" y="20200"/>
                  </a:lnTo>
                  <a:close/>
                </a:path>
                <a:path fill="lighten" w="4707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7078" h="21600">
                  <a:moveTo>
                    <a:pt x="16532" y="3794"/>
                  </a:moveTo>
                  <a:lnTo>
                    <a:pt x="30545" y="10800"/>
                  </a:lnTo>
                  <a:lnTo>
                    <a:pt x="16532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4"/>
            </a:gs>
            <a:gs pos="50000">
              <a:srgbClr val="000054"/>
            </a:gs>
            <a:gs pos="100000">
              <a:srgbClr val="00003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Вещественные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типы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468360" y="1844640"/>
          <a:ext cx="8229600" cy="4248000"/>
        </p:xfrm>
        <a:graphic>
          <a:graphicData uri="http://schemas.openxmlformats.org/drawingml/2006/table">
            <a:tbl>
              <a:tblPr/>
              <a:tblGrid>
                <a:gridCol w="1481040"/>
                <a:gridCol w="3394080"/>
                <a:gridCol w="1962360"/>
                <a:gridCol w="1392120"/>
              </a:tblGrid>
              <a:tr h="91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Ти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Диапазон возможных значе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Точн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Форма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Re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2.9Е-39..1.7Е3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11—12 зна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6 бай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ing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1.5Е-45..3.4Е3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7—8 зна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4 бай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5.0</a:t>
                      </a: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E</a:t>
                      </a: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-324..1.7</a:t>
                      </a: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E</a:t>
                      </a: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3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15—16 зна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8 бай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Extend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3.4Е-4932..1.1Е49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19-20 зна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10 бай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om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-9.2Е18..9.2Е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19—20 зна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8 бай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25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326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Логический тип и логические выражения (BOOLEAN)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2803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Переменные, константы и выражения логического типа имеют только два значения: 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TRUE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(истина) или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FALSE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(лож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992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Например, при сравнении чисел А и В результат будет TRUE (истина) или FALSE (ложь в зависимости от значений А и В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992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Кроме операций сравнения, логический результат дает функция целой величины 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Odd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(нечетный), которая имеет значение TRUE , если ее аргумент нечетный, и FALSE , если ее аргумент четн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7667640" y="6568920"/>
            <a:ext cx="1476360" cy="289080"/>
            <a:chOff x="7667640" y="6568920"/>
            <a:chExt cx="1476360" cy="289080"/>
          </a:xfrm>
        </p:grpSpPr>
        <p:sp>
          <p:nvSpPr>
            <p:cNvPr id="331" name="">
              <a:hlinkClick r:id="" action="ppaction://hlinkshowjump?jump=previousslide"/>
            </p:cNvPr>
            <p:cNvSpPr/>
            <p:nvPr/>
          </p:nvSpPr>
          <p:spPr>
            <a:xfrm>
              <a:off x="7667640" y="6568920"/>
              <a:ext cx="788040" cy="289080"/>
            </a:xfrm>
            <a:custGeom>
              <a:avLst/>
              <a:gdLst>
                <a:gd name="textAreaLeft" fmla="*/ 18720 w 788040"/>
                <a:gd name="textAreaRight" fmla="*/ 769320 w 788040"/>
                <a:gd name="textAreaTop" fmla="*/ 18720 h 289080"/>
                <a:gd name="textAreaBottom" fmla="*/ 270360 h 289080"/>
              </a:gdLst>
              <a:ahLst/>
              <a:rect l="textAreaLeft" t="textAreaTop" r="textAreaRight" b="textAreaBottom"/>
              <a:pathLst>
                <a:path w="58836" h="21600">
                  <a:moveTo>
                    <a:pt x="0" y="0"/>
                  </a:moveTo>
                  <a:lnTo>
                    <a:pt x="58836" y="0"/>
                  </a:lnTo>
                  <a:lnTo>
                    <a:pt x="58836" y="21600"/>
                  </a:lnTo>
                  <a:lnTo>
                    <a:pt x="0" y="21600"/>
                  </a:lnTo>
                  <a:close/>
                </a:path>
                <a:path fill="lightenLess" w="58836" h="21600">
                  <a:moveTo>
                    <a:pt x="0" y="0"/>
                  </a:moveTo>
                  <a:lnTo>
                    <a:pt x="58836" y="0"/>
                  </a:lnTo>
                  <a:lnTo>
                    <a:pt x="57436" y="1400"/>
                  </a:lnTo>
                  <a:lnTo>
                    <a:pt x="1400" y="1400"/>
                  </a:lnTo>
                  <a:close/>
                </a:path>
                <a:path fill="darken" w="58836" h="21600">
                  <a:moveTo>
                    <a:pt x="58836" y="0"/>
                  </a:moveTo>
                  <a:lnTo>
                    <a:pt x="58836" y="21600"/>
                  </a:lnTo>
                  <a:lnTo>
                    <a:pt x="57436" y="20200"/>
                  </a:lnTo>
                  <a:lnTo>
                    <a:pt x="57436" y="1400"/>
                  </a:lnTo>
                  <a:close/>
                </a:path>
                <a:path fill="darkenLess" w="58836" h="21600">
                  <a:moveTo>
                    <a:pt x="5883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7436" y="20200"/>
                  </a:lnTo>
                  <a:close/>
                </a:path>
                <a:path fill="lighten" w="5883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8836" h="21600">
                  <a:moveTo>
                    <a:pt x="22411" y="10800"/>
                  </a:moveTo>
                  <a:lnTo>
                    <a:pt x="36424" y="3794"/>
                  </a:lnTo>
                  <a:lnTo>
                    <a:pt x="36424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>
              <a:hlinkClick r:id="" action="ppaction://hlinkshowjump?jump=nextslide"/>
            </p:cNvPr>
            <p:cNvSpPr/>
            <p:nvPr/>
          </p:nvSpPr>
          <p:spPr>
            <a:xfrm>
              <a:off x="8504640" y="6568920"/>
              <a:ext cx="639360" cy="289080"/>
            </a:xfrm>
            <a:custGeom>
              <a:avLst/>
              <a:gdLst>
                <a:gd name="textAreaLeft" fmla="*/ 18720 w 639360"/>
                <a:gd name="textAreaRight" fmla="*/ 620640 w 639360"/>
                <a:gd name="textAreaTop" fmla="*/ 18720 h 289080"/>
                <a:gd name="textAreaBottom" fmla="*/ 270360 h 289080"/>
              </a:gdLst>
              <a:ahLst/>
              <a:rect l="textAreaLeft" t="textAreaTop" r="textAreaRight" b="textAreaBottom"/>
              <a:pathLst>
                <a:path w="47740" h="21600">
                  <a:moveTo>
                    <a:pt x="0" y="0"/>
                  </a:moveTo>
                  <a:lnTo>
                    <a:pt x="47740" y="0"/>
                  </a:lnTo>
                  <a:lnTo>
                    <a:pt x="47740" y="21600"/>
                  </a:lnTo>
                  <a:lnTo>
                    <a:pt x="0" y="21600"/>
                  </a:lnTo>
                  <a:close/>
                </a:path>
                <a:path fill="lightenLess" w="47740" h="21600">
                  <a:moveTo>
                    <a:pt x="0" y="0"/>
                  </a:moveTo>
                  <a:lnTo>
                    <a:pt x="47740" y="0"/>
                  </a:lnTo>
                  <a:lnTo>
                    <a:pt x="46340" y="1400"/>
                  </a:lnTo>
                  <a:lnTo>
                    <a:pt x="1400" y="1400"/>
                  </a:lnTo>
                  <a:close/>
                </a:path>
                <a:path fill="darken" w="47740" h="21600">
                  <a:moveTo>
                    <a:pt x="47740" y="0"/>
                  </a:moveTo>
                  <a:lnTo>
                    <a:pt x="47740" y="21600"/>
                  </a:lnTo>
                  <a:lnTo>
                    <a:pt x="46340" y="20200"/>
                  </a:lnTo>
                  <a:lnTo>
                    <a:pt x="46340" y="1400"/>
                  </a:lnTo>
                  <a:close/>
                </a:path>
                <a:path fill="darkenLess" w="47740" h="21600">
                  <a:moveTo>
                    <a:pt x="4774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6340" y="20200"/>
                  </a:lnTo>
                  <a:close/>
                </a:path>
                <a:path fill="lighten" w="4774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7740" h="21600">
                  <a:moveTo>
                    <a:pt x="16864" y="3794"/>
                  </a:moveTo>
                  <a:lnTo>
                    <a:pt x="30877" y="10800"/>
                  </a:lnTo>
                  <a:lnTo>
                    <a:pt x="16864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Для логических переменных определены операции: NOT, AND, OR, XOR. В QBasic определены еще две логических операции: логическое следование IMP и эквивалентность EQW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Логический тип, как и целые  типы,  относятся к порядковым типам.  Порядковый тип – это тип данных, для которого определены отношения порядка, то есть для любого элемента можно определить последующий и предыдущий элемен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Логический тип и логические выражения (BOOLEAN)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336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250560" y="1699920"/>
            <a:ext cx="85899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2440"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Логические операции, операции отношения и арифметические операции часто встречаются в одном выражении. Причем отношения, стоящие слева и справа от знака логической операции, должны быть заключены в скобки, поскольку логические операции имеют более высокий приоритет. Вообще, в логическом выражении принят следующий приоритет операций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82440"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NO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82440"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AND, *, DIV, MO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82440"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OR, XOR, +, 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82440"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операции сравнен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7920000" y="6643800"/>
            <a:ext cx="1223640" cy="214200"/>
            <a:chOff x="7920000" y="6643800"/>
            <a:chExt cx="1223640" cy="214200"/>
          </a:xfrm>
        </p:grpSpPr>
        <p:sp>
          <p:nvSpPr>
            <p:cNvPr id="340" name="">
              <a:hlinkClick r:id="" action="ppaction://hlinkshowjump?jump=previousslide"/>
            </p:cNvPr>
            <p:cNvSpPr/>
            <p:nvPr/>
          </p:nvSpPr>
          <p:spPr>
            <a:xfrm>
              <a:off x="7920000" y="6643800"/>
              <a:ext cx="653400" cy="214200"/>
            </a:xfrm>
            <a:custGeom>
              <a:avLst/>
              <a:gdLst>
                <a:gd name="textAreaLeft" fmla="*/ 13680 w 653400"/>
                <a:gd name="textAreaRight" fmla="*/ 639720 w 653400"/>
                <a:gd name="textAreaTop" fmla="*/ 13680 h 214200"/>
                <a:gd name="textAreaBottom" fmla="*/ 200520 h 214200"/>
              </a:gdLst>
              <a:ahLst/>
              <a:rect l="textAreaLeft" t="textAreaTop" r="textAreaRight" b="textAreaBottom"/>
              <a:pathLst>
                <a:path w="65815" h="21600">
                  <a:moveTo>
                    <a:pt x="0" y="0"/>
                  </a:moveTo>
                  <a:lnTo>
                    <a:pt x="65815" y="0"/>
                  </a:lnTo>
                  <a:lnTo>
                    <a:pt x="65815" y="21600"/>
                  </a:lnTo>
                  <a:lnTo>
                    <a:pt x="0" y="21600"/>
                  </a:lnTo>
                  <a:close/>
                </a:path>
                <a:path fill="lightenLess" w="65815" h="21600">
                  <a:moveTo>
                    <a:pt x="0" y="0"/>
                  </a:moveTo>
                  <a:lnTo>
                    <a:pt x="65815" y="0"/>
                  </a:lnTo>
                  <a:lnTo>
                    <a:pt x="64415" y="1400"/>
                  </a:lnTo>
                  <a:lnTo>
                    <a:pt x="1400" y="1400"/>
                  </a:lnTo>
                  <a:close/>
                </a:path>
                <a:path fill="darken" w="65815" h="21600">
                  <a:moveTo>
                    <a:pt x="65815" y="0"/>
                  </a:moveTo>
                  <a:lnTo>
                    <a:pt x="65815" y="21600"/>
                  </a:lnTo>
                  <a:lnTo>
                    <a:pt x="64415" y="20200"/>
                  </a:lnTo>
                  <a:lnTo>
                    <a:pt x="64415" y="1400"/>
                  </a:lnTo>
                  <a:close/>
                </a:path>
                <a:path fill="darkenLess" w="65815" h="21600">
                  <a:moveTo>
                    <a:pt x="6581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4415" y="20200"/>
                  </a:lnTo>
                  <a:close/>
                </a:path>
                <a:path fill="lighten" w="6581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65815" h="21600">
                  <a:moveTo>
                    <a:pt x="25901" y="10800"/>
                  </a:moveTo>
                  <a:lnTo>
                    <a:pt x="39914" y="3794"/>
                  </a:lnTo>
                  <a:lnTo>
                    <a:pt x="39914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>
              <a:hlinkClick r:id="" action="ppaction://hlinkshowjump?jump=nextslide"/>
            </p:cNvPr>
            <p:cNvSpPr/>
            <p:nvPr/>
          </p:nvSpPr>
          <p:spPr>
            <a:xfrm>
              <a:off x="8613720" y="6643800"/>
              <a:ext cx="529920" cy="214200"/>
            </a:xfrm>
            <a:custGeom>
              <a:avLst/>
              <a:gdLst>
                <a:gd name="textAreaLeft" fmla="*/ 13680 w 529920"/>
                <a:gd name="textAreaRight" fmla="*/ 516240 w 529920"/>
                <a:gd name="textAreaTop" fmla="*/ 13680 h 214200"/>
                <a:gd name="textAreaBottom" fmla="*/ 200520 h 214200"/>
              </a:gdLst>
              <a:ahLst/>
              <a:rect l="textAreaLeft" t="textAreaTop" r="textAreaRight" b="textAreaBottom"/>
              <a:pathLst>
                <a:path w="53384" h="21600">
                  <a:moveTo>
                    <a:pt x="0" y="0"/>
                  </a:moveTo>
                  <a:lnTo>
                    <a:pt x="53384" y="0"/>
                  </a:lnTo>
                  <a:lnTo>
                    <a:pt x="53384" y="21600"/>
                  </a:lnTo>
                  <a:lnTo>
                    <a:pt x="0" y="21600"/>
                  </a:lnTo>
                  <a:close/>
                </a:path>
                <a:path fill="lightenLess" w="53384" h="21600">
                  <a:moveTo>
                    <a:pt x="0" y="0"/>
                  </a:moveTo>
                  <a:lnTo>
                    <a:pt x="53384" y="0"/>
                  </a:lnTo>
                  <a:lnTo>
                    <a:pt x="51984" y="1400"/>
                  </a:lnTo>
                  <a:lnTo>
                    <a:pt x="1400" y="1400"/>
                  </a:lnTo>
                  <a:close/>
                </a:path>
                <a:path fill="darken" w="53384" h="21600">
                  <a:moveTo>
                    <a:pt x="53384" y="0"/>
                  </a:moveTo>
                  <a:lnTo>
                    <a:pt x="53384" y="21600"/>
                  </a:lnTo>
                  <a:lnTo>
                    <a:pt x="51984" y="20200"/>
                  </a:lnTo>
                  <a:lnTo>
                    <a:pt x="51984" y="1400"/>
                  </a:lnTo>
                  <a:close/>
                </a:path>
                <a:path fill="darkenLess" w="53384" h="21600">
                  <a:moveTo>
                    <a:pt x="5338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1984" y="20200"/>
                  </a:lnTo>
                  <a:close/>
                </a:path>
                <a:path fill="lighten" w="5338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3384" h="21600">
                  <a:moveTo>
                    <a:pt x="19685" y="3794"/>
                  </a:moveTo>
                  <a:lnTo>
                    <a:pt x="33698" y="10800"/>
                  </a:lnTo>
                  <a:lnTo>
                    <a:pt x="19685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539280" y="620640"/>
            <a:ext cx="7543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Логический тип и логические выражения (BOOLEAN)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5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395280" y="1719360"/>
            <a:ext cx="8291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Порядок выполнения операций определяется скобками. Например, в логическом выражении A OR В AND NOT (A OR В) сначала выполняется заключенная в скобки операция OR, а затем операции NOT, AND, O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В языке Turbo Pascal 7.0 нет возможности ввода логических данных с помощью оператора read. Однако предусмотрен вывод значений переменных логического типа с помощью оператора write. В этом случае для идентификаторов FALSE и TRUE автоматически отводится по 6 позиций: две — перед словом TRUE и одна - перед FALS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Логический тип и логические выражения (BOOLEAN)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346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Перечисляемый тип данных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424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78120"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Этот тип данных получил название перечисляемого, потому что он задается в виде перечисления некоторых значений. Эти значения образуют упорядоченное множество и являются константами этого типа. Для объявления переменной список возможных значений, разделенных запятой, указывается в круглых скобках. Например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78120"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mic Sans MS"/>
              </a:rPr>
              <a:t>Var month: (january, february, marth, april, may, june, july, august, september, october, november, decemb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78120"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Упорядоченность элементов перечисляемого типа определяется порядком их следования. Самый  левый  имеет  минимальное  значение (значение функции ord для него равно 0), а наиболее правый — максимальное.</a:t>
            </a:r>
            <a:r>
              <a:rPr b="1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740720" y="6597720"/>
            <a:ext cx="1150560" cy="260280"/>
            <a:chOff x="7740720" y="6597720"/>
            <a:chExt cx="1150560" cy="260280"/>
          </a:xfrm>
        </p:grpSpPr>
        <p:sp>
          <p:nvSpPr>
            <p:cNvPr id="351" name="">
              <a:hlinkClick r:id="" action="ppaction://hlinkshowjump?jump=previousslide"/>
            </p:cNvPr>
            <p:cNvSpPr/>
            <p:nvPr/>
          </p:nvSpPr>
          <p:spPr>
            <a:xfrm>
              <a:off x="7740720" y="6597720"/>
              <a:ext cx="614160" cy="260280"/>
            </a:xfrm>
            <a:custGeom>
              <a:avLst/>
              <a:gdLst>
                <a:gd name="textAreaLeft" fmla="*/ 16560 w 614160"/>
                <a:gd name="textAreaRight" fmla="*/ 597600 w 6141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50927" h="21600">
                  <a:moveTo>
                    <a:pt x="0" y="0"/>
                  </a:moveTo>
                  <a:lnTo>
                    <a:pt x="50927" y="0"/>
                  </a:lnTo>
                  <a:lnTo>
                    <a:pt x="50927" y="21600"/>
                  </a:lnTo>
                  <a:lnTo>
                    <a:pt x="0" y="21600"/>
                  </a:lnTo>
                  <a:close/>
                </a:path>
                <a:path fill="lightenLess" w="50927" h="21600">
                  <a:moveTo>
                    <a:pt x="0" y="0"/>
                  </a:moveTo>
                  <a:lnTo>
                    <a:pt x="50927" y="0"/>
                  </a:lnTo>
                  <a:lnTo>
                    <a:pt x="49527" y="1400"/>
                  </a:lnTo>
                  <a:lnTo>
                    <a:pt x="1400" y="1400"/>
                  </a:lnTo>
                  <a:close/>
                </a:path>
                <a:path fill="darken" w="50927" h="21600">
                  <a:moveTo>
                    <a:pt x="50927" y="0"/>
                  </a:moveTo>
                  <a:lnTo>
                    <a:pt x="50927" y="21600"/>
                  </a:lnTo>
                  <a:lnTo>
                    <a:pt x="49527" y="20200"/>
                  </a:lnTo>
                  <a:lnTo>
                    <a:pt x="49527" y="1400"/>
                  </a:lnTo>
                  <a:close/>
                </a:path>
                <a:path fill="darkenLess" w="50927" h="21600">
                  <a:moveTo>
                    <a:pt x="5092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9527" y="20200"/>
                  </a:lnTo>
                  <a:close/>
                </a:path>
                <a:path fill="lighten" w="5092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0927" h="21600">
                  <a:moveTo>
                    <a:pt x="18457" y="10800"/>
                  </a:moveTo>
                  <a:lnTo>
                    <a:pt x="32470" y="3794"/>
                  </a:lnTo>
                  <a:lnTo>
                    <a:pt x="32470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>
              <a:hlinkClick r:id="" action="ppaction://hlinkshowjump?jump=nextslide"/>
            </p:cNvPr>
            <p:cNvSpPr/>
            <p:nvPr/>
          </p:nvSpPr>
          <p:spPr>
            <a:xfrm>
              <a:off x="8393040" y="6597720"/>
              <a:ext cx="498240" cy="260280"/>
            </a:xfrm>
            <a:custGeom>
              <a:avLst/>
              <a:gdLst>
                <a:gd name="textAreaLeft" fmla="*/ 16560 w 498240"/>
                <a:gd name="textAreaRight" fmla="*/ 481680 w 49824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41320" h="21600">
                  <a:moveTo>
                    <a:pt x="0" y="0"/>
                  </a:moveTo>
                  <a:lnTo>
                    <a:pt x="41320" y="0"/>
                  </a:lnTo>
                  <a:lnTo>
                    <a:pt x="41320" y="21600"/>
                  </a:lnTo>
                  <a:lnTo>
                    <a:pt x="0" y="21600"/>
                  </a:lnTo>
                  <a:close/>
                </a:path>
                <a:path fill="lightenLess" w="41320" h="21600">
                  <a:moveTo>
                    <a:pt x="0" y="0"/>
                  </a:moveTo>
                  <a:lnTo>
                    <a:pt x="41320" y="0"/>
                  </a:lnTo>
                  <a:lnTo>
                    <a:pt x="39920" y="1400"/>
                  </a:lnTo>
                  <a:lnTo>
                    <a:pt x="1400" y="1400"/>
                  </a:lnTo>
                  <a:close/>
                </a:path>
                <a:path fill="darken" w="41320" h="21600">
                  <a:moveTo>
                    <a:pt x="41320" y="0"/>
                  </a:moveTo>
                  <a:lnTo>
                    <a:pt x="41320" y="21600"/>
                  </a:lnTo>
                  <a:lnTo>
                    <a:pt x="39920" y="20200"/>
                  </a:lnTo>
                  <a:lnTo>
                    <a:pt x="39920" y="1400"/>
                  </a:lnTo>
                  <a:close/>
                </a:path>
                <a:path fill="darkenLess" w="41320" h="21600">
                  <a:moveTo>
                    <a:pt x="4132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9920" y="20200"/>
                  </a:lnTo>
                  <a:close/>
                </a:path>
                <a:path fill="lighten" w="4132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1320" h="21600">
                  <a:moveTo>
                    <a:pt x="13654" y="3794"/>
                  </a:moveTo>
                  <a:lnTo>
                    <a:pt x="27667" y="10800"/>
                  </a:lnTo>
                  <a:lnTo>
                    <a:pt x="13654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Символьный тип данных</a:t>
            </a:r>
            <a:endParaRPr b="1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3739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писание: идентификатор Cha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just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Диапазон значений: значением переменной этого типа может быть любой символ — это буквы, цифры, знаки препинания и специальные символы. Каждому символу алфавита соответствует индивидуальный числовой код от 0 до 25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just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Так как символы языка упорядочены, то к символьным данным применимы операции сравнения. Операция сравнения осуществляется следующим образом: из двух символов меньше тот, который встречается в таблице ASCII раньш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356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9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Интерпретаторы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8930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Языки программирования интерпретирующего типа при исполнении программы за один проход переводят в машинные коды одну строку программы. При большом размере программы процесс исполнения готовой программы занимает довольно много времени. В то же время при разработке программ режим интерпретации очень удобен, так как любое внесенное изменение сразу же переводится в машинные коды и исполняетс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7885080" y="6381720"/>
            <a:ext cx="942840" cy="215640"/>
            <a:chOff x="7885080" y="6381720"/>
            <a:chExt cx="942840" cy="215640"/>
          </a:xfrm>
        </p:grpSpPr>
        <p:sp>
          <p:nvSpPr>
            <p:cNvPr id="165" name="">
              <a:hlinkClick r:id="" action="ppaction://hlinkshowjump?jump=previousslide"/>
            </p:cNvPr>
            <p:cNvSpPr/>
            <p:nvPr/>
          </p:nvSpPr>
          <p:spPr>
            <a:xfrm>
              <a:off x="7885080" y="6381720"/>
              <a:ext cx="434880" cy="215640"/>
            </a:xfrm>
            <a:custGeom>
              <a:avLst/>
              <a:gdLst>
                <a:gd name="textAreaLeft" fmla="*/ 13680 w 434880"/>
                <a:gd name="textAreaRight" fmla="*/ 421200 w 43488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24" h="21600">
                  <a:moveTo>
                    <a:pt x="0" y="0"/>
                  </a:moveTo>
                  <a:lnTo>
                    <a:pt x="43524" y="0"/>
                  </a:lnTo>
                  <a:lnTo>
                    <a:pt x="43524" y="21600"/>
                  </a:lnTo>
                  <a:lnTo>
                    <a:pt x="0" y="21600"/>
                  </a:lnTo>
                  <a:close/>
                </a:path>
                <a:path fill="lightenLess" w="43524" h="21600">
                  <a:moveTo>
                    <a:pt x="0" y="0"/>
                  </a:moveTo>
                  <a:lnTo>
                    <a:pt x="43524" y="0"/>
                  </a:lnTo>
                  <a:lnTo>
                    <a:pt x="42124" y="1400"/>
                  </a:lnTo>
                  <a:lnTo>
                    <a:pt x="1400" y="1400"/>
                  </a:lnTo>
                  <a:close/>
                </a:path>
                <a:path fill="darken" w="43524" h="21600">
                  <a:moveTo>
                    <a:pt x="43524" y="0"/>
                  </a:moveTo>
                  <a:lnTo>
                    <a:pt x="43524" y="21600"/>
                  </a:lnTo>
                  <a:lnTo>
                    <a:pt x="42124" y="20200"/>
                  </a:lnTo>
                  <a:lnTo>
                    <a:pt x="42124" y="1400"/>
                  </a:lnTo>
                  <a:close/>
                </a:path>
                <a:path fill="darkenLess" w="43524" h="21600">
                  <a:moveTo>
                    <a:pt x="435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24" y="20200"/>
                  </a:lnTo>
                  <a:close/>
                </a:path>
                <a:path fill="lighten" w="435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24" h="21600">
                  <a:moveTo>
                    <a:pt x="14756" y="10800"/>
                  </a:moveTo>
                  <a:lnTo>
                    <a:pt x="28768" y="3794"/>
                  </a:lnTo>
                  <a:lnTo>
                    <a:pt x="2876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>
              <a:hlinkClick r:id="" action="ppaction://hlinkshowjump?jump=nextslide"/>
            </p:cNvPr>
            <p:cNvSpPr/>
            <p:nvPr/>
          </p:nvSpPr>
          <p:spPr>
            <a:xfrm>
              <a:off x="8393040" y="6381720"/>
              <a:ext cx="434880" cy="215640"/>
            </a:xfrm>
            <a:custGeom>
              <a:avLst/>
              <a:gdLst>
                <a:gd name="textAreaLeft" fmla="*/ 13680 w 434880"/>
                <a:gd name="textAreaRight" fmla="*/ 421200 w 43488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24" h="21600">
                  <a:moveTo>
                    <a:pt x="0" y="0"/>
                  </a:moveTo>
                  <a:lnTo>
                    <a:pt x="43524" y="0"/>
                  </a:lnTo>
                  <a:lnTo>
                    <a:pt x="43524" y="21600"/>
                  </a:lnTo>
                  <a:lnTo>
                    <a:pt x="0" y="21600"/>
                  </a:lnTo>
                  <a:close/>
                </a:path>
                <a:path fill="lightenLess" w="43524" h="21600">
                  <a:moveTo>
                    <a:pt x="0" y="0"/>
                  </a:moveTo>
                  <a:lnTo>
                    <a:pt x="43524" y="0"/>
                  </a:lnTo>
                  <a:lnTo>
                    <a:pt x="42124" y="1400"/>
                  </a:lnTo>
                  <a:lnTo>
                    <a:pt x="1400" y="1400"/>
                  </a:lnTo>
                  <a:close/>
                </a:path>
                <a:path fill="darken" w="43524" h="21600">
                  <a:moveTo>
                    <a:pt x="43524" y="0"/>
                  </a:moveTo>
                  <a:lnTo>
                    <a:pt x="43524" y="21600"/>
                  </a:lnTo>
                  <a:lnTo>
                    <a:pt x="42124" y="20200"/>
                  </a:lnTo>
                  <a:lnTo>
                    <a:pt x="42124" y="1400"/>
                  </a:lnTo>
                  <a:close/>
                </a:path>
                <a:path fill="darkenLess" w="43524" h="21600">
                  <a:moveTo>
                    <a:pt x="435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24" y="20200"/>
                  </a:lnTo>
                  <a:close/>
                </a:path>
                <a:path fill="lighten" w="435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24" h="21600">
                  <a:moveTo>
                    <a:pt x="14756" y="3794"/>
                  </a:moveTo>
                  <a:lnTo>
                    <a:pt x="28768" y="10800"/>
                  </a:lnTo>
                  <a:lnTo>
                    <a:pt x="1475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5987880"/>
            <a:ext cx="1332000" cy="8701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7777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Обычно значения для переменных типа char задаются в апострофах: ch:= '*'; a:= '3'; letter:='G'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Кроме того, имеется возможность задавать значения указанием непосредственного числового значения ASCII-кода: kd:=#65 {символ 'A'}; s:=#10 {клавиша &lt;Enter&gt;}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Так как символьный тип является порядковым типом данных, то для него справедливо все, что было сказано о порядковых типах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360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нтервальный (ограниченный) тип данных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95280" y="1719000"/>
            <a:ext cx="829152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- интервал значений порядкового типа, называемого </a:t>
            </a:r>
            <a:r>
              <a:rPr b="0" lang="ru-RU" sz="2200" spc="-1" strike="noStrike" u="sng">
                <a:solidFill>
                  <a:srgbClr val="ffffff"/>
                </a:solidFill>
                <a:uFillTx/>
                <a:latin typeface="Comic Sans MS"/>
              </a:rPr>
              <a:t>базовым типом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. Описание типа задает наименьшее и наибольшее значения, входящие в этот интервал.  Например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Var a:1..25;   ch: 'а'..'z'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Здесь переменные а и ch могут принимать значения только из указанного интервала; базовым типом для переменной а является целый тип, а для переменно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ch — символьны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Переменная ограниченного типа сохраняет все свойства переменных базового тип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365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00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250560" y="1719360"/>
            <a:ext cx="87138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mic Sans MS"/>
              </a:rPr>
              <a:t>Использование ограниченного типа делает программу более наглядной и понятной. Например, если в программе переменная </a:t>
            </a:r>
            <a:r>
              <a:rPr b="1" i="1" lang="en-US" sz="19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1" lang="en-US" sz="19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Comic Sans MS"/>
              </a:rPr>
              <a:t>может принимать только значения 3, 4, 5, 6, 7, 8, то лучше описать ее следующим образом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5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1900" spc="-1" strike="noStrike">
                <a:solidFill>
                  <a:srgbClr val="ffffff"/>
                </a:solidFill>
                <a:latin typeface="Comic Sans MS"/>
              </a:rPr>
              <a:t>Var b:3..8; чем Var b: Integer;</a:t>
            </a:r>
            <a:r>
              <a:rPr b="0" lang="ru-RU" sz="19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5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Comic Sans MS"/>
              </a:rPr>
              <a:t>так как в случае выхода значения b за диапазон 3..8 в первом случае будет выдано диагностическое сообщение, которое поможет найти ошибку. Во втором случае будет получен неправильный результат, что затруднит поиск ошибки. Таким образом, второй вариант описания переменной следует использовать в тех случаях, когда диапазон значений заранее неизвестен, либо занимает весь допустимый интервал значений для рассматриваемого типа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Tahoma"/>
              </a:rPr>
              <a:t>Интервальный (ограниченный) тип данных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370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59780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Константы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и типизированные константы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300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Числа, символы, строки множества, которые не изменяют своего значения в процессе выполнения программы, должны объявляться как постоянные, т.е. константы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Например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CONST    E=2.718281828;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(Число Эйлера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C=2.99792458E+8;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(скорость света в м\с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CUBE =12;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(число ребер куба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HELLO = ‘Привет‘ ;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(строка – приветствие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On = true;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(логические константы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Off = false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375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5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0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5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Типизированные константы  могут изменять свое значение в процессе выполнения программы. Типизированные константы, в сущности, правильнее считать переменными, но правила их объявления ближе к правилу объявления констант, поэтому они получили такое назва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Например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T FLAG: BOOLENT=TRU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:INTEGER=9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Tahoma"/>
              </a:rPr>
              <a:t>Константы</a:t>
            </a:r>
            <a:r>
              <a:rPr b="1" lang="en-US" sz="3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900" spc="-1" strike="noStrike">
                <a:solidFill>
                  <a:srgbClr val="ffffff"/>
                </a:solidFill>
                <a:latin typeface="Tahoma"/>
              </a:rPr>
              <a:t>и типизированные константы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380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4360" y="360360"/>
            <a:ext cx="748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Домашнее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задание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0">
              <a:lnSpc>
                <a:spcPct val="11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Подготовить ответы на  вопросы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74600" indent="536760">
              <a:lnSpc>
                <a:spcPct val="115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Чем характеризуется переменная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74600" indent="536760">
              <a:lnSpc>
                <a:spcPct val="115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Перечислите типы данных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74600" indent="536760">
              <a:lnSpc>
                <a:spcPct val="115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Как описываются переменные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74600" indent="536760">
              <a:lnSpc>
                <a:spcPct val="115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Какова структура программы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74600" indent="536760">
              <a:lnSpc>
                <a:spcPct val="115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С чего начинается основная программ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74600" indent="536760">
              <a:lnSpc>
                <a:spcPct val="115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Чем заканчивается программ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7920000" y="6643800"/>
            <a:ext cx="1223640" cy="214200"/>
            <a:chOff x="7920000" y="6643800"/>
            <a:chExt cx="1223640" cy="214200"/>
          </a:xfrm>
        </p:grpSpPr>
        <p:sp>
          <p:nvSpPr>
            <p:cNvPr id="385" name="">
              <a:hlinkClick r:id="" action="ppaction://hlinkshowjump?jump=previousslide"/>
            </p:cNvPr>
            <p:cNvSpPr/>
            <p:nvPr/>
          </p:nvSpPr>
          <p:spPr>
            <a:xfrm>
              <a:off x="7920000" y="6643800"/>
              <a:ext cx="653400" cy="214200"/>
            </a:xfrm>
            <a:custGeom>
              <a:avLst/>
              <a:gdLst>
                <a:gd name="textAreaLeft" fmla="*/ 13680 w 653400"/>
                <a:gd name="textAreaRight" fmla="*/ 639720 w 653400"/>
                <a:gd name="textAreaTop" fmla="*/ 13680 h 214200"/>
                <a:gd name="textAreaBottom" fmla="*/ 200520 h 214200"/>
              </a:gdLst>
              <a:ahLst/>
              <a:rect l="textAreaLeft" t="textAreaTop" r="textAreaRight" b="textAreaBottom"/>
              <a:pathLst>
                <a:path w="65815" h="21600">
                  <a:moveTo>
                    <a:pt x="0" y="0"/>
                  </a:moveTo>
                  <a:lnTo>
                    <a:pt x="65815" y="0"/>
                  </a:lnTo>
                  <a:lnTo>
                    <a:pt x="65815" y="21600"/>
                  </a:lnTo>
                  <a:lnTo>
                    <a:pt x="0" y="21600"/>
                  </a:lnTo>
                  <a:close/>
                </a:path>
                <a:path fill="lightenLess" w="65815" h="21600">
                  <a:moveTo>
                    <a:pt x="0" y="0"/>
                  </a:moveTo>
                  <a:lnTo>
                    <a:pt x="65815" y="0"/>
                  </a:lnTo>
                  <a:lnTo>
                    <a:pt x="64415" y="1400"/>
                  </a:lnTo>
                  <a:lnTo>
                    <a:pt x="1400" y="1400"/>
                  </a:lnTo>
                  <a:close/>
                </a:path>
                <a:path fill="darken" w="65815" h="21600">
                  <a:moveTo>
                    <a:pt x="65815" y="0"/>
                  </a:moveTo>
                  <a:lnTo>
                    <a:pt x="65815" y="21600"/>
                  </a:lnTo>
                  <a:lnTo>
                    <a:pt x="64415" y="20200"/>
                  </a:lnTo>
                  <a:lnTo>
                    <a:pt x="64415" y="1400"/>
                  </a:lnTo>
                  <a:close/>
                </a:path>
                <a:path fill="darkenLess" w="65815" h="21600">
                  <a:moveTo>
                    <a:pt x="6581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4415" y="20200"/>
                  </a:lnTo>
                  <a:close/>
                </a:path>
                <a:path fill="lighten" w="6581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65815" h="21600">
                  <a:moveTo>
                    <a:pt x="25901" y="10800"/>
                  </a:moveTo>
                  <a:lnTo>
                    <a:pt x="39914" y="3794"/>
                  </a:lnTo>
                  <a:lnTo>
                    <a:pt x="39914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>
              <a:hlinkClick r:id="" action="ppaction://hlinkshowjump?jump=nextslide"/>
            </p:cNvPr>
            <p:cNvSpPr/>
            <p:nvPr/>
          </p:nvSpPr>
          <p:spPr>
            <a:xfrm>
              <a:off x="8613720" y="6643800"/>
              <a:ext cx="529920" cy="214200"/>
            </a:xfrm>
            <a:custGeom>
              <a:avLst/>
              <a:gdLst>
                <a:gd name="textAreaLeft" fmla="*/ 13680 w 529920"/>
                <a:gd name="textAreaRight" fmla="*/ 516240 w 529920"/>
                <a:gd name="textAreaTop" fmla="*/ 13680 h 214200"/>
                <a:gd name="textAreaBottom" fmla="*/ 200520 h 214200"/>
              </a:gdLst>
              <a:ahLst/>
              <a:rect l="textAreaLeft" t="textAreaTop" r="textAreaRight" b="textAreaBottom"/>
              <a:pathLst>
                <a:path w="53384" h="21600">
                  <a:moveTo>
                    <a:pt x="0" y="0"/>
                  </a:moveTo>
                  <a:lnTo>
                    <a:pt x="53384" y="0"/>
                  </a:lnTo>
                  <a:lnTo>
                    <a:pt x="53384" y="21600"/>
                  </a:lnTo>
                  <a:lnTo>
                    <a:pt x="0" y="21600"/>
                  </a:lnTo>
                  <a:close/>
                </a:path>
                <a:path fill="lightenLess" w="53384" h="21600">
                  <a:moveTo>
                    <a:pt x="0" y="0"/>
                  </a:moveTo>
                  <a:lnTo>
                    <a:pt x="53384" y="0"/>
                  </a:lnTo>
                  <a:lnTo>
                    <a:pt x="51984" y="1400"/>
                  </a:lnTo>
                  <a:lnTo>
                    <a:pt x="1400" y="1400"/>
                  </a:lnTo>
                  <a:close/>
                </a:path>
                <a:path fill="darken" w="53384" h="21600">
                  <a:moveTo>
                    <a:pt x="53384" y="0"/>
                  </a:moveTo>
                  <a:lnTo>
                    <a:pt x="53384" y="21600"/>
                  </a:lnTo>
                  <a:lnTo>
                    <a:pt x="51984" y="20200"/>
                  </a:lnTo>
                  <a:lnTo>
                    <a:pt x="51984" y="1400"/>
                  </a:lnTo>
                  <a:close/>
                </a:path>
                <a:path fill="darkenLess" w="53384" h="21600">
                  <a:moveTo>
                    <a:pt x="5338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1984" y="20200"/>
                  </a:lnTo>
                  <a:close/>
                </a:path>
                <a:path fill="lighten" w="5338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3384" h="21600">
                  <a:moveTo>
                    <a:pt x="19685" y="3794"/>
                  </a:moveTo>
                  <a:lnTo>
                    <a:pt x="33698" y="10800"/>
                  </a:lnTo>
                  <a:lnTo>
                    <a:pt x="19685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"/>
          <p:cNvGrpSpPr/>
          <p:nvPr/>
        </p:nvGrpSpPr>
        <p:grpSpPr>
          <a:xfrm>
            <a:off x="8209080" y="6643800"/>
            <a:ext cx="934560" cy="214200"/>
            <a:chOff x="8209080" y="6643800"/>
            <a:chExt cx="934560" cy="214200"/>
          </a:xfrm>
        </p:grpSpPr>
        <p:sp>
          <p:nvSpPr>
            <p:cNvPr id="388" name="">
              <a:hlinkClick r:id="" action="ppaction://hlinkshowjump?jump=previousslide"/>
            </p:cNvPr>
            <p:cNvSpPr/>
            <p:nvPr/>
          </p:nvSpPr>
          <p:spPr>
            <a:xfrm>
              <a:off x="8209080" y="6643800"/>
              <a:ext cx="498960" cy="214200"/>
            </a:xfrm>
            <a:custGeom>
              <a:avLst/>
              <a:gdLst>
                <a:gd name="textAreaLeft" fmla="*/ 13680 w 498960"/>
                <a:gd name="textAreaRight" fmla="*/ 485280 w 498960"/>
                <a:gd name="textAreaTop" fmla="*/ 13680 h 214200"/>
                <a:gd name="textAreaBottom" fmla="*/ 200520 h 214200"/>
              </a:gdLst>
              <a:ahLst/>
              <a:rect l="textAreaLeft" t="textAreaTop" r="textAreaRight" b="textAreaBottom"/>
              <a:pathLst>
                <a:path w="50267" h="21600">
                  <a:moveTo>
                    <a:pt x="0" y="0"/>
                  </a:moveTo>
                  <a:lnTo>
                    <a:pt x="50267" y="0"/>
                  </a:lnTo>
                  <a:lnTo>
                    <a:pt x="50267" y="21600"/>
                  </a:lnTo>
                  <a:lnTo>
                    <a:pt x="0" y="21600"/>
                  </a:lnTo>
                  <a:close/>
                </a:path>
                <a:path fill="lightenLess" w="50267" h="21600">
                  <a:moveTo>
                    <a:pt x="0" y="0"/>
                  </a:moveTo>
                  <a:lnTo>
                    <a:pt x="50267" y="0"/>
                  </a:lnTo>
                  <a:lnTo>
                    <a:pt x="48867" y="1400"/>
                  </a:lnTo>
                  <a:lnTo>
                    <a:pt x="1400" y="1400"/>
                  </a:lnTo>
                  <a:close/>
                </a:path>
                <a:path fill="darken" w="50267" h="21600">
                  <a:moveTo>
                    <a:pt x="50267" y="0"/>
                  </a:moveTo>
                  <a:lnTo>
                    <a:pt x="50267" y="21600"/>
                  </a:lnTo>
                  <a:lnTo>
                    <a:pt x="48867" y="20200"/>
                  </a:lnTo>
                  <a:lnTo>
                    <a:pt x="48867" y="1400"/>
                  </a:lnTo>
                  <a:close/>
                </a:path>
                <a:path fill="darkenLess" w="50267" h="21600">
                  <a:moveTo>
                    <a:pt x="502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8867" y="20200"/>
                  </a:lnTo>
                  <a:close/>
                </a:path>
                <a:path fill="lighten" w="502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0267" h="21600">
                  <a:moveTo>
                    <a:pt x="18127" y="10800"/>
                  </a:moveTo>
                  <a:lnTo>
                    <a:pt x="32140" y="3794"/>
                  </a:lnTo>
                  <a:lnTo>
                    <a:pt x="32140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>
              <a:hlinkClick r:id="" action="ppaction://hlinkshowjump?jump=nextslide"/>
            </p:cNvPr>
            <p:cNvSpPr/>
            <p:nvPr/>
          </p:nvSpPr>
          <p:spPr>
            <a:xfrm>
              <a:off x="8739000" y="6643800"/>
              <a:ext cx="404640" cy="214200"/>
            </a:xfrm>
            <a:custGeom>
              <a:avLst/>
              <a:gdLst>
                <a:gd name="textAreaLeft" fmla="*/ 13680 w 404640"/>
                <a:gd name="textAreaRight" fmla="*/ 390960 w 404640"/>
                <a:gd name="textAreaTop" fmla="*/ 13680 h 214200"/>
                <a:gd name="textAreaBottom" fmla="*/ 200520 h 214200"/>
              </a:gdLst>
              <a:ahLst/>
              <a:rect l="textAreaLeft" t="textAreaTop" r="textAreaRight" b="textAreaBottom"/>
              <a:pathLst>
                <a:path w="40772" h="21600">
                  <a:moveTo>
                    <a:pt x="0" y="0"/>
                  </a:moveTo>
                  <a:lnTo>
                    <a:pt x="40772" y="0"/>
                  </a:lnTo>
                  <a:lnTo>
                    <a:pt x="40772" y="21600"/>
                  </a:lnTo>
                  <a:lnTo>
                    <a:pt x="0" y="21600"/>
                  </a:lnTo>
                  <a:close/>
                </a:path>
                <a:path fill="lightenLess" w="40772" h="21600">
                  <a:moveTo>
                    <a:pt x="0" y="0"/>
                  </a:moveTo>
                  <a:lnTo>
                    <a:pt x="40772" y="0"/>
                  </a:lnTo>
                  <a:lnTo>
                    <a:pt x="39372" y="1400"/>
                  </a:lnTo>
                  <a:lnTo>
                    <a:pt x="1400" y="1400"/>
                  </a:lnTo>
                  <a:close/>
                </a:path>
                <a:path fill="darken" w="40772" h="21600">
                  <a:moveTo>
                    <a:pt x="40772" y="0"/>
                  </a:moveTo>
                  <a:lnTo>
                    <a:pt x="40772" y="21600"/>
                  </a:lnTo>
                  <a:lnTo>
                    <a:pt x="39372" y="20200"/>
                  </a:lnTo>
                  <a:lnTo>
                    <a:pt x="39372" y="1400"/>
                  </a:lnTo>
                  <a:close/>
                </a:path>
                <a:path fill="darkenLess" w="40772" h="21600">
                  <a:moveTo>
                    <a:pt x="4077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9372" y="20200"/>
                  </a:lnTo>
                  <a:close/>
                </a:path>
                <a:path fill="lighten" w="4077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772" h="21600">
                  <a:moveTo>
                    <a:pt x="13379" y="3794"/>
                  </a:moveTo>
                  <a:lnTo>
                    <a:pt x="27392" y="10800"/>
                  </a:lnTo>
                  <a:lnTo>
                    <a:pt x="13379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755640" y="4653000"/>
            <a:ext cx="1573200" cy="18208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44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ема урока: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Встроенные функции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Цель урока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 Дать основные понятия о языках программиро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лан урок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1. Проверка домашнего зад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2. Встроенные функции в языках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QBasic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и Turbo Pascal 7.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3. Операторы ввода/вывода в языках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QBasic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и Turbo Pascal 7.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4.  Первые программы на языках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QBasic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и Turbo Pascal 7.0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5. Решение зада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6. Домашнее зад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8028000" y="6669000"/>
            <a:ext cx="863640" cy="189000"/>
            <a:chOff x="8028000" y="6669000"/>
            <a:chExt cx="863640" cy="189000"/>
          </a:xfrm>
        </p:grpSpPr>
        <p:sp>
          <p:nvSpPr>
            <p:cNvPr id="394" name="">
              <a:hlinkClick r:id="" action="ppaction://hlinkshowjump?jump=previousslide"/>
            </p:cNvPr>
            <p:cNvSpPr/>
            <p:nvPr/>
          </p:nvSpPr>
          <p:spPr>
            <a:xfrm>
              <a:off x="8028000" y="6669000"/>
              <a:ext cx="460800" cy="189000"/>
            </a:xfrm>
            <a:custGeom>
              <a:avLst/>
              <a:gdLst>
                <a:gd name="textAreaLeft" fmla="*/ 12240 w 460800"/>
                <a:gd name="textAreaRight" fmla="*/ 448560 w 460800"/>
                <a:gd name="textAreaTop" fmla="*/ 12240 h 189000"/>
                <a:gd name="textAreaBottom" fmla="*/ 176760 h 189000"/>
              </a:gdLst>
              <a:ahLst/>
              <a:rect l="textAreaLeft" t="textAreaTop" r="textAreaRight" b="textAreaBottom"/>
              <a:pathLst>
                <a:path w="52604" h="21600">
                  <a:moveTo>
                    <a:pt x="0" y="0"/>
                  </a:moveTo>
                  <a:lnTo>
                    <a:pt x="52604" y="0"/>
                  </a:lnTo>
                  <a:lnTo>
                    <a:pt x="52604" y="21600"/>
                  </a:lnTo>
                  <a:lnTo>
                    <a:pt x="0" y="21600"/>
                  </a:lnTo>
                  <a:close/>
                </a:path>
                <a:path fill="lightenLess" w="52604" h="21600">
                  <a:moveTo>
                    <a:pt x="0" y="0"/>
                  </a:moveTo>
                  <a:lnTo>
                    <a:pt x="52604" y="0"/>
                  </a:lnTo>
                  <a:lnTo>
                    <a:pt x="51204" y="1400"/>
                  </a:lnTo>
                  <a:lnTo>
                    <a:pt x="1400" y="1400"/>
                  </a:lnTo>
                  <a:close/>
                </a:path>
                <a:path fill="darken" w="52604" h="21600">
                  <a:moveTo>
                    <a:pt x="52604" y="0"/>
                  </a:moveTo>
                  <a:lnTo>
                    <a:pt x="52604" y="21600"/>
                  </a:lnTo>
                  <a:lnTo>
                    <a:pt x="51204" y="20200"/>
                  </a:lnTo>
                  <a:lnTo>
                    <a:pt x="51204" y="1400"/>
                  </a:lnTo>
                  <a:close/>
                </a:path>
                <a:path fill="darkenLess" w="52604" h="21600">
                  <a:moveTo>
                    <a:pt x="5260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1204" y="20200"/>
                  </a:lnTo>
                  <a:close/>
                </a:path>
                <a:path fill="lighten" w="5260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2604" h="21600">
                  <a:moveTo>
                    <a:pt x="19295" y="10800"/>
                  </a:moveTo>
                  <a:lnTo>
                    <a:pt x="33308" y="3794"/>
                  </a:lnTo>
                  <a:lnTo>
                    <a:pt x="3330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>
              <a:hlinkClick r:id="" action="ppaction://hlinkshowjump?jump=nextslide"/>
            </p:cNvPr>
            <p:cNvSpPr/>
            <p:nvPr/>
          </p:nvSpPr>
          <p:spPr>
            <a:xfrm>
              <a:off x="8517600" y="6669000"/>
              <a:ext cx="374040" cy="189000"/>
            </a:xfrm>
            <a:custGeom>
              <a:avLst/>
              <a:gdLst>
                <a:gd name="textAreaLeft" fmla="*/ 12240 w 374040"/>
                <a:gd name="textAreaRight" fmla="*/ 361800 w 374040"/>
                <a:gd name="textAreaTop" fmla="*/ 12240 h 189000"/>
                <a:gd name="textAreaBottom" fmla="*/ 176760 h 189000"/>
              </a:gdLst>
              <a:ahLst/>
              <a:rect l="textAreaLeft" t="textAreaTop" r="textAreaRight" b="textAreaBottom"/>
              <a:pathLst>
                <a:path w="42707" h="21600">
                  <a:moveTo>
                    <a:pt x="0" y="0"/>
                  </a:moveTo>
                  <a:lnTo>
                    <a:pt x="42707" y="0"/>
                  </a:lnTo>
                  <a:lnTo>
                    <a:pt x="42707" y="21600"/>
                  </a:lnTo>
                  <a:lnTo>
                    <a:pt x="0" y="21600"/>
                  </a:lnTo>
                  <a:close/>
                </a:path>
                <a:path fill="lightenLess" w="42707" h="21600">
                  <a:moveTo>
                    <a:pt x="0" y="0"/>
                  </a:moveTo>
                  <a:lnTo>
                    <a:pt x="42707" y="0"/>
                  </a:lnTo>
                  <a:lnTo>
                    <a:pt x="41307" y="1400"/>
                  </a:lnTo>
                  <a:lnTo>
                    <a:pt x="1400" y="1400"/>
                  </a:lnTo>
                  <a:close/>
                </a:path>
                <a:path fill="darken" w="42707" h="21600">
                  <a:moveTo>
                    <a:pt x="42707" y="0"/>
                  </a:moveTo>
                  <a:lnTo>
                    <a:pt x="42707" y="21600"/>
                  </a:lnTo>
                  <a:lnTo>
                    <a:pt x="41307" y="20200"/>
                  </a:lnTo>
                  <a:lnTo>
                    <a:pt x="41307" y="1400"/>
                  </a:lnTo>
                  <a:close/>
                </a:path>
                <a:path fill="darkenLess" w="42707" h="21600">
                  <a:moveTo>
                    <a:pt x="4270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1307" y="20200"/>
                  </a:lnTo>
                  <a:close/>
                </a:path>
                <a:path fill="lighten" w="4270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2707" h="21600">
                  <a:moveTo>
                    <a:pt x="14347" y="3794"/>
                  </a:moveTo>
                  <a:lnTo>
                    <a:pt x="28360" y="10800"/>
                  </a:lnTo>
                  <a:lnTo>
                    <a:pt x="14347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Ход урока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. Проверка домашнего зад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Вопрос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Чем характеризуется переменная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Перечислите типы данных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Как описываются переменны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Какова структура программ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С чего начинается основная программ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Чем заканчивается программ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399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69120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Встроенные функци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Каждая функция имеет одну форму запис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Имя-функции (аргумент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Имя функции выбирается из таблицы, а аргумент записывается в виде арифметического выра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Например: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BS(x)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404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0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Языки компилирующего типа сначала переводят весь текст программы в машинные коды, а уже затем полученный файл может быть запущен на выполнение. Откомпилированная программа выполняется гораздо быстрее (в 5-10 раз), но наличие ошибок на этапе компиляции требует довольно много времени на их исправлени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Компиляторы 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171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179280" y="1590480"/>
            <a:ext cx="878544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Запись на QBasic Математическая запись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Запись Turbo Pascal 7.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S(x)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x|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S(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N(x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n 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N(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x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 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N(x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g 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—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N(x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ctg 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cTAN(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INT(x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елая часть  х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QR (x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вадратный корен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QRT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 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RND[(x)]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дает случайное число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NDOM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[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5760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 интервала (0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ahoma"/>
              </a:rPr>
              <a:t>Некоторые встроенные функции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409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5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5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35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45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5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65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75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85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9500"/>
                            </p:stCondLst>
                            <p:childTnLst>
                              <p:par>
                                <p:cTn id="51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0500"/>
                            </p:stCondLst>
                            <p:childTnLst>
                              <p:par>
                                <p:cTn id="52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4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440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Некоторые встроенные функции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8713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Запись на QBasic Математическая запись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Запись Turbo Pascal 7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вадрат аргумент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QR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казательная функц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туральный логариф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N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--------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исло П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без аргумен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GN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нак числ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INT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звращает число равно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UND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лой части (округляет по правил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фметики тип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NG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обная часть числ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AC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X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ругляет числи, отбрасыва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UNC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обную часть чис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ип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NG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величивает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на величину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еньшает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на величину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C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8244000" y="6669000"/>
            <a:ext cx="899640" cy="189000"/>
            <a:chOff x="8244000" y="6669000"/>
            <a:chExt cx="899640" cy="189000"/>
          </a:xfrm>
        </p:grpSpPr>
        <p:sp>
          <p:nvSpPr>
            <p:cNvPr id="414" name="">
              <a:hlinkClick r:id="" action="ppaction://hlinkshowjump?jump=previousslide"/>
            </p:cNvPr>
            <p:cNvSpPr/>
            <p:nvPr/>
          </p:nvSpPr>
          <p:spPr>
            <a:xfrm>
              <a:off x="8244000" y="6669000"/>
              <a:ext cx="480240" cy="189000"/>
            </a:xfrm>
            <a:custGeom>
              <a:avLst/>
              <a:gdLst>
                <a:gd name="textAreaLeft" fmla="*/ 12240 w 480240"/>
                <a:gd name="textAreaRight" fmla="*/ 468000 w 480240"/>
                <a:gd name="textAreaTop" fmla="*/ 12240 h 189000"/>
                <a:gd name="textAreaBottom" fmla="*/ 176760 h 189000"/>
              </a:gdLst>
              <a:ahLst/>
              <a:rect l="textAreaLeft" t="textAreaTop" r="textAreaRight" b="textAreaBottom"/>
              <a:pathLst>
                <a:path w="54821" h="21600">
                  <a:moveTo>
                    <a:pt x="0" y="0"/>
                  </a:moveTo>
                  <a:lnTo>
                    <a:pt x="54821" y="0"/>
                  </a:lnTo>
                  <a:lnTo>
                    <a:pt x="54821" y="21600"/>
                  </a:lnTo>
                  <a:lnTo>
                    <a:pt x="0" y="21600"/>
                  </a:lnTo>
                  <a:close/>
                </a:path>
                <a:path fill="lightenLess" w="54821" h="21600">
                  <a:moveTo>
                    <a:pt x="0" y="0"/>
                  </a:moveTo>
                  <a:lnTo>
                    <a:pt x="54821" y="0"/>
                  </a:lnTo>
                  <a:lnTo>
                    <a:pt x="53421" y="1400"/>
                  </a:lnTo>
                  <a:lnTo>
                    <a:pt x="1400" y="1400"/>
                  </a:lnTo>
                  <a:close/>
                </a:path>
                <a:path fill="darken" w="54821" h="21600">
                  <a:moveTo>
                    <a:pt x="54821" y="0"/>
                  </a:moveTo>
                  <a:lnTo>
                    <a:pt x="54821" y="21600"/>
                  </a:lnTo>
                  <a:lnTo>
                    <a:pt x="53421" y="20200"/>
                  </a:lnTo>
                  <a:lnTo>
                    <a:pt x="53421" y="1400"/>
                  </a:lnTo>
                  <a:close/>
                </a:path>
                <a:path fill="darkenLess" w="54821" h="21600">
                  <a:moveTo>
                    <a:pt x="5482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3421" y="20200"/>
                  </a:lnTo>
                  <a:close/>
                </a:path>
                <a:path fill="lighten" w="5482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4821" h="21600">
                  <a:moveTo>
                    <a:pt x="20404" y="10800"/>
                  </a:moveTo>
                  <a:lnTo>
                    <a:pt x="34417" y="3794"/>
                  </a:lnTo>
                  <a:lnTo>
                    <a:pt x="34417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>
              <a:hlinkClick r:id="" action="ppaction://hlinkshowjump?jump=nextslide"/>
            </p:cNvPr>
            <p:cNvSpPr/>
            <p:nvPr/>
          </p:nvSpPr>
          <p:spPr>
            <a:xfrm>
              <a:off x="8754120" y="6669000"/>
              <a:ext cx="389520" cy="189000"/>
            </a:xfrm>
            <a:custGeom>
              <a:avLst/>
              <a:gdLst>
                <a:gd name="textAreaLeft" fmla="*/ 12240 w 389520"/>
                <a:gd name="textAreaRight" fmla="*/ 377280 w 389520"/>
                <a:gd name="textAreaTop" fmla="*/ 12240 h 189000"/>
                <a:gd name="textAreaBottom" fmla="*/ 176760 h 189000"/>
              </a:gdLst>
              <a:ahLst/>
              <a:rect l="textAreaLeft" t="textAreaTop" r="textAreaRight" b="textAreaBottom"/>
              <a:pathLst>
                <a:path w="44473" h="21600">
                  <a:moveTo>
                    <a:pt x="0" y="0"/>
                  </a:moveTo>
                  <a:lnTo>
                    <a:pt x="44473" y="0"/>
                  </a:lnTo>
                  <a:lnTo>
                    <a:pt x="44473" y="21600"/>
                  </a:lnTo>
                  <a:lnTo>
                    <a:pt x="0" y="21600"/>
                  </a:lnTo>
                  <a:close/>
                </a:path>
                <a:path fill="lightenLess" w="44473" h="21600">
                  <a:moveTo>
                    <a:pt x="0" y="0"/>
                  </a:moveTo>
                  <a:lnTo>
                    <a:pt x="44473" y="0"/>
                  </a:lnTo>
                  <a:lnTo>
                    <a:pt x="43073" y="1400"/>
                  </a:lnTo>
                  <a:lnTo>
                    <a:pt x="1400" y="1400"/>
                  </a:lnTo>
                  <a:close/>
                </a:path>
                <a:path fill="darken" w="44473" h="21600">
                  <a:moveTo>
                    <a:pt x="44473" y="0"/>
                  </a:moveTo>
                  <a:lnTo>
                    <a:pt x="44473" y="21600"/>
                  </a:lnTo>
                  <a:lnTo>
                    <a:pt x="43073" y="20200"/>
                  </a:lnTo>
                  <a:lnTo>
                    <a:pt x="43073" y="1400"/>
                  </a:lnTo>
                  <a:close/>
                </a:path>
                <a:path fill="darkenLess" w="44473" h="21600">
                  <a:moveTo>
                    <a:pt x="4447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3073" y="20200"/>
                  </a:lnTo>
                  <a:close/>
                </a:path>
                <a:path fill="lighten" w="4447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4473" h="21600">
                  <a:moveTo>
                    <a:pt x="15230" y="3794"/>
                  </a:moveTo>
                  <a:lnTo>
                    <a:pt x="29243" y="10800"/>
                  </a:lnTo>
                  <a:lnTo>
                    <a:pt x="15230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68360" y="183960"/>
            <a:ext cx="8244000" cy="5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ОПЕРАТОРЫ  ВВОДА, ВЫВОД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79246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74600">
              <a:lnSpc>
                <a:spcPct val="110000"/>
              </a:lnSpc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ffff"/>
                </a:solidFill>
                <a:latin typeface="Comic Sans MS"/>
              </a:rPr>
              <a:t>ОПЕРАТОРЫ ВЫВОДА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ffffff"/>
                </a:solidFill>
                <a:latin typeface="Comic Sans MS"/>
              </a:rPr>
              <a:t>QBasic</a:t>
            </a:r>
            <a:r>
              <a:rPr b="0" i="1" lang="ru-RU" sz="2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ru-RU" sz="29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ru-RU" sz="2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ru-RU" sz="2900" spc="-1" strike="noStrike">
                <a:solidFill>
                  <a:srgbClr val="ffffff"/>
                </a:solidFill>
                <a:latin typeface="Comic Sans MS"/>
              </a:rPr>
              <a:t>Turbo Pascal </a:t>
            </a:r>
            <a:r>
              <a:rPr b="0" i="1" lang="ru-RU" sz="3000" spc="-1" strike="noStrike">
                <a:solidFill>
                  <a:srgbClr val="ffffff"/>
                </a:solidFill>
                <a:latin typeface="Arial"/>
              </a:rPr>
              <a:t>7.0</a:t>
            </a:r>
            <a:r>
              <a:rPr b="1" i="1" lang="ru-RU" sz="29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419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250920" y="2205000"/>
            <a:ext cx="838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1. 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PRINT a1;a2; …;an</a:t>
            </a: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;</a:t>
            </a:r>
            <a:r>
              <a:rPr b="1" i="1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WRITE(а1,а2,...,аn) - выводит 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последовательно значения  переменных 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а1,а2, ... ,аn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24000" y="3213000"/>
            <a:ext cx="828036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mic Sans MS"/>
              </a:rPr>
              <a:t>Переход на следующую строку не происходи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2. PRINT a1;a2; …;an</a:t>
            </a:r>
            <a:r>
              <a:rPr b="1" i="1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WRITELN(а1,а2,..,аn) выводит 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последовательно значения а1,а2,.. ,а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Comic Sans MS"/>
              </a:rPr>
              <a:t>Переход на следующую строку  происходи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3. PRINT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WRITELN  - осуществляет переход на 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новую строк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Последовательное расположение операторов 1) и 3) равносильно одному оператору 2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754380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ПЕРАТОРЫ ВВОД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3628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omic Sans MS"/>
              </a:rPr>
              <a:t>QBasic</a:t>
            </a:r>
            <a:r>
              <a:rPr b="1" i="1" lang="ru-R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INPUT a1,a2,…,an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INPUT a1,a2,…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INKEY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$ - функция ввод/вывода, читающая символы с клавиатуры. Например, ждет нажатия заданного количества символов, пароля или управляющих клавиш. Код клавиш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ENTER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=13, а код клавиш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ESC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=2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O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PRINT “Для выхода нажмите клавишу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ENTER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LOOP WHILE INKEY$ &lt;&gt;CHR(13) 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426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500"/>
                            </p:stCondLst>
                            <p:childTnLst>
                              <p:par>
                                <p:cTn id="5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3000"/>
                            </p:stCondLst>
                            <p:childTnLst>
                              <p:par>
                                <p:cTn id="5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3500"/>
                            </p:stCondLst>
                            <p:childTnLst>
                              <p:par>
                                <p:cTn id="5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5438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Comic Sans MS"/>
              </a:rPr>
              <a:t>Turbo Pascal 7.01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READ(а1,а2,...,аn) - каждое вводимое значение  получают последовательно переменные а1,а2,... ,а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READLN(а1,а2,..,аn) - каждое вводимое  значение  получают последовательно переменные  а1,а2,...,а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READLN - переход на новую строку при вводе  данных. Такой оператор применяется, когда  исполнение программы желательно задержать  до нажатия клавиш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ENTER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431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76327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ервые программы на языках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QBasic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и Turbo Pascal 7.0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Comic Sans MS"/>
              </a:rPr>
              <a:t>Вычислить периметр прямоугольника со  сторонами А и В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mic Sans MS"/>
              </a:rPr>
              <a:t>Решени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Comic Sans MS"/>
              </a:rPr>
              <a:t>Обозначим периметр буквой Р,  тогда Р =(А+В)*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Comic Sans MS"/>
              </a:rPr>
              <a:t>Составим программу при конкретных значениях А  и В. Пусть А = 8, В = 21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436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6659640" y="2421000"/>
            <a:ext cx="2124000" cy="1520640"/>
            <a:chOff x="6659640" y="2421000"/>
            <a:chExt cx="2124000" cy="1520640"/>
          </a:xfrm>
        </p:grpSpPr>
        <p:sp>
          <p:nvSpPr>
            <p:cNvPr id="439" name=""/>
            <p:cNvSpPr/>
            <p:nvPr/>
          </p:nvSpPr>
          <p:spPr>
            <a:xfrm>
              <a:off x="7164360" y="2421000"/>
              <a:ext cx="1619280" cy="936720"/>
            </a:xfrm>
            <a:prstGeom prst="rect">
              <a:avLst/>
            </a:prstGeom>
            <a:solidFill>
              <a:srgbClr val="3333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740720" y="35733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659640" y="2708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500"/>
                            </p:stCondLst>
                            <p:childTnLst>
                              <p:par>
                                <p:cTn id="58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5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35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353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‘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RIM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ogram prim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2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Uses Crt;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Описываем переменны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EFINT A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Var a,b,p: real;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оизводим очистку экрана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LS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lrscr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исваиваем переменным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знач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=8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:=8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=21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:=21;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ычисляем периметр прямоугольн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=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)*2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p:=(a+b)*2;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ыводим значения периметра экра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RINT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“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=”;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Write('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=' ,p);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ND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(необязательный оператор)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END.(обязательный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оператор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>
            <a:hlinkClick r:id="rId1"/>
          </p:cNvPr>
          <p:cNvSpPr/>
          <p:nvPr/>
        </p:nvSpPr>
        <p:spPr>
          <a:xfrm>
            <a:off x="7883640" y="6165720"/>
            <a:ext cx="792000" cy="28764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59427" h="21600">
                <a:moveTo>
                  <a:pt x="0" y="0"/>
                </a:moveTo>
                <a:lnTo>
                  <a:pt x="59427" y="0"/>
                </a:lnTo>
                <a:lnTo>
                  <a:pt x="59427" y="21600"/>
                </a:lnTo>
                <a:lnTo>
                  <a:pt x="0" y="21600"/>
                </a:lnTo>
                <a:close/>
              </a:path>
              <a:path fill="lightenLess" w="59427" h="21600">
                <a:moveTo>
                  <a:pt x="0" y="0"/>
                </a:moveTo>
                <a:lnTo>
                  <a:pt x="59427" y="0"/>
                </a:lnTo>
                <a:lnTo>
                  <a:pt x="58027" y="1400"/>
                </a:lnTo>
                <a:lnTo>
                  <a:pt x="1400" y="1400"/>
                </a:lnTo>
                <a:close/>
              </a:path>
              <a:path fill="darken" w="59427" h="21600">
                <a:moveTo>
                  <a:pt x="59427" y="0"/>
                </a:moveTo>
                <a:lnTo>
                  <a:pt x="59427" y="21600"/>
                </a:lnTo>
                <a:lnTo>
                  <a:pt x="58027" y="20200"/>
                </a:lnTo>
                <a:lnTo>
                  <a:pt x="58027" y="1400"/>
                </a:lnTo>
                <a:close/>
              </a:path>
              <a:path fill="darkenLess" w="59427" h="21600">
                <a:moveTo>
                  <a:pt x="59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027" y="20200"/>
                </a:lnTo>
                <a:close/>
              </a:path>
              <a:path fill="lighten" w="59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>
            <a:hlinkClick r:id="rId2"/>
          </p:cNvPr>
          <p:cNvSpPr/>
          <p:nvPr/>
        </p:nvSpPr>
        <p:spPr>
          <a:xfrm>
            <a:off x="6877080" y="6167520"/>
            <a:ext cx="912960" cy="287280"/>
          </a:xfrm>
          <a:custGeom>
            <a:avLst/>
            <a:gdLst>
              <a:gd name="textAreaLeft" fmla="*/ 18360 w 912960"/>
              <a:gd name="textAreaRight" fmla="*/ 894600 w 9129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68585" h="21600">
                <a:moveTo>
                  <a:pt x="0" y="0"/>
                </a:moveTo>
                <a:lnTo>
                  <a:pt x="68585" y="0"/>
                </a:lnTo>
                <a:lnTo>
                  <a:pt x="68585" y="21600"/>
                </a:lnTo>
                <a:lnTo>
                  <a:pt x="0" y="21600"/>
                </a:lnTo>
                <a:close/>
              </a:path>
              <a:path fill="lightenLess" w="68585" h="21600">
                <a:moveTo>
                  <a:pt x="0" y="0"/>
                </a:moveTo>
                <a:lnTo>
                  <a:pt x="68585" y="0"/>
                </a:lnTo>
                <a:lnTo>
                  <a:pt x="67185" y="1400"/>
                </a:lnTo>
                <a:lnTo>
                  <a:pt x="1400" y="1400"/>
                </a:lnTo>
                <a:close/>
              </a:path>
              <a:path fill="darken" w="68585" h="21600">
                <a:moveTo>
                  <a:pt x="68585" y="0"/>
                </a:moveTo>
                <a:lnTo>
                  <a:pt x="68585" y="21600"/>
                </a:lnTo>
                <a:lnTo>
                  <a:pt x="67185" y="20200"/>
                </a:lnTo>
                <a:lnTo>
                  <a:pt x="67185" y="1400"/>
                </a:lnTo>
                <a:close/>
              </a:path>
              <a:path fill="darkenLess" w="68585" h="21600">
                <a:moveTo>
                  <a:pt x="68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185" y="20200"/>
                </a:lnTo>
                <a:close/>
              </a:path>
              <a:path fill="lighten" w="68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1403280" y="6381720"/>
            <a:ext cx="1008000" cy="215640"/>
            <a:chOff x="1403280" y="6381720"/>
            <a:chExt cx="1008000" cy="215640"/>
          </a:xfrm>
        </p:grpSpPr>
        <p:sp>
          <p:nvSpPr>
            <p:cNvPr id="446" name="">
              <a:hlinkClick r:id="" action="ppaction://hlinkshowjump?jump=previousslide"/>
            </p:cNvPr>
            <p:cNvSpPr/>
            <p:nvPr/>
          </p:nvSpPr>
          <p:spPr>
            <a:xfrm>
              <a:off x="1403280" y="638172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>
              <a:hlinkClick r:id="" action="ppaction://hlinkshowjump?jump=nextslide"/>
            </p:cNvPr>
            <p:cNvSpPr/>
            <p:nvPr/>
          </p:nvSpPr>
          <p:spPr>
            <a:xfrm>
              <a:off x="1974960" y="638172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дания для самостоятельного решения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mic Sans MS"/>
              </a:rPr>
              <a:t>А) Занести в переменную Р по очереди значения некоторых вышеприведенных функций, аргументом которых является сумма А+В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P = SIN(A+В)</a:t>
            </a: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i="1" lang="en-US" sz="2100" spc="-1" strike="noStrike">
                <a:solidFill>
                  <a:srgbClr val="ffffff"/>
                </a:solidFill>
                <a:latin typeface="Comic Sans MS"/>
              </a:rPr>
              <a:t>p:= sin (a + b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mic Sans MS"/>
              </a:rPr>
              <a:t>Б) Напечатайте случайное число в пределах от А до В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P = RND*(B-A) + A</a:t>
            </a: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US" sz="2100" spc="-1" strike="noStrike">
                <a:solidFill>
                  <a:srgbClr val="ffffff"/>
                </a:solidFill>
                <a:latin typeface="Comic Sans MS"/>
              </a:rPr>
              <a:t>p:= random(b-a+1)+a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Comic Sans MS"/>
              </a:rPr>
              <a:t>В) Напечатайте значения переменной Р в формате: 3 позиции для целой части и 2 для дробной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PRINT USING “###.##” ;P</a:t>
            </a:r>
            <a:r>
              <a:rPr b="0" lang="ru-RU" sz="21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i="1" lang="en-US" sz="2100" spc="-1" strike="noStrike">
                <a:solidFill>
                  <a:srgbClr val="ffffff"/>
                </a:solidFill>
                <a:latin typeface="Comic Sans MS"/>
              </a:rPr>
              <a:t>write(p:6:2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ru-RU" sz="21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ru-RU" sz="21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ru-RU" sz="21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ru-RU" sz="21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ru-RU" sz="21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US" sz="21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US" sz="2100" spc="-1" strike="noStrike">
                <a:solidFill>
                  <a:srgbClr val="ffffff"/>
                </a:solidFill>
                <a:latin typeface="Comic Sans MS"/>
              </a:rPr>
              <a:t>(6=3+2+1 на точку)</a:t>
            </a: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451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500"/>
                            </p:stCondLst>
                            <p:childTnLst>
                              <p:par>
                                <p:cTn id="6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000"/>
                            </p:stCondLst>
                            <p:childTnLst>
                              <p:par>
                                <p:cTn id="6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500"/>
                            </p:stCondLst>
                            <p:childTnLst>
                              <p:par>
                                <p:cTn id="6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300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35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6518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mic Sans MS"/>
              </a:rPr>
              <a:t>Подготовить ответы на  вопросы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mic Sans MS"/>
              </a:rPr>
              <a:t>Как записывается оператор вывода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mic Sans MS"/>
              </a:rPr>
              <a:t>Как записывается оператор ввода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mic Sans MS"/>
              </a:rPr>
              <a:t>Как записывается</a:t>
            </a: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 о</a:t>
            </a:r>
            <a:r>
              <a:rPr b="0" lang="ru-RU" sz="2100" spc="-1" strike="noStrike">
                <a:solidFill>
                  <a:srgbClr val="ffffff"/>
                </a:solidFill>
                <a:latin typeface="Comic Sans MS"/>
              </a:rPr>
              <a:t>оператор присвоения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mic Sans MS"/>
              </a:rPr>
              <a:t>Чем заканчивается программа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mic Sans MS"/>
              </a:rPr>
              <a:t>Какая функция используется при записи выражения y=х2+3х—7 на языках </a:t>
            </a: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QBasic</a:t>
            </a:r>
            <a:r>
              <a:rPr b="0" lang="ru-RU" sz="2100" spc="-1" strike="noStrike">
                <a:solidFill>
                  <a:srgbClr val="ffffff"/>
                </a:solidFill>
                <a:latin typeface="Comic Sans MS"/>
              </a:rPr>
              <a:t> и Turbo Pascal 7.0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mic Sans MS"/>
              </a:rPr>
              <a:t>Записать на языках </a:t>
            </a: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QBasic</a:t>
            </a:r>
            <a:r>
              <a:rPr b="0" lang="ru-RU" sz="2100" spc="-1" strike="noStrike">
                <a:solidFill>
                  <a:srgbClr val="ffffff"/>
                </a:solidFill>
                <a:latin typeface="Comic Sans MS"/>
              </a:rPr>
              <a:t> и Turbo Pascal 7.0  следующие выражения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mic Sans MS"/>
              </a:rPr>
              <a:t>у = 5х</a:t>
            </a:r>
            <a:r>
              <a:rPr b="0" lang="ru-RU" sz="2100" spc="-1" strike="noStrike" baseline="30000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ru-RU" sz="2100" spc="-1" strike="noStrike">
                <a:solidFill>
                  <a:srgbClr val="ffffff"/>
                </a:solidFill>
                <a:latin typeface="Comic Sans MS"/>
              </a:rPr>
              <a:t> - 10х + 2;</a:t>
            </a: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z =</a:t>
            </a:r>
            <a:r>
              <a:rPr b="0" lang="ru-RU" sz="2100" spc="-1" strike="noStrike">
                <a:solidFill>
                  <a:srgbClr val="ffffff"/>
                </a:solidFill>
                <a:latin typeface="Comic Sans MS"/>
              </a:rPr>
              <a:t> 14х</a:t>
            </a:r>
            <a:r>
              <a:rPr b="0" lang="ru-RU" sz="2100" spc="-1" strike="noStrike" baseline="30000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ru-RU" sz="2100" spc="-1" strike="noStrike">
                <a:solidFill>
                  <a:srgbClr val="ffffff"/>
                </a:solidFill>
                <a:latin typeface="Comic Sans MS"/>
              </a:rPr>
              <a:t>-5x</a:t>
            </a:r>
            <a:r>
              <a:rPr b="0" lang="ru-RU" sz="2100" spc="-1" strike="noStrike" baseline="30000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ru-RU" sz="2100" spc="-1" strike="noStrike">
                <a:solidFill>
                  <a:srgbClr val="ffffff"/>
                </a:solidFill>
                <a:latin typeface="Comic Sans MS"/>
              </a:rPr>
              <a:t>+11х-17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mic Sans MS"/>
              </a:rPr>
              <a:t>Какие операции можно применять к переменным целого типа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7236000" y="0"/>
            <a:ext cx="1908000" cy="1278000"/>
          </a:xfrm>
          <a:prstGeom prst="rect">
            <a:avLst/>
          </a:prstGeom>
          <a:ln w="0">
            <a:noFill/>
          </a:ln>
        </p:spPr>
      </p:pic>
      <p:grpSp>
        <p:nvGrpSpPr>
          <p:cNvPr id="456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457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1187280" y="3933720"/>
            <a:ext cx="7345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словный оператор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33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461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440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ОСНОВНЫЕ СРЕДСТВА ЯЗЫКА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421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Символы языка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- это элементарные знаки,  используемые при составлении любых текстов. Набор таких символов называют алфавитом язы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Алфавит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(набор символов) языка QBasic  и Turbo Pascal 7.0.   включае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все латинские прописные и строчные букв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(A-Z,a-z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арабские цифры 0-9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знаки    + - * \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/ &lt; &gt; ^  , . ; : ‘ ( ) _  и др.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служебные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слова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7380360" y="6643800"/>
            <a:ext cx="1584000" cy="214200"/>
            <a:chOff x="7380360" y="6643800"/>
            <a:chExt cx="1584000" cy="214200"/>
          </a:xfrm>
        </p:grpSpPr>
        <p:sp>
          <p:nvSpPr>
            <p:cNvPr id="176" name="">
              <a:hlinkClick r:id="" action="ppaction://hlinkshowjump?jump=previousslide"/>
            </p:cNvPr>
            <p:cNvSpPr/>
            <p:nvPr/>
          </p:nvSpPr>
          <p:spPr>
            <a:xfrm>
              <a:off x="7380360" y="6643800"/>
              <a:ext cx="845640" cy="214200"/>
            </a:xfrm>
            <a:custGeom>
              <a:avLst/>
              <a:gdLst>
                <a:gd name="textAreaLeft" fmla="*/ 13680 w 845640"/>
                <a:gd name="textAreaRight" fmla="*/ 831960 w 845640"/>
                <a:gd name="textAreaTop" fmla="*/ 13680 h 214200"/>
                <a:gd name="textAreaBottom" fmla="*/ 200520 h 214200"/>
              </a:gdLst>
              <a:ahLst/>
              <a:rect l="textAreaLeft" t="textAreaTop" r="textAreaRight" b="textAreaBottom"/>
              <a:pathLst>
                <a:path w="85168" h="21600">
                  <a:moveTo>
                    <a:pt x="0" y="0"/>
                  </a:moveTo>
                  <a:lnTo>
                    <a:pt x="85168" y="0"/>
                  </a:lnTo>
                  <a:lnTo>
                    <a:pt x="85168" y="21600"/>
                  </a:lnTo>
                  <a:lnTo>
                    <a:pt x="0" y="21600"/>
                  </a:lnTo>
                  <a:close/>
                </a:path>
                <a:path fill="lightenLess" w="85168" h="21600">
                  <a:moveTo>
                    <a:pt x="0" y="0"/>
                  </a:moveTo>
                  <a:lnTo>
                    <a:pt x="85168" y="0"/>
                  </a:lnTo>
                  <a:lnTo>
                    <a:pt x="83768" y="1400"/>
                  </a:lnTo>
                  <a:lnTo>
                    <a:pt x="1400" y="1400"/>
                  </a:lnTo>
                  <a:close/>
                </a:path>
                <a:path fill="darken" w="85168" h="21600">
                  <a:moveTo>
                    <a:pt x="85168" y="0"/>
                  </a:moveTo>
                  <a:lnTo>
                    <a:pt x="85168" y="21600"/>
                  </a:lnTo>
                  <a:lnTo>
                    <a:pt x="83768" y="20200"/>
                  </a:lnTo>
                  <a:lnTo>
                    <a:pt x="83768" y="1400"/>
                  </a:lnTo>
                  <a:close/>
                </a:path>
                <a:path fill="darkenLess" w="85168" h="21600">
                  <a:moveTo>
                    <a:pt x="851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83768" y="20200"/>
                  </a:lnTo>
                  <a:close/>
                </a:path>
                <a:path fill="lighten" w="851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85168" h="21600">
                  <a:moveTo>
                    <a:pt x="35577" y="10800"/>
                  </a:moveTo>
                  <a:lnTo>
                    <a:pt x="49590" y="3794"/>
                  </a:lnTo>
                  <a:lnTo>
                    <a:pt x="49590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>
              <a:hlinkClick r:id="" action="ppaction://hlinkshowjump?jump=nextslide"/>
            </p:cNvPr>
            <p:cNvSpPr/>
            <p:nvPr/>
          </p:nvSpPr>
          <p:spPr>
            <a:xfrm>
              <a:off x="8278560" y="6643800"/>
              <a:ext cx="685800" cy="214200"/>
            </a:xfrm>
            <a:custGeom>
              <a:avLst/>
              <a:gdLst>
                <a:gd name="textAreaLeft" fmla="*/ 13680 w 685800"/>
                <a:gd name="textAreaRight" fmla="*/ 672120 w 685800"/>
                <a:gd name="textAreaTop" fmla="*/ 13680 h 214200"/>
                <a:gd name="textAreaBottom" fmla="*/ 200520 h 214200"/>
              </a:gdLst>
              <a:ahLst/>
              <a:rect l="textAreaLeft" t="textAreaTop" r="textAreaRight" b="textAreaBottom"/>
              <a:pathLst>
                <a:path w="69077" h="21600">
                  <a:moveTo>
                    <a:pt x="0" y="0"/>
                  </a:moveTo>
                  <a:lnTo>
                    <a:pt x="69077" y="0"/>
                  </a:lnTo>
                  <a:lnTo>
                    <a:pt x="69077" y="21600"/>
                  </a:lnTo>
                  <a:lnTo>
                    <a:pt x="0" y="21600"/>
                  </a:lnTo>
                  <a:close/>
                </a:path>
                <a:path fill="lightenLess" w="69077" h="21600">
                  <a:moveTo>
                    <a:pt x="0" y="0"/>
                  </a:moveTo>
                  <a:lnTo>
                    <a:pt x="69077" y="0"/>
                  </a:lnTo>
                  <a:lnTo>
                    <a:pt x="67677" y="1400"/>
                  </a:lnTo>
                  <a:lnTo>
                    <a:pt x="1400" y="1400"/>
                  </a:lnTo>
                  <a:close/>
                </a:path>
                <a:path fill="darken" w="69077" h="21600">
                  <a:moveTo>
                    <a:pt x="69077" y="0"/>
                  </a:moveTo>
                  <a:lnTo>
                    <a:pt x="69077" y="21600"/>
                  </a:lnTo>
                  <a:lnTo>
                    <a:pt x="67677" y="20200"/>
                  </a:lnTo>
                  <a:lnTo>
                    <a:pt x="67677" y="1400"/>
                  </a:lnTo>
                  <a:close/>
                </a:path>
                <a:path fill="darkenLess" w="69077" h="21600">
                  <a:moveTo>
                    <a:pt x="6907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7677" y="20200"/>
                  </a:lnTo>
                  <a:close/>
                </a:path>
                <a:path fill="lighten" w="6907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69077" h="21600">
                  <a:moveTo>
                    <a:pt x="27532" y="3794"/>
                  </a:moveTo>
                  <a:lnTo>
                    <a:pt x="41545" y="10800"/>
                  </a:lnTo>
                  <a:lnTo>
                    <a:pt x="27532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ель урока: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Показать сходство и различие условного оператора в языках программирования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Basic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и Turbo Pascal 7.0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68360" y="2446200"/>
            <a:ext cx="8229600" cy="31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План урок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2080" indent="274320">
              <a:lnSpc>
                <a:spcPct val="105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Проверка домашнего зад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2080" indent="274320">
              <a:lnSpc>
                <a:spcPct val="105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Условный операто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2080" indent="274320">
              <a:lnSpc>
                <a:spcPct val="105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Оператор вариан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2080" indent="274320">
              <a:lnSpc>
                <a:spcPct val="105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Домашнее зад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2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466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44640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Ход урока</a:t>
            </a:r>
            <a:endParaRPr b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43588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. 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Проверка домашнего зад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Вопрос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Как записывается оператор вывод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Как записывается оператор ввод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Как записывается оператор присвоения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Чем заканчивается программ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Какая функция используется при записи вы­ражения y=х2+3х—7 на языках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QBasic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и Turbo Pascal 7.0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Записать на языках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QBasic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и Turbo Pascal 7.0  следующие вы­раже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у = 5х5 - 10х + 2;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 =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14х4-5x3+11х-17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Какие операции можно применять к переменным целого тип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471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Tahoma"/>
              </a:rPr>
              <a:t>Условный оператор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68000" y="1719360"/>
            <a:ext cx="821844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Условные операторы  в QBasic и Turbo Pascal 7.0   помогают нам осуществить "ветвление" программы, т.е. передать управление по услов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Условный оператор имеет вид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IF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Comic Sans MS"/>
              </a:rPr>
              <a:t>условие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THEN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Comic Sans MS"/>
              </a:rPr>
              <a:t> &lt;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Comic Sans MS"/>
              </a:rPr>
              <a:t>операторы1&gt;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  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Comic Sans MS"/>
              </a:rPr>
              <a:t>[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ELSE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Comic Sans MS"/>
              </a:rPr>
              <a:t> &lt;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Comic Sans MS"/>
              </a:rPr>
              <a:t>операторы2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Comic Sans MS"/>
              </a:rPr>
              <a:t>]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Выполнение условного оператора начинается с вычисления значения логического выражения, записанного в условии. Простые условия записываются в виде равенств или неравенств. Сложные  условия составляют из простых с помощью логических операц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Если условие истинно, то выполняется &lt;операторы1&gt;, в противном случае -&lt;операторы2&gt;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476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000"/>
                            </p:stCondLst>
                            <p:childTnLst>
                              <p:par>
                                <p:cTn id="6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30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Даны два числа А и В. Найти  наибольшее из них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95280" y="1719360"/>
            <a:ext cx="829152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mic Sans MS"/>
              </a:rPr>
              <a:t>‘ </a:t>
            </a: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prim</a:t>
            </a:r>
            <a:r>
              <a:rPr b="1" i="1" lang="ru-RU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i="1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Program prim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1;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uses crt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;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Описываем переменные А и В как цел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EFINT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-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Var a,b: integer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Begin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LS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                          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Clrscr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Вводим два целых чис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PUT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”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=,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=”;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,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Write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('введume 2числа');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  Readln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,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);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Если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&gt;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, то   выводим на экран А, иначе 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F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A&gt;B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N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PRINT A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If a&gt;b Then Writeln(a)  El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ELSE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INT B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Writeln(b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n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E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>
            <a:hlinkClick r:id="rId1"/>
          </p:cNvPr>
          <p:cNvSpPr/>
          <p:nvPr/>
        </p:nvSpPr>
        <p:spPr>
          <a:xfrm>
            <a:off x="6732720" y="5950080"/>
            <a:ext cx="1079280" cy="50472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6171" h="21600">
                <a:moveTo>
                  <a:pt x="0" y="0"/>
                </a:moveTo>
                <a:lnTo>
                  <a:pt x="46171" y="0"/>
                </a:lnTo>
                <a:lnTo>
                  <a:pt x="46171" y="21600"/>
                </a:lnTo>
                <a:lnTo>
                  <a:pt x="0" y="21600"/>
                </a:lnTo>
                <a:close/>
              </a:path>
              <a:path fill="lightenLess" w="46171" h="21600">
                <a:moveTo>
                  <a:pt x="0" y="0"/>
                </a:moveTo>
                <a:lnTo>
                  <a:pt x="46171" y="0"/>
                </a:lnTo>
                <a:lnTo>
                  <a:pt x="44771" y="1400"/>
                </a:lnTo>
                <a:lnTo>
                  <a:pt x="1400" y="1400"/>
                </a:lnTo>
                <a:close/>
              </a:path>
              <a:path fill="darken" w="46171" h="21600">
                <a:moveTo>
                  <a:pt x="46171" y="0"/>
                </a:moveTo>
                <a:lnTo>
                  <a:pt x="46171" y="21600"/>
                </a:lnTo>
                <a:lnTo>
                  <a:pt x="44771" y="20200"/>
                </a:lnTo>
                <a:lnTo>
                  <a:pt x="44771" y="1400"/>
                </a:lnTo>
                <a:close/>
              </a:path>
              <a:path fill="darkenLess" w="46171" h="21600">
                <a:moveTo>
                  <a:pt x="46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771" y="20200"/>
                </a:lnTo>
                <a:close/>
              </a:path>
              <a:path fill="lighten" w="46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>
            <a:hlinkClick r:id="rId2"/>
          </p:cNvPr>
          <p:cNvSpPr/>
          <p:nvPr/>
        </p:nvSpPr>
        <p:spPr>
          <a:xfrm>
            <a:off x="7956720" y="5950080"/>
            <a:ext cx="936360" cy="503280"/>
          </a:xfrm>
          <a:custGeom>
            <a:avLst/>
            <a:gdLst>
              <a:gd name="textAreaLeft" fmla="*/ 32400 w 936360"/>
              <a:gd name="textAreaRight" fmla="*/ 903960 w 93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0174" h="21600">
                <a:moveTo>
                  <a:pt x="0" y="0"/>
                </a:moveTo>
                <a:lnTo>
                  <a:pt x="40174" y="0"/>
                </a:lnTo>
                <a:lnTo>
                  <a:pt x="40174" y="21600"/>
                </a:lnTo>
                <a:lnTo>
                  <a:pt x="0" y="21600"/>
                </a:lnTo>
                <a:close/>
              </a:path>
              <a:path fill="lightenLess" w="40174" h="21600">
                <a:moveTo>
                  <a:pt x="0" y="0"/>
                </a:moveTo>
                <a:lnTo>
                  <a:pt x="40174" y="0"/>
                </a:lnTo>
                <a:lnTo>
                  <a:pt x="38774" y="1400"/>
                </a:lnTo>
                <a:lnTo>
                  <a:pt x="1400" y="1400"/>
                </a:lnTo>
                <a:close/>
              </a:path>
              <a:path fill="darken" w="40174" h="21600">
                <a:moveTo>
                  <a:pt x="40174" y="0"/>
                </a:moveTo>
                <a:lnTo>
                  <a:pt x="40174" y="21600"/>
                </a:lnTo>
                <a:lnTo>
                  <a:pt x="38774" y="20200"/>
                </a:lnTo>
                <a:lnTo>
                  <a:pt x="38774" y="1400"/>
                </a:lnTo>
                <a:close/>
              </a:path>
              <a:path fill="darkenLess" w="40174" h="21600">
                <a:moveTo>
                  <a:pt x="40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74" y="20200"/>
                </a:lnTo>
                <a:close/>
              </a:path>
              <a:path fill="lighten" w="40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1619280" y="6308640"/>
            <a:ext cx="1008000" cy="215640"/>
            <a:chOff x="1619280" y="6308640"/>
            <a:chExt cx="1008000" cy="215640"/>
          </a:xfrm>
        </p:grpSpPr>
        <p:sp>
          <p:nvSpPr>
            <p:cNvPr id="483" name="">
              <a:hlinkClick r:id="" action="ppaction://hlinkshowjump?jump=previousslide"/>
            </p:cNvPr>
            <p:cNvSpPr/>
            <p:nvPr/>
          </p:nvSpPr>
          <p:spPr>
            <a:xfrm>
              <a:off x="1619280" y="630864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>
              <a:hlinkClick r:id="" action="ppaction://hlinkshowjump?jump=nextslide"/>
            </p:cNvPr>
            <p:cNvSpPr/>
            <p:nvPr/>
          </p:nvSpPr>
          <p:spPr>
            <a:xfrm>
              <a:off x="2190960" y="630864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85" name="" descr=""/>
          <p:cNvPicPr/>
          <p:nvPr/>
        </p:nvPicPr>
        <p:blipFill>
          <a:blip r:embed="rId3"/>
          <a:stretch/>
        </p:blipFill>
        <p:spPr>
          <a:xfrm>
            <a:off x="7885080" y="227664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4"/>
          <a:stretch/>
        </p:blipFill>
        <p:spPr>
          <a:xfrm>
            <a:off x="7020000" y="2276640"/>
            <a:ext cx="666720" cy="6667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500"/>
                            </p:stCondLst>
                            <p:childTnLst>
                              <p:par>
                                <p:cTn id="6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6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2000"/>
                            </p:stCondLst>
                            <p:childTnLst>
                              <p:par>
                                <p:cTn id="6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2500"/>
                            </p:stCondLst>
                            <p:childTnLst>
                              <p:par>
                                <p:cTn id="7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3000"/>
                            </p:stCondLst>
                            <p:childTnLst>
                              <p:par>
                                <p:cTn id="7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3500"/>
                            </p:stCondLst>
                            <p:childTnLst>
                              <p:par>
                                <p:cTn id="7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4000"/>
                            </p:stCondLst>
                            <p:childTnLst>
                              <p:par>
                                <p:cTn id="7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4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4500"/>
                            </p:stCondLst>
                            <p:childTnLst>
                              <p:par>
                                <p:cTn id="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4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4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500"/>
                            </p:stCondLst>
                            <p:childTnLst>
                              <p:par>
                                <p:cTn id="7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4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6000"/>
                            </p:stCondLst>
                            <p:childTnLst>
                              <p:par>
                                <p:cTn id="7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4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403848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Если после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HEN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или после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SE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располагается целая группа операторов, то можно использова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IF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 блок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, который имеет следующую структур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F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условие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Операто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SE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оператор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ND I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489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mic Sans MS"/>
              </a:rPr>
              <a:t>В Turbo Pascal 7.0, если в качестве оператора должна выполниться серия операторов, то они объединяются 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Comic Sans MS"/>
              </a:rPr>
              <a:t>операторные скобки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Begin</a:t>
            </a:r>
            <a:r>
              <a:rPr b="0" lang="ru-RU" sz="26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En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"/>
                            </p:stCondLst>
                            <p:childTnLst>
                              <p:par>
                                <p:cTn id="76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500"/>
                            </p:stCondLst>
                            <p:childTnLst>
                              <p:par>
                                <p:cTn id="76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2500"/>
                            </p:stCondLst>
                            <p:childTnLst>
                              <p:par>
                                <p:cTn id="76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900" spc="-1" strike="noStrike">
                <a:solidFill>
                  <a:srgbClr val="ffffff"/>
                </a:solidFill>
                <a:latin typeface="Tahoma"/>
              </a:rPr>
              <a:t>Оператор варианта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mic Sans MS"/>
              </a:rPr>
              <a:t>Если необходимо осуществить проверку более сложных условий, чем ДА/НЕТ, целесообразно использовать условный оператор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SELECT ... END SELECT.</a:t>
            </a:r>
            <a:r>
              <a:rPr b="0" lang="ru-RU" sz="21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ru-RU" sz="21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en-US" sz="2100" spc="-1" strike="noStrike">
                <a:solidFill>
                  <a:srgbClr val="ffffff"/>
                </a:solidFill>
                <a:latin typeface="Comic Sans MS"/>
              </a:rPr>
              <a:t>Case</a:t>
            </a:r>
            <a:r>
              <a:rPr b="0" i="1" lang="en-US" sz="21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i="1" lang="ru-RU" sz="2100" spc="-1" strike="noStrike">
                <a:solidFill>
                  <a:srgbClr val="ffffff"/>
                </a:solidFill>
                <a:latin typeface="Comic Sans MS"/>
              </a:rPr>
              <a:t>переменная</a:t>
            </a:r>
            <a:r>
              <a:rPr b="0" i="1" lang="en-US" sz="21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i="1" lang="en-US" sz="21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i="1" lang="en-US" sz="21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mic Sans MS"/>
              </a:rPr>
              <a:t>Если выражение выбора отвечает условиям списка выражений данного блока 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CASE</a:t>
            </a:r>
            <a:r>
              <a:rPr b="0" lang="ru-RU" sz="2600" spc="-1" strike="noStrike">
                <a:solidFill>
                  <a:srgbClr val="ffffff"/>
                </a:solidFill>
                <a:latin typeface="Comic Sans MS"/>
              </a:rPr>
              <a:t>, выполняются операторы из этого блока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495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0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500"/>
                            </p:stCondLst>
                            <p:childTnLst>
                              <p:par>
                                <p:cTn id="7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9640" y="691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rim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Program prim2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DEFINT N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var N:integer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Вводим целое число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NPUT"N=";N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begin</a:t>
            </a:r>
            <a:r>
              <a:rPr b="1" i="1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writeln(‘n=’);</a:t>
            </a:r>
            <a:r>
              <a:rPr b="0" i="1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 readln(n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LECT CASE N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Case n of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Если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&lt;=0, то выводим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текст “&lt;=0”-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ASE IS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&lt;=0: ?"&lt;=0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”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            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32768..0:  </a:t>
            </a: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writeln(‘&lt;=0’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Если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находиться в пределах от 2 до 9, то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выводим текст “2-9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ASE 2 TO 9: ?"2-9”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2..9:   </a:t>
            </a: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writeln</a:t>
            </a:r>
            <a:r>
              <a:rPr b="0" i="1" lang="ru-RU" sz="1800" spc="-1" strike="noStrike">
                <a:solidFill>
                  <a:srgbClr val="ffffff"/>
                </a:solidFill>
                <a:latin typeface="Comic Sans MS"/>
              </a:rPr>
              <a:t>(‘2-9’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Если N=1 или N=10, то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выводим текст “1,10”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ASE IS=1, 10 : ?"1,10"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1,10 : </a:t>
            </a: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writeln(‘1,10’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ASE ELSE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Иначе выводим текст “&gt;10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RINT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"&gt;10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”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writeln(‘&gt;10’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Окончание ветвл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ND SELECT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end;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Окончание програм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ND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 E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>
            <a:hlinkClick r:id="rId1"/>
          </p:cNvPr>
          <p:cNvSpPr/>
          <p:nvPr/>
        </p:nvSpPr>
        <p:spPr>
          <a:xfrm>
            <a:off x="6732720" y="5950080"/>
            <a:ext cx="1079280" cy="50472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6171" h="21600">
                <a:moveTo>
                  <a:pt x="0" y="0"/>
                </a:moveTo>
                <a:lnTo>
                  <a:pt x="46171" y="0"/>
                </a:lnTo>
                <a:lnTo>
                  <a:pt x="46171" y="21600"/>
                </a:lnTo>
                <a:lnTo>
                  <a:pt x="0" y="21600"/>
                </a:lnTo>
                <a:close/>
              </a:path>
              <a:path fill="lightenLess" w="46171" h="21600">
                <a:moveTo>
                  <a:pt x="0" y="0"/>
                </a:moveTo>
                <a:lnTo>
                  <a:pt x="46171" y="0"/>
                </a:lnTo>
                <a:lnTo>
                  <a:pt x="44771" y="1400"/>
                </a:lnTo>
                <a:lnTo>
                  <a:pt x="1400" y="1400"/>
                </a:lnTo>
                <a:close/>
              </a:path>
              <a:path fill="darken" w="46171" h="21600">
                <a:moveTo>
                  <a:pt x="46171" y="0"/>
                </a:moveTo>
                <a:lnTo>
                  <a:pt x="46171" y="21600"/>
                </a:lnTo>
                <a:lnTo>
                  <a:pt x="44771" y="20200"/>
                </a:lnTo>
                <a:lnTo>
                  <a:pt x="44771" y="1400"/>
                </a:lnTo>
                <a:close/>
              </a:path>
              <a:path fill="darkenLess" w="46171" h="21600">
                <a:moveTo>
                  <a:pt x="46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771" y="20200"/>
                </a:lnTo>
                <a:close/>
              </a:path>
              <a:path fill="lighten" w="46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>
            <a:hlinkClick r:id="rId2"/>
          </p:cNvPr>
          <p:cNvSpPr/>
          <p:nvPr/>
        </p:nvSpPr>
        <p:spPr>
          <a:xfrm>
            <a:off x="7883640" y="5950080"/>
            <a:ext cx="936360" cy="503280"/>
          </a:xfrm>
          <a:custGeom>
            <a:avLst/>
            <a:gdLst>
              <a:gd name="textAreaLeft" fmla="*/ 32400 w 936360"/>
              <a:gd name="textAreaRight" fmla="*/ 903960 w 93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0174" h="21600">
                <a:moveTo>
                  <a:pt x="0" y="0"/>
                </a:moveTo>
                <a:lnTo>
                  <a:pt x="40174" y="0"/>
                </a:lnTo>
                <a:lnTo>
                  <a:pt x="40174" y="21600"/>
                </a:lnTo>
                <a:lnTo>
                  <a:pt x="0" y="21600"/>
                </a:lnTo>
                <a:close/>
              </a:path>
              <a:path fill="lightenLess" w="40174" h="21600">
                <a:moveTo>
                  <a:pt x="0" y="0"/>
                </a:moveTo>
                <a:lnTo>
                  <a:pt x="40174" y="0"/>
                </a:lnTo>
                <a:lnTo>
                  <a:pt x="38774" y="1400"/>
                </a:lnTo>
                <a:lnTo>
                  <a:pt x="1400" y="1400"/>
                </a:lnTo>
                <a:close/>
              </a:path>
              <a:path fill="darken" w="40174" h="21600">
                <a:moveTo>
                  <a:pt x="40174" y="0"/>
                </a:moveTo>
                <a:lnTo>
                  <a:pt x="40174" y="21600"/>
                </a:lnTo>
                <a:lnTo>
                  <a:pt x="38774" y="20200"/>
                </a:lnTo>
                <a:lnTo>
                  <a:pt x="38774" y="1400"/>
                </a:lnTo>
                <a:close/>
              </a:path>
              <a:path fill="darkenLess" w="40174" h="21600">
                <a:moveTo>
                  <a:pt x="40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74" y="20200"/>
                </a:lnTo>
                <a:close/>
              </a:path>
              <a:path fill="lighten" w="40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3"/>
          <a:stretch/>
        </p:blipFill>
        <p:spPr>
          <a:xfrm>
            <a:off x="6877080" y="291960"/>
            <a:ext cx="2016000" cy="1289160"/>
          </a:xfrm>
          <a:prstGeom prst="rect">
            <a:avLst/>
          </a:prstGeom>
          <a:ln w="0">
            <a:noFill/>
          </a:ln>
        </p:spPr>
      </p:pic>
      <p:grpSp>
        <p:nvGrpSpPr>
          <p:cNvPr id="501" name=""/>
          <p:cNvGrpSpPr/>
          <p:nvPr/>
        </p:nvGrpSpPr>
        <p:grpSpPr>
          <a:xfrm>
            <a:off x="1835280" y="6381720"/>
            <a:ext cx="1008000" cy="215640"/>
            <a:chOff x="1835280" y="6381720"/>
            <a:chExt cx="1008000" cy="215640"/>
          </a:xfrm>
        </p:grpSpPr>
        <p:sp>
          <p:nvSpPr>
            <p:cNvPr id="502" name="">
              <a:hlinkClick r:id="" action="ppaction://hlinkshowjump?jump=previousslide"/>
            </p:cNvPr>
            <p:cNvSpPr/>
            <p:nvPr/>
          </p:nvSpPr>
          <p:spPr>
            <a:xfrm>
              <a:off x="1835280" y="638172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>
              <a:hlinkClick r:id="" action="ppaction://hlinkshowjump?jump=nextslide"/>
            </p:cNvPr>
            <p:cNvSpPr/>
            <p:nvPr/>
          </p:nvSpPr>
          <p:spPr>
            <a:xfrm>
              <a:off x="2406960" y="638172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0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4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4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4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4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4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4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4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4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4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4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49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1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440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Домашнее </a:t>
            </a:r>
            <a:r>
              <a:rPr b="0" lang="ru-RU" sz="3900" spc="-1" strike="noStrike">
                <a:solidFill>
                  <a:srgbClr val="ffffff"/>
                </a:solidFill>
                <a:latin typeface="Tahoma"/>
              </a:rPr>
              <a:t>задание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3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Имеется условный оператор: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if</a:t>
            </a: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 D&lt;&gt;10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hen</a:t>
            </a: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 writeln('ypa!')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Else</a:t>
            </a: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 Writeln(' </a:t>
            </a:r>
            <a:r>
              <a:rPr b="0" i="1" lang="ru-RU" sz="1800" spc="-1" strike="noStrike">
                <a:solidFill>
                  <a:srgbClr val="ffffff"/>
                </a:solidFill>
                <a:latin typeface="Comic Sans MS"/>
              </a:rPr>
              <a:t>плохо</a:t>
            </a: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...');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Можно ли заменить его следующими операторам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if</a:t>
            </a: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 D=10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hen</a:t>
            </a: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 Writeln('ypa!')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Else</a:t>
            </a: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 Writeln('nлoxo...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if</a:t>
            </a: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Not</a:t>
            </a: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(D=W)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hen</a:t>
            </a: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 Writeln('ypa!')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Else</a:t>
            </a: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 Writeln('nлoxo...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if Not</a:t>
            </a: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(D=10)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hen</a:t>
            </a: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 Writeln('плоxo...')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Else</a:t>
            </a: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 Writeln('ypa!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if Not</a:t>
            </a: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(D&lt;&gt;10)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hen</a:t>
            </a: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 Writeln('nлoxo...')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Else</a:t>
            </a: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 Writeln('ypa!'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Какими будут значения переменных </a:t>
            </a: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j</a:t>
            </a:r>
            <a:r>
              <a:rPr b="0" i="1" lang="ru-RU" sz="18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после выполнения условного оператор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if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j&gt;k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hen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j = k-2 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Else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k=k-2 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if</a:t>
            </a: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 j&gt;k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hen</a:t>
            </a: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 j:=k - 2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Else</a:t>
            </a: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 dec(k,2);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если исходные значения переменных равн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j=3,k=5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j=3,k=3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j=3,k=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7885080" y="6642000"/>
            <a:ext cx="790560" cy="216000"/>
            <a:chOff x="7885080" y="6642000"/>
            <a:chExt cx="790560" cy="216000"/>
          </a:xfrm>
        </p:grpSpPr>
        <p:sp>
          <p:nvSpPr>
            <p:cNvPr id="507" name="">
              <a:hlinkClick r:id="" action="ppaction://hlinkshowjump?jump=previousslide"/>
            </p:cNvPr>
            <p:cNvSpPr/>
            <p:nvPr/>
          </p:nvSpPr>
          <p:spPr>
            <a:xfrm>
              <a:off x="7885080" y="6642000"/>
              <a:ext cx="421920" cy="216000"/>
            </a:xfrm>
            <a:custGeom>
              <a:avLst/>
              <a:gdLst>
                <a:gd name="textAreaLeft" fmla="*/ 13680 w 421920"/>
                <a:gd name="textAreaRight" fmla="*/ 408240 w 421920"/>
                <a:gd name="textAreaTop" fmla="*/ 13680 h 216000"/>
                <a:gd name="textAreaBottom" fmla="*/ 202320 h 216000"/>
              </a:gdLst>
              <a:ahLst/>
              <a:rect l="textAreaLeft" t="textAreaTop" r="textAreaRight" b="textAreaBottom"/>
              <a:pathLst>
                <a:path w="42158" h="21600">
                  <a:moveTo>
                    <a:pt x="0" y="0"/>
                  </a:moveTo>
                  <a:lnTo>
                    <a:pt x="42158" y="0"/>
                  </a:lnTo>
                  <a:lnTo>
                    <a:pt x="42158" y="21600"/>
                  </a:lnTo>
                  <a:lnTo>
                    <a:pt x="0" y="21600"/>
                  </a:lnTo>
                  <a:close/>
                </a:path>
                <a:path fill="lightenLess" w="42158" h="21600">
                  <a:moveTo>
                    <a:pt x="0" y="0"/>
                  </a:moveTo>
                  <a:lnTo>
                    <a:pt x="42158" y="0"/>
                  </a:lnTo>
                  <a:lnTo>
                    <a:pt x="40758" y="1400"/>
                  </a:lnTo>
                  <a:lnTo>
                    <a:pt x="1400" y="1400"/>
                  </a:lnTo>
                  <a:close/>
                </a:path>
                <a:path fill="darken" w="42158" h="21600">
                  <a:moveTo>
                    <a:pt x="42158" y="0"/>
                  </a:moveTo>
                  <a:lnTo>
                    <a:pt x="42158" y="21600"/>
                  </a:lnTo>
                  <a:lnTo>
                    <a:pt x="40758" y="20200"/>
                  </a:lnTo>
                  <a:lnTo>
                    <a:pt x="40758" y="1400"/>
                  </a:lnTo>
                  <a:close/>
                </a:path>
                <a:path fill="darkenLess" w="42158" h="21600">
                  <a:moveTo>
                    <a:pt x="4215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0758" y="20200"/>
                  </a:lnTo>
                  <a:close/>
                </a:path>
                <a:path fill="lighten" w="4215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2158" h="21600">
                  <a:moveTo>
                    <a:pt x="14072" y="10800"/>
                  </a:moveTo>
                  <a:lnTo>
                    <a:pt x="28085" y="3794"/>
                  </a:lnTo>
                  <a:lnTo>
                    <a:pt x="28085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>
              <a:hlinkClick r:id="" action="ppaction://hlinkshowjump?jump=nextslide"/>
            </p:cNvPr>
            <p:cNvSpPr/>
            <p:nvPr/>
          </p:nvSpPr>
          <p:spPr>
            <a:xfrm>
              <a:off x="8333280" y="6642000"/>
              <a:ext cx="342360" cy="216000"/>
            </a:xfrm>
            <a:custGeom>
              <a:avLst/>
              <a:gdLst>
                <a:gd name="textAreaLeft" fmla="*/ 13680 w 342360"/>
                <a:gd name="textAreaRight" fmla="*/ 328680 w 342360"/>
                <a:gd name="textAreaTop" fmla="*/ 13680 h 216000"/>
                <a:gd name="textAreaBottom" fmla="*/ 202320 h 216000"/>
              </a:gdLst>
              <a:ahLst/>
              <a:rect l="textAreaLeft" t="textAreaTop" r="textAreaRight" b="textAreaBottom"/>
              <a:pathLst>
                <a:path w="34215" h="21600">
                  <a:moveTo>
                    <a:pt x="0" y="0"/>
                  </a:moveTo>
                  <a:lnTo>
                    <a:pt x="34215" y="0"/>
                  </a:lnTo>
                  <a:lnTo>
                    <a:pt x="34215" y="21600"/>
                  </a:lnTo>
                  <a:lnTo>
                    <a:pt x="0" y="21600"/>
                  </a:lnTo>
                  <a:close/>
                </a:path>
                <a:path fill="lightenLess" w="34215" h="21600">
                  <a:moveTo>
                    <a:pt x="0" y="0"/>
                  </a:moveTo>
                  <a:lnTo>
                    <a:pt x="34215" y="0"/>
                  </a:lnTo>
                  <a:lnTo>
                    <a:pt x="32815" y="1400"/>
                  </a:lnTo>
                  <a:lnTo>
                    <a:pt x="1400" y="1400"/>
                  </a:lnTo>
                  <a:close/>
                </a:path>
                <a:path fill="darken" w="34215" h="21600">
                  <a:moveTo>
                    <a:pt x="34215" y="0"/>
                  </a:moveTo>
                  <a:lnTo>
                    <a:pt x="34215" y="21600"/>
                  </a:lnTo>
                  <a:lnTo>
                    <a:pt x="32815" y="20200"/>
                  </a:lnTo>
                  <a:lnTo>
                    <a:pt x="32815" y="1400"/>
                  </a:lnTo>
                  <a:close/>
                </a:path>
                <a:path fill="darkenLess" w="34215" h="21600">
                  <a:moveTo>
                    <a:pt x="3421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2815" y="20200"/>
                  </a:lnTo>
                  <a:close/>
                </a:path>
                <a:path fill="lighten" w="3421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4215" h="21600">
                  <a:moveTo>
                    <a:pt x="10101" y="3794"/>
                  </a:moveTo>
                  <a:lnTo>
                    <a:pt x="24114" y="10800"/>
                  </a:lnTo>
                  <a:lnTo>
                    <a:pt x="10101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0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1042920" y="3860640"/>
            <a:ext cx="73454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цикл с параметром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511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Comic Sans MS"/>
              </a:rPr>
              <a:t>Показать сходство и различие цикла с параметром в языках программирования </a:t>
            </a: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QBasic</a:t>
            </a:r>
            <a:r>
              <a:rPr b="1" lang="ru-RU" sz="2100" spc="-1" strike="noStrike">
                <a:solidFill>
                  <a:srgbClr val="ffffff"/>
                </a:solidFill>
                <a:latin typeface="Comic Sans MS"/>
              </a:rPr>
              <a:t> и Turbo Pascal 7.0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Comic Sans MS"/>
              </a:rPr>
              <a:t>План урока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mic Sans MS"/>
              </a:rPr>
              <a:t>1. Проверка домашнего задания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mic Sans MS"/>
              </a:rPr>
              <a:t>2. Цикл с параметром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mic Sans MS"/>
              </a:rPr>
              <a:t>3. Решение задач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mic Sans MS"/>
              </a:rPr>
              <a:t>4. Домашнее задание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Цель урока: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516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Comic Sans MS"/>
              </a:rPr>
              <a:t>Для записи команд, имен функций, поясняющих терминов QBasic и Turbo Pascal 7.0  предусматривают набор строго определенных слов, которые называются служебными или зарезервированными (это английские мнемонические сокращения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Comic Sans MS"/>
              </a:rPr>
              <a:t>Служебные слова делятся на три категории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Comic Sans MS"/>
              </a:rPr>
              <a:t>- операторы (коды операций) (PRINT, </a:t>
            </a: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WRITELN</a:t>
            </a:r>
            <a:r>
              <a:rPr b="1" lang="ru-RU" sz="2300" spc="-1" strike="noStrike">
                <a:solidFill>
                  <a:srgbClr val="ffffff"/>
                </a:solidFill>
                <a:latin typeface="Comic Sans MS"/>
              </a:rPr>
              <a:t>  и т.д.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Comic Sans MS"/>
              </a:rPr>
              <a:t>- функции (имена функций) (SIN,COS и т.д.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ru-RU" sz="2300" spc="-1" strike="noStrike">
                <a:solidFill>
                  <a:srgbClr val="ffffff"/>
                </a:solidFill>
                <a:latin typeface="Comic Sans MS"/>
              </a:rPr>
              <a:t>ключевые</a:t>
            </a: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300" spc="-1" strike="noStrike">
                <a:solidFill>
                  <a:srgbClr val="ffffff"/>
                </a:solidFill>
                <a:latin typeface="Comic Sans MS"/>
              </a:rPr>
              <a:t>слова</a:t>
            </a: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 (AND, VAR, BEGIN, END </a:t>
            </a:r>
            <a:r>
              <a:rPr b="1" lang="ru-RU" sz="23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300" spc="-1" strike="noStrike">
                <a:solidFill>
                  <a:srgbClr val="ffffff"/>
                </a:solidFill>
                <a:latin typeface="Comic Sans MS"/>
              </a:rPr>
              <a:t>т</a:t>
            </a: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1" lang="ru-RU" sz="2300" spc="-1" strike="noStrike">
                <a:solidFill>
                  <a:srgbClr val="ffffff"/>
                </a:solidFill>
                <a:latin typeface="Comic Sans MS"/>
              </a:rPr>
              <a:t>д</a:t>
            </a:r>
            <a:r>
              <a:rPr b="1" lang="en-US" sz="2300" spc="-1" strike="noStrike">
                <a:solidFill>
                  <a:srgbClr val="ffffff"/>
                </a:solidFill>
                <a:latin typeface="Comic Sans MS"/>
              </a:rPr>
              <a:t>.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Полный список служебных слов приведен в приложениях любого справочника.  Их  используют только в том значении, которое заранее установлено в язык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0" y="260280"/>
            <a:ext cx="813744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ОСНОВНЫЕ СРЕДСТВА ЯЗЫКА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181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1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Проверка домашнего задания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628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1.   Имеется условный оператор: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if D&lt;&gt;10 Then writeln('ypa!') Else Writeln(' 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плохо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...')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Можно ли заменить его следующими операторами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if D=10 Then Writeln('ypa!') Else Writeln('nлoxo...');   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        (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НЕТ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if Not(D=W) Then Writeln('ypa!') Else Writeln('nлoxo...');         (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Да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если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W=10 )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             if Not(D=10) Then Writeln('плоxo...') Else Writeln('ypa!');       (НЕТ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if Not(D&lt;&gt;10) Then Writeln('nлoxo...') Else Writeln('ypa!').       (ДА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521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395280" y="1484280"/>
            <a:ext cx="8317080" cy="42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2. Какими будут значения переменных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j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после выполнения условного оператора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QBasic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Turbo Pascal 7.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if j&gt;k Then j = k-2  Else k=k-2 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if j&gt;k Then j:=k - 2 Else dec(k,2);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если исходные значения переменных равны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j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=3,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=5;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Ответы: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j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=3, к=3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j=3,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k=3;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(j=3, к=1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j=3,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k=2.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(j=0, k=2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525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4788000" y="580536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2987640" y="5805360"/>
            <a:ext cx="666720" cy="6667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900" spc="-1" strike="noStrike">
                <a:solidFill>
                  <a:srgbClr val="ffffff"/>
                </a:solidFill>
                <a:latin typeface="Tahoma"/>
              </a:rPr>
              <a:t>Цикл с параметром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FOR I=A  TO B  [STEP h]        For &lt;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параметр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&gt;:=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А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То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В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Do &lt;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тело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цикла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&gt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Если h=1, то шаг можно опустить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Оператор цикла с параметром применяют тогда, когда известно число повторений одного и того же действ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Начальное и конечное значения параметра цикла могут быть представлены константами, переменными или арифметическими выражениям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7164360" y="549360"/>
            <a:ext cx="1655640" cy="1081080"/>
          </a:xfrm>
          <a:prstGeom prst="rect">
            <a:avLst/>
          </a:prstGeom>
          <a:ln w="0">
            <a:noFill/>
          </a:ln>
        </p:spPr>
      </p:pic>
      <p:grpSp>
        <p:nvGrpSpPr>
          <p:cNvPr id="532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533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0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500"/>
                            </p:stCondLst>
                            <p:childTnLst>
                              <p:par>
                                <p:cTn id="8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000"/>
                            </p:stCondLst>
                            <p:childTnLst>
                              <p:par>
                                <p:cTn id="8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1500"/>
                            </p:stCondLst>
                            <p:childTnLst>
                              <p:par>
                                <p:cTn id="8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2000"/>
                            </p:stCondLst>
                            <p:childTnLst>
                              <p:par>
                                <p:cTn id="8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468360" y="1484280"/>
            <a:ext cx="842472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Рассмотрим, как выполняется оператор цикла с параметром вид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FOR I=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,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r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&lt;параметр&gt;:=А То В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o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&lt;тело цикла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Сначала вычисляются значения выражений А и В. Если А&lt;=В, то &lt;параметр&gt; последовательно принимает значения, равные А, А+1,..., В-1, В, и для каждого из этих значений выполняется &lt;тело цикла&gt;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Если А&gt;В, то &lt;тело цикла&gt; не будет выполнен ни разу и выполнение цикла с параметром сразу же закончи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Оператор цикла с параметром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FOR I=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 STEP -1    и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r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&lt;параметр&gt;:=А DownTo В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o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&lt;тело цикла&gt; выполняется аналогичным образом, но значение &lt;параметра&gt; изменяется с шагом, равным -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900" spc="-1" strike="noStrike">
                <a:solidFill>
                  <a:srgbClr val="ffffff"/>
                </a:solidFill>
                <a:latin typeface="Tahoma"/>
              </a:rPr>
              <a:t>Цикл с параметром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538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0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77770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Составить программу вычисления значения выражения 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y=1+1/2+1/3+… +1/20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1356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В данном случае целесообразно организовать цикл с параметром, изменяющимся от 1 до 20, то есть шаг изменения параметра равен +1.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Обозначим: у — очередное значение суммы дробей;    n — параметр цикла.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Учитывая это, составим программу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im1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gram prim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uses cr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EFINT N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ar  n: Integer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EFSGN Y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y: rea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eg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LS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lrscr;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Задаем начальное значение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равное нулю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=0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y:=0;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395280" y="6524640"/>
            <a:ext cx="1007640" cy="333360"/>
            <a:chOff x="395280" y="6524640"/>
            <a:chExt cx="1007640" cy="333360"/>
          </a:xfrm>
        </p:grpSpPr>
        <p:sp>
          <p:nvSpPr>
            <p:cNvPr id="543" name="">
              <a:hlinkClick r:id="" action="ppaction://hlinkshowjump?jump=previousslide"/>
            </p:cNvPr>
            <p:cNvSpPr/>
            <p:nvPr/>
          </p:nvSpPr>
          <p:spPr>
            <a:xfrm>
              <a:off x="395280" y="6524640"/>
              <a:ext cx="537840" cy="333360"/>
            </a:xfrm>
            <a:custGeom>
              <a:avLst/>
              <a:gdLst>
                <a:gd name="textAreaLeft" fmla="*/ 21600 w 537840"/>
                <a:gd name="textAreaRight" fmla="*/ 516240 w 537840"/>
                <a:gd name="textAreaTop" fmla="*/ 21600 h 333360"/>
                <a:gd name="textAreaBottom" fmla="*/ 311760 h 333360"/>
              </a:gdLst>
              <a:ahLst/>
              <a:rect l="textAreaLeft" t="textAreaTop" r="textAreaRight" b="textAreaBottom"/>
              <a:pathLst>
                <a:path w="34835" h="21600">
                  <a:moveTo>
                    <a:pt x="0" y="0"/>
                  </a:moveTo>
                  <a:lnTo>
                    <a:pt x="34835" y="0"/>
                  </a:lnTo>
                  <a:lnTo>
                    <a:pt x="34835" y="21600"/>
                  </a:lnTo>
                  <a:lnTo>
                    <a:pt x="0" y="21600"/>
                  </a:lnTo>
                  <a:close/>
                </a:path>
                <a:path fill="lightenLess" w="34835" h="21600">
                  <a:moveTo>
                    <a:pt x="0" y="0"/>
                  </a:moveTo>
                  <a:lnTo>
                    <a:pt x="34835" y="0"/>
                  </a:lnTo>
                  <a:lnTo>
                    <a:pt x="33435" y="1400"/>
                  </a:lnTo>
                  <a:lnTo>
                    <a:pt x="1400" y="1400"/>
                  </a:lnTo>
                  <a:close/>
                </a:path>
                <a:path fill="darken" w="34835" h="21600">
                  <a:moveTo>
                    <a:pt x="34835" y="0"/>
                  </a:moveTo>
                  <a:lnTo>
                    <a:pt x="34835" y="21600"/>
                  </a:lnTo>
                  <a:lnTo>
                    <a:pt x="33435" y="20200"/>
                  </a:lnTo>
                  <a:lnTo>
                    <a:pt x="33435" y="1400"/>
                  </a:lnTo>
                  <a:close/>
                </a:path>
                <a:path fill="darkenLess" w="34835" h="21600">
                  <a:moveTo>
                    <a:pt x="3483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3435" y="20200"/>
                  </a:lnTo>
                  <a:close/>
                </a:path>
                <a:path fill="lighten" w="3483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4835" h="21600">
                  <a:moveTo>
                    <a:pt x="10411" y="10800"/>
                  </a:moveTo>
                  <a:lnTo>
                    <a:pt x="24424" y="3794"/>
                  </a:lnTo>
                  <a:lnTo>
                    <a:pt x="24424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>
              <a:hlinkClick r:id="" action="ppaction://hlinkshowjump?jump=nextslide"/>
            </p:cNvPr>
            <p:cNvSpPr/>
            <p:nvPr/>
          </p:nvSpPr>
          <p:spPr>
            <a:xfrm>
              <a:off x="966600" y="6524640"/>
              <a:ext cx="436320" cy="333360"/>
            </a:xfrm>
            <a:custGeom>
              <a:avLst/>
              <a:gdLst>
                <a:gd name="textAreaLeft" fmla="*/ 21600 w 436320"/>
                <a:gd name="textAreaRight" fmla="*/ 414720 w 436320"/>
                <a:gd name="textAreaTop" fmla="*/ 21600 h 333360"/>
                <a:gd name="textAreaBottom" fmla="*/ 311760 h 333360"/>
              </a:gdLst>
              <a:ahLst/>
              <a:rect l="textAreaLeft" t="textAreaTop" r="textAreaRight" b="textAreaBottom"/>
              <a:pathLst>
                <a:path w="28264" h="21600">
                  <a:moveTo>
                    <a:pt x="0" y="0"/>
                  </a:moveTo>
                  <a:lnTo>
                    <a:pt x="28264" y="0"/>
                  </a:lnTo>
                  <a:lnTo>
                    <a:pt x="28264" y="21600"/>
                  </a:lnTo>
                  <a:lnTo>
                    <a:pt x="0" y="21600"/>
                  </a:lnTo>
                  <a:close/>
                </a:path>
                <a:path fill="lightenLess" w="28264" h="21600">
                  <a:moveTo>
                    <a:pt x="0" y="0"/>
                  </a:moveTo>
                  <a:lnTo>
                    <a:pt x="28264" y="0"/>
                  </a:lnTo>
                  <a:lnTo>
                    <a:pt x="26864" y="1400"/>
                  </a:lnTo>
                  <a:lnTo>
                    <a:pt x="1400" y="1400"/>
                  </a:lnTo>
                  <a:close/>
                </a:path>
                <a:path fill="darken" w="28264" h="21600">
                  <a:moveTo>
                    <a:pt x="28264" y="0"/>
                  </a:moveTo>
                  <a:lnTo>
                    <a:pt x="28264" y="21600"/>
                  </a:lnTo>
                  <a:lnTo>
                    <a:pt x="26864" y="20200"/>
                  </a:lnTo>
                  <a:lnTo>
                    <a:pt x="26864" y="1400"/>
                  </a:lnTo>
                  <a:close/>
                </a:path>
                <a:path fill="darkenLess" w="28264" h="21600">
                  <a:moveTo>
                    <a:pt x="2826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64" y="20200"/>
                  </a:lnTo>
                  <a:close/>
                </a:path>
                <a:path fill="lighten" w="2826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64" h="21600">
                  <a:moveTo>
                    <a:pt x="7126" y="3794"/>
                  </a:moveTo>
                  <a:lnTo>
                    <a:pt x="21139" y="10800"/>
                  </a:lnTo>
                  <a:lnTo>
                    <a:pt x="712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5" name="">
            <a:hlinkClick r:id="rId1"/>
          </p:cNvPr>
          <p:cNvSpPr/>
          <p:nvPr/>
        </p:nvSpPr>
        <p:spPr>
          <a:xfrm>
            <a:off x="6659640" y="6093000"/>
            <a:ext cx="1079280" cy="50472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6171" h="21600">
                <a:moveTo>
                  <a:pt x="0" y="0"/>
                </a:moveTo>
                <a:lnTo>
                  <a:pt x="46171" y="0"/>
                </a:lnTo>
                <a:lnTo>
                  <a:pt x="46171" y="21600"/>
                </a:lnTo>
                <a:lnTo>
                  <a:pt x="0" y="21600"/>
                </a:lnTo>
                <a:close/>
              </a:path>
              <a:path fill="lightenLess" w="46171" h="21600">
                <a:moveTo>
                  <a:pt x="0" y="0"/>
                </a:moveTo>
                <a:lnTo>
                  <a:pt x="46171" y="0"/>
                </a:lnTo>
                <a:lnTo>
                  <a:pt x="44771" y="1400"/>
                </a:lnTo>
                <a:lnTo>
                  <a:pt x="1400" y="1400"/>
                </a:lnTo>
                <a:close/>
              </a:path>
              <a:path fill="darken" w="46171" h="21600">
                <a:moveTo>
                  <a:pt x="46171" y="0"/>
                </a:moveTo>
                <a:lnTo>
                  <a:pt x="46171" y="21600"/>
                </a:lnTo>
                <a:lnTo>
                  <a:pt x="44771" y="20200"/>
                </a:lnTo>
                <a:lnTo>
                  <a:pt x="44771" y="1400"/>
                </a:lnTo>
                <a:close/>
              </a:path>
              <a:path fill="darkenLess" w="46171" h="21600">
                <a:moveTo>
                  <a:pt x="46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771" y="20200"/>
                </a:lnTo>
                <a:close/>
              </a:path>
              <a:path fill="lighten" w="46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>
            <a:hlinkClick r:id="rId2"/>
          </p:cNvPr>
          <p:cNvSpPr/>
          <p:nvPr/>
        </p:nvSpPr>
        <p:spPr>
          <a:xfrm>
            <a:off x="7810560" y="6093000"/>
            <a:ext cx="936720" cy="502920"/>
          </a:xfrm>
          <a:custGeom>
            <a:avLst/>
            <a:gdLst>
              <a:gd name="textAreaLeft" fmla="*/ 32400 w 936720"/>
              <a:gd name="textAreaRight" fmla="*/ 904320 w 9367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40218" h="21600">
                <a:moveTo>
                  <a:pt x="0" y="0"/>
                </a:moveTo>
                <a:lnTo>
                  <a:pt x="40218" y="0"/>
                </a:lnTo>
                <a:lnTo>
                  <a:pt x="40218" y="21600"/>
                </a:lnTo>
                <a:lnTo>
                  <a:pt x="0" y="21600"/>
                </a:lnTo>
                <a:close/>
              </a:path>
              <a:path fill="lightenLess" w="40218" h="21600">
                <a:moveTo>
                  <a:pt x="0" y="0"/>
                </a:moveTo>
                <a:lnTo>
                  <a:pt x="40218" y="0"/>
                </a:lnTo>
                <a:lnTo>
                  <a:pt x="38818" y="1400"/>
                </a:lnTo>
                <a:lnTo>
                  <a:pt x="1400" y="1400"/>
                </a:lnTo>
                <a:close/>
              </a:path>
              <a:path fill="darken" w="40218" h="21600">
                <a:moveTo>
                  <a:pt x="40218" y="0"/>
                </a:moveTo>
                <a:lnTo>
                  <a:pt x="40218" y="21600"/>
                </a:lnTo>
                <a:lnTo>
                  <a:pt x="38818" y="20200"/>
                </a:lnTo>
                <a:lnTo>
                  <a:pt x="38818" y="1400"/>
                </a:lnTo>
                <a:close/>
              </a:path>
              <a:path fill="darkenLess" w="40218" h="21600">
                <a:moveTo>
                  <a:pt x="402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818" y="20200"/>
                </a:lnTo>
                <a:close/>
              </a:path>
              <a:path fill="lighten" w="402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1000"/>
                            </p:stCondLst>
                            <p:childTnLst>
                              <p:par>
                                <p:cTn id="9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2000"/>
                            </p:stCondLst>
                            <p:childTnLst>
                              <p:par>
                                <p:cTn id="9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2500"/>
                            </p:stCondLst>
                            <p:childTnLst>
                              <p:par>
                                <p:cTn id="9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3000"/>
                            </p:stCondLst>
                            <p:childTnLst>
                              <p:par>
                                <p:cTn id="9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3500"/>
                            </p:stCondLst>
                            <p:childTnLst>
                              <p:par>
                                <p:cTn id="9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4000"/>
                            </p:stCondLst>
                            <p:childTnLst>
                              <p:par>
                                <p:cTn id="9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4500"/>
                            </p:stCondLst>
                            <p:childTnLst>
                              <p:par>
                                <p:cTn id="9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500"/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324000" y="549360"/>
            <a:ext cx="835164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Организовываем цикл с параметром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от 1 до 2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FOR n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=1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TO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20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For n:=1 to 20  Do begin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             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Находим очередную сумму.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Y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Y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+1/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         y:=y + 1/n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Выводим на экран очередную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сумму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?”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Y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=”;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Y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Writeln('y=',y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NEXT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End.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End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en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Самостоятельное задани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А) Переставьте строки вывода результата за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NEXT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   (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End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;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Б) Измените цикл с 20 до 1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549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88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Из чисел от 10 до 99 вывести те, сумма цифр которых равна S(0&lt;S&lt;18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Вопросы для обсужден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1. Каким действием можно выделить послед­нюю цифру числа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2. Каким действием можно выделить первую цифру числа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Обозначим: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— это просматриваемое число;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1 — это первая цифра числа k,  р2 — это вторая цифра числа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;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— это сумма цифр данного числа k. Чис­ло k будем выписывать только в том случае, когда сумма р1 и р2 будет равна 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>
            <a:hlinkClick r:id="rId1"/>
          </p:cNvPr>
          <p:cNvSpPr/>
          <p:nvPr/>
        </p:nvSpPr>
        <p:spPr>
          <a:xfrm>
            <a:off x="7524720" y="6165720"/>
            <a:ext cx="936720" cy="503280"/>
          </a:xfrm>
          <a:custGeom>
            <a:avLst/>
            <a:gdLst>
              <a:gd name="textAreaLeft" fmla="*/ 32400 w 936720"/>
              <a:gd name="textAreaRight" fmla="*/ 904320 w 936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0189" h="21600">
                <a:moveTo>
                  <a:pt x="0" y="0"/>
                </a:moveTo>
                <a:lnTo>
                  <a:pt x="40189" y="0"/>
                </a:lnTo>
                <a:lnTo>
                  <a:pt x="40189" y="21600"/>
                </a:lnTo>
                <a:lnTo>
                  <a:pt x="0" y="21600"/>
                </a:lnTo>
                <a:close/>
              </a:path>
              <a:path fill="lightenLess" w="40189" h="21600">
                <a:moveTo>
                  <a:pt x="0" y="0"/>
                </a:moveTo>
                <a:lnTo>
                  <a:pt x="40189" y="0"/>
                </a:lnTo>
                <a:lnTo>
                  <a:pt x="38789" y="1400"/>
                </a:lnTo>
                <a:lnTo>
                  <a:pt x="1400" y="1400"/>
                </a:lnTo>
                <a:close/>
              </a:path>
              <a:path fill="darken" w="40189" h="21600">
                <a:moveTo>
                  <a:pt x="40189" y="0"/>
                </a:moveTo>
                <a:lnTo>
                  <a:pt x="40189" y="21600"/>
                </a:lnTo>
                <a:lnTo>
                  <a:pt x="38789" y="20200"/>
                </a:lnTo>
                <a:lnTo>
                  <a:pt x="38789" y="1400"/>
                </a:lnTo>
                <a:close/>
              </a:path>
              <a:path fill="darkenLess" w="40189" h="21600">
                <a:moveTo>
                  <a:pt x="40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89" y="20200"/>
                </a:lnTo>
                <a:close/>
              </a:path>
              <a:path fill="lighten" w="40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>
            <a:hlinkClick r:id="rId2"/>
          </p:cNvPr>
          <p:cNvSpPr/>
          <p:nvPr/>
        </p:nvSpPr>
        <p:spPr>
          <a:xfrm>
            <a:off x="6516720" y="6164280"/>
            <a:ext cx="1079640" cy="504720"/>
          </a:xfrm>
          <a:custGeom>
            <a:avLst/>
            <a:gdLst>
              <a:gd name="textAreaLeft" fmla="*/ 32400 w 1079640"/>
              <a:gd name="textAreaRight" fmla="*/ 1047240 w 1079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6187" h="21600">
                <a:moveTo>
                  <a:pt x="0" y="0"/>
                </a:moveTo>
                <a:lnTo>
                  <a:pt x="46187" y="0"/>
                </a:lnTo>
                <a:lnTo>
                  <a:pt x="46187" y="21600"/>
                </a:lnTo>
                <a:lnTo>
                  <a:pt x="0" y="21600"/>
                </a:lnTo>
                <a:close/>
              </a:path>
              <a:path fill="lightenLess" w="46187" h="21600">
                <a:moveTo>
                  <a:pt x="0" y="0"/>
                </a:moveTo>
                <a:lnTo>
                  <a:pt x="46187" y="0"/>
                </a:lnTo>
                <a:lnTo>
                  <a:pt x="44787" y="1400"/>
                </a:lnTo>
                <a:lnTo>
                  <a:pt x="1400" y="1400"/>
                </a:lnTo>
                <a:close/>
              </a:path>
              <a:path fill="darken" w="46187" h="21600">
                <a:moveTo>
                  <a:pt x="46187" y="0"/>
                </a:moveTo>
                <a:lnTo>
                  <a:pt x="46187" y="21600"/>
                </a:lnTo>
                <a:lnTo>
                  <a:pt x="44787" y="20200"/>
                </a:lnTo>
                <a:lnTo>
                  <a:pt x="44787" y="1400"/>
                </a:lnTo>
                <a:close/>
              </a:path>
              <a:path fill="darkenLess" w="46187" h="21600">
                <a:moveTo>
                  <a:pt x="46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787" y="20200"/>
                </a:lnTo>
                <a:close/>
              </a:path>
              <a:path fill="lighten" w="46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1763640" y="6308640"/>
            <a:ext cx="1008000" cy="215640"/>
            <a:chOff x="1763640" y="6308640"/>
            <a:chExt cx="1008000" cy="215640"/>
          </a:xfrm>
        </p:grpSpPr>
        <p:sp>
          <p:nvSpPr>
            <p:cNvPr id="556" name="">
              <a:hlinkClick r:id="" action="ppaction://hlinkshowjump?jump=previousslide"/>
            </p:cNvPr>
            <p:cNvSpPr/>
            <p:nvPr/>
          </p:nvSpPr>
          <p:spPr>
            <a:xfrm>
              <a:off x="1763640" y="630864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>
              <a:hlinkClick r:id="" action="ppaction://hlinkshowjump?jump=nextslide"/>
            </p:cNvPr>
            <p:cNvSpPr/>
            <p:nvPr/>
          </p:nvSpPr>
          <p:spPr>
            <a:xfrm>
              <a:off x="2335320" y="630864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0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500"/>
                            </p:stCondLst>
                            <p:childTnLst>
                              <p:par>
                                <p:cTn id="9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000"/>
                            </p:stCondLst>
                            <p:childTnLst>
                              <p:par>
                                <p:cTn id="9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1500"/>
                            </p:stCondLst>
                            <p:childTnLst>
                              <p:par>
                                <p:cTn id="9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000"/>
                            </p:stCondLst>
                            <p:childTnLst>
                              <p:par>
                                <p:cTn id="9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395280" y="260280"/>
            <a:ext cx="835344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PRIM2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Program prim2;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                                                                    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uses crt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DEFINT K,N,P,S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CLS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Var k,n,pl,p2,s:Integer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                                                               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Begin 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CLS                                                          clrscr;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Задаем целое число</a:t>
            </a: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  от 10 до 99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INPUT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”целое число=“;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Writeln(' 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целое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число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 n='); Readln(n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Организовываем цикл с параметром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FOR K=10 TO 99     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 For k:=10 To 99 Do     Begi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Выделяем первую цифру.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1=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 \10              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  P1:=k Div 10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Выделяем вторую цифру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2=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K MOD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 10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                    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              p2:=k Mod 10;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Находим сумму цифр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1+ 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2      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       s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:=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1+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2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Если сумма цифр равна заданному числу </a:t>
            </a: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, то выводим К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IF S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N THEN PRINT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 “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=”;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                  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if s=n Then Writeln(‘k=’,k);       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NEXT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                                                      End;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END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            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End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560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561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Дано натуральное число n (1000&lt;=</a:t>
            </a:r>
            <a:r>
              <a:rPr b="1" i="1" lang="en-US" sz="2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&lt;=9999). Определить, является ли оно палиндромом ("перевертышем"), с учетом четырех цифр. </a:t>
            </a:r>
            <a:br>
              <a:rPr sz="2200"/>
            </a:b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Например, палиндромами являются числа: 2222, 6116, 1441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95280" y="2445840"/>
            <a:ext cx="8229600" cy="38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Вопросы для обсужден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Дано число п. Каким образом можно построить "перевертыш" данного числа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Сколько переменных необходимо для решения данной задачи? Объясните назначение каждой переменно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Обозначим: п — вводимое число; т — дубликат  числа  п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а — перевертыш числа п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— переменная цикла для создания перевертыш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565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01320" y="188640"/>
            <a:ext cx="83739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PRIM3</a:t>
            </a: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         Program Prim3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                                      </a:t>
            </a: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uses crt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DEFINT A,I, M-N                 Var n, m, a, i: Integer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                                       </a:t>
            </a: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Begi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CLS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                             Clrscr;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Введем четырехзначное целое число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INPUT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”</a:t>
            </a: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&lt;=9999”;</a:t>
            </a: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N               Writeln('N&lt;=9999'); Readln(n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Запоминаем введенное целое число и задаем начальное значение перевертыш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:</a:t>
            </a: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=0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                   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М:=п; а:=0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Организуем цикл с параметром от 1 до 4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FOR I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=1 </a:t>
            </a: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TO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 4</a:t>
            </a: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                    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For i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:=1 </a:t>
            </a: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To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 4 </a:t>
            </a: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Do;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Begi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Находим перевертыш числа </a:t>
            </a: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A=A*10+ M mod 10: M=M \ 10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а:=а*10+М </a:t>
            </a: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Mod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 10; </a:t>
            </a: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:=</a:t>
            </a: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Div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 10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NEXT                                En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Если </a:t>
            </a: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, то данное число </a:t>
            </a: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является перевертышем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IF A=N THEN PRINT”DA”</a:t>
            </a: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If a=n Then Writeln('DA!')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ELSE ?”NO” </a:t>
            </a: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Else Writeln('NO'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omic Sans MS"/>
              </a:rPr>
              <a:t>END</a:t>
            </a: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Comic Sans MS"/>
              </a:rPr>
              <a:t>Readln; End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>
            <a:hlinkClick r:id="rId1"/>
          </p:cNvPr>
          <p:cNvSpPr/>
          <p:nvPr/>
        </p:nvSpPr>
        <p:spPr>
          <a:xfrm>
            <a:off x="6804000" y="6353280"/>
            <a:ext cx="1077840" cy="504720"/>
          </a:xfrm>
          <a:custGeom>
            <a:avLst/>
            <a:gdLst>
              <a:gd name="textAreaLeft" fmla="*/ 32400 w 1077840"/>
              <a:gd name="textAreaRight" fmla="*/ 1045440 w 10778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6110" h="21600">
                <a:moveTo>
                  <a:pt x="0" y="0"/>
                </a:moveTo>
                <a:lnTo>
                  <a:pt x="46110" y="0"/>
                </a:lnTo>
                <a:lnTo>
                  <a:pt x="46110" y="21600"/>
                </a:lnTo>
                <a:lnTo>
                  <a:pt x="0" y="21600"/>
                </a:lnTo>
                <a:close/>
              </a:path>
              <a:path fill="lightenLess" w="46110" h="21600">
                <a:moveTo>
                  <a:pt x="0" y="0"/>
                </a:moveTo>
                <a:lnTo>
                  <a:pt x="46110" y="0"/>
                </a:lnTo>
                <a:lnTo>
                  <a:pt x="44710" y="1400"/>
                </a:lnTo>
                <a:lnTo>
                  <a:pt x="1400" y="1400"/>
                </a:lnTo>
                <a:close/>
              </a:path>
              <a:path fill="darken" w="46110" h="21600">
                <a:moveTo>
                  <a:pt x="46110" y="0"/>
                </a:moveTo>
                <a:lnTo>
                  <a:pt x="46110" y="21600"/>
                </a:lnTo>
                <a:lnTo>
                  <a:pt x="44710" y="20200"/>
                </a:lnTo>
                <a:lnTo>
                  <a:pt x="44710" y="1400"/>
                </a:lnTo>
                <a:close/>
              </a:path>
              <a:path fill="darkenLess" w="46110" h="21600">
                <a:moveTo>
                  <a:pt x="461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710" y="20200"/>
                </a:lnTo>
                <a:close/>
              </a:path>
              <a:path fill="lighten" w="461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>
            <a:hlinkClick r:id="rId2"/>
          </p:cNvPr>
          <p:cNvSpPr/>
          <p:nvPr/>
        </p:nvSpPr>
        <p:spPr>
          <a:xfrm>
            <a:off x="7954920" y="6353280"/>
            <a:ext cx="934920" cy="503280"/>
          </a:xfrm>
          <a:custGeom>
            <a:avLst/>
            <a:gdLst>
              <a:gd name="textAreaLeft" fmla="*/ 32400 w 934920"/>
              <a:gd name="textAreaRight" fmla="*/ 902520 w 934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0112" h="21600">
                <a:moveTo>
                  <a:pt x="0" y="0"/>
                </a:moveTo>
                <a:lnTo>
                  <a:pt x="40112" y="0"/>
                </a:lnTo>
                <a:lnTo>
                  <a:pt x="40112" y="21600"/>
                </a:lnTo>
                <a:lnTo>
                  <a:pt x="0" y="21600"/>
                </a:lnTo>
                <a:close/>
              </a:path>
              <a:path fill="lightenLess" w="40112" h="21600">
                <a:moveTo>
                  <a:pt x="0" y="0"/>
                </a:moveTo>
                <a:lnTo>
                  <a:pt x="40112" y="0"/>
                </a:lnTo>
                <a:lnTo>
                  <a:pt x="38712" y="1400"/>
                </a:lnTo>
                <a:lnTo>
                  <a:pt x="1400" y="1400"/>
                </a:lnTo>
                <a:close/>
              </a:path>
              <a:path fill="darken" w="40112" h="21600">
                <a:moveTo>
                  <a:pt x="40112" y="0"/>
                </a:moveTo>
                <a:lnTo>
                  <a:pt x="40112" y="21600"/>
                </a:lnTo>
                <a:lnTo>
                  <a:pt x="38712" y="20200"/>
                </a:lnTo>
                <a:lnTo>
                  <a:pt x="38712" y="1400"/>
                </a:lnTo>
                <a:close/>
              </a:path>
              <a:path fill="darkenLess" w="40112" h="21600">
                <a:moveTo>
                  <a:pt x="401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2" y="20200"/>
                </a:lnTo>
                <a:close/>
              </a:path>
              <a:path fill="lighten" w="401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08000" y="189000"/>
            <a:ext cx="1297080" cy="761760"/>
          </a:xfrm>
          <a:prstGeom prst="rect">
            <a:avLst/>
          </a:prstGeom>
          <a:ln w="0">
            <a:noFill/>
          </a:ln>
        </p:spPr>
      </p:pic>
      <p:grpSp>
        <p:nvGrpSpPr>
          <p:cNvPr id="571" name=""/>
          <p:cNvGrpSpPr/>
          <p:nvPr/>
        </p:nvGrpSpPr>
        <p:grpSpPr>
          <a:xfrm>
            <a:off x="1763640" y="6453360"/>
            <a:ext cx="1008000" cy="215640"/>
            <a:chOff x="1763640" y="6453360"/>
            <a:chExt cx="1008000" cy="215640"/>
          </a:xfrm>
        </p:grpSpPr>
        <p:sp>
          <p:nvSpPr>
            <p:cNvPr id="572" name="">
              <a:hlinkClick r:id="" action="ppaction://hlinkshowjump?jump=previousslide"/>
            </p:cNvPr>
            <p:cNvSpPr/>
            <p:nvPr/>
          </p:nvSpPr>
          <p:spPr>
            <a:xfrm>
              <a:off x="176364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>
              <a:hlinkClick r:id="" action="ppaction://hlinkshowjump?jump=nextslide"/>
            </p:cNvPr>
            <p:cNvSpPr/>
            <p:nvPr/>
          </p:nvSpPr>
          <p:spPr>
            <a:xfrm>
              <a:off x="233532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0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5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5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5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5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5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5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5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8" dur="500"/>
                                        <p:tgtEl>
                                          <p:spTgt spid="5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500"/>
                            </p:stCondLst>
                            <p:childTnLst>
                              <p:par>
                                <p:cTn id="10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2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1413000"/>
            <a:ext cx="4259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руктура программы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757800"/>
            <a:ext cx="8316720" cy="55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QBasic 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Turbo Pascal 7.0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Program 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имя</a:t>
            </a: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 (input, output)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Label;   - 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раздел</a:t>
            </a: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меток</a:t>
            </a: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Const-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раздел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констант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              Const;  - 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раздел констант</a:t>
            </a: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Type    - раздел типов;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                  Type;  - раздел типов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DEF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     - раздел переменных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;     Var;  - раздел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переменных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Procedure - раздел процедур и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Procedure - раздел 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функций; 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процедур и функций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Function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Functio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оператор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оператор</a:t>
            </a: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 1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оператор 2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оператор 2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. . 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………….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оператор n-1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              оператор n-1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оператор 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оператор  n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END.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END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7667640" y="6381720"/>
            <a:ext cx="1079280" cy="216000"/>
            <a:chOff x="7667640" y="6381720"/>
            <a:chExt cx="1079280" cy="216000"/>
          </a:xfrm>
        </p:grpSpPr>
        <p:sp>
          <p:nvSpPr>
            <p:cNvPr id="186" name="">
              <a:hlinkClick r:id="" action="ppaction://hlinkshowjump?jump=previousslide"/>
            </p:cNvPr>
            <p:cNvSpPr/>
            <p:nvPr/>
          </p:nvSpPr>
          <p:spPr>
            <a:xfrm>
              <a:off x="7667640" y="6381720"/>
              <a:ext cx="576360" cy="216000"/>
            </a:xfrm>
            <a:custGeom>
              <a:avLst/>
              <a:gdLst>
                <a:gd name="textAreaLeft" fmla="*/ 13680 w 576360"/>
                <a:gd name="textAreaRight" fmla="*/ 562680 w 576360"/>
                <a:gd name="textAreaTop" fmla="*/ 13680 h 216000"/>
                <a:gd name="textAreaBottom" fmla="*/ 202320 h 216000"/>
              </a:gdLst>
              <a:ahLst/>
              <a:rect l="textAreaLeft" t="textAreaTop" r="textAreaRight" b="textAreaBottom"/>
              <a:pathLst>
                <a:path w="57576" h="21600">
                  <a:moveTo>
                    <a:pt x="0" y="0"/>
                  </a:moveTo>
                  <a:lnTo>
                    <a:pt x="57576" y="0"/>
                  </a:lnTo>
                  <a:lnTo>
                    <a:pt x="57576" y="21600"/>
                  </a:lnTo>
                  <a:lnTo>
                    <a:pt x="0" y="21600"/>
                  </a:lnTo>
                  <a:close/>
                </a:path>
                <a:path fill="lightenLess" w="57576" h="21600">
                  <a:moveTo>
                    <a:pt x="0" y="0"/>
                  </a:moveTo>
                  <a:lnTo>
                    <a:pt x="57576" y="0"/>
                  </a:lnTo>
                  <a:lnTo>
                    <a:pt x="56176" y="1400"/>
                  </a:lnTo>
                  <a:lnTo>
                    <a:pt x="1400" y="1400"/>
                  </a:lnTo>
                  <a:close/>
                </a:path>
                <a:path fill="darken" w="57576" h="21600">
                  <a:moveTo>
                    <a:pt x="57576" y="0"/>
                  </a:moveTo>
                  <a:lnTo>
                    <a:pt x="57576" y="21600"/>
                  </a:lnTo>
                  <a:lnTo>
                    <a:pt x="56176" y="20200"/>
                  </a:lnTo>
                  <a:lnTo>
                    <a:pt x="56176" y="1400"/>
                  </a:lnTo>
                  <a:close/>
                </a:path>
                <a:path fill="darkenLess" w="57576" h="21600">
                  <a:moveTo>
                    <a:pt x="5757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6176" y="20200"/>
                  </a:lnTo>
                  <a:close/>
                </a:path>
                <a:path fill="lighten" w="5757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7576" h="21600">
                  <a:moveTo>
                    <a:pt x="21782" y="10800"/>
                  </a:moveTo>
                  <a:lnTo>
                    <a:pt x="35795" y="3794"/>
                  </a:lnTo>
                  <a:lnTo>
                    <a:pt x="35795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>
              <a:hlinkClick r:id="" action="ppaction://hlinkshowjump?jump=nextslide"/>
            </p:cNvPr>
            <p:cNvSpPr/>
            <p:nvPr/>
          </p:nvSpPr>
          <p:spPr>
            <a:xfrm>
              <a:off x="8279640" y="6381720"/>
              <a:ext cx="467280" cy="216000"/>
            </a:xfrm>
            <a:custGeom>
              <a:avLst/>
              <a:gdLst>
                <a:gd name="textAreaLeft" fmla="*/ 13680 w 467280"/>
                <a:gd name="textAreaRight" fmla="*/ 453600 w 467280"/>
                <a:gd name="textAreaTop" fmla="*/ 13680 h 216000"/>
                <a:gd name="textAreaBottom" fmla="*/ 202320 h 216000"/>
              </a:gdLst>
              <a:ahLst/>
              <a:rect l="textAreaLeft" t="textAreaTop" r="textAreaRight" b="textAreaBottom"/>
              <a:pathLst>
                <a:path w="46686" h="21600">
                  <a:moveTo>
                    <a:pt x="0" y="0"/>
                  </a:moveTo>
                  <a:lnTo>
                    <a:pt x="46686" y="0"/>
                  </a:lnTo>
                  <a:lnTo>
                    <a:pt x="46686" y="21600"/>
                  </a:lnTo>
                  <a:lnTo>
                    <a:pt x="0" y="21600"/>
                  </a:lnTo>
                  <a:close/>
                </a:path>
                <a:path fill="lightenLess" w="46686" h="21600">
                  <a:moveTo>
                    <a:pt x="0" y="0"/>
                  </a:moveTo>
                  <a:lnTo>
                    <a:pt x="46686" y="0"/>
                  </a:lnTo>
                  <a:lnTo>
                    <a:pt x="45286" y="1400"/>
                  </a:lnTo>
                  <a:lnTo>
                    <a:pt x="1400" y="1400"/>
                  </a:lnTo>
                  <a:close/>
                </a:path>
                <a:path fill="darken" w="46686" h="21600">
                  <a:moveTo>
                    <a:pt x="46686" y="0"/>
                  </a:moveTo>
                  <a:lnTo>
                    <a:pt x="46686" y="21600"/>
                  </a:lnTo>
                  <a:lnTo>
                    <a:pt x="45286" y="20200"/>
                  </a:lnTo>
                  <a:lnTo>
                    <a:pt x="45286" y="1400"/>
                  </a:lnTo>
                  <a:close/>
                </a:path>
                <a:path fill="darkenLess" w="46686" h="21600">
                  <a:moveTo>
                    <a:pt x="466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86" y="20200"/>
                  </a:lnTo>
                  <a:close/>
                </a:path>
                <a:path fill="lighten" w="466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86" h="21600">
                  <a:moveTo>
                    <a:pt x="16337" y="3794"/>
                  </a:moveTo>
                  <a:lnTo>
                    <a:pt x="30350" y="10800"/>
                  </a:lnTo>
                  <a:lnTo>
                    <a:pt x="16337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Домашнее задание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1. Определить значение переменной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после выполнения следующих операторов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s=0:n=5    For i=2 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То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n: s=s+100 \ i :nex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  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s:=0; n:=5 For i:=2 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То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n Do s:=s+100 Div i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2. 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Какие из приведенных операторов правильные и почему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А)  FOR I=12 TO 15:S+S+I:NEX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For i:=12 To 15 Do s:=s+i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Б) FOR A=30 TO 20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     For a:=30 To 20 D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if А Mod 3=0 Then d=d+1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if a Mod 3=0 Then d:=d+1;               NEX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3.  Как выглядит оператор цикла с параметром? Как он работает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577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0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500"/>
                            </p:stCondLst>
                            <p:childTnLst>
                              <p:par>
                                <p:cTn id="10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500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5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1258920" y="3716280"/>
            <a:ext cx="696276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Оператор цикла с предусловием. 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Оператор цикла с постусловием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581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4920" y="836280"/>
            <a:ext cx="748836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mic Sans MS"/>
              </a:rPr>
              <a:t>Цель урока: Показать сходство и различие вложенных циклов  в языках программирования 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QBasic</a:t>
            </a:r>
            <a:r>
              <a:rPr b="1" lang="ru-RU" sz="2200" spc="-1" strike="noStrike">
                <a:solidFill>
                  <a:srgbClr val="ffffff"/>
                </a:solidFill>
                <a:latin typeface="Comic Sans MS"/>
              </a:rPr>
              <a:t> и Turbo Pascal 7.0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План урока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Проверка домашнего задан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Цикл с  предусловие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Оператор цикла с постусловие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Решение задач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Домашнее задани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585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0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2" dur="5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5" dur="500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500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500"/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5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Проверка домашнего задания</a:t>
            </a:r>
            <a:br>
              <a:rPr sz="2200"/>
            </a:b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675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1. Определить значение переменной S после выполнения следующих оператор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s=0:n=5    For i=2 То n: s=s+100 \ i :n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s:=0; n:=5 For i:=2 То n Do s:=s+100 Div i  Ответ:S=1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2.  А) правильно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Б) неправильно, так как начальное значение меньше конечно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Вопрос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Как записывается  оператор цикла с параметром? Как он работает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Как записывается полный условный оператор? Как он работает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Как записывается неполный условный оператор? Как он работает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590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0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9" dur="500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3" dur="500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1" dur="500"/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500"/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9" dur="500"/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74880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Цикл с  предусловием.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While …  Wend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While ...  D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Цикл с предусловием используется для программирования процессов, в которых число повторений оператора цикла не известно, а задается некоторое условие его окончан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Выполнение оператора цикла с предусловием начинается с проверки условия, записанного после слова while. Если оно соблюдается, то выполняется &lt;тело цикла&gt;, а затем вновь проверяется условие и т.д. Как только на очередном шаге окажется, что условие не соблюдается, то выполнение &lt;тела цикла&gt; прекратитс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595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0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5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5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6840" y="419040"/>
            <a:ext cx="754380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Дано натуральное число n. Посчитать количество цифр в числ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02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Подсчет количества цифр начнем с последней цифры числа. Увеличим счетчик цифр на единицу. Число уменьшим в 10 раз (тем самым мы избавляемся от последней цифры числа). Далее с получившимся числом проделаем ту же последовательность действий и т.д., пока число не станет равным нулю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Примечание.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В теле цикла обязательно должен быть оператор, влияющий на соблюдение условия, в противном случае произойдет зацикливани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600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0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9" dur="5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5257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PRIM1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DEFLNG M – 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DEFINT k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C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                </a:t>
            </a: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Вводим целое числ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”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=”; 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Запоминаем его и счетчику циф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: 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=0</a:t>
            </a: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               </a:t>
            </a: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Пока  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&lt;&gt;0 делать цик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WHILE M</a:t>
            </a: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&lt;&gt;0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"уменьшаем" число на последнюю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+1: 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  \ 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WEND</a:t>
            </a: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Вывод количества циф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PRINT</a:t>
            </a: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 “ В числе “;N;” – “;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 ;” цифр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END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643280" y="333000"/>
            <a:ext cx="450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Program  prim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uses cr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Var m, n: Longin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k: Integer; {</a:t>
            </a: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счетчик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цифр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Begi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clrscr;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Writeln(' </a:t>
            </a: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Введите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 N='); Readln(n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присваиваем начальное значени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: = n; 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:=0;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While m&lt;&gt;0 Do 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Beg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ци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фру, т.е. в 10 раз.  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k:=k+1;  m:= m Div 10; { Inc(k) }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End;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Writeln('</a:t>
            </a: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В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числе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 ',n,' - ',k,' </a:t>
            </a: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цифр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!');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Readln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En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>
            <a:hlinkClick r:id="rId1"/>
          </p:cNvPr>
          <p:cNvSpPr/>
          <p:nvPr/>
        </p:nvSpPr>
        <p:spPr>
          <a:xfrm>
            <a:off x="6734160" y="6353280"/>
            <a:ext cx="1079640" cy="504720"/>
          </a:xfrm>
          <a:custGeom>
            <a:avLst/>
            <a:gdLst>
              <a:gd name="textAreaLeft" fmla="*/ 32400 w 1079640"/>
              <a:gd name="textAreaRight" fmla="*/ 1047240 w 1079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6187" h="21600">
                <a:moveTo>
                  <a:pt x="0" y="0"/>
                </a:moveTo>
                <a:lnTo>
                  <a:pt x="46187" y="0"/>
                </a:lnTo>
                <a:lnTo>
                  <a:pt x="46187" y="21600"/>
                </a:lnTo>
                <a:lnTo>
                  <a:pt x="0" y="21600"/>
                </a:lnTo>
                <a:close/>
              </a:path>
              <a:path fill="lightenLess" w="46187" h="21600">
                <a:moveTo>
                  <a:pt x="0" y="0"/>
                </a:moveTo>
                <a:lnTo>
                  <a:pt x="46187" y="0"/>
                </a:lnTo>
                <a:lnTo>
                  <a:pt x="44787" y="1400"/>
                </a:lnTo>
                <a:lnTo>
                  <a:pt x="1400" y="1400"/>
                </a:lnTo>
                <a:close/>
              </a:path>
              <a:path fill="darken" w="46187" h="21600">
                <a:moveTo>
                  <a:pt x="46187" y="0"/>
                </a:moveTo>
                <a:lnTo>
                  <a:pt x="46187" y="21600"/>
                </a:lnTo>
                <a:lnTo>
                  <a:pt x="44787" y="20200"/>
                </a:lnTo>
                <a:lnTo>
                  <a:pt x="44787" y="1400"/>
                </a:lnTo>
                <a:close/>
              </a:path>
              <a:path fill="darkenLess" w="46187" h="21600">
                <a:moveTo>
                  <a:pt x="46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787" y="20200"/>
                </a:lnTo>
                <a:close/>
              </a:path>
              <a:path fill="lighten" w="46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>
            <a:hlinkClick r:id="rId2"/>
          </p:cNvPr>
          <p:cNvSpPr/>
          <p:nvPr/>
        </p:nvSpPr>
        <p:spPr>
          <a:xfrm>
            <a:off x="7885080" y="6353280"/>
            <a:ext cx="936720" cy="503280"/>
          </a:xfrm>
          <a:custGeom>
            <a:avLst/>
            <a:gdLst>
              <a:gd name="textAreaLeft" fmla="*/ 32400 w 936720"/>
              <a:gd name="textAreaRight" fmla="*/ 904320 w 936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0189" h="21600">
                <a:moveTo>
                  <a:pt x="0" y="0"/>
                </a:moveTo>
                <a:lnTo>
                  <a:pt x="40189" y="0"/>
                </a:lnTo>
                <a:lnTo>
                  <a:pt x="40189" y="21600"/>
                </a:lnTo>
                <a:lnTo>
                  <a:pt x="0" y="21600"/>
                </a:lnTo>
                <a:close/>
              </a:path>
              <a:path fill="lightenLess" w="40189" h="21600">
                <a:moveTo>
                  <a:pt x="0" y="0"/>
                </a:moveTo>
                <a:lnTo>
                  <a:pt x="40189" y="0"/>
                </a:lnTo>
                <a:lnTo>
                  <a:pt x="38789" y="1400"/>
                </a:lnTo>
                <a:lnTo>
                  <a:pt x="1400" y="1400"/>
                </a:lnTo>
                <a:close/>
              </a:path>
              <a:path fill="darken" w="40189" h="21600">
                <a:moveTo>
                  <a:pt x="40189" y="0"/>
                </a:moveTo>
                <a:lnTo>
                  <a:pt x="40189" y="21600"/>
                </a:lnTo>
                <a:lnTo>
                  <a:pt x="38789" y="20200"/>
                </a:lnTo>
                <a:lnTo>
                  <a:pt x="38789" y="1400"/>
                </a:lnTo>
                <a:close/>
              </a:path>
              <a:path fill="darkenLess" w="40189" h="21600">
                <a:moveTo>
                  <a:pt x="40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89" y="20200"/>
                </a:lnTo>
                <a:close/>
              </a:path>
              <a:path fill="lighten" w="40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1692360" y="6381720"/>
            <a:ext cx="1008000" cy="215640"/>
            <a:chOff x="1692360" y="6381720"/>
            <a:chExt cx="1008000" cy="215640"/>
          </a:xfrm>
        </p:grpSpPr>
        <p:sp>
          <p:nvSpPr>
            <p:cNvPr id="607" name="">
              <a:hlinkClick r:id="" action="ppaction://hlinkshowjump?jump=previousslide"/>
            </p:cNvPr>
            <p:cNvSpPr/>
            <p:nvPr/>
          </p:nvSpPr>
          <p:spPr>
            <a:xfrm>
              <a:off x="1692360" y="638172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>
              <a:hlinkClick r:id="" action="ppaction://hlinkshowjump?jump=nextslide"/>
            </p:cNvPr>
            <p:cNvSpPr/>
            <p:nvPr/>
          </p:nvSpPr>
          <p:spPr>
            <a:xfrm>
              <a:off x="2264040" y="638172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78483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Оператор цикла с постусловием</a:t>
            </a:r>
            <a:br>
              <a:rPr sz="2600"/>
            </a:b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DO-LOOP</a:t>
            </a:r>
            <a:br>
              <a:rPr sz="26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Repeat (повторять)   Until (до тех пор, пока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Наибольшими в QBasic  возможностями обладает следующая конструкция циклов типа DO-LOOP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DO и LOOP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верхная и нижняя границами цикла, позволяют тестировать условие завершения цикла в верху цикла, в низу цикла, в обоих местах или нигд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Если цикл должен повториться по TRUE, то используйте управляющее слово WHIL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Если цикл должен повториться по FALSE, то используйте управляющее слово UNTI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612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0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0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4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6" dur="500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539640" y="1125360"/>
            <a:ext cx="7777440" cy="47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Для программной реализации в Turbo Pascal 7.0  циклических процессов с неизвестным числом повторений существует еще один оператор — оператор цикла с постусловием, который имеет следующий вид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Repeat &lt;оператор 1&gt;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&lt;оператор 2&gt;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&lt;оператор n&gt;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Until &lt;условие&gt;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где Repeat (повторять), Until (до тех пор, пока …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616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539280" y="836640"/>
            <a:ext cx="7488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Отличие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этого оператора от оператора цикла с предусловием: проверка условия производится после очередного выполнения тела цикла. Это обеспечивает его выполнение хотя бы один раз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Данный оператор цикла предполагает наличие нескольких операторов в теле цикла, поэтому служебные слова Begin и End не нуж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Последовательность операторов, входящих в тело цикла выполняется один раз, после чего проверяется соблюдение условия, записанного следом за служебным словом Until. Если условие не соблюдается, цикл завершается. В противном случае — тело цикла повторяется еще раз, после чего снова проверяется соблюдение услов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7164360" y="291960"/>
            <a:ext cx="1728720" cy="1105200"/>
          </a:xfrm>
          <a:prstGeom prst="rect">
            <a:avLst/>
          </a:prstGeom>
          <a:ln w="0">
            <a:noFill/>
          </a:ln>
        </p:spPr>
      </p:pic>
      <p:grpSp>
        <p:nvGrpSpPr>
          <p:cNvPr id="620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621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0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3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6" dur="500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9" dur="5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4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44000" cy="87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Домашнее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задание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одготовить ответы на  вопрос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Для чего служит компьютер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Что называется алгоритмо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Что называется алфавитом язы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Что такое интерпретация и компиляц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Что представляет собой программ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Что включает в себя алфавит языков QBasic и Turbo Pascal 7.0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В каком разделе происходит описание переменных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7777080" y="6642000"/>
            <a:ext cx="1366560" cy="216000"/>
            <a:chOff x="7777080" y="6642000"/>
            <a:chExt cx="1366560" cy="216000"/>
          </a:xfrm>
        </p:grpSpPr>
        <p:sp>
          <p:nvSpPr>
            <p:cNvPr id="191" name="">
              <a:hlinkClick r:id="" action="ppaction://hlinkshowjump?jump=previousslide"/>
            </p:cNvPr>
            <p:cNvSpPr/>
            <p:nvPr/>
          </p:nvSpPr>
          <p:spPr>
            <a:xfrm>
              <a:off x="7777080" y="6642000"/>
              <a:ext cx="729360" cy="216000"/>
            </a:xfrm>
            <a:custGeom>
              <a:avLst/>
              <a:gdLst>
                <a:gd name="textAreaLeft" fmla="*/ 13680 w 729360"/>
                <a:gd name="textAreaRight" fmla="*/ 715680 w 729360"/>
                <a:gd name="textAreaTop" fmla="*/ 13680 h 216000"/>
                <a:gd name="textAreaBottom" fmla="*/ 202320 h 216000"/>
              </a:gdLst>
              <a:ahLst/>
              <a:rect l="textAreaLeft" t="textAreaTop" r="textAreaRight" b="textAreaBottom"/>
              <a:pathLst>
                <a:path w="72851" h="21600">
                  <a:moveTo>
                    <a:pt x="0" y="0"/>
                  </a:moveTo>
                  <a:lnTo>
                    <a:pt x="72851" y="0"/>
                  </a:lnTo>
                  <a:lnTo>
                    <a:pt x="72851" y="21600"/>
                  </a:lnTo>
                  <a:lnTo>
                    <a:pt x="0" y="21600"/>
                  </a:lnTo>
                  <a:close/>
                </a:path>
                <a:path fill="lightenLess" w="72851" h="21600">
                  <a:moveTo>
                    <a:pt x="0" y="0"/>
                  </a:moveTo>
                  <a:lnTo>
                    <a:pt x="72851" y="0"/>
                  </a:lnTo>
                  <a:lnTo>
                    <a:pt x="71451" y="1400"/>
                  </a:lnTo>
                  <a:lnTo>
                    <a:pt x="1400" y="1400"/>
                  </a:lnTo>
                  <a:close/>
                </a:path>
                <a:path fill="darken" w="72851" h="21600">
                  <a:moveTo>
                    <a:pt x="72851" y="0"/>
                  </a:moveTo>
                  <a:lnTo>
                    <a:pt x="72851" y="21600"/>
                  </a:lnTo>
                  <a:lnTo>
                    <a:pt x="71451" y="20200"/>
                  </a:lnTo>
                  <a:lnTo>
                    <a:pt x="71451" y="1400"/>
                  </a:lnTo>
                  <a:close/>
                </a:path>
                <a:path fill="darkenLess" w="72851" h="21600">
                  <a:moveTo>
                    <a:pt x="728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1451" y="20200"/>
                  </a:lnTo>
                  <a:close/>
                </a:path>
                <a:path fill="lighten" w="728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2851" h="21600">
                  <a:moveTo>
                    <a:pt x="29419" y="10800"/>
                  </a:moveTo>
                  <a:lnTo>
                    <a:pt x="43432" y="3794"/>
                  </a:lnTo>
                  <a:lnTo>
                    <a:pt x="43432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>
              <a:hlinkClick r:id="" action="ppaction://hlinkshowjump?jump=nextslide"/>
            </p:cNvPr>
            <p:cNvSpPr/>
            <p:nvPr/>
          </p:nvSpPr>
          <p:spPr>
            <a:xfrm>
              <a:off x="8551800" y="6642000"/>
              <a:ext cx="591840" cy="216000"/>
            </a:xfrm>
            <a:custGeom>
              <a:avLst/>
              <a:gdLst>
                <a:gd name="textAreaLeft" fmla="*/ 13680 w 591840"/>
                <a:gd name="textAreaRight" fmla="*/ 578160 w 591840"/>
                <a:gd name="textAreaTop" fmla="*/ 13680 h 216000"/>
                <a:gd name="textAreaBottom" fmla="*/ 202320 h 216000"/>
              </a:gdLst>
              <a:ahLst/>
              <a:rect l="textAreaLeft" t="textAreaTop" r="textAreaRight" b="textAreaBottom"/>
              <a:pathLst>
                <a:path w="59121" h="21600">
                  <a:moveTo>
                    <a:pt x="0" y="0"/>
                  </a:moveTo>
                  <a:lnTo>
                    <a:pt x="59121" y="0"/>
                  </a:lnTo>
                  <a:lnTo>
                    <a:pt x="59121" y="21600"/>
                  </a:lnTo>
                  <a:lnTo>
                    <a:pt x="0" y="21600"/>
                  </a:lnTo>
                  <a:close/>
                </a:path>
                <a:path fill="lightenLess" w="59121" h="21600">
                  <a:moveTo>
                    <a:pt x="0" y="0"/>
                  </a:moveTo>
                  <a:lnTo>
                    <a:pt x="59121" y="0"/>
                  </a:lnTo>
                  <a:lnTo>
                    <a:pt x="57721" y="1400"/>
                  </a:lnTo>
                  <a:lnTo>
                    <a:pt x="1400" y="1400"/>
                  </a:lnTo>
                  <a:close/>
                </a:path>
                <a:path fill="darken" w="59121" h="21600">
                  <a:moveTo>
                    <a:pt x="59121" y="0"/>
                  </a:moveTo>
                  <a:lnTo>
                    <a:pt x="59121" y="21600"/>
                  </a:lnTo>
                  <a:lnTo>
                    <a:pt x="57721" y="20200"/>
                  </a:lnTo>
                  <a:lnTo>
                    <a:pt x="57721" y="1400"/>
                  </a:lnTo>
                  <a:close/>
                </a:path>
                <a:path fill="darkenLess" w="59121" h="21600">
                  <a:moveTo>
                    <a:pt x="5912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7721" y="20200"/>
                  </a:lnTo>
                  <a:close/>
                </a:path>
                <a:path fill="lighten" w="5912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9121" h="21600">
                  <a:moveTo>
                    <a:pt x="22554" y="3794"/>
                  </a:moveTo>
                  <a:lnTo>
                    <a:pt x="36567" y="10800"/>
                  </a:lnTo>
                  <a:lnTo>
                    <a:pt x="22554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/>
          </p:nvPr>
        </p:nvSpPr>
        <p:spPr>
          <a:xfrm>
            <a:off x="394920" y="549360"/>
            <a:ext cx="7921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При описании циклов с постусловием необходимо принимать во внимание следующее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- перед первым выполнением цикла условие его окончания (или продолжения) должно быть определено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- тело цикла должно содержать хотя бы один оператор, влияющий на условие окончания (продолжения), иначе цикл будет бесконечным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- условие окончания цикла должно быть в результате выполнено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- Для досрочного выхода из цикла используют в QBasic операторы EXIT DO (LOOP), в  Turbo Pascal 7.0  функции  EXIT,  BREAK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625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fill="hold">
                      <p:stCondLst>
                        <p:cond delay="0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1" dur="5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7" dur="500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0" dur="500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500"/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48836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оставить программу планирования закупки товара в магазине на сумму, не превышающую заданную величину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83739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Реше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i="1" lang="en-US" sz="2200" spc="-1" strike="noStrike">
                <a:solidFill>
                  <a:srgbClr val="ffffff"/>
                </a:solidFill>
                <a:latin typeface="Comic Sans MS"/>
              </a:rPr>
              <a:t>х, k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— соответствующие цена и количество товара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en-US" sz="2200" spc="-1" strike="noStrike">
                <a:solidFill>
                  <a:srgbClr val="ffffff"/>
                </a:solidFill>
                <a:latin typeface="Comic Sans MS"/>
              </a:rPr>
              <a:t>р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— заданная предельная сумма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en-US" sz="2200" spc="-1" strike="noStrike">
                <a:solidFill>
                  <a:srgbClr val="ffffff"/>
                </a:solidFill>
                <a:latin typeface="Comic Sans MS"/>
              </a:rPr>
              <a:t>s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— общая стоимость покупки. Начальное значение общей стоимости покупки (</a:t>
            </a:r>
            <a:r>
              <a:rPr b="1" i="1" lang="en-US" sz="22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) равно нулю. Значение предельной суммы считывается с клавиатуры. Необходимо повторять запрос цены и количества выбранного товара, вычислять его стоимость, суммировать ее с общей стоимостью и выводить результат на экран до тех пор, пока она не превысит предельную сумму  </a:t>
            </a:r>
            <a:r>
              <a:rPr b="1" i="1" lang="en-US" sz="2200" spc="-1" strike="noStrike">
                <a:solidFill>
                  <a:srgbClr val="ffffff"/>
                </a:solidFill>
                <a:latin typeface="Comic Sans MS"/>
              </a:rPr>
              <a:t>р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. В этом случае на экран нужно вывести сообщение о превышении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630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fill="hold">
                      <p:stCondLst>
                        <p:cond delay="0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0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500"/>
                            </p:stCondLst>
                            <p:childTnLst>
                              <p:par>
                                <p:cTn id="1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8" dur="500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2" dur="500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6" dur="500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453708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'prim9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DEFINT C, K, P,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C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INPUT "пред сумма = "; 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S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INPUT "цена тов и его кол-во = "; C,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S = S + C *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PRINT "стоимость покупки =";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LOOP UNTIL S &gt; 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PRINT "суммарная стоим. покупки &gt; предел. суммы 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642920" y="188640"/>
            <a:ext cx="43196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program prim9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uses cr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var c,k,p,s:integ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be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clrsc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write('пред сумма = ');readln(p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s:=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repe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writeln('цена тов и его кол-во =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readln(c,k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s:=s+c*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writeln('стоимость покупки =',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until s&gt;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writeln('суммарная стоим. покупки &gt; предел. суммы 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readln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e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>
            <a:hlinkClick r:id="rId1"/>
          </p:cNvPr>
          <p:cNvSpPr/>
          <p:nvPr/>
        </p:nvSpPr>
        <p:spPr>
          <a:xfrm>
            <a:off x="6805440" y="6353280"/>
            <a:ext cx="1079640" cy="504720"/>
          </a:xfrm>
          <a:custGeom>
            <a:avLst/>
            <a:gdLst>
              <a:gd name="textAreaLeft" fmla="*/ 32400 w 1079640"/>
              <a:gd name="textAreaRight" fmla="*/ 1047240 w 1079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6187" h="21600">
                <a:moveTo>
                  <a:pt x="0" y="0"/>
                </a:moveTo>
                <a:lnTo>
                  <a:pt x="46187" y="0"/>
                </a:lnTo>
                <a:lnTo>
                  <a:pt x="46187" y="21600"/>
                </a:lnTo>
                <a:lnTo>
                  <a:pt x="0" y="21600"/>
                </a:lnTo>
                <a:close/>
              </a:path>
              <a:path fill="lightenLess" w="46187" h="21600">
                <a:moveTo>
                  <a:pt x="0" y="0"/>
                </a:moveTo>
                <a:lnTo>
                  <a:pt x="46187" y="0"/>
                </a:lnTo>
                <a:lnTo>
                  <a:pt x="44787" y="1400"/>
                </a:lnTo>
                <a:lnTo>
                  <a:pt x="1400" y="1400"/>
                </a:lnTo>
                <a:close/>
              </a:path>
              <a:path fill="darken" w="46187" h="21600">
                <a:moveTo>
                  <a:pt x="46187" y="0"/>
                </a:moveTo>
                <a:lnTo>
                  <a:pt x="46187" y="21600"/>
                </a:lnTo>
                <a:lnTo>
                  <a:pt x="44787" y="20200"/>
                </a:lnTo>
                <a:lnTo>
                  <a:pt x="44787" y="1400"/>
                </a:lnTo>
                <a:close/>
              </a:path>
              <a:path fill="darkenLess" w="46187" h="21600">
                <a:moveTo>
                  <a:pt x="46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787" y="20200"/>
                </a:lnTo>
                <a:close/>
              </a:path>
              <a:path fill="lighten" w="46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>
            <a:hlinkClick r:id="rId2"/>
          </p:cNvPr>
          <p:cNvSpPr/>
          <p:nvPr/>
        </p:nvSpPr>
        <p:spPr>
          <a:xfrm>
            <a:off x="7956720" y="6353280"/>
            <a:ext cx="936360" cy="503280"/>
          </a:xfrm>
          <a:custGeom>
            <a:avLst/>
            <a:gdLst>
              <a:gd name="textAreaLeft" fmla="*/ 32400 w 936360"/>
              <a:gd name="textAreaRight" fmla="*/ 903960 w 93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0174" h="21600">
                <a:moveTo>
                  <a:pt x="0" y="0"/>
                </a:moveTo>
                <a:lnTo>
                  <a:pt x="40174" y="0"/>
                </a:lnTo>
                <a:lnTo>
                  <a:pt x="40174" y="21600"/>
                </a:lnTo>
                <a:lnTo>
                  <a:pt x="0" y="21600"/>
                </a:lnTo>
                <a:close/>
              </a:path>
              <a:path fill="lightenLess" w="40174" h="21600">
                <a:moveTo>
                  <a:pt x="0" y="0"/>
                </a:moveTo>
                <a:lnTo>
                  <a:pt x="40174" y="0"/>
                </a:lnTo>
                <a:lnTo>
                  <a:pt x="38774" y="1400"/>
                </a:lnTo>
                <a:lnTo>
                  <a:pt x="1400" y="1400"/>
                </a:lnTo>
                <a:close/>
              </a:path>
              <a:path fill="darken" w="40174" h="21600">
                <a:moveTo>
                  <a:pt x="40174" y="0"/>
                </a:moveTo>
                <a:lnTo>
                  <a:pt x="40174" y="21600"/>
                </a:lnTo>
                <a:lnTo>
                  <a:pt x="38774" y="20200"/>
                </a:lnTo>
                <a:lnTo>
                  <a:pt x="38774" y="1400"/>
                </a:lnTo>
                <a:close/>
              </a:path>
              <a:path fill="darkenLess" w="40174" h="21600">
                <a:moveTo>
                  <a:pt x="40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74" y="20200"/>
                </a:lnTo>
                <a:close/>
              </a:path>
              <a:path fill="lighten" w="40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1908000" y="6642000"/>
            <a:ext cx="1008000" cy="215640"/>
            <a:chOff x="1908000" y="6642000"/>
            <a:chExt cx="1008000" cy="215640"/>
          </a:xfrm>
        </p:grpSpPr>
        <p:sp>
          <p:nvSpPr>
            <p:cNvPr id="637" name="">
              <a:hlinkClick r:id="" action="ppaction://hlinkshowjump?jump=previousslide"/>
            </p:cNvPr>
            <p:cNvSpPr/>
            <p:nvPr/>
          </p:nvSpPr>
          <p:spPr>
            <a:xfrm>
              <a:off x="1908000" y="664200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>
              <a:hlinkClick r:id="" action="ppaction://hlinkshowjump?jump=nextslide"/>
            </p:cNvPr>
            <p:cNvSpPr/>
            <p:nvPr/>
          </p:nvSpPr>
          <p:spPr>
            <a:xfrm>
              <a:off x="2479680" y="664200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Самостоятельно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39640" y="2379600"/>
            <a:ext cx="8136000" cy="21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Осуществите досрочный выход из цикла при условии, что Вы приобрели  вещи на сумму Р/2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If S&gt;p/2 then exit do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if (s&gt;p/2) then break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642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fill="hold">
                      <p:stCondLst>
                        <p:cond delay="0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323640" y="1268280"/>
            <a:ext cx="83739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Алгоритм Евклида — это алгоритм нахождения наибольшего общего делителя (НОД) двух целых неотрицательных чисе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Алгоритм Евклида нахождения НОД основан на следующих свойствах этой величины. Пусть х и у одновременно не равные нулю целые неотрицательные числа и пусть x &gt;= y, тогда если у=0, то НОД(х,у) = х, а если у&lt;&gt;О, то для чисел х, у и r, где r — остаток от деления х на у выполняется равенство НОД(х, у)=НОД(у, r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Например, пусть х=48, а у=18, найдем их наибольший общий делитель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646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fill="hold">
                      <p:stCondLst>
                        <p:cond delay="0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0" dur="50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3" dur="500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6" dur="500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8" name=""/>
          <p:cNvGraphicFramePr/>
          <p:nvPr/>
        </p:nvGraphicFramePr>
        <p:xfrm>
          <a:off x="457200" y="1413000"/>
          <a:ext cx="8507520" cy="4643280"/>
        </p:xfrm>
        <a:graphic>
          <a:graphicData uri="http://schemas.openxmlformats.org/drawingml/2006/table">
            <a:tbl>
              <a:tblPr/>
              <a:tblGrid>
                <a:gridCol w="1987560"/>
                <a:gridCol w="1987560"/>
                <a:gridCol w="843120"/>
                <a:gridCol w="3689280"/>
              </a:tblGrid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1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1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Y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1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 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1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Результаты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&gt;y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 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8 mod 8=1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&lt;y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НОД(48,18)=НОД(12,18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8 mod 12=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&gt;y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НОД(12,18)=НОД(12,6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2 mod 6=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=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НОД(12,6)=НОД(0,6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 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НОД(0,6)=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49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650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835164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rim3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rogram prim3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ses cr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DEFINT X,Y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Var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х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: Integ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Begin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S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rsc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Вводим два целых неотрицательных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числа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NPUT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”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=,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Y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=”;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Y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Writeln('x:=,y:=');Readln(x,y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DO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pe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F X&gt;Y THEN X=X mod Y ELSE Y=Y mod X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f x&gt;y Then x:=x Mod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Else y:=y Mod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х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До тех пор, пока одно из чисел не станет равно нулю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OOP UNTIL  x=0 or Y=0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ntil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(х=0)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r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y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=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Вывод НОД - без условного оператора, так как одно из чисе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равно нулю.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RINT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”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NOD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)=”;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Y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Writeln('НОД=',х+у)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adln;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nd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>
            <a:hlinkClick r:id="rId1"/>
          </p:cNvPr>
          <p:cNvSpPr/>
          <p:nvPr/>
        </p:nvSpPr>
        <p:spPr>
          <a:xfrm>
            <a:off x="7164360" y="6381720"/>
            <a:ext cx="934920" cy="333360"/>
          </a:xfrm>
          <a:custGeom>
            <a:avLst/>
            <a:gdLst>
              <a:gd name="textAreaLeft" fmla="*/ 21600 w 934920"/>
              <a:gd name="textAreaRight" fmla="*/ 913320 w 9349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60536" h="21600">
                <a:moveTo>
                  <a:pt x="0" y="0"/>
                </a:moveTo>
                <a:lnTo>
                  <a:pt x="60536" y="0"/>
                </a:lnTo>
                <a:lnTo>
                  <a:pt x="60536" y="21600"/>
                </a:lnTo>
                <a:lnTo>
                  <a:pt x="0" y="21600"/>
                </a:lnTo>
                <a:close/>
              </a:path>
              <a:path fill="lightenLess" w="60536" h="21600">
                <a:moveTo>
                  <a:pt x="0" y="0"/>
                </a:moveTo>
                <a:lnTo>
                  <a:pt x="60536" y="0"/>
                </a:lnTo>
                <a:lnTo>
                  <a:pt x="59136" y="1400"/>
                </a:lnTo>
                <a:lnTo>
                  <a:pt x="1400" y="1400"/>
                </a:lnTo>
                <a:close/>
              </a:path>
              <a:path fill="darken" w="60536" h="21600">
                <a:moveTo>
                  <a:pt x="60536" y="0"/>
                </a:moveTo>
                <a:lnTo>
                  <a:pt x="60536" y="21600"/>
                </a:lnTo>
                <a:lnTo>
                  <a:pt x="59136" y="20200"/>
                </a:lnTo>
                <a:lnTo>
                  <a:pt x="59136" y="1400"/>
                </a:lnTo>
                <a:close/>
              </a:path>
              <a:path fill="darkenLess" w="60536" h="21600">
                <a:moveTo>
                  <a:pt x="60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136" y="20200"/>
                </a:lnTo>
                <a:close/>
              </a:path>
              <a:path fill="lighten" w="60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>
            <a:hlinkClick r:id="rId2"/>
          </p:cNvPr>
          <p:cNvSpPr/>
          <p:nvPr/>
        </p:nvSpPr>
        <p:spPr>
          <a:xfrm>
            <a:off x="8298000" y="6381720"/>
            <a:ext cx="811080" cy="331920"/>
          </a:xfrm>
          <a:custGeom>
            <a:avLst/>
            <a:gdLst>
              <a:gd name="textAreaLeft" fmla="*/ 21240 w 811080"/>
              <a:gd name="textAreaRight" fmla="*/ 789840 w 811080"/>
              <a:gd name="textAreaTop" fmla="*/ 21240 h 331920"/>
              <a:gd name="textAreaBottom" fmla="*/ 310680 h 331920"/>
            </a:gdLst>
            <a:ahLst/>
            <a:rect l="textAreaLeft" t="textAreaTop" r="textAreaRight" b="textAreaBottom"/>
            <a:pathLst>
              <a:path w="52748" h="21600">
                <a:moveTo>
                  <a:pt x="0" y="0"/>
                </a:moveTo>
                <a:lnTo>
                  <a:pt x="52748" y="0"/>
                </a:lnTo>
                <a:lnTo>
                  <a:pt x="52748" y="21600"/>
                </a:lnTo>
                <a:lnTo>
                  <a:pt x="0" y="21600"/>
                </a:lnTo>
                <a:close/>
              </a:path>
              <a:path fill="lightenLess" w="52748" h="21600">
                <a:moveTo>
                  <a:pt x="0" y="0"/>
                </a:moveTo>
                <a:lnTo>
                  <a:pt x="52748" y="0"/>
                </a:lnTo>
                <a:lnTo>
                  <a:pt x="51348" y="1400"/>
                </a:lnTo>
                <a:lnTo>
                  <a:pt x="1400" y="1400"/>
                </a:lnTo>
                <a:close/>
              </a:path>
              <a:path fill="darken" w="52748" h="21600">
                <a:moveTo>
                  <a:pt x="52748" y="0"/>
                </a:moveTo>
                <a:lnTo>
                  <a:pt x="52748" y="21600"/>
                </a:lnTo>
                <a:lnTo>
                  <a:pt x="51348" y="20200"/>
                </a:lnTo>
                <a:lnTo>
                  <a:pt x="51348" y="1400"/>
                </a:lnTo>
                <a:close/>
              </a:path>
              <a:path fill="darkenLess" w="52748" h="21600">
                <a:moveTo>
                  <a:pt x="52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48" y="20200"/>
                </a:lnTo>
                <a:close/>
              </a:path>
              <a:path fill="lighten" w="52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1692360" y="6308640"/>
            <a:ext cx="1008000" cy="215640"/>
            <a:chOff x="1692360" y="6308640"/>
            <a:chExt cx="1008000" cy="215640"/>
          </a:xfrm>
        </p:grpSpPr>
        <p:sp>
          <p:nvSpPr>
            <p:cNvPr id="656" name="">
              <a:hlinkClick r:id="" action="ppaction://hlinkshowjump?jump=previousslide"/>
            </p:cNvPr>
            <p:cNvSpPr/>
            <p:nvPr/>
          </p:nvSpPr>
          <p:spPr>
            <a:xfrm>
              <a:off x="1692360" y="630864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>
              <a:hlinkClick r:id="" action="ppaction://hlinkshowjump?jump=nextslide"/>
            </p:cNvPr>
            <p:cNvSpPr/>
            <p:nvPr/>
          </p:nvSpPr>
          <p:spPr>
            <a:xfrm>
              <a:off x="2264040" y="630864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Домашнее задание.</a:t>
            </a:r>
            <a:br>
              <a:rPr sz="2200"/>
            </a:b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23640" y="836280"/>
            <a:ext cx="83739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Дана последовательность операторо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а =1 : b=1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а:=1; b:=1;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while a+b&lt;8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while a+b&lt;8 do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а=а+1: b=b+2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Begin а:=а+1; b:=b+2 End;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wend: s:=a+b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s:=a+b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Сколько раз будет повторен цикл,  и какими будут значения переменных а, b, и s после завершения этой последовательности операторов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Определить значение переменной s после выполнения следующих операторо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s=0 : i:=l           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s:=0; i:=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DO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Repea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s=s+5 Div i : i=l-l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s:=s+5 Div i; i:=l-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LOOP Until i&lt;=1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Until i&lt;=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661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fill="hold">
                      <p:stCondLst>
                        <p:cond delay="0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3" dur="5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6" dur="500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9" dur="500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2" dur="500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5" dur="500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500"/>
                                        <p:tgtEl>
                                          <p:spTgt spid="6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4" dur="500"/>
                                        <p:tgtEl>
                                          <p:spTgt spid="6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7" dur="500"/>
                                        <p:tgtEl>
                                          <p:spTgt spid="6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0" dur="500"/>
                                        <p:tgtEl>
                                          <p:spTgt spid="6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6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1403280" y="4005360"/>
            <a:ext cx="6624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ложенные циклы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665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3"/>
            </a:gs>
            <a:gs pos="50000">
              <a:srgbClr val="000054"/>
            </a:gs>
            <a:gs pos="100000">
              <a:srgbClr val="0000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4167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ель урока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оказать сходство и различие операторов цикла с предусловием и постусловием  в языках программирования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Basic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Turbo Pascal 7.0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План урока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1. Проверка домашнего задан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2. Вложенные циклы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3. Решение задач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4. Домашнее задани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7812000" y="6453360"/>
            <a:ext cx="1008000" cy="215640"/>
            <a:chOff x="7812000" y="6453360"/>
            <a:chExt cx="1008000" cy="215640"/>
          </a:xfrm>
        </p:grpSpPr>
        <p:sp>
          <p:nvSpPr>
            <p:cNvPr id="670" name="">
              <a:hlinkClick r:id="" action="ppaction://hlinkshowjump?jump=previousslide"/>
            </p:cNvPr>
            <p:cNvSpPr/>
            <p:nvPr/>
          </p:nvSpPr>
          <p:spPr>
            <a:xfrm>
              <a:off x="7812000" y="6453360"/>
              <a:ext cx="435240" cy="215640"/>
            </a:xfrm>
            <a:custGeom>
              <a:avLst/>
              <a:gdLst>
                <a:gd name="textAreaLeft" fmla="*/ 13680 w 435240"/>
                <a:gd name="textAreaRight" fmla="*/ 421560 w 4352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560" h="21600">
                  <a:moveTo>
                    <a:pt x="0" y="0"/>
                  </a:moveTo>
                  <a:lnTo>
                    <a:pt x="43560" y="0"/>
                  </a:lnTo>
                  <a:lnTo>
                    <a:pt x="43560" y="21600"/>
                  </a:lnTo>
                  <a:lnTo>
                    <a:pt x="0" y="21600"/>
                  </a:lnTo>
                  <a:close/>
                </a:path>
                <a:path fill="lightenLess" w="43560" h="21600">
                  <a:moveTo>
                    <a:pt x="0" y="0"/>
                  </a:moveTo>
                  <a:lnTo>
                    <a:pt x="43560" y="0"/>
                  </a:lnTo>
                  <a:lnTo>
                    <a:pt x="42160" y="1400"/>
                  </a:lnTo>
                  <a:lnTo>
                    <a:pt x="1400" y="1400"/>
                  </a:lnTo>
                  <a:close/>
                </a:path>
                <a:path fill="darken" w="43560" h="21600">
                  <a:moveTo>
                    <a:pt x="43560" y="0"/>
                  </a:moveTo>
                  <a:lnTo>
                    <a:pt x="43560" y="21600"/>
                  </a:lnTo>
                  <a:lnTo>
                    <a:pt x="42160" y="20200"/>
                  </a:lnTo>
                  <a:lnTo>
                    <a:pt x="42160" y="1400"/>
                  </a:lnTo>
                  <a:close/>
                </a:path>
                <a:path fill="darkenLess" w="43560" h="21600">
                  <a:moveTo>
                    <a:pt x="435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160" y="20200"/>
                  </a:lnTo>
                  <a:close/>
                </a:path>
                <a:path fill="lighten" w="435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560" h="21600">
                  <a:moveTo>
                    <a:pt x="14774" y="10800"/>
                  </a:moveTo>
                  <a:lnTo>
                    <a:pt x="28786" y="3794"/>
                  </a:lnTo>
                  <a:lnTo>
                    <a:pt x="28786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>
              <a:hlinkClick r:id="" action="ppaction://hlinkshowjump?jump=nextslide"/>
            </p:cNvPr>
            <p:cNvSpPr/>
            <p:nvPr/>
          </p:nvSpPr>
          <p:spPr>
            <a:xfrm>
              <a:off x="8383680" y="6453360"/>
              <a:ext cx="436320" cy="215640"/>
            </a:xfrm>
            <a:custGeom>
              <a:avLst/>
              <a:gdLst>
                <a:gd name="textAreaLeft" fmla="*/ 13680 w 436320"/>
                <a:gd name="textAreaRight" fmla="*/ 422640 w 43632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43668" h="21600">
                  <a:moveTo>
                    <a:pt x="0" y="0"/>
                  </a:moveTo>
                  <a:lnTo>
                    <a:pt x="43668" y="0"/>
                  </a:lnTo>
                  <a:lnTo>
                    <a:pt x="43668" y="21600"/>
                  </a:lnTo>
                  <a:lnTo>
                    <a:pt x="0" y="21600"/>
                  </a:lnTo>
                  <a:close/>
                </a:path>
                <a:path fill="lightenLess" w="43668" h="21600">
                  <a:moveTo>
                    <a:pt x="0" y="0"/>
                  </a:moveTo>
                  <a:lnTo>
                    <a:pt x="43668" y="0"/>
                  </a:lnTo>
                  <a:lnTo>
                    <a:pt x="42268" y="1400"/>
                  </a:lnTo>
                  <a:lnTo>
                    <a:pt x="1400" y="1400"/>
                  </a:lnTo>
                  <a:close/>
                </a:path>
                <a:path fill="darken" w="43668" h="21600">
                  <a:moveTo>
                    <a:pt x="43668" y="0"/>
                  </a:moveTo>
                  <a:lnTo>
                    <a:pt x="43668" y="21600"/>
                  </a:lnTo>
                  <a:lnTo>
                    <a:pt x="42268" y="20200"/>
                  </a:lnTo>
                  <a:lnTo>
                    <a:pt x="42268" y="1400"/>
                  </a:lnTo>
                  <a:close/>
                </a:path>
                <a:path fill="darkenLess" w="43668" h="21600">
                  <a:moveTo>
                    <a:pt x="43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2268" y="20200"/>
                  </a:lnTo>
                  <a:close/>
                </a:path>
                <a:path fill="lighten" w="43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668" h="21600">
                  <a:moveTo>
                    <a:pt x="14828" y="3794"/>
                  </a:moveTo>
                  <a:lnTo>
                    <a:pt x="28840" y="10800"/>
                  </a:lnTo>
                  <a:lnTo>
                    <a:pt x="14828" y="178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lu"/>
  </p:transition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fill="hold">
                      <p:stCondLst>
                        <p:cond delay="0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500"/>
                            </p:stCondLst>
                            <p:childTnLst>
                              <p:par>
                                <p:cTn id="1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8" dur="5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2" dur="5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0" dur="500"/>
                                        <p:tgtEl>
                                          <p:spTgt spid="6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12:42:51Z</dcterms:created>
  <dc:creator>Чернов А.Ф.</dc:creator>
  <dc:description/>
  <dc:language>en-US</dc:language>
  <cp:lastModifiedBy>HOME</cp:lastModifiedBy>
  <dcterms:modified xsi:type="dcterms:W3CDTF">2006-09-28T07:07:22Z</dcterms:modified>
  <cp:revision>188</cp:revision>
  <dc:subject/>
  <dc:title>Урок 1 Тема урока: Языки программирования Qbasic и Turbo Pascal 7.0.    План урока: 1. Основные сведения о языках программирования. 2.  Основные средства языков.  Алфавит языков.  Служебные слова. 3.  Структура программ. 4.  Домашнее задание.</dc:title>
</cp:coreProperties>
</file>