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6105-673D-49DD-95B5-232265C2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1F3-8303-4B67-ADEC-EB28B37F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9001-DFFC-4FF7-A0BD-54E180AC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7E7-14DA-43CA-91EF-D51A8D6CB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B93F-96E6-4DCA-8BA2-A3C8E50C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9D82-AEF7-4603-B80C-C1FE60B5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48AC-C9DC-44BE-873F-AD76324E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9997-1E26-4356-934F-F726C1CE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6921-FB6B-489D-AB3D-EC4FC924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B75C-0323-4BCB-9697-46654F8B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6DD0-AFBC-448C-87E8-F10ADA2C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6494-2B35-404A-BED3-F8E3E99F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FC2C-7183-48E8-AD66-58FF9236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8D19-9A5C-4612-B153-8E78C505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1C63-D143-4197-AE61-1A3139C9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0D97-A110-4738-9927-FDDB2470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F2B4-F226-4B7F-A49C-05AB51D2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4CFD-8994-411E-9702-A5BA337F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D257-67B0-4433-BB40-E0B7E29A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FCFF-0E44-4523-8972-840AFEBA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5BA4-FDF2-40EF-9CE2-A3C0FC8D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F1FF-C987-47AF-AC8F-0BEDFFFF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E6D3-75E7-401B-ADF7-945DCF53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5818-10AB-4D56-AF8F-1A6B2CC8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839D-E848-4711-8C3E-CC5A9A74CB5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F2BF-51B2-4629-B4A4-E0D5ECF5ECA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data\runer.exe zadachi\Ur22_pr1.bas" TargetMode="External"/><Relationship Id="rId2" Type="http://schemas.openxmlformats.org/officeDocument/2006/relationships/hyperlink" Target="data\runer.exe zadachi\Ur22_pr1.pas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data\runer.exe zadachi\Ur22_pr2.bas" TargetMode="External"/><Relationship Id="rId2" Type="http://schemas.openxmlformats.org/officeDocument/2006/relationships/hyperlink" Target="data\runer.exe zadachi\Ur22_pr2.pas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data\runer.exe zadachi\Ur22_pr3.bas" TargetMode="External"/><Relationship Id="rId2" Type="http://schemas.openxmlformats.org/officeDocument/2006/relationships/hyperlink" Target="data\runer.exe zadachi\Ur22_pr3.pas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data\runer.exe zadachi\Ur22_pr4.pas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data\runer.exe zadachi\Ur23_pr1.bas" TargetMode="External"/><Relationship Id="rId2" Type="http://schemas.openxmlformats.org/officeDocument/2006/relationships/hyperlink" Target="data\runer.exe zadachi\Ur23_pr1.pas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data\runer.exe zadachi\Ur23_pr2.bas" TargetMode="External"/><Relationship Id="rId2" Type="http://schemas.openxmlformats.org/officeDocument/2006/relationships/hyperlink" Target="data\runer.exe zadachi\Ur23_pr2.pas" TargetMode="Externa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data\runer.exe zadachi\Ur24_pr1.bas" TargetMode="External"/><Relationship Id="rId2" Type="http://schemas.openxmlformats.org/officeDocument/2006/relationships/hyperlink" Target="data\runer.exe zadachi\Ur24_pr1.pas" TargetMode="External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data\runer.exe zadachi\Ur24_pr2.bas" TargetMode="External"/><Relationship Id="rId2" Type="http://schemas.openxmlformats.org/officeDocument/2006/relationships/hyperlink" Target="data\runer.exe zadachi\Ur24_pr2.pas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data\runer.exe zadachi\Ur24_pr3.bas" TargetMode="External"/><Relationship Id="rId2" Type="http://schemas.openxmlformats.org/officeDocument/2006/relationships/hyperlink" Target="data\runer.exe zadachi\Ur24_pr3.pas" TargetMode="External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data\runer.exe zadachi\Ur24_pr4.bas" TargetMode="External"/><Relationship Id="rId2" Type="http://schemas.openxmlformats.org/officeDocument/2006/relationships/hyperlink" Target="data\runer.exe zadachi\Ur24_pr4.pas" TargetMode="External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data\runer.exe zadachi\Ur25_pr1.bas" TargetMode="External"/><Relationship Id="rId2" Type="http://schemas.openxmlformats.org/officeDocument/2006/relationships/hyperlink" Target="data\runer.exe zadachi\Ur25_pr1.pas" TargetMode="External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data\runer.exe zadachi\Ur25_pr4.pas" TargetMode="External"/><Relationship Id="rId2" Type="http://schemas.openxmlformats.org/officeDocument/2006/relationships/hyperlink" Target="data\runer.exe zadachi\Ur25_pr4.bas" TargetMode="External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data\runer.exe zadachi\Ur26_pr1.bas" TargetMode="External"/><Relationship Id="rId2" Type="http://schemas.openxmlformats.org/officeDocument/2006/relationships/hyperlink" Target="data\runer.exe zadachi\Ur26_pr1.pas" TargetMode="External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hyperlink" Target="data\runer.exe zadachi\Ur26_pr2.bas" TargetMode="External"/><Relationship Id="rId2" Type="http://schemas.openxmlformats.org/officeDocument/2006/relationships/hyperlink" Target="data\runer.exe zadachi\Ur26_pr2.pas" TargetMode="Externa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35280" y="2771640"/>
            <a:ext cx="590544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58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рок 22</a:t>
            </a:r>
            <a:endParaRPr b="1" lang="en-US" sz="3200" spc="1" strike="noStrike">
              <a:ln w="158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111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2152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Формальные и фактические параметры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7280" y="1341000"/>
            <a:ext cx="7724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зультат выполнения процедуры — это одно или несколько значений. Оно (или они) передается в основную программу как значение ее параметра. При вызове процедуры ее формальные параметры заменяются фактическими в порядке их следов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актические параметры — это параметры, которые передаются процедуре при обращении к н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Число и тип формальных и фактических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 параметров должны совпадать с точностью до их следов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ормальные параметры — это переменные, фиктивно присутствующие в процедуре и определяющие тип и место подстановки фактических пара­метров, над которыми производятся действ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е формальные параметры делятся на два вид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16956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раметры-переменные и параметры-знач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150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68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68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68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68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947520"/>
            <a:ext cx="75438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Qbasic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Qbasic для передачи по значению переменные берутся в круглые скобки. Т. е. передается только  копия значения этих параметров, внутри процедуры можно производить  любые действия с данными формальными параметрами (допустимыми для его типа), но их любые изменения никак не отражаются на значениях соответствующих фактических параметров, то есть какими они были до вызова процедуры, то такими же и останутся после завершения ее работ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ез круглых скобок переменные передаются по ссылке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Это делается для того, чтобы изменения в теле процедуры значений формальных параметров приводило к изменению соответствующих фактических параметров, таким образом, они и получают новое знач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155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768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768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2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4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Turbo Pascal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i="1" lang="ru-RU" sz="4400" spc="-1" strike="noStrike">
                <a:solidFill>
                  <a:srgbClr val="eaeaea"/>
                </a:solidFill>
                <a:latin typeface="Tahoma"/>
              </a:rPr>
              <a:t>7.0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71280" y="1052640"/>
            <a:ext cx="7893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араметры-переменные в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urbo Pasca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7.0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— это те формальные параметры,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перед которыми стоит служебное слово Var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ни передаются по ссылке (передается адрес фактического параметра) тогда, когда необходимо передать некоторые новые значения в точку вызова процедуры из программы, то есть когда нужно, чтобы изменения в теле процедуры значений формальных параметров приводило к изменению соответствующих фактических параметров, таким образом, они и получают новое знач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араметры-значения — перед ними слово Var не ставитс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и идет передача по значению, т. е. передается только копия значения этих параметров, внутри процедуры можно производить любые действия с данными формальными параметрами (допустимые для его типа), но их любые изменения никак не отражаются на значениях соответствующих фактических параметров, то есть какими они были до вызова процедуры, то такими же и останутся после завершения ее рабо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160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768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768" fill="hold"/>
                                        <p:tgtEl>
                                          <p:spTgt spid="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" dur="768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" dur="768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304920"/>
            <a:ext cx="79992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Локальные или глобальные переменны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9423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Область действия переменной (идентификатора) - часть программы, где он может быть использован. Область действия переменной определяется местом  их объявления. В программе все переменные делятся на глобальные и локальные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ahoma"/>
              </a:rPr>
              <a:t>Глобальные переменные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— это те переменные, которые объявлены в описании основной части, и ее могут использовать любые процедуры и функции данной программы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Переменные, описанные внутри подпрограммы, называются </a:t>
            </a:r>
            <a:r>
              <a:rPr b="1" lang="en-US" sz="1900" spc="-1" strike="noStrike">
                <a:solidFill>
                  <a:srgbClr val="ffffff"/>
                </a:solidFill>
                <a:latin typeface="Tahoma"/>
              </a:rPr>
              <a:t>локальными 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и могут быть использованы только внутри данной подпрограммы. Локальные переменные  могут быть описаны  как  в заголовке программы, так и в разделе описания переменных. При совпадении имен глобальных и локальных переменных, локальные определения в пределах своего действия отменяют действия глобальных, и эти переменные никак не связаны между собой. 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165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768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768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8" dur="768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0" dur="768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71280" y="115560"/>
            <a:ext cx="784836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Какова роль локальных переменных, нельзя  ли все переменные  описать как  глобальные? Подпрограмма должна быть, по возможности, независима от основной программы,  поэтому  все переменные, нужные только в пределах подпрограммы, должны описываться как локальные. Общение основной программы с подпрограммой должно, как правило, идти через список параметров подпрограммы, что придает ей необходимую гибкость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Локальность или глобальность – понятия относительные. Программа с вложенными в нее подпрограммами - иерархическое дерево. Объект, локальный по отношению к более высокому уровню иерархии, ведет себя как глобальный по отношению к объектам более низкого уровня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Программу можно изобразить в виде блоков (подпрограмм), каждый блок это дом с зеркальными стеклами в окнах. Изнутри через них видно все, что находиться снаружи, внутрь заглянуть нельзя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Программу можно изобразить в виде блоков (подпрограмм), каждый блок это дом с зеркальными стеклами в окнах. Изнутри через них видно все, что находиться снаружи, внутрь заглянуть нельзя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740720" y="6453360"/>
            <a:ext cx="1222200" cy="287280"/>
            <a:chOff x="7740720" y="6453360"/>
            <a:chExt cx="1222200" cy="287280"/>
          </a:xfrm>
        </p:grpSpPr>
        <p:sp>
          <p:nvSpPr>
            <p:cNvPr id="169" name="">
              <a:hlinkClick r:id="" action="ppaction://hlinkshowjump?jump=previousslide"/>
            </p:cNvPr>
            <p:cNvSpPr/>
            <p:nvPr/>
          </p:nvSpPr>
          <p:spPr>
            <a:xfrm>
              <a:off x="7740720" y="645336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>
              <a:hlinkClick r:id="" action="ppaction://hlinkshowjump?jump=nextslide"/>
            </p:cNvPr>
            <p:cNvSpPr/>
            <p:nvPr/>
          </p:nvSpPr>
          <p:spPr>
            <a:xfrm>
              <a:off x="8433720" y="645336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395280" y="1341360"/>
          <a:ext cx="8229600" cy="5141880"/>
        </p:xfrm>
        <a:graphic>
          <a:graphicData uri="http://schemas.openxmlformats.org/drawingml/2006/table">
            <a:tbl>
              <a:tblPr/>
              <a:tblGrid>
                <a:gridCol w="3600360"/>
                <a:gridCol w="4629240"/>
              </a:tblGrid>
              <a:tr h="518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M A, B, S AS SING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 summa (X, Y, 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 = X + 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INT "S="; S, A, B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D SU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PUT "A=,B="; A,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LL summa(A, B, 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INT "summa="; S, A,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es crt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r a,b,s:real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cedure  summa (x,y:real;var s:real)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gi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:=x+y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riteln('s=',s:3:1,'   ',a:3:1,'    ',b:3:1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d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gin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rscr;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riteln('a=b=');readln(a,b);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summa(a,b,s)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riteln('s=',s:3:1,'   ',a:3:1,'  ',b:3:1)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adln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>
            <a:hlinkClick r:id="rId1"/>
          </p:cNvPr>
          <p:cNvSpPr/>
          <p:nvPr/>
        </p:nvSpPr>
        <p:spPr>
          <a:xfrm>
            <a:off x="7236000" y="6093000"/>
            <a:ext cx="576000" cy="334800"/>
          </a:xfrm>
          <a:custGeom>
            <a:avLst/>
            <a:gdLst>
              <a:gd name="textAreaLeft" fmla="*/ 21600 w 576000"/>
              <a:gd name="textAreaRight" fmla="*/ 554400 w 57600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37145" h="21600">
                <a:moveTo>
                  <a:pt x="0" y="0"/>
                </a:moveTo>
                <a:lnTo>
                  <a:pt x="37145" y="0"/>
                </a:lnTo>
                <a:lnTo>
                  <a:pt x="37145" y="21600"/>
                </a:lnTo>
                <a:lnTo>
                  <a:pt x="0" y="21600"/>
                </a:lnTo>
                <a:close/>
              </a:path>
              <a:path fill="lightenLess" w="37145" h="21600">
                <a:moveTo>
                  <a:pt x="0" y="0"/>
                </a:moveTo>
                <a:lnTo>
                  <a:pt x="37145" y="0"/>
                </a:lnTo>
                <a:lnTo>
                  <a:pt x="35745" y="1400"/>
                </a:lnTo>
                <a:lnTo>
                  <a:pt x="1400" y="1400"/>
                </a:lnTo>
                <a:close/>
              </a:path>
              <a:path fill="darken" w="37145" h="21600">
                <a:moveTo>
                  <a:pt x="37145" y="0"/>
                </a:moveTo>
                <a:lnTo>
                  <a:pt x="37145" y="21600"/>
                </a:lnTo>
                <a:lnTo>
                  <a:pt x="35745" y="20200"/>
                </a:lnTo>
                <a:lnTo>
                  <a:pt x="35745" y="1400"/>
                </a:lnTo>
                <a:close/>
              </a:path>
              <a:path fill="darkenLess" w="37145" h="21600">
                <a:moveTo>
                  <a:pt x="37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45" y="20200"/>
                </a:lnTo>
                <a:close/>
              </a:path>
              <a:path fill="lighten" w="37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rId2"/>
          </p:cNvPr>
          <p:cNvSpPr/>
          <p:nvPr/>
        </p:nvSpPr>
        <p:spPr>
          <a:xfrm>
            <a:off x="8028000" y="6093000"/>
            <a:ext cx="576360" cy="33480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37168" h="21600">
                <a:moveTo>
                  <a:pt x="0" y="0"/>
                </a:moveTo>
                <a:lnTo>
                  <a:pt x="37168" y="0"/>
                </a:lnTo>
                <a:lnTo>
                  <a:pt x="37168" y="21600"/>
                </a:lnTo>
                <a:lnTo>
                  <a:pt x="0" y="21600"/>
                </a:lnTo>
                <a:close/>
              </a:path>
              <a:path fill="lightenLess" w="37168" h="21600">
                <a:moveTo>
                  <a:pt x="0" y="0"/>
                </a:moveTo>
                <a:lnTo>
                  <a:pt x="37168" y="0"/>
                </a:lnTo>
                <a:lnTo>
                  <a:pt x="35768" y="1400"/>
                </a:lnTo>
                <a:lnTo>
                  <a:pt x="1400" y="1400"/>
                </a:lnTo>
                <a:close/>
              </a:path>
              <a:path fill="darken" w="37168" h="21600">
                <a:moveTo>
                  <a:pt x="37168" y="0"/>
                </a:moveTo>
                <a:lnTo>
                  <a:pt x="37168" y="21600"/>
                </a:lnTo>
                <a:lnTo>
                  <a:pt x="35768" y="20200"/>
                </a:lnTo>
                <a:lnTo>
                  <a:pt x="35768" y="1400"/>
                </a:lnTo>
                <a:close/>
              </a:path>
              <a:path fill="darkenLess" w="37168" h="21600">
                <a:moveTo>
                  <a:pt x="371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68" y="20200"/>
                </a:lnTo>
                <a:close/>
              </a:path>
              <a:path fill="lighten" w="371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1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Составить процедуру сложения двух чисел, вводимых с клавиатуры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124000" y="6237360"/>
            <a:ext cx="1222200" cy="287280"/>
            <a:chOff x="2124000" y="6237360"/>
            <a:chExt cx="1222200" cy="287280"/>
          </a:xfrm>
        </p:grpSpPr>
        <p:sp>
          <p:nvSpPr>
            <p:cNvPr id="176" name="">
              <a:hlinkClick r:id="" action="ppaction://hlinkshowjump?jump=previousslide"/>
            </p:cNvPr>
            <p:cNvSpPr/>
            <p:nvPr/>
          </p:nvSpPr>
          <p:spPr>
            <a:xfrm>
              <a:off x="2124000" y="623736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>
              <a:hlinkClick r:id="" action="ppaction://hlinkshowjump?jump=nextslide"/>
            </p:cNvPr>
            <p:cNvSpPr/>
            <p:nvPr/>
          </p:nvSpPr>
          <p:spPr>
            <a:xfrm>
              <a:off x="2817000" y="623736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68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68" fill="hold"/>
                                        <p:tgtEl>
                                          <p:spTgt spid="1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68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68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10920" y="475920"/>
            <a:ext cx="82818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цедура вызывается как оператор, состоящий из имени процедуры. В круглых скобках передаются фактические параметры. В нашем примере, фактические параметры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а, 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ередают свои значения соответственно формальным параметрам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X, 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S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осле завершения работы процедуры переменные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B имеют те же значения, что и при вызове, а S получает новое знач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ередача параметров очень важна для процедур и функций. Это процесс, благодаря которому передается информац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сть а=3 и в=4. Когда в программе встречается опера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summa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((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), (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),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) или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summa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);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о ЭВМ выполняет следующие действия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 выделяет память для переменных, опи­санных в процедуре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 присваивает формальным параметрам значе­ния фактических: х:=а (х=3), у:=в (у=4), s:=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 выполняет операторы процедуры, то есть найдет сумм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полученное значение присвоит перемен­ной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а переменные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B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остаются прежними, после этого переходит к выполнению следующих действий программы в точке вызова, то есть выполняется следующий оператор, стоящий за обращением процедур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524720" y="6237360"/>
            <a:ext cx="1222200" cy="287280"/>
            <a:chOff x="7524720" y="6237360"/>
            <a:chExt cx="1222200" cy="287280"/>
          </a:xfrm>
        </p:grpSpPr>
        <p:sp>
          <p:nvSpPr>
            <p:cNvPr id="180" name="">
              <a:hlinkClick r:id="" action="ppaction://hlinkshowjump?jump=previousslide"/>
            </p:cNvPr>
            <p:cNvSpPr/>
            <p:nvPr/>
          </p:nvSpPr>
          <p:spPr>
            <a:xfrm>
              <a:off x="7524720" y="623736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>
              <a:hlinkClick r:id="" action="ppaction://hlinkshowjump?jump=nextslide"/>
            </p:cNvPr>
            <p:cNvSpPr/>
            <p:nvPr/>
          </p:nvSpPr>
          <p:spPr>
            <a:xfrm>
              <a:off x="8217720" y="623736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6756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ahoma"/>
              </a:rPr>
              <a:t>Составить процедуру нахождения максимального из двух  действительных чисел, вводимых с клавиатуры. Используйте процедуру для нахождения максимального значения для четырех чисел.</a:t>
            </a:r>
            <a:endParaRPr b="1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971640" y="1916280"/>
          <a:ext cx="7581960" cy="4276440"/>
        </p:xfrm>
        <a:graphic>
          <a:graphicData uri="http://schemas.openxmlformats.org/drawingml/2006/table">
            <a:tbl>
              <a:tblPr/>
              <a:tblGrid>
                <a:gridCol w="3922920"/>
                <a:gridCol w="3659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uses crt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DIM A, B, S,C,D AS SING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ar a,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,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,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c,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d:real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UB maxim (X, Y, 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rocedure  maxim x,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y:real;var s:real)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eg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IF X &lt; Y THEN S = Y ELSE S = 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if x&lt;y then s:=y else s:=x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ND SU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nd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eg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C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clrscr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INPUT "a=,b="; A,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writeln('a=b=');readln(a,b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INPUT "c=,d="; C, 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writeln('c=d=');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readln(c,d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4" name=""/>
          <p:cNvGrpSpPr/>
          <p:nvPr/>
        </p:nvGrpSpPr>
        <p:grpSpPr>
          <a:xfrm>
            <a:off x="7596360" y="6308640"/>
            <a:ext cx="1222200" cy="287280"/>
            <a:chOff x="7596360" y="6308640"/>
            <a:chExt cx="1222200" cy="287280"/>
          </a:xfrm>
        </p:grpSpPr>
        <p:sp>
          <p:nvSpPr>
            <p:cNvPr id="185" name="">
              <a:hlinkClick r:id="" action="ppaction://hlinkshowjump?jump=previousslide"/>
            </p:cNvPr>
            <p:cNvSpPr/>
            <p:nvPr/>
          </p:nvSpPr>
          <p:spPr>
            <a:xfrm>
              <a:off x="7596360" y="630864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>
              <a:hlinkClick r:id="" action="ppaction://hlinkshowjump?jump=nextslide"/>
            </p:cNvPr>
            <p:cNvSpPr/>
            <p:nvPr/>
          </p:nvSpPr>
          <p:spPr>
            <a:xfrm>
              <a:off x="8289360" y="630864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68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68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6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6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998"/>
                            </p:stCondLst>
                            <p:childTnLst>
                              <p:par>
                                <p:cTn id="4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684360" y="620640"/>
          <a:ext cx="8137440" cy="5040360"/>
        </p:xfrm>
        <a:graphic>
          <a:graphicData uri="http://schemas.openxmlformats.org/drawingml/2006/table">
            <a:tbl>
              <a:tblPr/>
              <a:tblGrid>
                <a:gridCol w="4209840"/>
                <a:gridCol w="3927600"/>
              </a:tblGrid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 перменную S заносим большее и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двух чисел А  и 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CALL maxim(A, B, 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maxim(a,b,s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 перменную S заносим большее и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двух чисел C  и 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CALL maxim(C, S,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maxim(c,s,s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 перменную S заносим большее и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двух чисел D  и 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CALL maxim(D, S,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maxim(d,s,s);}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RINT "max="; 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writeln('max=',s:3:1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readln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n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>
            <a:hlinkClick r:id="rId1"/>
          </p:cNvPr>
          <p:cNvSpPr/>
          <p:nvPr/>
        </p:nvSpPr>
        <p:spPr>
          <a:xfrm>
            <a:off x="7524720" y="6237360"/>
            <a:ext cx="576360" cy="33480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37168" h="21600">
                <a:moveTo>
                  <a:pt x="0" y="0"/>
                </a:moveTo>
                <a:lnTo>
                  <a:pt x="37168" y="0"/>
                </a:lnTo>
                <a:lnTo>
                  <a:pt x="37168" y="21600"/>
                </a:lnTo>
                <a:lnTo>
                  <a:pt x="0" y="21600"/>
                </a:lnTo>
                <a:close/>
              </a:path>
              <a:path fill="lightenLess" w="37168" h="21600">
                <a:moveTo>
                  <a:pt x="0" y="0"/>
                </a:moveTo>
                <a:lnTo>
                  <a:pt x="37168" y="0"/>
                </a:lnTo>
                <a:lnTo>
                  <a:pt x="35768" y="1400"/>
                </a:lnTo>
                <a:lnTo>
                  <a:pt x="1400" y="1400"/>
                </a:lnTo>
                <a:close/>
              </a:path>
              <a:path fill="darken" w="37168" h="21600">
                <a:moveTo>
                  <a:pt x="37168" y="0"/>
                </a:moveTo>
                <a:lnTo>
                  <a:pt x="37168" y="21600"/>
                </a:lnTo>
                <a:lnTo>
                  <a:pt x="35768" y="20200"/>
                </a:lnTo>
                <a:lnTo>
                  <a:pt x="35768" y="1400"/>
                </a:lnTo>
                <a:close/>
              </a:path>
              <a:path fill="darkenLess" w="37168" h="21600">
                <a:moveTo>
                  <a:pt x="371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68" y="20200"/>
                </a:lnTo>
                <a:close/>
              </a:path>
              <a:path fill="lighten" w="371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>
            <a:hlinkClick r:id="rId2"/>
          </p:cNvPr>
          <p:cNvSpPr/>
          <p:nvPr/>
        </p:nvSpPr>
        <p:spPr>
          <a:xfrm>
            <a:off x="8244000" y="6237360"/>
            <a:ext cx="576000" cy="334800"/>
          </a:xfrm>
          <a:custGeom>
            <a:avLst/>
            <a:gdLst>
              <a:gd name="textAreaLeft" fmla="*/ 21600 w 576000"/>
              <a:gd name="textAreaRight" fmla="*/ 554400 w 57600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37145" h="21600">
                <a:moveTo>
                  <a:pt x="0" y="0"/>
                </a:moveTo>
                <a:lnTo>
                  <a:pt x="37145" y="0"/>
                </a:lnTo>
                <a:lnTo>
                  <a:pt x="37145" y="21600"/>
                </a:lnTo>
                <a:lnTo>
                  <a:pt x="0" y="21600"/>
                </a:lnTo>
                <a:close/>
              </a:path>
              <a:path fill="lightenLess" w="37145" h="21600">
                <a:moveTo>
                  <a:pt x="0" y="0"/>
                </a:moveTo>
                <a:lnTo>
                  <a:pt x="37145" y="0"/>
                </a:lnTo>
                <a:lnTo>
                  <a:pt x="35745" y="1400"/>
                </a:lnTo>
                <a:lnTo>
                  <a:pt x="1400" y="1400"/>
                </a:lnTo>
                <a:close/>
              </a:path>
              <a:path fill="darken" w="37145" h="21600">
                <a:moveTo>
                  <a:pt x="37145" y="0"/>
                </a:moveTo>
                <a:lnTo>
                  <a:pt x="37145" y="21600"/>
                </a:lnTo>
                <a:lnTo>
                  <a:pt x="35745" y="20200"/>
                </a:lnTo>
                <a:lnTo>
                  <a:pt x="35745" y="1400"/>
                </a:lnTo>
                <a:close/>
              </a:path>
              <a:path fill="darkenLess" w="37145" h="21600">
                <a:moveTo>
                  <a:pt x="37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45" y="20200"/>
                </a:lnTo>
                <a:close/>
              </a:path>
              <a:path fill="lighten" w="37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484360" y="6308640"/>
            <a:ext cx="1222200" cy="287280"/>
            <a:chOff x="2484360" y="6308640"/>
            <a:chExt cx="1222200" cy="287280"/>
          </a:xfrm>
        </p:grpSpPr>
        <p:sp>
          <p:nvSpPr>
            <p:cNvPr id="191" name="">
              <a:hlinkClick r:id="" action="ppaction://hlinkshowjump?jump=previousslide"/>
            </p:cNvPr>
            <p:cNvSpPr/>
            <p:nvPr/>
          </p:nvSpPr>
          <p:spPr>
            <a:xfrm>
              <a:off x="2484360" y="630864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>
              <a:hlinkClick r:id="" action="ppaction://hlinkshowjump?jump=nextslide"/>
            </p:cNvPr>
            <p:cNvSpPr/>
            <p:nvPr/>
          </p:nvSpPr>
          <p:spPr>
            <a:xfrm>
              <a:off x="3177360" y="630864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71640" y="344160"/>
            <a:ext cx="7524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eaeaea"/>
                </a:solidFill>
                <a:latin typeface="Tahoma"/>
              </a:rPr>
              <a:t>Составить программу, которая будет находить а</a:t>
            </a:r>
            <a:r>
              <a:rPr b="1" i="1" lang="ru-RU" sz="2200" spc="-1" strike="noStrike" baseline="30000">
                <a:solidFill>
                  <a:srgbClr val="eaeaea"/>
                </a:solidFill>
                <a:latin typeface="Tahoma"/>
              </a:rPr>
              <a:t>b</a:t>
            </a:r>
            <a:r>
              <a:rPr b="1" i="1" lang="ru-RU" sz="2200" spc="-1" strike="noStrike">
                <a:solidFill>
                  <a:srgbClr val="eaeaea"/>
                </a:solidFill>
                <a:latin typeface="Tahoma"/>
              </a:rPr>
              <a:t>, то есть b-ую степень числа A, где A  и  B - это целые числа и B&gt;0, вводимые с клавиатуры.</a:t>
            </a:r>
            <a:endParaRPr b="1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97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uses cr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M A, B  AS  INTEGER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var a,b:integer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M S  AS  LONGSUB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s:longin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epen (X, Y AS INTEGER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procedure  stepen (x,y:integer;va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 AS LONG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s:longint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INT I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var i:integer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 = 1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s:=1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I = 1 TO Y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for i:=1 to y 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 = S * X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s:=s*x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XT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 SUB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236000" y="6237360"/>
            <a:ext cx="1222200" cy="287280"/>
            <a:chOff x="7236000" y="6237360"/>
            <a:chExt cx="1222200" cy="287280"/>
          </a:xfrm>
        </p:grpSpPr>
        <p:sp>
          <p:nvSpPr>
            <p:cNvPr id="196" name="">
              <a:hlinkClick r:id="" action="ppaction://hlinkshowjump?jump=previousslide"/>
            </p:cNvPr>
            <p:cNvSpPr/>
            <p:nvPr/>
          </p:nvSpPr>
          <p:spPr>
            <a:xfrm>
              <a:off x="7236000" y="623736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>
              <a:hlinkClick r:id="" action="ppaction://hlinkshowjump?jump=nextslide"/>
            </p:cNvPr>
            <p:cNvSpPr/>
            <p:nvPr/>
          </p:nvSpPr>
          <p:spPr>
            <a:xfrm>
              <a:off x="7929000" y="623736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768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2" dur="768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4" dur="768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6" dur="768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998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498"/>
                            </p:stCondLst>
                            <p:childTnLst>
                              <p:par>
                                <p:cTn id="4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998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498"/>
                            </p:stCondLst>
                            <p:childTnLst>
                              <p:par>
                                <p:cTn id="4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998"/>
                            </p:stCondLst>
                            <p:childTnLst>
                              <p:par>
                                <p:cTn id="4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498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998"/>
                            </p:stCondLst>
                            <p:childTnLst>
                              <p:par>
                                <p:cTn id="4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498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998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6498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6998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7498"/>
                            </p:stCondLst>
                            <p:childTnLst>
                              <p:par>
                                <p:cTn id="5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755640" y="1989000"/>
            <a:ext cx="741672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58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цедуры </a:t>
            </a:r>
            <a:endParaRPr b="1" lang="en-US" sz="3200" spc="1" strike="noStrike">
              <a:ln w="158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58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функции</a:t>
            </a:r>
            <a:endParaRPr b="1" lang="en-US" sz="3200" spc="1" strike="noStrike">
              <a:ln w="158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115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71640" y="981000"/>
            <a:ext cx="792144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clrscr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PUT "a=,b="; A, B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writeln('a=b=');readln(a,b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зов процедуры нахождения степени числа 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CALL stepen(A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S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stepen(a,b,s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INT "s="; 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writeln('s=',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readl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e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>
            <a:hlinkClick r:id="rId1"/>
          </p:cNvPr>
          <p:cNvSpPr/>
          <p:nvPr/>
        </p:nvSpPr>
        <p:spPr>
          <a:xfrm>
            <a:off x="7164360" y="6189840"/>
            <a:ext cx="576360" cy="33480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37168" h="21600">
                <a:moveTo>
                  <a:pt x="0" y="0"/>
                </a:moveTo>
                <a:lnTo>
                  <a:pt x="37168" y="0"/>
                </a:lnTo>
                <a:lnTo>
                  <a:pt x="37168" y="21600"/>
                </a:lnTo>
                <a:lnTo>
                  <a:pt x="0" y="21600"/>
                </a:lnTo>
                <a:close/>
              </a:path>
              <a:path fill="lightenLess" w="37168" h="21600">
                <a:moveTo>
                  <a:pt x="0" y="0"/>
                </a:moveTo>
                <a:lnTo>
                  <a:pt x="37168" y="0"/>
                </a:lnTo>
                <a:lnTo>
                  <a:pt x="35768" y="1400"/>
                </a:lnTo>
                <a:lnTo>
                  <a:pt x="1400" y="1400"/>
                </a:lnTo>
                <a:close/>
              </a:path>
              <a:path fill="darken" w="37168" h="21600">
                <a:moveTo>
                  <a:pt x="37168" y="0"/>
                </a:moveTo>
                <a:lnTo>
                  <a:pt x="37168" y="21600"/>
                </a:lnTo>
                <a:lnTo>
                  <a:pt x="35768" y="20200"/>
                </a:lnTo>
                <a:lnTo>
                  <a:pt x="35768" y="1400"/>
                </a:lnTo>
                <a:close/>
              </a:path>
              <a:path fill="darkenLess" w="37168" h="21600">
                <a:moveTo>
                  <a:pt x="371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68" y="20200"/>
                </a:lnTo>
                <a:close/>
              </a:path>
              <a:path fill="lighten" w="371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>
            <a:hlinkClick r:id="rId2"/>
          </p:cNvPr>
          <p:cNvSpPr/>
          <p:nvPr/>
        </p:nvSpPr>
        <p:spPr>
          <a:xfrm>
            <a:off x="7883640" y="6189840"/>
            <a:ext cx="576000" cy="334800"/>
          </a:xfrm>
          <a:custGeom>
            <a:avLst/>
            <a:gdLst>
              <a:gd name="textAreaLeft" fmla="*/ 21600 w 576000"/>
              <a:gd name="textAreaRight" fmla="*/ 554400 w 57600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37145" h="21600">
                <a:moveTo>
                  <a:pt x="0" y="0"/>
                </a:moveTo>
                <a:lnTo>
                  <a:pt x="37145" y="0"/>
                </a:lnTo>
                <a:lnTo>
                  <a:pt x="37145" y="21600"/>
                </a:lnTo>
                <a:lnTo>
                  <a:pt x="0" y="21600"/>
                </a:lnTo>
                <a:close/>
              </a:path>
              <a:path fill="lightenLess" w="37145" h="21600">
                <a:moveTo>
                  <a:pt x="0" y="0"/>
                </a:moveTo>
                <a:lnTo>
                  <a:pt x="37145" y="0"/>
                </a:lnTo>
                <a:lnTo>
                  <a:pt x="35745" y="1400"/>
                </a:lnTo>
                <a:lnTo>
                  <a:pt x="1400" y="1400"/>
                </a:lnTo>
                <a:close/>
              </a:path>
              <a:path fill="darken" w="37145" h="21600">
                <a:moveTo>
                  <a:pt x="37145" y="0"/>
                </a:moveTo>
                <a:lnTo>
                  <a:pt x="37145" y="21600"/>
                </a:lnTo>
                <a:lnTo>
                  <a:pt x="35745" y="20200"/>
                </a:lnTo>
                <a:lnTo>
                  <a:pt x="35745" y="1400"/>
                </a:lnTo>
                <a:close/>
              </a:path>
              <a:path fill="darkenLess" w="37145" h="21600">
                <a:moveTo>
                  <a:pt x="37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45" y="20200"/>
                </a:lnTo>
                <a:close/>
              </a:path>
              <a:path fill="lighten" w="37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124000" y="6237360"/>
            <a:ext cx="1222200" cy="287280"/>
            <a:chOff x="2124000" y="6237360"/>
            <a:chExt cx="1222200" cy="287280"/>
          </a:xfrm>
        </p:grpSpPr>
        <p:sp>
          <p:nvSpPr>
            <p:cNvPr id="202" name="">
              <a:hlinkClick r:id="" action="ppaction://hlinkshowjump?jump=previousslide"/>
            </p:cNvPr>
            <p:cNvSpPr/>
            <p:nvPr/>
          </p:nvSpPr>
          <p:spPr>
            <a:xfrm>
              <a:off x="2124000" y="623736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>
              <a:hlinkClick r:id="" action="ppaction://hlinkshowjump?jump=nextslide"/>
            </p:cNvPr>
            <p:cNvSpPr/>
            <p:nvPr/>
          </p:nvSpPr>
          <p:spPr>
            <a:xfrm>
              <a:off x="2817000" y="623736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395280" y="260280"/>
          <a:ext cx="4537080" cy="604044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uses crt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ar a,b:integer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rocedure  swap (var x,y:integer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ar z:integer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eg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z:=x;x:=y;y:=z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nd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eg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clrscr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write('a=,b=');readln(a,b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wap(a,b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writeln('a=,b=',a,' ',b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readln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n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>
            <a:hlinkClick r:id="rId1"/>
          </p:cNvPr>
          <p:cNvSpPr/>
          <p:nvPr/>
        </p:nvSpPr>
        <p:spPr>
          <a:xfrm>
            <a:off x="1835280" y="5300640"/>
            <a:ext cx="576000" cy="335160"/>
          </a:xfrm>
          <a:custGeom>
            <a:avLst/>
            <a:gdLst>
              <a:gd name="textAreaLeft" fmla="*/ 21600 w 576000"/>
              <a:gd name="textAreaRight" fmla="*/ 554400 w 576000"/>
              <a:gd name="textAreaTop" fmla="*/ 21600 h 335160"/>
              <a:gd name="textAreaBottom" fmla="*/ 313560 h 335160"/>
            </a:gdLst>
            <a:ahLst/>
            <a:rect l="textAreaLeft" t="textAreaTop" r="textAreaRight" b="textAreaBottom"/>
            <a:pathLst>
              <a:path w="37105" h="21600">
                <a:moveTo>
                  <a:pt x="0" y="0"/>
                </a:moveTo>
                <a:lnTo>
                  <a:pt x="37105" y="0"/>
                </a:lnTo>
                <a:lnTo>
                  <a:pt x="37105" y="21600"/>
                </a:lnTo>
                <a:lnTo>
                  <a:pt x="0" y="21600"/>
                </a:lnTo>
                <a:close/>
              </a:path>
              <a:path fill="lightenLess" w="37105" h="21600">
                <a:moveTo>
                  <a:pt x="0" y="0"/>
                </a:moveTo>
                <a:lnTo>
                  <a:pt x="37105" y="0"/>
                </a:lnTo>
                <a:lnTo>
                  <a:pt x="35705" y="1400"/>
                </a:lnTo>
                <a:lnTo>
                  <a:pt x="1400" y="1400"/>
                </a:lnTo>
                <a:close/>
              </a:path>
              <a:path fill="darken" w="37105" h="21600">
                <a:moveTo>
                  <a:pt x="37105" y="0"/>
                </a:moveTo>
                <a:lnTo>
                  <a:pt x="37105" y="21600"/>
                </a:lnTo>
                <a:lnTo>
                  <a:pt x="35705" y="20200"/>
                </a:lnTo>
                <a:lnTo>
                  <a:pt x="35705" y="1400"/>
                </a:lnTo>
                <a:close/>
              </a:path>
              <a:path fill="darkenLess" w="37105" h="21600">
                <a:moveTo>
                  <a:pt x="37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05" y="20200"/>
                </a:lnTo>
                <a:close/>
              </a:path>
              <a:path fill="lighten" w="37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7524720" y="6308640"/>
            <a:ext cx="1222200" cy="287280"/>
            <a:chOff x="7524720" y="6308640"/>
            <a:chExt cx="1222200" cy="287280"/>
          </a:xfrm>
        </p:grpSpPr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7524720" y="630864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>
              <a:hlinkClick r:id="" action="ppaction://hlinkshowjump?jump=nextslide"/>
            </p:cNvPr>
            <p:cNvSpPr/>
            <p:nvPr/>
          </p:nvSpPr>
          <p:spPr>
            <a:xfrm>
              <a:off x="8217720" y="630864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227640" y="907920"/>
            <a:ext cx="259236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Домашнее зад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пользуя процедуру упорядочить значения трех переменных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 и с в порядке их возраст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332000" y="2492280"/>
            <a:ext cx="6480000" cy="189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58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рок 23</a:t>
            </a:r>
            <a:endParaRPr b="1" lang="en-US" sz="3200" spc="1" strike="noStrike">
              <a:ln w="158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212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Тема урока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: Понятие подпрограмм.  Механизм реализации подпрограмм с помощью процедур и функций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7263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оверка домашнего зада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. Ответить на вопросы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) что такое подпрограмма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) какие преимущества она дает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) какие бывают параметры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) чем отличаются друг от друга формальные и фактические параметры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)  что такое область действия переменной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е) чем отличаются друг от друга глобальные и локальные параметры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. Используя процедуру упорядочить значения трех переменных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,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с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порядке их возраста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шени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основной программе  появятся строк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F A&lt;B THEN SWAP A,B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IF A&lt;B THEN SWAP(A,B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F A&lt;C THEN SWAP A,C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IF A&lt;C THEN SWAP(A,C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F B&lt;C THEN SWAP B,C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IF B&lt;C THEN SWAP(B,C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217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768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5" dur="768" fill="hold"/>
                                        <p:tgtEl>
                                          <p:spTgt spid="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7" dur="768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9" dur="768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eaeaea"/>
                </a:solidFill>
                <a:latin typeface="Tahoma"/>
              </a:rPr>
              <a:t>Описание функци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8316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ункции предназначены для того, чтобы вычислять только одно значение, поэтому ее первое отличие состоит в том, что процедура может иметь новые значения у нескольких параметров, а функция только одно (оно и будет ее результатом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торое отличие заключается в заголовке функции. Он состоит из слова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Function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за которым идет имя функции, затем в круглых скобках идет список формальных параметров, после чего через двоеточие записывается тип результата функции. Остальное как в процедуре.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В Бейсике тип результата не записывае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оме того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теле функции обязательно должен быть хотя бы один оператор присвоения, где в левой части стоит имя функции, а в правой — ее значение. Иначе, значение не будет определе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ким образом, общий вид тако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222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768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8" dur="768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0" dur="768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2" dur="768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998"/>
                            </p:stCondLst>
                            <p:childTnLst>
                              <p:par>
                                <p:cTn id="6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498"/>
                            </p:stCondLst>
                            <p:childTnLst>
                              <p:par>
                                <p:cTn id="6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998"/>
                            </p:stCondLst>
                            <p:childTnLst>
                              <p:par>
                                <p:cTn id="6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498"/>
                            </p:stCondLst>
                            <p:childTnLst>
                              <p:par>
                                <p:cTn id="6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998"/>
                            </p:stCondLst>
                            <p:childTnLst>
                              <p:par>
                                <p:cTn id="6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ahoma"/>
              </a:rPr>
              <a:t>Описание функци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00000" y="1267920"/>
            <a:ext cx="8035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nction &lt;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мя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Function &lt;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мя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[(&lt;список форм. параметр.&gt;)]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[(&lt;список форм.параметров&gt;)]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В Бейсике тип результата не записывается.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ип результат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а часть заголовка может отсутствова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исательная часть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Описательная ча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ло функции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Тело функ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&lt;имя&gt;=&lt;значение&gt;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&lt;имя&gt;:=&lt;значение&gt;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 function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227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768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1" dur="768" fill="hold"/>
                                        <p:tgtEl>
                                          <p:spTgt spid="2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3" dur="768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5" dur="768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998"/>
                            </p:stCondLst>
                            <p:childTnLst>
                              <p:par>
                                <p:cTn id="6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498"/>
                            </p:stCondLst>
                            <p:childTnLst>
                              <p:par>
                                <p:cTn id="6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2998"/>
                            </p:stCondLst>
                            <p:childTnLst>
                              <p:par>
                                <p:cTn id="6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3498"/>
                            </p:stCondLst>
                            <p:childTnLst>
                              <p:par>
                                <p:cTn id="6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3998"/>
                            </p:stCondLst>
                            <p:childTnLst>
                              <p:par>
                                <p:cTn id="7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498"/>
                            </p:stCondLst>
                            <p:childTnLst>
                              <p:par>
                                <p:cTn id="7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4998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498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998"/>
                            </p:stCondLst>
                            <p:childTnLst>
                              <p:par>
                                <p:cTn id="7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6498"/>
                            </p:stCondLst>
                            <p:childTnLst>
                              <p:par>
                                <p:cTn id="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71992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ahoma"/>
              </a:rPr>
              <a:t>Пример. </a:t>
            </a:r>
            <a:r>
              <a:rPr b="1" lang="en-US" sz="2600" spc="-1" strike="noStrike">
                <a:solidFill>
                  <a:srgbClr val="eaeaea"/>
                </a:solidFill>
                <a:latin typeface="Tahoma"/>
              </a:rPr>
              <a:t>Составить программу, подсчитывающую число сочетаний без повторения из N элементов по К элементов.</a:t>
            </a:r>
            <a:endParaRPr b="1" lang="en-US" sz="26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104920" y="3390840"/>
                <a:ext cx="5467320" cy="22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1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232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858600" y="2924280"/>
            <a:ext cx="78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Число сочетаний без повторения считается по формул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768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4" dur="768" fill="hold"/>
                                        <p:tgtEl>
                                          <p:spTgt spid="2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6" dur="768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8" dur="768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998"/>
                            </p:stCondLst>
                            <p:childTnLst>
                              <p:par>
                                <p:cTn id="7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26560" y="836640"/>
            <a:ext cx="77979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означим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п, k —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переменные для хранения введенных чисе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 — переменная для хранения результата. Чтобы подсчитать количество сочетаний без повторения, необходимо вычислить n!, (n—k)!, k!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ишем функцию, вычисляющую факториал числа n (n!=1*2*...*n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237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Опишем функцию, вычисляющую факториал числа n (n!=1*2*...*n).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797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CTION Factorial (N AS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function   factori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ER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n:integer):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longin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INT 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var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i: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integer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LNG REZ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rez:longin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Z = 1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rez:=1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I = 1 TO N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for i:=1 to n 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Z = REZ * 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rez:=rez*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torial =REZ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factorial :=rez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D FUNCTIO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242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768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7" dur="768" fill="hold"/>
                                        <p:tgtEl>
                                          <p:spTgt spid="2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9" dur="768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1" dur="768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900000" y="549000"/>
            <a:ext cx="778680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вая строчка в описании функции — это заголовок функции. Служебное слово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function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функция) указывает на то, что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менем factorial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звана функция. В скобках перечислен список формальных параметров функции, указаны их имена и задан их тип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ункция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factorial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меет один параметр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число, факториал которого мы будем находить), который является целым число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лее в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rbo Pascal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7.0   в заголовке указывается тип значения функции, ее результата. В данном примере результат функции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factorial— цело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числ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 заголовком функции следует описательная часть функции, которая, как и у программы, может состоять из раздела описаний переменных, констант, типов и т.д. В данном примере нам понадобится только раздел переменных. Опишем переменные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переменная для управления циклом) и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rez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для накопления значения факториала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246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716112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Тема урок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понятие подпрограмм.  Механизм реализации подпрограмм с помощью процедур и функ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119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87280" y="907920"/>
            <a:ext cx="763272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лее идет раздел операторов (тело функции), в котором подсчитывается значение факториала числа. Результат этого вычисления присваивается имени фун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 тексте программы на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Turbo Pascal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7.0  описание функции всегда следует за описанием переменных и до начала основной части, как и описание процедур. После того как функция описана, ее можно использовать в програм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ick Basic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рез главное меню процедуры и функции записываются отдельно. При распечатке программы, они печатаются после основной программ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ы, для удобства сравнения, печатаем их перед основной программой, как на Паскале. Хотя это не принципиаль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так, составим программ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250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253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5" name=""/>
          <p:cNvGraphicFramePr/>
          <p:nvPr/>
        </p:nvGraphicFramePr>
        <p:xfrm>
          <a:off x="395280" y="260280"/>
          <a:ext cx="8540640" cy="6305400"/>
        </p:xfrm>
        <a:graphic>
          <a:graphicData uri="http://schemas.openxmlformats.org/drawingml/2006/table">
            <a:tbl>
              <a:tblPr/>
              <a:tblGrid>
                <a:gridCol w="4270320"/>
                <a:gridCol w="4270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es crt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T K,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r n,k: integer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LNG A,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1, a2, a3, c:longint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CTION factorial (N A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TEGER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nction factorial (n:integer):longint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T 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r i: integer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LNG RE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z:longint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g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Z =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z =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OR I = 1 TO 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or i: = 1 to n 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Z = REZ *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z: = rez* 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ctorial = RE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ctorial: = re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D FUN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d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g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rscr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16000" y="620640"/>
            <a:ext cx="7343640" cy="38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INPUT "n=,k="; N, K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writeln('введите n&gt;=k  '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readln(n,k);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A1 =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actorial (N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a1:=factorial (n);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A2 = factorial (K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a2:=factorial (k);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A3 = factorial (N – K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a3:=factorial (n-k);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C = A1 \ (A2 * A3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c:=a1 div (a2*a3);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PRINT "C="; C, A1, A2, A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writeln('c=',c,'   ', a1,'   ',a2,'   ',a3);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readln;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EN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end.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>
            <a:hlinkClick r:id="rId1"/>
          </p:cNvPr>
          <p:cNvSpPr/>
          <p:nvPr/>
        </p:nvSpPr>
        <p:spPr>
          <a:xfrm>
            <a:off x="7596360" y="6237360"/>
            <a:ext cx="576000" cy="334800"/>
          </a:xfrm>
          <a:custGeom>
            <a:avLst/>
            <a:gdLst>
              <a:gd name="textAreaLeft" fmla="*/ 21600 w 576000"/>
              <a:gd name="textAreaRight" fmla="*/ 554400 w 57600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37145" h="21600">
                <a:moveTo>
                  <a:pt x="0" y="0"/>
                </a:moveTo>
                <a:lnTo>
                  <a:pt x="37145" y="0"/>
                </a:lnTo>
                <a:lnTo>
                  <a:pt x="37145" y="21600"/>
                </a:lnTo>
                <a:lnTo>
                  <a:pt x="0" y="21600"/>
                </a:lnTo>
                <a:close/>
              </a:path>
              <a:path fill="lightenLess" w="37145" h="21600">
                <a:moveTo>
                  <a:pt x="0" y="0"/>
                </a:moveTo>
                <a:lnTo>
                  <a:pt x="37145" y="0"/>
                </a:lnTo>
                <a:lnTo>
                  <a:pt x="35745" y="1400"/>
                </a:lnTo>
                <a:lnTo>
                  <a:pt x="1400" y="1400"/>
                </a:lnTo>
                <a:close/>
              </a:path>
              <a:path fill="darken" w="37145" h="21600">
                <a:moveTo>
                  <a:pt x="37145" y="0"/>
                </a:moveTo>
                <a:lnTo>
                  <a:pt x="37145" y="21600"/>
                </a:lnTo>
                <a:lnTo>
                  <a:pt x="35745" y="20200"/>
                </a:lnTo>
                <a:lnTo>
                  <a:pt x="35745" y="1400"/>
                </a:lnTo>
                <a:close/>
              </a:path>
              <a:path fill="darkenLess" w="37145" h="21600">
                <a:moveTo>
                  <a:pt x="37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45" y="20200"/>
                </a:lnTo>
                <a:close/>
              </a:path>
              <a:path fill="lighten" w="37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>
            <a:hlinkClick r:id="rId2"/>
          </p:cNvPr>
          <p:cNvSpPr/>
          <p:nvPr/>
        </p:nvSpPr>
        <p:spPr>
          <a:xfrm>
            <a:off x="8317080" y="6237360"/>
            <a:ext cx="576000" cy="334800"/>
          </a:xfrm>
          <a:custGeom>
            <a:avLst/>
            <a:gdLst>
              <a:gd name="textAreaLeft" fmla="*/ 21600 w 576000"/>
              <a:gd name="textAreaRight" fmla="*/ 554400 w 57600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37145" h="21600">
                <a:moveTo>
                  <a:pt x="0" y="0"/>
                </a:moveTo>
                <a:lnTo>
                  <a:pt x="37145" y="0"/>
                </a:lnTo>
                <a:lnTo>
                  <a:pt x="37145" y="21600"/>
                </a:lnTo>
                <a:lnTo>
                  <a:pt x="0" y="21600"/>
                </a:lnTo>
                <a:close/>
              </a:path>
              <a:path fill="lightenLess" w="37145" h="21600">
                <a:moveTo>
                  <a:pt x="0" y="0"/>
                </a:moveTo>
                <a:lnTo>
                  <a:pt x="37145" y="0"/>
                </a:lnTo>
                <a:lnTo>
                  <a:pt x="35745" y="1400"/>
                </a:lnTo>
                <a:lnTo>
                  <a:pt x="1400" y="1400"/>
                </a:lnTo>
                <a:close/>
              </a:path>
              <a:path fill="darken" w="37145" h="21600">
                <a:moveTo>
                  <a:pt x="37145" y="0"/>
                </a:moveTo>
                <a:lnTo>
                  <a:pt x="37145" y="21600"/>
                </a:lnTo>
                <a:lnTo>
                  <a:pt x="35745" y="20200"/>
                </a:lnTo>
                <a:lnTo>
                  <a:pt x="35745" y="1400"/>
                </a:lnTo>
                <a:close/>
              </a:path>
              <a:path fill="darkenLess" w="37145" h="21600">
                <a:moveTo>
                  <a:pt x="37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45" y="20200"/>
                </a:lnTo>
                <a:close/>
              </a:path>
              <a:path fill="lighten" w="37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403280" y="6237360"/>
            <a:ext cx="1222200" cy="287280"/>
            <a:chOff x="1403280" y="6237360"/>
            <a:chExt cx="1222200" cy="287280"/>
          </a:xfrm>
        </p:grpSpPr>
        <p:sp>
          <p:nvSpPr>
            <p:cNvPr id="260" name="">
              <a:hlinkClick r:id="" action="ppaction://hlinkshowjump?jump=previousslide"/>
            </p:cNvPr>
            <p:cNvSpPr/>
            <p:nvPr/>
          </p:nvSpPr>
          <p:spPr>
            <a:xfrm>
              <a:off x="1403280" y="623736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>
              <a:hlinkClick r:id="" action="ppaction://hlinkshowjump?jump=nextslide"/>
            </p:cNvPr>
            <p:cNvSpPr/>
            <p:nvPr/>
          </p:nvSpPr>
          <p:spPr>
            <a:xfrm>
              <a:off x="2096280" y="623736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0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755280" y="188640"/>
            <a:ext cx="8209080" cy="60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выполнении программы описание функции хранится в памяти ЭВМ. Действия функции выполняются тогда, когда в основной части программы необходимо найти значение функции, то есть в момент обращения к этой функции. Ее вызов осуществляется внутри некоторого выражения. Обращение записывается в виде имени функции, за которым следует в круглых скобки список параметров, отделенных друг от друга запяты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пример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A1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factorial(n)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— есть обращение к функции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factorial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Basic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1:= factorial(n) —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ть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ращени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ункци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factorial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Pasc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раметры, записываемые в обращении к функции, называются фактическими, а параметры, указанные в ее описании, называют формальными. Тип фактических параметров определяется типом формальных параметров. Перед вычислением функции формальным параметрам присваиваются значения фактических параметров. Фактическими параметрами могут быть не только константы и переменные, но также и выраж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264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0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042920" y="692280"/>
            <a:ext cx="785016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15000"/>
              </a:lnSpc>
              <a:spcBef>
                <a:spcPts val="499"/>
              </a:spcBef>
              <a:spcAft>
                <a:spcPts val="125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ще раз подчеркнем, что описание функции 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самостоятельная часть программы, имеющая собственные переменные, которым отводится отдельное, не зависящее от основной программы место в памяти ЭВМ. Этим объясняется тот факт, что переменные, именуемые одним именем и используемые как в описании функции, так и в основной программе, фактически являются разными переменными (в примере — переменная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сновной части программы и параметр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описании функции). При выполнении программы машина не путает имена этих переменных, так как области их действия не совпадаю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15000"/>
              </a:lnSpc>
              <a:spcBef>
                <a:spcPts val="499"/>
              </a:spcBef>
              <a:spcAft>
                <a:spcPts val="125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ким образом, программист может вводить в описание функции различные имена, не заглядывая в другие части программы, что особенно важ­но при написании больших програм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268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0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Написать функцию, подсчитывающую количество цифр целого  числа. Используя ее, определить, в каком из двух данных чисел больше цифр.</a:t>
            </a:r>
            <a:br>
              <a:rPr sz="2400"/>
            </a:br>
            <a:br>
              <a:rPr sz="2400"/>
            </a:b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Для решения задачи вспомним, как подсчитать количество цифр?</a:t>
            </a:r>
            <a:br>
              <a:rPr sz="1800"/>
            </a:b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Для этого можно выделять последнюю цифру до тех пор, пока число не станет равным нулю. При этом каждый раз надо увеличивать счетчик на 1 (начальное значение счетчика — 0). Тогда можно описать такую функцию: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0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042920" y="2852640"/>
          <a:ext cx="7632720" cy="3747960"/>
        </p:xfrm>
        <a:graphic>
          <a:graphicData uri="http://schemas.openxmlformats.org/drawingml/2006/table">
            <a:tbl>
              <a:tblPr/>
              <a:tblGrid>
                <a:gridCol w="3829320"/>
                <a:gridCol w="3803400"/>
              </a:tblGrid>
              <a:tr h="375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FUNCTION zifr (x AS INTEGER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DEFINT 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K = 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WHILE X &lt;&gt; 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K = K +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X = X \ 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WE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zifr = 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ND FUN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function zifr (x:longint):integer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ar k:integer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eg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k:=0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while x&lt;&gt;0 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eg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inc(k)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x:=x div 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nd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zifr:=k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nd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3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274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0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768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3" dur="768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5" dur="768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7" dur="768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998"/>
                            </p:stCondLst>
                            <p:childTnLst>
                              <p:par>
                                <p:cTn id="950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277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1476360" y="836280"/>
            <a:ext cx="688968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249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заголовке функции указано ее имя — Zifr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й передается только один параметр — число, количество цифр которого надо найти. Результат — то же целое число. В разделе переменных описана переменная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k —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это счетчик цифр. В теле функции с помощью цикла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While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выполняются указанные выше действия (увеличение значения счетчика и "удаление" последней цифры)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spcAft>
                <a:spcPts val="249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ще раз заметим, что память для переменной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k,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торая является локальной, выделяется только тогда, когда начинает свою работу функция. После завершения ее работы эта часть памяти снова освобождается и значение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будет не определе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395280" y="289080"/>
          <a:ext cx="8497800" cy="6561000"/>
        </p:xfrm>
        <a:graphic>
          <a:graphicData uri="http://schemas.openxmlformats.org/drawingml/2006/table">
            <a:tbl>
              <a:tblPr/>
              <a:tblGrid>
                <a:gridCol w="3960720"/>
                <a:gridCol w="4537080"/>
              </a:tblGrid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ses cr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FLNG К, 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r n1,n2:longint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1,k2:byte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UNCTION zifr (x AS INTEGE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unction  zifr (x:longint):integer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FINT 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r k:integer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 = 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:=0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HILE X &lt;&gt; 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hile x&lt;&gt;0 do    beg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 = K +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c(k)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 = X \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:=x div 10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E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d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fr = 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fr:=k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D FUNC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d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rscr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PUT "n=,k="; N1, N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riteln('n1=n2=');readln(n1,n2)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1 = zifr(N1):  K2 = zifr(N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1:= zifr(n1);   k2:= zifr(n2)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F K1 = K2 THEN PRINT "Одинаково ": E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f k1=k2 then writeln('Одинаково '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l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F K1 &gt; K2 THEN  PRINT "B N1 больше чем в N2"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f k1&gt;k2 then writeln('В n1&gt;n2'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LSE PRINT "в N2 больше чем в N1"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lse writeln('В n2&gt;n1')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D I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">
            <a:hlinkClick r:id="rId1"/>
          </p:cNvPr>
          <p:cNvSpPr/>
          <p:nvPr/>
        </p:nvSpPr>
        <p:spPr>
          <a:xfrm>
            <a:off x="6948360" y="6353280"/>
            <a:ext cx="576360" cy="33480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37168" h="21600">
                <a:moveTo>
                  <a:pt x="0" y="0"/>
                </a:moveTo>
                <a:lnTo>
                  <a:pt x="37168" y="0"/>
                </a:lnTo>
                <a:lnTo>
                  <a:pt x="37168" y="21600"/>
                </a:lnTo>
                <a:lnTo>
                  <a:pt x="0" y="21600"/>
                </a:lnTo>
                <a:close/>
              </a:path>
              <a:path fill="lightenLess" w="37168" h="21600">
                <a:moveTo>
                  <a:pt x="0" y="0"/>
                </a:moveTo>
                <a:lnTo>
                  <a:pt x="37168" y="0"/>
                </a:lnTo>
                <a:lnTo>
                  <a:pt x="35768" y="1400"/>
                </a:lnTo>
                <a:lnTo>
                  <a:pt x="1400" y="1400"/>
                </a:lnTo>
                <a:close/>
              </a:path>
              <a:path fill="darken" w="37168" h="21600">
                <a:moveTo>
                  <a:pt x="37168" y="0"/>
                </a:moveTo>
                <a:lnTo>
                  <a:pt x="37168" y="21600"/>
                </a:lnTo>
                <a:lnTo>
                  <a:pt x="35768" y="20200"/>
                </a:lnTo>
                <a:lnTo>
                  <a:pt x="35768" y="1400"/>
                </a:lnTo>
                <a:close/>
              </a:path>
              <a:path fill="darkenLess" w="37168" h="21600">
                <a:moveTo>
                  <a:pt x="371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68" y="20200"/>
                </a:lnTo>
                <a:close/>
              </a:path>
              <a:path fill="lighten" w="371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>
            <a:hlinkClick r:id="rId2"/>
          </p:cNvPr>
          <p:cNvSpPr/>
          <p:nvPr/>
        </p:nvSpPr>
        <p:spPr>
          <a:xfrm>
            <a:off x="7524720" y="6354720"/>
            <a:ext cx="576360" cy="33516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5160"/>
              <a:gd name="textAreaBottom" fmla="*/ 313560 h 335160"/>
            </a:gdLst>
            <a:ahLst/>
            <a:rect l="textAreaLeft" t="textAreaTop" r="textAreaRight" b="textAreaBottom"/>
            <a:pathLst>
              <a:path w="37128" h="21600">
                <a:moveTo>
                  <a:pt x="0" y="0"/>
                </a:moveTo>
                <a:lnTo>
                  <a:pt x="37128" y="0"/>
                </a:lnTo>
                <a:lnTo>
                  <a:pt x="37128" y="21600"/>
                </a:lnTo>
                <a:lnTo>
                  <a:pt x="0" y="21600"/>
                </a:lnTo>
                <a:close/>
              </a:path>
              <a:path fill="lightenLess" w="37128" h="21600">
                <a:moveTo>
                  <a:pt x="0" y="0"/>
                </a:moveTo>
                <a:lnTo>
                  <a:pt x="37128" y="0"/>
                </a:lnTo>
                <a:lnTo>
                  <a:pt x="35728" y="1400"/>
                </a:lnTo>
                <a:lnTo>
                  <a:pt x="1400" y="1400"/>
                </a:lnTo>
                <a:close/>
              </a:path>
              <a:path fill="darken" w="37128" h="21600">
                <a:moveTo>
                  <a:pt x="37128" y="0"/>
                </a:moveTo>
                <a:lnTo>
                  <a:pt x="37128" y="21600"/>
                </a:lnTo>
                <a:lnTo>
                  <a:pt x="35728" y="20200"/>
                </a:lnTo>
                <a:lnTo>
                  <a:pt x="35728" y="1400"/>
                </a:lnTo>
                <a:close/>
              </a:path>
              <a:path fill="darkenLess" w="37128" h="21600">
                <a:moveTo>
                  <a:pt x="37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28" y="20200"/>
                </a:lnTo>
                <a:close/>
              </a:path>
              <a:path fill="lighten" w="37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484360" y="6453360"/>
            <a:ext cx="1222200" cy="287280"/>
            <a:chOff x="2484360" y="6453360"/>
            <a:chExt cx="1222200" cy="287280"/>
          </a:xfrm>
        </p:grpSpPr>
        <p:sp>
          <p:nvSpPr>
            <p:cNvPr id="284" name="">
              <a:hlinkClick r:id="" action="ppaction://hlinkshowjump?jump=previousslide"/>
            </p:cNvPr>
            <p:cNvSpPr/>
            <p:nvPr/>
          </p:nvSpPr>
          <p:spPr>
            <a:xfrm>
              <a:off x="2484360" y="645336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>
              <a:hlinkClick r:id="" action="ppaction://hlinkshowjump?jump=nextslide"/>
            </p:cNvPr>
            <p:cNvSpPr/>
            <p:nvPr/>
          </p:nvSpPr>
          <p:spPr>
            <a:xfrm>
              <a:off x="3177360" y="645336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Домашнее задание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ить на вопрос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описывается функц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овы отличия функции от процедур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казывается ли тип результата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ck Basic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м отличаются друг от друга формальные и фактические параметр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такое область действия переменно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м отличаются друг от друга глобальные и локальные параметр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289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768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6" dur="768" fill="hold"/>
                                        <p:tgtEl>
                                          <p:spTgt spid="2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8" dur="768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0" dur="768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998"/>
                            </p:stCondLst>
                            <p:childTnLst>
                              <p:par>
                                <p:cTn id="9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2498"/>
                            </p:stCondLst>
                            <p:childTnLst>
                              <p:par>
                                <p:cTn id="9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998"/>
                            </p:stCondLst>
                            <p:childTnLst>
                              <p:par>
                                <p:cTn id="9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3498"/>
                            </p:stCondLst>
                            <p:childTnLst>
                              <p:par>
                                <p:cTn id="10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3998"/>
                            </p:stCondLst>
                            <p:childTnLst>
                              <p:par>
                                <p:cTn id="10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4498"/>
                            </p:stCondLst>
                            <p:childTnLst>
                              <p:par>
                                <p:cTn id="10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4998"/>
                            </p:stCondLst>
                            <p:childTnLst>
                              <p:par>
                                <p:cTn id="10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5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1403280" y="2565360"/>
            <a:ext cx="626580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58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рок 24</a:t>
            </a:r>
            <a:endParaRPr b="1" lang="en-US" sz="3200" spc="1" strike="noStrike">
              <a:ln w="158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293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. Повторение материал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кова структура программ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язателен ли заголовок  программ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кие разделы описаний вы знает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чего начинается раздел констант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к описать переменны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чего начинается основная часть программы? Как ее закончить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524720" y="6454800"/>
            <a:ext cx="1222200" cy="287280"/>
            <a:chOff x="7524720" y="6454800"/>
            <a:chExt cx="1222200" cy="287280"/>
          </a:xfrm>
        </p:grpSpPr>
        <p:sp>
          <p:nvSpPr>
            <p:cNvPr id="124" name="">
              <a:hlinkClick r:id="" action="ppaction://hlinkshowjump?jump=previousslide"/>
            </p:cNvPr>
            <p:cNvSpPr/>
            <p:nvPr/>
          </p:nvSpPr>
          <p:spPr>
            <a:xfrm>
              <a:off x="7524720" y="645480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>
              <a:hlinkClick r:id="" action="ppaction://hlinkshowjump?jump=nextslide"/>
            </p:cNvPr>
            <p:cNvSpPr/>
            <p:nvPr/>
          </p:nvSpPr>
          <p:spPr>
            <a:xfrm>
              <a:off x="8217720" y="645480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68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68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998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498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998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498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998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498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Тема урока: Рекурсия. Примеры рекурсивного программирования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рка домашнего зад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описывается функци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овы отличия функции от процедуры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казывается ли тип результата в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ick Basic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м отличаются друг от друга формальные и фактические параметры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то такое область действия переменной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м отличаются друг от друга глобальные и локальные параметры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298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768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1" dur="768" fill="hold"/>
                                        <p:tgtEl>
                                          <p:spTgt spid="2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3" dur="768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5" dur="768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79640" y="0"/>
            <a:ext cx="5400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Рекурси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8137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93240" indent="26100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программы в Turbo P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al и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basic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могут обращаться к самим к себе. Такое обращение называется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курсие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Объек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который частично определяется через самого себя, называется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рекурсивны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3240" indent="26100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курсивные определения как мощный аналитический аппарат используются во многих областях науки, особенно в математике.  Для того чтобы не было бесконечного обращения подпрограммы к самой себе,  требуется наличие некоторого условия (условного оператора) в тексте программы, по достижении которого дальнейшее обращение не происходи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3240" indent="26100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ким образом, рекурсивное программирование может включаться только в одну из ветвей условного оператора, присутствующего  в подпрограмм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3240" indent="26100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которые задачи являются рекурсивными по своему определению, поэтому  рекурсивные алгоритмы – это точные копии с соответствующего опреде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303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0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768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9" dur="768" fill="hold"/>
                                        <p:tgtEl>
                                          <p:spTgt spid="3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1" dur="768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3" dur="768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998"/>
                            </p:stCondLst>
                            <p:childTnLst>
                              <p:par>
                                <p:cTn id="10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2498"/>
                            </p:stCondLst>
                            <p:childTnLst>
                              <p:par>
                                <p:cTn id="10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2998"/>
                            </p:stCondLst>
                            <p:childTnLst>
                              <p:par>
                                <p:cTn id="10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3498"/>
                            </p:stCondLst>
                            <p:childTnLst>
                              <p:par>
                                <p:cTn id="1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Вычисление факториала натурального числ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376920" algn="just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 правило, N! факториал определяют как произведение первых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исел: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!=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(так называемое итеративное определение). Такое произведение конечно можно легко вычислить с помощью оператора цикла, однако существует и другое определение факториала (рекурсивное)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376920" algn="just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того, чтобы вычислить N!, надо знать значение (N—1)! и умножить его на N, при этом 1!=1. В общем виде это можно записать так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376920" algn="just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вычисления факториала опишем функцию, которая будет вычислять его значение. Ей будет передаваться целое число, поэтому у нее есть только один параметр. Результат выполнения — тоже целое число. Например, можно описать такую функцию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308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121200" y="3851280"/>
                <a:ext cx="37051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!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при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edge/>
  </p:transition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0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768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6" dur="768" fill="hold"/>
                                        <p:tgtEl>
                                          <p:spTgt spid="3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8" dur="768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0" dur="768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1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Вычисление факториала натурального числ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CTION f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rial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Function   fa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ori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N AS INTEGER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n:integer):longin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N = 1 THEN factorial = 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if n=1 then factorial: =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SE factorial  = N * factori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else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N - 1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factorial:=n*factori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n-1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D I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D FUNCTIO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314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0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768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4" dur="768" fill="hold"/>
                                        <p:tgtEl>
                                          <p:spTgt spid="3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6" dur="768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8" dur="768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9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755280" y="260280"/>
            <a:ext cx="82090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йдем 3!. Как же будет вычисляться факториал этого числа? Первый вызов этой функции будет из основной программы (Например, а:= factorial(3)), где переменной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рисваиваем значение 3!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ждом обращении к функции будет появляться свой набор локальных переменных со своими значениями, в данном случае — переменная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для которых выделяется память. А после завершения работы эта часть памяти освобождается и переменные удаляютс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 как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&lt;&gt;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то пойдем по ветк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s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функции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toria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рисваиваем значени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toria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, 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адо умножить 3 на значение функции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toria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2). Поэтому обращаемся второй раз к этой же функции, но передаем ее новое значение параметра -2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318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fill="hold">
                      <p:stCondLst>
                        <p:cond delay="0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321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066320" y="1341000"/>
            <a:ext cx="7543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к делаем до тех пор, пока не передадим значение, равное 1. Тогд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=1, а поэтому значение функции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ctorial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=1. Таким образом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=1 — это условие, по которому процесс входа в следующую рекурсию заканчивается. Идет возвращение в точку вызова и подстановка в оператор присвоения значения вычисленной функции. То есть возвращаемся в предыдущую функцию для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=2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ctorial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=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ctorial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, значит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ctorial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=2*1, следовательно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ctorial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2)=2. И возвращаемся дальше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=3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ctorial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=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ctorial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, значит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ctorial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=3*2*1, следовательно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ctorial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3)=6.. Таким образом, получаем значение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Factorial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(3)=6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это значение и присвоим переменной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Программа вычисления факториала натурального числ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7921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Uses cr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INT 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Var n:integer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LNG A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:longin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NCTION factorial  (N AS INTEGER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function   factorial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(n:integer):longin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N = 1 THEN factorial  = 1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if n=1 then factorial :=1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SE factorial = N * factorial (N - 1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else factorial :=n*factori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(n-1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 I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 FUNCTION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S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clrscr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PUT "n="; N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writeln('n='); readln(n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= factorial (N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:=factorial (n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INT”A=”;A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writeln('a=',a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readln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en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">
            <a:hlinkClick r:id="rId1"/>
          </p:cNvPr>
          <p:cNvSpPr/>
          <p:nvPr/>
        </p:nvSpPr>
        <p:spPr>
          <a:xfrm>
            <a:off x="7380360" y="6189840"/>
            <a:ext cx="576360" cy="33480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37168" h="21600">
                <a:moveTo>
                  <a:pt x="0" y="0"/>
                </a:moveTo>
                <a:lnTo>
                  <a:pt x="37168" y="0"/>
                </a:lnTo>
                <a:lnTo>
                  <a:pt x="37168" y="21600"/>
                </a:lnTo>
                <a:lnTo>
                  <a:pt x="0" y="21600"/>
                </a:lnTo>
                <a:close/>
              </a:path>
              <a:path fill="lightenLess" w="37168" h="21600">
                <a:moveTo>
                  <a:pt x="0" y="0"/>
                </a:moveTo>
                <a:lnTo>
                  <a:pt x="37168" y="0"/>
                </a:lnTo>
                <a:lnTo>
                  <a:pt x="35768" y="1400"/>
                </a:lnTo>
                <a:lnTo>
                  <a:pt x="1400" y="1400"/>
                </a:lnTo>
                <a:close/>
              </a:path>
              <a:path fill="darken" w="37168" h="21600">
                <a:moveTo>
                  <a:pt x="37168" y="0"/>
                </a:moveTo>
                <a:lnTo>
                  <a:pt x="37168" y="21600"/>
                </a:lnTo>
                <a:lnTo>
                  <a:pt x="35768" y="20200"/>
                </a:lnTo>
                <a:lnTo>
                  <a:pt x="35768" y="1400"/>
                </a:lnTo>
                <a:close/>
              </a:path>
              <a:path fill="darkenLess" w="37168" h="21600">
                <a:moveTo>
                  <a:pt x="371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68" y="20200"/>
                </a:lnTo>
                <a:close/>
              </a:path>
              <a:path fill="lighten" w="371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rId2"/>
          </p:cNvPr>
          <p:cNvSpPr/>
          <p:nvPr/>
        </p:nvSpPr>
        <p:spPr>
          <a:xfrm>
            <a:off x="8172360" y="6189840"/>
            <a:ext cx="576360" cy="33480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37168" h="21600">
                <a:moveTo>
                  <a:pt x="0" y="0"/>
                </a:moveTo>
                <a:lnTo>
                  <a:pt x="37168" y="0"/>
                </a:lnTo>
                <a:lnTo>
                  <a:pt x="37168" y="21600"/>
                </a:lnTo>
                <a:lnTo>
                  <a:pt x="0" y="21600"/>
                </a:lnTo>
                <a:close/>
              </a:path>
              <a:path fill="lightenLess" w="37168" h="21600">
                <a:moveTo>
                  <a:pt x="0" y="0"/>
                </a:moveTo>
                <a:lnTo>
                  <a:pt x="37168" y="0"/>
                </a:lnTo>
                <a:lnTo>
                  <a:pt x="35768" y="1400"/>
                </a:lnTo>
                <a:lnTo>
                  <a:pt x="1400" y="1400"/>
                </a:lnTo>
                <a:close/>
              </a:path>
              <a:path fill="darken" w="37168" h="21600">
                <a:moveTo>
                  <a:pt x="37168" y="0"/>
                </a:moveTo>
                <a:lnTo>
                  <a:pt x="37168" y="21600"/>
                </a:lnTo>
                <a:lnTo>
                  <a:pt x="35768" y="20200"/>
                </a:lnTo>
                <a:lnTo>
                  <a:pt x="35768" y="1400"/>
                </a:lnTo>
                <a:close/>
              </a:path>
              <a:path fill="darkenLess" w="37168" h="21600">
                <a:moveTo>
                  <a:pt x="371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68" y="20200"/>
                </a:lnTo>
                <a:close/>
              </a:path>
              <a:path fill="lighten" w="371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79640" y="6381720"/>
            <a:ext cx="1222200" cy="287280"/>
            <a:chOff x="1979640" y="6381720"/>
            <a:chExt cx="1222200" cy="287280"/>
          </a:xfrm>
        </p:grpSpPr>
        <p:sp>
          <p:nvSpPr>
            <p:cNvPr id="329" name="">
              <a:hlinkClick r:id="" action="ppaction://hlinkshowjump?jump=previousslide"/>
            </p:cNvPr>
            <p:cNvSpPr/>
            <p:nvPr/>
          </p:nvSpPr>
          <p:spPr>
            <a:xfrm>
              <a:off x="197964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>
              <a:hlinkClick r:id="" action="ppaction://hlinkshowjump?jump=nextslide"/>
            </p:cNvPr>
            <p:cNvSpPr/>
            <p:nvPr/>
          </p:nvSpPr>
          <p:spPr>
            <a:xfrm>
              <a:off x="267264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0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768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1" dur="768" fill="hold"/>
                                        <p:tgtEl>
                                          <p:spTgt spid="3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3" dur="768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5" dur="768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6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6" dur="50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500"/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500"/>
                                        <p:tgtEl>
                                          <p:spTgt spid="3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3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3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" dur="500"/>
                                        <p:tgtEl>
                                          <p:spTgt spid="3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3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6676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для факториала, на первый взгляд,  рекурсивное определение выглядит сложнее чем итеративное, то для чисел Фибоначчи рекурсивное определение выглядит для вычисления лучше чем прямая формул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рекурсивное определен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1187280" y="2852640"/>
                <a:ext cx="3888000" cy="15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5</m:t>
                                        </m:r>
                                      </m:e>
                                    </m:rad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5</m:t>
                                        </m:r>
                                      </m:e>
                                    </m:rad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971640" y="1413000"/>
                <a:ext cx="468144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при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при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35" name=""/>
          <p:cNvGrpSpPr/>
          <p:nvPr/>
        </p:nvGrpSpPr>
        <p:grpSpPr>
          <a:xfrm>
            <a:off x="7740720" y="6308640"/>
            <a:ext cx="1222200" cy="287280"/>
            <a:chOff x="7740720" y="6308640"/>
            <a:chExt cx="1222200" cy="287280"/>
          </a:xfrm>
        </p:grpSpPr>
        <p:sp>
          <p:nvSpPr>
            <p:cNvPr id="336" name="">
              <a:hlinkClick r:id="" action="ppaction://hlinkshowjump?jump=previousslide"/>
            </p:cNvPr>
            <p:cNvSpPr/>
            <p:nvPr/>
          </p:nvSpPr>
          <p:spPr>
            <a:xfrm>
              <a:off x="7740720" y="630864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>
              <a:hlinkClick r:id="" action="ppaction://hlinkshowjump?jump=nextslide"/>
            </p:cNvPr>
            <p:cNvSpPr/>
            <p:nvPr/>
          </p:nvSpPr>
          <p:spPr>
            <a:xfrm>
              <a:off x="8433720" y="630864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79280" y="4505400"/>
            <a:ext cx="835344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хожие рекурсивные  формулы можно вывести  также и для многих других  математических определений. Можно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рганизовать вычисления и без рекурсивных соотношений, но использование рекурсии позволяет легко запрограммировать вычисления по рекурсивным формулам. К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стоинствам рекурсии можно отнести то, что она  позволяет с помощью конечного выражения задать бесконечное вычисление, причем алгоритм вычисления не будет содержать повторе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Многие задачи не  содержат явно в себе  рекурсию, однако  некоторые из них можно свести к рекурсив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35640" y="3429000"/>
            <a:ext cx="277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прямое опреде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0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74684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Нахождение НОД (наибольшего общего делителя) двух натуральных чисел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42920" y="1267920"/>
            <a:ext cx="785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особ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хождения этого значения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алгоритм Евкли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усть есть два целых числа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а=b, то НОД(а,b)=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а&gt;b, то НОД(а,b)=НОД(а-b,b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а&lt;b, то НОД(а,b)=НОД(а,b-а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пример. Найдем наибольший общий делитель чисел 22 и 16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940040"/>
            <a:ext cx="21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1940040"/>
            <a:ext cx="21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1940040"/>
            <a:ext cx="21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1940040"/>
            <a:ext cx="21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1940040"/>
            <a:ext cx="21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1940040"/>
            <a:ext cx="21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57640" y="1822320"/>
            <a:ext cx="22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Cyr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258920" y="3500280"/>
          <a:ext cx="6265440" cy="3024000"/>
        </p:xfrm>
        <a:graphic>
          <a:graphicData uri="http://schemas.openxmlformats.org/drawingml/2006/table">
            <a:tbl>
              <a:tblPr/>
              <a:tblGrid>
                <a:gridCol w="800640"/>
                <a:gridCol w="852840"/>
                <a:gridCol w="46119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Примеч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так как а&gt;b, то a = a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так как b&gt;a, то b = b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       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 = b –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так как a&gt;b, то a =a -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               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=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Так как a = b, то НОД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=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53" name=""/>
          <p:cNvGrpSpPr/>
          <p:nvPr/>
        </p:nvGrpSpPr>
        <p:grpSpPr>
          <a:xfrm>
            <a:off x="7740720" y="6308640"/>
            <a:ext cx="1222200" cy="287280"/>
            <a:chOff x="7740720" y="6308640"/>
            <a:chExt cx="1222200" cy="287280"/>
          </a:xfrm>
        </p:grpSpPr>
        <p:sp>
          <p:nvSpPr>
            <p:cNvPr id="354" name="">
              <a:hlinkClick r:id="" action="ppaction://hlinkshowjump?jump=previousslide"/>
            </p:cNvPr>
            <p:cNvSpPr/>
            <p:nvPr/>
          </p:nvSpPr>
          <p:spPr>
            <a:xfrm>
              <a:off x="7740720" y="630864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>
              <a:hlinkClick r:id="" action="ppaction://hlinkshowjump?jump=nextslide"/>
            </p:cNvPr>
            <p:cNvSpPr/>
            <p:nvPr/>
          </p:nvSpPr>
          <p:spPr>
            <a:xfrm>
              <a:off x="8433720" y="630864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4280" y="344160"/>
            <a:ext cx="728208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Составим следующую функцию и программу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Uses</a:t>
            </a:r>
            <a:r>
              <a:rPr b="0" i="1" lang="ru-RU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crt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DEFLNG A-B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var a,b:longint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FUNCTION nod (a AS LONG,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function nod (a,b:longint): longint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b AS LONG) 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IF A = B THEN nod = A 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if a =b  then nod:=a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ELSE   </a:t>
            </a: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else</a:t>
            </a:r>
            <a:r>
              <a:rPr b="0" i="1" lang="ru-RU" sz="1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IF A &gt; B THEN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if a&gt;b then nod:=nod(a - b,b)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nod = nod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(A - B, B):EXIT FUNCTION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ELSE nod = nod(A, B – A)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else nod:=nod</a:t>
            </a:r>
            <a:r>
              <a:rPr b="0" i="1" lang="ru-RU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(a,</a:t>
            </a:r>
            <a:r>
              <a:rPr b="0" i="1" lang="ru-RU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b- a)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END IF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END FUNCTION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end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begin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CLS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clrscr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Tahoma"/>
              </a:rPr>
              <a:t>INPUT "a,b="; A, B</a:t>
            </a:r>
            <a:r>
              <a:rPr b="1" i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writeln('a=b=');readln(a,b)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A = nod(A, B)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a:=nod(a,b)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PRINT "nod="; A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writeln('nod= ',a)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readln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END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">
            <a:hlinkClick r:id="rId1"/>
          </p:cNvPr>
          <p:cNvSpPr/>
          <p:nvPr/>
        </p:nvSpPr>
        <p:spPr>
          <a:xfrm>
            <a:off x="7523280" y="6118200"/>
            <a:ext cx="576000" cy="335160"/>
          </a:xfrm>
          <a:custGeom>
            <a:avLst/>
            <a:gdLst>
              <a:gd name="textAreaLeft" fmla="*/ 21600 w 576000"/>
              <a:gd name="textAreaRight" fmla="*/ 554400 w 576000"/>
              <a:gd name="textAreaTop" fmla="*/ 21600 h 335160"/>
              <a:gd name="textAreaBottom" fmla="*/ 313560 h 335160"/>
            </a:gdLst>
            <a:ahLst/>
            <a:rect l="textAreaLeft" t="textAreaTop" r="textAreaRight" b="textAreaBottom"/>
            <a:pathLst>
              <a:path w="37105" h="21600">
                <a:moveTo>
                  <a:pt x="0" y="0"/>
                </a:moveTo>
                <a:lnTo>
                  <a:pt x="37105" y="0"/>
                </a:lnTo>
                <a:lnTo>
                  <a:pt x="37105" y="21600"/>
                </a:lnTo>
                <a:lnTo>
                  <a:pt x="0" y="21600"/>
                </a:lnTo>
                <a:close/>
              </a:path>
              <a:path fill="lightenLess" w="37105" h="21600">
                <a:moveTo>
                  <a:pt x="0" y="0"/>
                </a:moveTo>
                <a:lnTo>
                  <a:pt x="37105" y="0"/>
                </a:lnTo>
                <a:lnTo>
                  <a:pt x="35705" y="1400"/>
                </a:lnTo>
                <a:lnTo>
                  <a:pt x="1400" y="1400"/>
                </a:lnTo>
                <a:close/>
              </a:path>
              <a:path fill="darken" w="37105" h="21600">
                <a:moveTo>
                  <a:pt x="37105" y="0"/>
                </a:moveTo>
                <a:lnTo>
                  <a:pt x="37105" y="21600"/>
                </a:lnTo>
                <a:lnTo>
                  <a:pt x="35705" y="20200"/>
                </a:lnTo>
                <a:lnTo>
                  <a:pt x="35705" y="1400"/>
                </a:lnTo>
                <a:close/>
              </a:path>
              <a:path fill="darkenLess" w="37105" h="21600">
                <a:moveTo>
                  <a:pt x="37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05" y="20200"/>
                </a:lnTo>
                <a:close/>
              </a:path>
              <a:path fill="lighten" w="37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>
            <a:hlinkClick r:id="rId2"/>
          </p:cNvPr>
          <p:cNvSpPr/>
          <p:nvPr/>
        </p:nvSpPr>
        <p:spPr>
          <a:xfrm>
            <a:off x="8099280" y="6118200"/>
            <a:ext cx="576360" cy="33516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5160"/>
              <a:gd name="textAreaBottom" fmla="*/ 313560 h 335160"/>
            </a:gdLst>
            <a:ahLst/>
            <a:rect l="textAreaLeft" t="textAreaTop" r="textAreaRight" b="textAreaBottom"/>
            <a:pathLst>
              <a:path w="37128" h="21600">
                <a:moveTo>
                  <a:pt x="0" y="0"/>
                </a:moveTo>
                <a:lnTo>
                  <a:pt x="37128" y="0"/>
                </a:lnTo>
                <a:lnTo>
                  <a:pt x="37128" y="21600"/>
                </a:lnTo>
                <a:lnTo>
                  <a:pt x="0" y="21600"/>
                </a:lnTo>
                <a:close/>
              </a:path>
              <a:path fill="lightenLess" w="37128" h="21600">
                <a:moveTo>
                  <a:pt x="0" y="0"/>
                </a:moveTo>
                <a:lnTo>
                  <a:pt x="37128" y="0"/>
                </a:lnTo>
                <a:lnTo>
                  <a:pt x="35728" y="1400"/>
                </a:lnTo>
                <a:lnTo>
                  <a:pt x="1400" y="1400"/>
                </a:lnTo>
                <a:close/>
              </a:path>
              <a:path fill="darken" w="37128" h="21600">
                <a:moveTo>
                  <a:pt x="37128" y="0"/>
                </a:moveTo>
                <a:lnTo>
                  <a:pt x="37128" y="21600"/>
                </a:lnTo>
                <a:lnTo>
                  <a:pt x="35728" y="20200"/>
                </a:lnTo>
                <a:lnTo>
                  <a:pt x="35728" y="1400"/>
                </a:lnTo>
                <a:close/>
              </a:path>
              <a:path fill="darkenLess" w="37128" h="21600">
                <a:moveTo>
                  <a:pt x="37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28" y="20200"/>
                </a:lnTo>
                <a:close/>
              </a:path>
              <a:path fill="lighten" w="37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835280" y="6308640"/>
            <a:ext cx="1222200" cy="287280"/>
            <a:chOff x="1835280" y="6308640"/>
            <a:chExt cx="1222200" cy="287280"/>
          </a:xfrm>
        </p:grpSpPr>
        <p:sp>
          <p:nvSpPr>
            <p:cNvPr id="361" name="">
              <a:hlinkClick r:id="" action="ppaction://hlinkshowjump?jump=previousslide"/>
            </p:cNvPr>
            <p:cNvSpPr/>
            <p:nvPr/>
          </p:nvSpPr>
          <p:spPr>
            <a:xfrm>
              <a:off x="1835280" y="630864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>
              <a:hlinkClick r:id="" action="ppaction://hlinkshowjump?jump=nextslide"/>
            </p:cNvPr>
            <p:cNvSpPr/>
            <p:nvPr/>
          </p:nvSpPr>
          <p:spPr>
            <a:xfrm>
              <a:off x="2528280" y="630864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71640" y="692280"/>
            <a:ext cx="7632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создании программы для решения сложной задачи программисты выполняют разделение этой задачи на подзадачи, подзадачи – на еще меньшие подзадачи и так далее, до легко программируемых элементарных задач. Со временем у каждого программиста через некоторое время появляется большой набор собственных  заготовок, неординарных решений и т.д.,  которые он хотел бы использовать во всех своих творения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зыки программирования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basic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и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rbo Pasca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зволяют разделять программу на  отдельные части, которые называются подпрограммами.   Сам термин подпрограмма говорит о том, что она  подобна и подчинена  основной программ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524720" y="6524640"/>
            <a:ext cx="1222200" cy="287280"/>
            <a:chOff x="7524720" y="6524640"/>
            <a:chExt cx="1222200" cy="287280"/>
          </a:xfrm>
        </p:grpSpPr>
        <p:sp>
          <p:nvSpPr>
            <p:cNvPr id="128" name="">
              <a:hlinkClick r:id="" action="ppaction://hlinkshowjump?jump=previousslide"/>
            </p:cNvPr>
            <p:cNvSpPr/>
            <p:nvPr/>
          </p:nvSpPr>
          <p:spPr>
            <a:xfrm>
              <a:off x="7524720" y="652464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>
              <a:hlinkClick r:id="" action="ppaction://hlinkshowjump?jump=nextslide"/>
            </p:cNvPr>
            <p:cNvSpPr/>
            <p:nvPr/>
          </p:nvSpPr>
          <p:spPr>
            <a:xfrm>
              <a:off x="8217720" y="652464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Перевод натурального числа из десятичной системы счисления в двоичную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ля решения этой задачи рассмотрим сначала, как перевести число из десятичной системы счисления в двоичную. Пусть есть число 39, которое и надо представить в двоичной системе. Для этого разделим его на 2, получим целую часть и остаток от деления. Целую часть снова делим на 2 и получаем целую часть и остаток. Так делаем до тех пор, пока целую часть можно делить на 2 (то есть пока она не станет,  равной 1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еперь, начиная с этой единицы, выписываем в обратном порядке все остатки от деления, это и будет запись числа 39 в двоичной системе счисления:   3910=100111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аким образом можно переводить любое натуральное число из десятичной системы счисления в двоичную, а также и другие системы (например, восьмеричную или шестеричную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7740720" y="6308640"/>
            <a:ext cx="1222200" cy="287280"/>
            <a:chOff x="7740720" y="6308640"/>
            <a:chExt cx="1222200" cy="287280"/>
          </a:xfrm>
        </p:grpSpPr>
        <p:sp>
          <p:nvSpPr>
            <p:cNvPr id="366" name="">
              <a:hlinkClick r:id="" action="ppaction://hlinkshowjump?jump=previousslide"/>
            </p:cNvPr>
            <p:cNvSpPr/>
            <p:nvPr/>
          </p:nvSpPr>
          <p:spPr>
            <a:xfrm>
              <a:off x="7740720" y="630864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>
              <a:hlinkClick r:id="" action="ppaction://hlinkshowjump?jump=nextslide"/>
            </p:cNvPr>
            <p:cNvSpPr/>
            <p:nvPr/>
          </p:nvSpPr>
          <p:spPr>
            <a:xfrm>
              <a:off x="8433720" y="630864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es cr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LNG N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r n:longin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rec (N AS LONG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cedure  REC (n:longint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N &gt; 1 THEN rec (N \ 2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n&gt;1  then rec(n div 2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INT N MOD 2;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rite(n mod 2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 SUB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S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rsc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PUT "n="; N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riteln('n=');readln(n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 (N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(n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adln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en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">
            <a:hlinkClick r:id="rId1"/>
          </p:cNvPr>
          <p:cNvSpPr/>
          <p:nvPr/>
        </p:nvSpPr>
        <p:spPr>
          <a:xfrm>
            <a:off x="7164360" y="5950080"/>
            <a:ext cx="576360" cy="33480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37168" h="21600">
                <a:moveTo>
                  <a:pt x="0" y="0"/>
                </a:moveTo>
                <a:lnTo>
                  <a:pt x="37168" y="0"/>
                </a:lnTo>
                <a:lnTo>
                  <a:pt x="37168" y="21600"/>
                </a:lnTo>
                <a:lnTo>
                  <a:pt x="0" y="21600"/>
                </a:lnTo>
                <a:close/>
              </a:path>
              <a:path fill="lightenLess" w="37168" h="21600">
                <a:moveTo>
                  <a:pt x="0" y="0"/>
                </a:moveTo>
                <a:lnTo>
                  <a:pt x="37168" y="0"/>
                </a:lnTo>
                <a:lnTo>
                  <a:pt x="35768" y="1400"/>
                </a:lnTo>
                <a:lnTo>
                  <a:pt x="1400" y="1400"/>
                </a:lnTo>
                <a:close/>
              </a:path>
              <a:path fill="darken" w="37168" h="21600">
                <a:moveTo>
                  <a:pt x="37168" y="0"/>
                </a:moveTo>
                <a:lnTo>
                  <a:pt x="37168" y="21600"/>
                </a:lnTo>
                <a:lnTo>
                  <a:pt x="35768" y="20200"/>
                </a:lnTo>
                <a:lnTo>
                  <a:pt x="35768" y="1400"/>
                </a:lnTo>
                <a:close/>
              </a:path>
              <a:path fill="darkenLess" w="37168" h="21600">
                <a:moveTo>
                  <a:pt x="371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68" y="20200"/>
                </a:lnTo>
                <a:close/>
              </a:path>
              <a:path fill="lighten" w="371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>
            <a:hlinkClick r:id="rId2"/>
          </p:cNvPr>
          <p:cNvSpPr/>
          <p:nvPr/>
        </p:nvSpPr>
        <p:spPr>
          <a:xfrm>
            <a:off x="7883640" y="5950080"/>
            <a:ext cx="576000" cy="334800"/>
          </a:xfrm>
          <a:custGeom>
            <a:avLst/>
            <a:gdLst>
              <a:gd name="textAreaLeft" fmla="*/ 21600 w 576000"/>
              <a:gd name="textAreaRight" fmla="*/ 554400 w 57600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37145" h="21600">
                <a:moveTo>
                  <a:pt x="0" y="0"/>
                </a:moveTo>
                <a:lnTo>
                  <a:pt x="37145" y="0"/>
                </a:lnTo>
                <a:lnTo>
                  <a:pt x="37145" y="21600"/>
                </a:lnTo>
                <a:lnTo>
                  <a:pt x="0" y="21600"/>
                </a:lnTo>
                <a:close/>
              </a:path>
              <a:path fill="lightenLess" w="37145" h="21600">
                <a:moveTo>
                  <a:pt x="0" y="0"/>
                </a:moveTo>
                <a:lnTo>
                  <a:pt x="37145" y="0"/>
                </a:lnTo>
                <a:lnTo>
                  <a:pt x="35745" y="1400"/>
                </a:lnTo>
                <a:lnTo>
                  <a:pt x="1400" y="1400"/>
                </a:lnTo>
                <a:close/>
              </a:path>
              <a:path fill="darken" w="37145" h="21600">
                <a:moveTo>
                  <a:pt x="37145" y="0"/>
                </a:moveTo>
                <a:lnTo>
                  <a:pt x="37145" y="21600"/>
                </a:lnTo>
                <a:lnTo>
                  <a:pt x="35745" y="20200"/>
                </a:lnTo>
                <a:lnTo>
                  <a:pt x="35745" y="1400"/>
                </a:lnTo>
                <a:close/>
              </a:path>
              <a:path fill="darkenLess" w="37145" h="21600">
                <a:moveTo>
                  <a:pt x="37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45" y="20200"/>
                </a:lnTo>
                <a:close/>
              </a:path>
              <a:path fill="lighten" w="37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403280" y="6237360"/>
            <a:ext cx="1222200" cy="287280"/>
            <a:chOff x="1403280" y="6237360"/>
            <a:chExt cx="1222200" cy="287280"/>
          </a:xfrm>
        </p:grpSpPr>
        <p:sp>
          <p:nvSpPr>
            <p:cNvPr id="372" name="">
              <a:hlinkClick r:id="" action="ppaction://hlinkshowjump?jump=previousslide"/>
            </p:cNvPr>
            <p:cNvSpPr/>
            <p:nvPr/>
          </p:nvSpPr>
          <p:spPr>
            <a:xfrm>
              <a:off x="1403280" y="623736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>
              <a:hlinkClick r:id="" action="ppaction://hlinkshowjump?jump=nextslide"/>
            </p:cNvPr>
            <p:cNvSpPr/>
            <p:nvPr/>
          </p:nvSpPr>
          <p:spPr>
            <a:xfrm>
              <a:off x="2096280" y="623736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24000" y="4797360"/>
            <a:ext cx="8281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Результат работы программы при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N=39 </a:t>
            </a: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выводится на экран: </a:t>
            </a:r>
            <a:r>
              <a:rPr b="1" i="1" lang="ru-RU" sz="1800" spc="-1" strike="noStrike">
                <a:solidFill>
                  <a:srgbClr val="eaeaea"/>
                </a:solidFill>
                <a:latin typeface="Tahoma"/>
              </a:rPr>
              <a:t>100111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Первая цифра (1) выводится на экран из последнего вызова, следующая цифра (0) из предпоследнего и так далее, последняя (1) — из первого. Таким образом, вывод очередной цифры происходит перед тем, как выйти из данной функ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Определить, является ли заданное натуральное число простым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71640" y="1557000"/>
            <a:ext cx="77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94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уть заключается в том, что если нельзя извлечь рекурсию из постановки задачи, то можно расширить задачу, обобщить ее (например, введя дополнительный параметр). Удачное обобщение дает возможность увидеть рекурсию. После этого возвращаемся к частному случаю и решаем исходную задач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4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анную задачу можно обобщить, например, так: определить, верно ли, что заданное натуральное число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не  делится ни на одно число, большее или равное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М,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но меньшее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При этом значения числа М находятся в промежутке от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до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стина может быть в двух случаях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ли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не делится на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и истина для чисел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М+1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не делится на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М —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это значит, что остаток от деления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на М не равен 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7740720" y="6308640"/>
            <a:ext cx="1222200" cy="287280"/>
            <a:chOff x="7740720" y="6308640"/>
            <a:chExt cx="1222200" cy="287280"/>
          </a:xfrm>
        </p:grpSpPr>
        <p:sp>
          <p:nvSpPr>
            <p:cNvPr id="378" name="">
              <a:hlinkClick r:id="" action="ppaction://hlinkshowjump?jump=previousslide"/>
            </p:cNvPr>
            <p:cNvSpPr/>
            <p:nvPr/>
          </p:nvSpPr>
          <p:spPr>
            <a:xfrm>
              <a:off x="7740720" y="630864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>
              <a:hlinkClick r:id="" action="ppaction://hlinkshowjump?jump=nextslide"/>
            </p:cNvPr>
            <p:cNvSpPr/>
            <p:nvPr/>
          </p:nvSpPr>
          <p:spPr>
            <a:xfrm>
              <a:off x="8433720" y="630864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44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ahoma"/>
              </a:rPr>
              <a:t>Программа определения, является ли заданное натуральное число простым.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27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uses cr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INT M-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var m,n,S:intege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NCTION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function pro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st (M AS INTEGER, N AS INTEGER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(m,n:integer):boolean;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N = M THEN prost = -1: EXIT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if n=m  then prost :=tru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N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SE prost = (N MOD M &lt;&gt; 0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else prost:=(n mod m&lt;&gt;0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n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st(M + 1, N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prost(m+1,n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D I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 FUNCTIO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end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S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clrsc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7093080" y="6308640"/>
            <a:ext cx="1222200" cy="287280"/>
            <a:chOff x="7093080" y="6308640"/>
            <a:chExt cx="1222200" cy="287280"/>
          </a:xfrm>
        </p:grpSpPr>
        <p:sp>
          <p:nvSpPr>
            <p:cNvPr id="383" name="">
              <a:hlinkClick r:id="" action="ppaction://hlinkshowjump?jump=previousslide"/>
            </p:cNvPr>
            <p:cNvSpPr/>
            <p:nvPr/>
          </p:nvSpPr>
          <p:spPr>
            <a:xfrm>
              <a:off x="7093080" y="630864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>
              <a:hlinkClick r:id="" action="ppaction://hlinkshowjump?jump=nextslide"/>
            </p:cNvPr>
            <p:cNvSpPr/>
            <p:nvPr/>
          </p:nvSpPr>
          <p:spPr>
            <a:xfrm>
              <a:off x="7786080" y="630864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68360" y="1049400"/>
            <a:ext cx="8424720" cy="38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PUT "n="; N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write('n=');readln(n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 = 2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m:=2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st(m,n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prost(M, N) &lt;&gt; 0 THEN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prost(m,n)  then write(n,‘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INT N; "-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сто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”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сто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'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SE   PRINT 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составно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se write(n,'-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товно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'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 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readl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e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>
            <a:hlinkClick r:id="rId1"/>
          </p:cNvPr>
          <p:cNvSpPr/>
          <p:nvPr/>
        </p:nvSpPr>
        <p:spPr>
          <a:xfrm>
            <a:off x="7308720" y="6283440"/>
            <a:ext cx="576360" cy="33480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37168" h="21600">
                <a:moveTo>
                  <a:pt x="0" y="0"/>
                </a:moveTo>
                <a:lnTo>
                  <a:pt x="37168" y="0"/>
                </a:lnTo>
                <a:lnTo>
                  <a:pt x="37168" y="21600"/>
                </a:lnTo>
                <a:lnTo>
                  <a:pt x="0" y="21600"/>
                </a:lnTo>
                <a:close/>
              </a:path>
              <a:path fill="lightenLess" w="37168" h="21600">
                <a:moveTo>
                  <a:pt x="0" y="0"/>
                </a:moveTo>
                <a:lnTo>
                  <a:pt x="37168" y="0"/>
                </a:lnTo>
                <a:lnTo>
                  <a:pt x="35768" y="1400"/>
                </a:lnTo>
                <a:lnTo>
                  <a:pt x="1400" y="1400"/>
                </a:lnTo>
                <a:close/>
              </a:path>
              <a:path fill="darken" w="37168" h="21600">
                <a:moveTo>
                  <a:pt x="37168" y="0"/>
                </a:moveTo>
                <a:lnTo>
                  <a:pt x="37168" y="21600"/>
                </a:lnTo>
                <a:lnTo>
                  <a:pt x="35768" y="20200"/>
                </a:lnTo>
                <a:lnTo>
                  <a:pt x="35768" y="1400"/>
                </a:lnTo>
                <a:close/>
              </a:path>
              <a:path fill="darkenLess" w="37168" h="21600">
                <a:moveTo>
                  <a:pt x="371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68" y="20200"/>
                </a:lnTo>
                <a:close/>
              </a:path>
              <a:path fill="lighten" w="371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>
            <a:hlinkClick r:id="rId2"/>
          </p:cNvPr>
          <p:cNvSpPr/>
          <p:nvPr/>
        </p:nvSpPr>
        <p:spPr>
          <a:xfrm>
            <a:off x="7954920" y="6283440"/>
            <a:ext cx="576360" cy="33480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37168" h="21600">
                <a:moveTo>
                  <a:pt x="0" y="0"/>
                </a:moveTo>
                <a:lnTo>
                  <a:pt x="37168" y="0"/>
                </a:lnTo>
                <a:lnTo>
                  <a:pt x="37168" y="21600"/>
                </a:lnTo>
                <a:lnTo>
                  <a:pt x="0" y="21600"/>
                </a:lnTo>
                <a:close/>
              </a:path>
              <a:path fill="lightenLess" w="37168" h="21600">
                <a:moveTo>
                  <a:pt x="0" y="0"/>
                </a:moveTo>
                <a:lnTo>
                  <a:pt x="37168" y="0"/>
                </a:lnTo>
                <a:lnTo>
                  <a:pt x="35768" y="1400"/>
                </a:lnTo>
                <a:lnTo>
                  <a:pt x="1400" y="1400"/>
                </a:lnTo>
                <a:close/>
              </a:path>
              <a:path fill="darken" w="37168" h="21600">
                <a:moveTo>
                  <a:pt x="37168" y="0"/>
                </a:moveTo>
                <a:lnTo>
                  <a:pt x="37168" y="21600"/>
                </a:lnTo>
                <a:lnTo>
                  <a:pt x="35768" y="20200"/>
                </a:lnTo>
                <a:lnTo>
                  <a:pt x="35768" y="1400"/>
                </a:lnTo>
                <a:close/>
              </a:path>
              <a:path fill="darkenLess" w="37168" h="21600">
                <a:moveTo>
                  <a:pt x="371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68" y="20200"/>
                </a:lnTo>
                <a:close/>
              </a:path>
              <a:path fill="lighten" w="371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11280" y="5373720"/>
            <a:ext cx="48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омашнее задание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йдите все простые числа от 2 до 5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755640" y="6093000"/>
            <a:ext cx="1222200" cy="287280"/>
            <a:chOff x="755640" y="6093000"/>
            <a:chExt cx="1222200" cy="287280"/>
          </a:xfrm>
        </p:grpSpPr>
        <p:sp>
          <p:nvSpPr>
            <p:cNvPr id="390" name="">
              <a:hlinkClick r:id="" action="ppaction://hlinkshowjump?jump=previousslide"/>
            </p:cNvPr>
            <p:cNvSpPr/>
            <p:nvPr/>
          </p:nvSpPr>
          <p:spPr>
            <a:xfrm>
              <a:off x="755640" y="609300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>
              <a:hlinkClick r:id="" action="ppaction://hlinkshowjump?jump=nextslide"/>
            </p:cNvPr>
            <p:cNvSpPr/>
            <p:nvPr/>
          </p:nvSpPr>
          <p:spPr>
            <a:xfrm>
              <a:off x="1448640" y="609300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116000" y="2771640"/>
            <a:ext cx="648036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58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рок 25</a:t>
            </a:r>
            <a:endParaRPr b="1" lang="en-US" sz="3200" spc="1" strike="noStrike">
              <a:ln w="158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7093080" y="6308640"/>
            <a:ext cx="1222200" cy="287280"/>
            <a:chOff x="7093080" y="6308640"/>
            <a:chExt cx="1222200" cy="287280"/>
          </a:xfrm>
        </p:grpSpPr>
        <p:sp>
          <p:nvSpPr>
            <p:cNvPr id="394" name="">
              <a:hlinkClick r:id="" action="ppaction://hlinkshowjump?jump=previousslide"/>
            </p:cNvPr>
            <p:cNvSpPr/>
            <p:nvPr/>
          </p:nvSpPr>
          <p:spPr>
            <a:xfrm>
              <a:off x="7093080" y="630864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>
              <a:hlinkClick r:id="" action="ppaction://hlinkshowjump?jump=nextslide"/>
            </p:cNvPr>
            <p:cNvSpPr/>
            <p:nvPr/>
          </p:nvSpPr>
          <p:spPr>
            <a:xfrm>
              <a:off x="7786080" y="630864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Тема урока: </a:t>
            </a: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Применение подпрограмм при решении задач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Ход уро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Проверка домашнего зад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ить на вопрос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м отличаются друг от друга глобальные и локальные параметры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такое рекурсия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 избавиться от бесконечного обращения подпрограммы к самой себ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ли задачи можно  свести к рекурсивным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рка домашней задач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йдите все простые числа от 2 до 5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редыдущей задаче заменить INPUT "n="; N на цикл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=2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5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093080" y="6308640"/>
            <a:ext cx="1222200" cy="287280"/>
            <a:chOff x="7093080" y="6308640"/>
            <a:chExt cx="1222200" cy="287280"/>
          </a:xfrm>
        </p:grpSpPr>
        <p:sp>
          <p:nvSpPr>
            <p:cNvPr id="399" name="">
              <a:hlinkClick r:id="" action="ppaction://hlinkshowjump?jump=previousslide"/>
            </p:cNvPr>
            <p:cNvSpPr/>
            <p:nvPr/>
          </p:nvSpPr>
          <p:spPr>
            <a:xfrm>
              <a:off x="7093080" y="630864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>
              <a:hlinkClick r:id="" action="ppaction://hlinkshowjump?jump=nextslide"/>
            </p:cNvPr>
            <p:cNvSpPr/>
            <p:nvPr/>
          </p:nvSpPr>
          <p:spPr>
            <a:xfrm>
              <a:off x="7786080" y="630864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6000" y="304560"/>
            <a:ext cx="7494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Составить программу нахождения суммы элементов целочисленного массива, состоящего из 20 элементов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ишем две процедур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ормирования  масси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вода масси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ункцию нахождения суммы элемен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и процедуры и функции  будем использовать в основной ча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начения элементов массива  вводим с помощью генератора случайных чисе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093080" y="6308640"/>
            <a:ext cx="1222200" cy="287280"/>
            <a:chOff x="7093080" y="6308640"/>
            <a:chExt cx="1222200" cy="287280"/>
          </a:xfrm>
        </p:grpSpPr>
        <p:sp>
          <p:nvSpPr>
            <p:cNvPr id="404" name="">
              <a:hlinkClick r:id="" action="ppaction://hlinkshowjump?jump=previousslide"/>
            </p:cNvPr>
            <p:cNvSpPr/>
            <p:nvPr/>
          </p:nvSpPr>
          <p:spPr>
            <a:xfrm>
              <a:off x="7093080" y="630864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>
              <a:hlinkClick r:id="" action="ppaction://hlinkshowjump?jump=nextslide"/>
            </p:cNvPr>
            <p:cNvSpPr/>
            <p:nvPr/>
          </p:nvSpPr>
          <p:spPr>
            <a:xfrm>
              <a:off x="7786080" y="630864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2436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aeaea"/>
                </a:solidFill>
                <a:latin typeface="Tahoma"/>
              </a:rPr>
              <a:t>В приведенной ниже программе процедура </a:t>
            </a: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Init</a:t>
            </a:r>
            <a:r>
              <a:rPr b="0" i="1" lang="ru-RU" sz="2000" spc="-1" strike="noStrike">
                <a:solidFill>
                  <a:srgbClr val="eaeaea"/>
                </a:solidFill>
                <a:latin typeface="Tahoma"/>
              </a:rPr>
              <a:t> отвечает за заполнение массива случайными числами, процедура </a:t>
            </a: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Print</a:t>
            </a:r>
            <a:r>
              <a:rPr b="0" i="1" lang="ru-RU" sz="2000" spc="-1" strike="noStrike">
                <a:solidFill>
                  <a:srgbClr val="eaeaea"/>
                </a:solidFill>
                <a:latin typeface="Tahoma"/>
              </a:rPr>
              <a:t> отвечает за вывод элементов массива.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8710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uses cr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T c = 20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const c=20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type mas=array[1..c] of intege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DIM A(C) AS INTEGER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var a: ma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INT P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p:intege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init (M() AS INTEGER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procedure init (var m: mas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INT 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var i:integer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NDOMIZE TIMER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randomiz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7093080" y="6308640"/>
            <a:ext cx="1222200" cy="287280"/>
            <a:chOff x="7093080" y="6308640"/>
            <a:chExt cx="1222200" cy="287280"/>
          </a:xfrm>
        </p:grpSpPr>
        <p:sp>
          <p:nvSpPr>
            <p:cNvPr id="409" name="">
              <a:hlinkClick r:id="" action="ppaction://hlinkshowjump?jump=previousslide"/>
            </p:cNvPr>
            <p:cNvSpPr/>
            <p:nvPr/>
          </p:nvSpPr>
          <p:spPr>
            <a:xfrm>
              <a:off x="7093080" y="630864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>
              <a:hlinkClick r:id="" action="ppaction://hlinkshowjump?jump=nextslide"/>
            </p:cNvPr>
            <p:cNvSpPr/>
            <p:nvPr/>
          </p:nvSpPr>
          <p:spPr>
            <a:xfrm>
              <a:off x="7786080" y="630864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971640" y="500040"/>
            <a:ext cx="784836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FOR I = 1 TO C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for i:=1 to c 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M(i) = RND * 45 – 22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m[i]:=trunc(random(45))-22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END SUB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SUB print (M() AS INTEGER)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procedure print (var m:mas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DEFINT I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var i:integer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FOR I = 1 TO C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for i:=1 to c d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PRINT M(I);” “;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write(m[i],' '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END SUB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end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7093080" y="6308640"/>
            <a:ext cx="1222200" cy="287280"/>
            <a:chOff x="7093080" y="6308640"/>
            <a:chExt cx="1222200" cy="287280"/>
          </a:xfrm>
        </p:grpSpPr>
        <p:sp>
          <p:nvSpPr>
            <p:cNvPr id="413" name="">
              <a:hlinkClick r:id="" action="ppaction://hlinkshowjump?jump=previousslide"/>
            </p:cNvPr>
            <p:cNvSpPr/>
            <p:nvPr/>
          </p:nvSpPr>
          <p:spPr>
            <a:xfrm>
              <a:off x="7093080" y="630864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>
              <a:hlinkClick r:id="" action="ppaction://hlinkshowjump?jump=nextslide"/>
            </p:cNvPr>
            <p:cNvSpPr/>
            <p:nvPr/>
          </p:nvSpPr>
          <p:spPr>
            <a:xfrm>
              <a:off x="7786080" y="630864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71640" y="475920"/>
            <a:ext cx="7921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Подпрограммы  решают три важные задачи, значительно облегчающие программирование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5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избавляют от необходимости многократно повторять в тексте программы аналогичные фрагменты, т.е. сократить объем программы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5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улучшают структуру программы, облегчая понимание при разборе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5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уменьшают вероятность появления ошибок, повышают устойчивость к ошибкам программирования и непредвиденным последствиям при модификации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5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Таким образом, </a:t>
            </a:r>
            <a:r>
              <a:rPr b="1" lang="en-US" sz="2100" spc="-1" strike="noStrike">
                <a:solidFill>
                  <a:srgbClr val="ffffff"/>
                </a:solidFill>
                <a:latin typeface="Tahoma"/>
              </a:rPr>
              <a:t>подпрограмма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— это повторяющаяся группа операторов, оформленная в виде самостоятельной программной единицы. Она записывается однократно, а в соответствующих местах программы обеспечивается лишь обращение к ней по имени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132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3272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eaeaea"/>
                </a:solidFill>
                <a:latin typeface="Tahoma"/>
              </a:rPr>
              <a:t>Функция </a:t>
            </a: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Summa</a:t>
            </a:r>
            <a:r>
              <a:rPr b="1" i="1" lang="ru-RU" sz="1800" spc="-1" strike="noStrike">
                <a:solidFill>
                  <a:srgbClr val="eaeaea"/>
                </a:solidFill>
                <a:latin typeface="Tahoma"/>
              </a:rPr>
              <a:t> находит сумму элементов массива, процедура </a:t>
            </a: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upor</a:t>
            </a:r>
            <a:r>
              <a:rPr b="1" i="1" lang="ru-RU" sz="1800" spc="-1" strike="noStrike">
                <a:solidFill>
                  <a:srgbClr val="eaeaea"/>
                </a:solidFill>
                <a:latin typeface="Tahoma"/>
              </a:rPr>
              <a:t> упорядочивает элементы массива.</a:t>
            </a:r>
            <a:br>
              <a:rPr sz="1800"/>
            </a:br>
            <a:r>
              <a:rPr b="1" i="1" lang="ru-RU" sz="1800" spc="-1" strike="noStrike">
                <a:solidFill>
                  <a:srgbClr val="eaeaea"/>
                </a:solidFill>
                <a:latin typeface="Tahoma"/>
              </a:rPr>
              <a:t> Для упорядочения элементов массива воспользуемся следующим алгоритмом: Берем первый элемент и сравниваем его со всеми последующими. Если они не равны, то меняем их местами и продолжаем сравнивать.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94232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FUNCTION summa (M() AS INTEGER)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function summa (var m: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mas):intege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DEFINT I, S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var i,s:integer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S = 0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s:=0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FOR I = 1 TO C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for i:=1 to c d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S = S + M(I)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s:=s+m[i]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EXT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Summa = S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summa:=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END FUNCTION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7093080" y="6308640"/>
            <a:ext cx="1222200" cy="287280"/>
            <a:chOff x="7093080" y="6308640"/>
            <a:chExt cx="1222200" cy="287280"/>
          </a:xfrm>
        </p:grpSpPr>
        <p:sp>
          <p:nvSpPr>
            <p:cNvPr id="418" name="">
              <a:hlinkClick r:id="" action="ppaction://hlinkshowjump?jump=previousslide"/>
            </p:cNvPr>
            <p:cNvSpPr/>
            <p:nvPr/>
          </p:nvSpPr>
          <p:spPr>
            <a:xfrm>
              <a:off x="7093080" y="630864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>
              <a:hlinkClick r:id="" action="ppaction://hlinkshowjump?jump=nextslide"/>
            </p:cNvPr>
            <p:cNvSpPr/>
            <p:nvPr/>
          </p:nvSpPr>
          <p:spPr>
            <a:xfrm>
              <a:off x="7786080" y="630864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971640" y="765000"/>
            <a:ext cx="7704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SUB upor (M() AS INTEGER)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procedure upor (var m: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mas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DEFINT I-J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var i,j,z:integer;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FOR I = 1 TO C – 1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for i:=1 to c-1 d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FOR J = I + 1 TO C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for j:=i+1 to c d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IF M(I) &lt; M(J) THEN SWAP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if m[j]&gt;m[i] th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M(I), M(J)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EXT J, I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z:=m[j];m[j]:=m[i];m[i]:=z;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end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END SUB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093080" y="6308640"/>
            <a:ext cx="1222200" cy="287280"/>
            <a:chOff x="7093080" y="6308640"/>
            <a:chExt cx="1222200" cy="287280"/>
          </a:xfrm>
        </p:grpSpPr>
        <p:sp>
          <p:nvSpPr>
            <p:cNvPr id="422" name="">
              <a:hlinkClick r:id="" action="ppaction://hlinkshowjump?jump=previousslide"/>
            </p:cNvPr>
            <p:cNvSpPr/>
            <p:nvPr/>
          </p:nvSpPr>
          <p:spPr>
            <a:xfrm>
              <a:off x="7093080" y="630864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>
              <a:hlinkClick r:id="" action="ppaction://hlinkshowjump?jump=nextslide"/>
            </p:cNvPr>
            <p:cNvSpPr/>
            <p:nvPr/>
          </p:nvSpPr>
          <p:spPr>
            <a:xfrm>
              <a:off x="7786080" y="630864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Вид основной программы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71280" y="1412640"/>
            <a:ext cx="7893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CLS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clrscr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CALL init(A())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init(a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CALL print(A())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print(a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PRINT    CALL upor(A())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upor(a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CALL print(A())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print(a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PRINT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writel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p = summa(A())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p:=summa(a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PRINT "summa="; P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writeln('s=',p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readln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END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en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">
            <a:hlinkClick r:id="rId1"/>
          </p:cNvPr>
          <p:cNvSpPr/>
          <p:nvPr/>
        </p:nvSpPr>
        <p:spPr>
          <a:xfrm>
            <a:off x="7091280" y="5950080"/>
            <a:ext cx="576360" cy="33480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37168" h="21600">
                <a:moveTo>
                  <a:pt x="0" y="0"/>
                </a:moveTo>
                <a:lnTo>
                  <a:pt x="37168" y="0"/>
                </a:lnTo>
                <a:lnTo>
                  <a:pt x="37168" y="21600"/>
                </a:lnTo>
                <a:lnTo>
                  <a:pt x="0" y="21600"/>
                </a:lnTo>
                <a:close/>
              </a:path>
              <a:path fill="lightenLess" w="37168" h="21600">
                <a:moveTo>
                  <a:pt x="0" y="0"/>
                </a:moveTo>
                <a:lnTo>
                  <a:pt x="37168" y="0"/>
                </a:lnTo>
                <a:lnTo>
                  <a:pt x="35768" y="1400"/>
                </a:lnTo>
                <a:lnTo>
                  <a:pt x="1400" y="1400"/>
                </a:lnTo>
                <a:close/>
              </a:path>
              <a:path fill="darken" w="37168" h="21600">
                <a:moveTo>
                  <a:pt x="37168" y="0"/>
                </a:moveTo>
                <a:lnTo>
                  <a:pt x="37168" y="21600"/>
                </a:lnTo>
                <a:lnTo>
                  <a:pt x="35768" y="20200"/>
                </a:lnTo>
                <a:lnTo>
                  <a:pt x="35768" y="1400"/>
                </a:lnTo>
                <a:close/>
              </a:path>
              <a:path fill="darkenLess" w="37168" h="21600">
                <a:moveTo>
                  <a:pt x="371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68" y="20200"/>
                </a:lnTo>
                <a:close/>
              </a:path>
              <a:path fill="lighten" w="371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>
            <a:hlinkClick r:id="rId2"/>
          </p:cNvPr>
          <p:cNvSpPr/>
          <p:nvPr/>
        </p:nvSpPr>
        <p:spPr>
          <a:xfrm>
            <a:off x="7883640" y="5950080"/>
            <a:ext cx="576000" cy="334800"/>
          </a:xfrm>
          <a:custGeom>
            <a:avLst/>
            <a:gdLst>
              <a:gd name="textAreaLeft" fmla="*/ 21600 w 576000"/>
              <a:gd name="textAreaRight" fmla="*/ 554400 w 57600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37145" h="21600">
                <a:moveTo>
                  <a:pt x="0" y="0"/>
                </a:moveTo>
                <a:lnTo>
                  <a:pt x="37145" y="0"/>
                </a:lnTo>
                <a:lnTo>
                  <a:pt x="37145" y="21600"/>
                </a:lnTo>
                <a:lnTo>
                  <a:pt x="0" y="21600"/>
                </a:lnTo>
                <a:close/>
              </a:path>
              <a:path fill="lightenLess" w="37145" h="21600">
                <a:moveTo>
                  <a:pt x="0" y="0"/>
                </a:moveTo>
                <a:lnTo>
                  <a:pt x="37145" y="0"/>
                </a:lnTo>
                <a:lnTo>
                  <a:pt x="35745" y="1400"/>
                </a:lnTo>
                <a:lnTo>
                  <a:pt x="1400" y="1400"/>
                </a:lnTo>
                <a:close/>
              </a:path>
              <a:path fill="darken" w="37145" h="21600">
                <a:moveTo>
                  <a:pt x="37145" y="0"/>
                </a:moveTo>
                <a:lnTo>
                  <a:pt x="37145" y="21600"/>
                </a:lnTo>
                <a:lnTo>
                  <a:pt x="35745" y="20200"/>
                </a:lnTo>
                <a:lnTo>
                  <a:pt x="35745" y="1400"/>
                </a:lnTo>
                <a:close/>
              </a:path>
              <a:path fill="darkenLess" w="37145" h="21600">
                <a:moveTo>
                  <a:pt x="37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45" y="20200"/>
                </a:lnTo>
                <a:close/>
              </a:path>
              <a:path fill="lighten" w="37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187280" y="5950080"/>
            <a:ext cx="1222200" cy="287280"/>
            <a:chOff x="1187280" y="5950080"/>
            <a:chExt cx="1222200" cy="287280"/>
          </a:xfrm>
        </p:grpSpPr>
        <p:sp>
          <p:nvSpPr>
            <p:cNvPr id="429" name="">
              <a:hlinkClick r:id="" action="ppaction://hlinkshowjump?jump=previousslide"/>
            </p:cNvPr>
            <p:cNvSpPr/>
            <p:nvPr/>
          </p:nvSpPr>
          <p:spPr>
            <a:xfrm>
              <a:off x="1187280" y="595008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>
              <a:hlinkClick r:id="" action="ppaction://hlinkshowjump?jump=nextslide"/>
            </p:cNvPr>
            <p:cNvSpPr/>
            <p:nvPr/>
          </p:nvSpPr>
          <p:spPr>
            <a:xfrm>
              <a:off x="1880280" y="595008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eaeaea"/>
                </a:solidFill>
                <a:latin typeface="Tahoma"/>
              </a:rPr>
              <a:t>Пример 2</a:t>
            </a:r>
            <a:br>
              <a:rPr sz="1800"/>
            </a:br>
            <a:r>
              <a:rPr b="1" i="1" lang="en-US" sz="2000" spc="-1" strike="noStrike">
                <a:solidFill>
                  <a:srgbClr val="eaeaea"/>
                </a:solidFill>
                <a:latin typeface="Tahoma"/>
              </a:rPr>
              <a:t>C</a:t>
            </a:r>
            <a:r>
              <a:rPr b="1" i="1" lang="ru-RU" sz="2000" spc="-1" strike="noStrike">
                <a:solidFill>
                  <a:srgbClr val="eaeaea"/>
                </a:solidFill>
                <a:latin typeface="Tahoma"/>
              </a:rPr>
              <a:t>оставить процедуру упорядочения массива.</a:t>
            </a:r>
            <a:br>
              <a:rPr sz="2000"/>
            </a:br>
            <a:br>
              <a:rPr sz="1800"/>
            </a:b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Для упорядочения элементов массива воспользуемся следующим алгоритмом:</a:t>
            </a:r>
            <a:br>
              <a:rPr sz="1800"/>
            </a:b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eaeaea"/>
                </a:solidFill>
                <a:latin typeface="Comic Sans MS"/>
              </a:rPr>
              <a:t>Берем первый элемент и сравниваем его со всеми последующими. Если они не равны, то меняем их местами и продолжаем сравнивать.</a:t>
            </a:r>
            <a:r>
              <a:rPr b="1" i="1" lang="en-US" sz="1800" spc="-1" strike="noStrike">
                <a:solidFill>
                  <a:srgbClr val="eaeaea"/>
                </a:solidFill>
                <a:latin typeface="Comic Sans MS"/>
              </a:rPr>
              <a:t>  </a:t>
            </a:r>
            <a:r>
              <a:rPr b="1" i="1" lang="ru-RU" sz="1800" spc="-1" strike="noStrike">
                <a:solidFill>
                  <a:srgbClr val="eaeaea"/>
                </a:solidFill>
                <a:latin typeface="Comic Sans MS"/>
              </a:rPr>
              <a:t>В итоге на последнем месте окажется самый маленький (или самый большой) в зависимости от знака неравенства.</a:t>
            </a:r>
            <a:br>
              <a:rPr sz="1800"/>
            </a:br>
            <a:r>
              <a:rPr b="1" i="1" lang="en-US" sz="18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eaeaea"/>
                </a:solidFill>
                <a:latin typeface="Comic Sans MS"/>
              </a:rPr>
              <a:t>Далее, берем второй элемент, третий и так до предпоследнего.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50920" y="3285720"/>
            <a:ext cx="468144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UB upor (M() AS INTEGE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DEFINT I-J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OR I = 1 TO C –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OR J = I + 1 TO 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IF M(I) &lt; M(J) THEN SWAP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M(I), M(J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NEXT J,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11280" y="3386160"/>
            <a:ext cx="403236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Procedure upor (var m: mas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var i,j,z:intege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or i:=1 to c-1 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or j:=i+1 to c 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if m[j]&gt;m[i] the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z:=m[j];m[j]:=m[i];m[i]:=z;end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7093080" y="6308640"/>
            <a:ext cx="1222200" cy="287280"/>
            <a:chOff x="7093080" y="6308640"/>
            <a:chExt cx="1222200" cy="287280"/>
          </a:xfrm>
        </p:grpSpPr>
        <p:sp>
          <p:nvSpPr>
            <p:cNvPr id="435" name="">
              <a:hlinkClick r:id="" action="ppaction://hlinkshowjump?jump=previousslide"/>
            </p:cNvPr>
            <p:cNvSpPr/>
            <p:nvPr/>
          </p:nvSpPr>
          <p:spPr>
            <a:xfrm>
              <a:off x="7093080" y="630864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>
              <a:hlinkClick r:id="" action="ppaction://hlinkshowjump?jump=nextslide"/>
            </p:cNvPr>
            <p:cNvSpPr/>
            <p:nvPr/>
          </p:nvSpPr>
          <p:spPr>
            <a:xfrm>
              <a:off x="7786080" y="630864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ahoma"/>
              </a:rPr>
              <a:t>Составьте процедуру нахождения максимального элемента и его индекса в одномерном целочисленном массиве.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07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eaeaea"/>
                </a:solidFill>
                <a:latin typeface="Comic Sans MS"/>
              </a:rPr>
              <a:t>Для решения задачи в процедуре задаем начальный максимум и его индекс. Например, первый элемент массива. Затем сравниваем максимум с каждым элементом массива и если найдем элемент, больший максимума, то перезапоминаем максимум и идем дале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MINMAX (M() AS INTEGE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Procedure minmax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X AS INTEGER, IND AS INTEGER)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(m:mas; v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max, ind:integer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INT 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var i:intege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begi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X = M(1): IND = 1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max:=m[1];ind:=1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I = 1 TO C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for i:=1 to c d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MAX &lt;= M(I) THE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if max&lt;=m[i] the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X = M(I): IND = I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begin max:=m[i]; ind:=i; end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 SUB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end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 основной программе необходимо описать переменные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AX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IND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7093080" y="6308640"/>
            <a:ext cx="1222200" cy="287280"/>
            <a:chOff x="7093080" y="6308640"/>
            <a:chExt cx="1222200" cy="287280"/>
          </a:xfrm>
        </p:grpSpPr>
        <p:sp>
          <p:nvSpPr>
            <p:cNvPr id="440" name="">
              <a:hlinkClick r:id="" action="ppaction://hlinkshowjump?jump=previousslide"/>
            </p:cNvPr>
            <p:cNvSpPr/>
            <p:nvPr/>
          </p:nvSpPr>
          <p:spPr>
            <a:xfrm>
              <a:off x="7093080" y="630864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>
              <a:hlinkClick r:id="" action="ppaction://hlinkshowjump?jump=nextslide"/>
            </p:cNvPr>
            <p:cNvSpPr/>
            <p:nvPr/>
          </p:nvSpPr>
          <p:spPr>
            <a:xfrm>
              <a:off x="7786080" y="630864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978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Составьте процедуры: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- заполнения целочисленного массива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A(20)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 датчиком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случайных чисел;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-печать массива;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- нахождение одинаковых элементов в массиве  с указанием их индексов.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вые две процедуры возьмем из предыдущих примеров.  Алгоритм нахождения одинаковых элементов состоит в следующем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Каждый элемент массива, кроме последнего, (докажите почему) сравниваем со всеми идущими  после нег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В случае нахождения одинаковых, печатаем их индекс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RAVN (M() AS INTEGER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cedure RAVN (var m: mas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INT I-J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r i,j:intege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gi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I = 1 TO C - 1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i:=1 to c-1 d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J = I + 1 TO C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j:=i+1 to c d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M(I) = M(J) THEN PRINT I, J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m[i]=m[j] then writeln (i,' ',j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XT NEX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 SUB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">
            <a:hlinkClick r:id="rId1"/>
          </p:cNvPr>
          <p:cNvSpPr/>
          <p:nvPr/>
        </p:nvSpPr>
        <p:spPr>
          <a:xfrm>
            <a:off x="7812000" y="6165720"/>
            <a:ext cx="576360" cy="33516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5160"/>
              <a:gd name="textAreaBottom" fmla="*/ 313560 h 335160"/>
            </a:gdLst>
            <a:ahLst/>
            <a:rect l="textAreaLeft" t="textAreaTop" r="textAreaRight" b="textAreaBottom"/>
            <a:pathLst>
              <a:path w="37128" h="21600">
                <a:moveTo>
                  <a:pt x="0" y="0"/>
                </a:moveTo>
                <a:lnTo>
                  <a:pt x="37128" y="0"/>
                </a:lnTo>
                <a:lnTo>
                  <a:pt x="37128" y="21600"/>
                </a:lnTo>
                <a:lnTo>
                  <a:pt x="0" y="21600"/>
                </a:lnTo>
                <a:close/>
              </a:path>
              <a:path fill="lightenLess" w="37128" h="21600">
                <a:moveTo>
                  <a:pt x="0" y="0"/>
                </a:moveTo>
                <a:lnTo>
                  <a:pt x="37128" y="0"/>
                </a:lnTo>
                <a:lnTo>
                  <a:pt x="35728" y="1400"/>
                </a:lnTo>
                <a:lnTo>
                  <a:pt x="1400" y="1400"/>
                </a:lnTo>
                <a:close/>
              </a:path>
              <a:path fill="darken" w="37128" h="21600">
                <a:moveTo>
                  <a:pt x="37128" y="0"/>
                </a:moveTo>
                <a:lnTo>
                  <a:pt x="37128" y="21600"/>
                </a:lnTo>
                <a:lnTo>
                  <a:pt x="35728" y="20200"/>
                </a:lnTo>
                <a:lnTo>
                  <a:pt x="35728" y="1400"/>
                </a:lnTo>
                <a:close/>
              </a:path>
              <a:path fill="darkenLess" w="37128" h="21600">
                <a:moveTo>
                  <a:pt x="37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28" y="20200"/>
                </a:lnTo>
                <a:close/>
              </a:path>
              <a:path fill="lighten" w="37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>
            <a:hlinkClick r:id="rId2"/>
          </p:cNvPr>
          <p:cNvSpPr/>
          <p:nvPr/>
        </p:nvSpPr>
        <p:spPr>
          <a:xfrm>
            <a:off x="7164360" y="6165720"/>
            <a:ext cx="576360" cy="33516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5160"/>
              <a:gd name="textAreaBottom" fmla="*/ 313560 h 335160"/>
            </a:gdLst>
            <a:ahLst/>
            <a:rect l="textAreaLeft" t="textAreaTop" r="textAreaRight" b="textAreaBottom"/>
            <a:pathLst>
              <a:path w="37128" h="21600">
                <a:moveTo>
                  <a:pt x="0" y="0"/>
                </a:moveTo>
                <a:lnTo>
                  <a:pt x="37128" y="0"/>
                </a:lnTo>
                <a:lnTo>
                  <a:pt x="37128" y="21600"/>
                </a:lnTo>
                <a:lnTo>
                  <a:pt x="0" y="21600"/>
                </a:lnTo>
                <a:close/>
              </a:path>
              <a:path fill="lightenLess" w="37128" h="21600">
                <a:moveTo>
                  <a:pt x="0" y="0"/>
                </a:moveTo>
                <a:lnTo>
                  <a:pt x="37128" y="0"/>
                </a:lnTo>
                <a:lnTo>
                  <a:pt x="35728" y="1400"/>
                </a:lnTo>
                <a:lnTo>
                  <a:pt x="1400" y="1400"/>
                </a:lnTo>
                <a:close/>
              </a:path>
              <a:path fill="darken" w="37128" h="21600">
                <a:moveTo>
                  <a:pt x="37128" y="0"/>
                </a:moveTo>
                <a:lnTo>
                  <a:pt x="37128" y="21600"/>
                </a:lnTo>
                <a:lnTo>
                  <a:pt x="35728" y="20200"/>
                </a:lnTo>
                <a:lnTo>
                  <a:pt x="35728" y="1400"/>
                </a:lnTo>
                <a:close/>
              </a:path>
              <a:path fill="darkenLess" w="37128" h="21600">
                <a:moveTo>
                  <a:pt x="37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28" y="20200"/>
                </a:lnTo>
                <a:close/>
              </a:path>
              <a:path fill="lighten" w="37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2050920" y="6308640"/>
            <a:ext cx="1222200" cy="287280"/>
            <a:chOff x="2050920" y="6308640"/>
            <a:chExt cx="1222200" cy="287280"/>
          </a:xfrm>
        </p:grpSpPr>
        <p:sp>
          <p:nvSpPr>
            <p:cNvPr id="447" name="">
              <a:hlinkClick r:id="" action="ppaction://hlinkshowjump?jump=previousslide"/>
            </p:cNvPr>
            <p:cNvSpPr/>
            <p:nvPr/>
          </p:nvSpPr>
          <p:spPr>
            <a:xfrm>
              <a:off x="2050920" y="630864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>
              <a:hlinkClick r:id="" action="ppaction://hlinkshowjump?jump=nextslide"/>
            </p:cNvPr>
            <p:cNvSpPr/>
            <p:nvPr/>
          </p:nvSpPr>
          <p:spPr>
            <a:xfrm>
              <a:off x="2743920" y="630864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Домашнее задание.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ить на вопрос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м отличаются друг от друга глобальные и локальные параметры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то такое рекурси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избавиться от бесконечного обращения подпрограммы к самой себ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е ли задачи можно  свести к рекурсивным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описывается функци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овы отличия функции от процедуры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казывается ли тип результата в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ick Basic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м отличаются друг от друга формальные и фактические параметры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то такое область действия переменной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7093080" y="6308640"/>
            <a:ext cx="1222200" cy="287280"/>
            <a:chOff x="7093080" y="6308640"/>
            <a:chExt cx="1222200" cy="287280"/>
          </a:xfrm>
        </p:grpSpPr>
        <p:sp>
          <p:nvSpPr>
            <p:cNvPr id="452" name="">
              <a:hlinkClick r:id="" action="ppaction://hlinkshowjump?jump=previousslide"/>
            </p:cNvPr>
            <p:cNvSpPr/>
            <p:nvPr/>
          </p:nvSpPr>
          <p:spPr>
            <a:xfrm>
              <a:off x="7093080" y="630864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>
              <a:hlinkClick r:id="" action="ppaction://hlinkshowjump?jump=nextslide"/>
            </p:cNvPr>
            <p:cNvSpPr/>
            <p:nvPr/>
          </p:nvSpPr>
          <p:spPr>
            <a:xfrm>
              <a:off x="7786080" y="630864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332000" y="2720880"/>
            <a:ext cx="648000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58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рок 26</a:t>
            </a:r>
            <a:endParaRPr b="1" lang="en-US" sz="3200" spc="1" strike="noStrike">
              <a:ln w="158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7093080" y="6308640"/>
            <a:ext cx="1222200" cy="287280"/>
            <a:chOff x="7093080" y="6308640"/>
            <a:chExt cx="1222200" cy="287280"/>
          </a:xfrm>
        </p:grpSpPr>
        <p:sp>
          <p:nvSpPr>
            <p:cNvPr id="456" name="">
              <a:hlinkClick r:id="" action="ppaction://hlinkshowjump?jump=previousslide"/>
            </p:cNvPr>
            <p:cNvSpPr/>
            <p:nvPr/>
          </p:nvSpPr>
          <p:spPr>
            <a:xfrm>
              <a:off x="7093080" y="630864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>
              <a:hlinkClick r:id="" action="ppaction://hlinkshowjump?jump=nextslide"/>
            </p:cNvPr>
            <p:cNvSpPr/>
            <p:nvPr/>
          </p:nvSpPr>
          <p:spPr>
            <a:xfrm>
              <a:off x="7786080" y="630864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Тема урока: </a:t>
            </a: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Применение подпрограмм при решении задач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Ход уро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Проверка домашнего зад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ить на вопрос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м отличаются друг от друга глобальные и локальные параметры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такое рекурсия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 избавиться от бесконечного обращения подпрограммы к самой себ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ли задачи можно  свести к рекурсивным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 описывается функция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овы отличия функции от процедуры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казывается ли тип результата в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uick Basic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м отличаются друг от друга формальные и фактические параметры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такое область действия переменной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7236000" y="6381720"/>
            <a:ext cx="1222200" cy="287280"/>
            <a:chOff x="7236000" y="6381720"/>
            <a:chExt cx="1222200" cy="287280"/>
          </a:xfrm>
        </p:grpSpPr>
        <p:sp>
          <p:nvSpPr>
            <p:cNvPr id="461" name="">
              <a:hlinkClick r:id="" action="ppaction://hlinkshowjump?jump=previousslide"/>
            </p:cNvPr>
            <p:cNvSpPr/>
            <p:nvPr/>
          </p:nvSpPr>
          <p:spPr>
            <a:xfrm>
              <a:off x="723600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>
              <a:hlinkClick r:id="" action="ppaction://hlinkshowjump?jump=nextslide"/>
            </p:cNvPr>
            <p:cNvSpPr/>
            <p:nvPr/>
          </p:nvSpPr>
          <p:spPr>
            <a:xfrm>
              <a:off x="792900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5438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Дана строка, состоящая из слов разделенными одним пробелом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ставить процедуру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) определяющую количество слов в строк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) вывода на экран этих сл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) печатающие слова по возрастанию их длин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) проверяющие  слова, являются ли они палиндром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093080" y="6308640"/>
            <a:ext cx="1222200" cy="287280"/>
            <a:chOff x="7093080" y="6308640"/>
            <a:chExt cx="1222200" cy="287280"/>
          </a:xfrm>
        </p:grpSpPr>
        <p:sp>
          <p:nvSpPr>
            <p:cNvPr id="466" name="">
              <a:hlinkClick r:id="" action="ppaction://hlinkshowjump?jump=previousslide"/>
            </p:cNvPr>
            <p:cNvSpPr/>
            <p:nvPr/>
          </p:nvSpPr>
          <p:spPr>
            <a:xfrm>
              <a:off x="7093080" y="630864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>
              <a:hlinkClick r:id="" action="ppaction://hlinkshowjump?jump=nextslide"/>
            </p:cNvPr>
            <p:cNvSpPr/>
            <p:nvPr/>
          </p:nvSpPr>
          <p:spPr>
            <a:xfrm>
              <a:off x="7786080" y="630864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aeaea"/>
                </a:solidFill>
                <a:latin typeface="Tahoma"/>
              </a:rPr>
              <a:t>Общие</a:t>
            </a:r>
            <a:r>
              <a:rPr b="1" lang="en-US" sz="26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eaeaea"/>
                </a:solidFill>
                <a:latin typeface="Tahoma"/>
              </a:rPr>
              <a:t>принципы выделения подпрограмм:</a:t>
            </a:r>
            <a:endParaRPr b="1" lang="en-US" sz="2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75247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ли в программе необходимо переписывать одни и те же последовательности команд, то стоит эту последовательность  команд оформить в виде подпрограмм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оит перенести в подпрограмму подробности, заслоняющие основной смысл программ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лишком длинную программу полезно разбить на составные части – подобно тому, как книгу разбивают на главы. При этом основная программа становиться похожей на оглавле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137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68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68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998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498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998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243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Составляем процедуру определяющую количество слов в строке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es cr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T N = 30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t n=30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M B(N) AS STRING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ype mas=array[1..n] of string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r  b:ma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M ST AS STRING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:string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INT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:intege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роцедуре разбиваем предложения на слова и считаем их количест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slowa (ST AS STRING, B(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cedure slowa (st:string;va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 STRING,  K AS INTEGER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:mas;var k:integer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INT 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r i:integer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gin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 = 1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:=1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I = 1 TO LEN(ST) – 1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i:=1 to length(st)-1 do  begi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7093080" y="6308640"/>
            <a:ext cx="1222200" cy="287280"/>
            <a:chOff x="7093080" y="6308640"/>
            <a:chExt cx="1222200" cy="287280"/>
          </a:xfrm>
        </p:grpSpPr>
        <p:sp>
          <p:nvSpPr>
            <p:cNvPr id="471" name="">
              <a:hlinkClick r:id="" action="ppaction://hlinkshowjump?jump=previousslide"/>
            </p:cNvPr>
            <p:cNvSpPr/>
            <p:nvPr/>
          </p:nvSpPr>
          <p:spPr>
            <a:xfrm>
              <a:off x="7093080" y="630864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>
              <a:hlinkClick r:id="" action="ppaction://hlinkshowjump?jump=nextslide"/>
            </p:cNvPr>
            <p:cNvSpPr/>
            <p:nvPr/>
          </p:nvSpPr>
          <p:spPr>
            <a:xfrm>
              <a:off x="7786080" y="630864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7093080" y="6308640"/>
            <a:ext cx="1222200" cy="287280"/>
            <a:chOff x="7093080" y="6308640"/>
            <a:chExt cx="1222200" cy="287280"/>
          </a:xfrm>
        </p:grpSpPr>
        <p:sp>
          <p:nvSpPr>
            <p:cNvPr id="474" name="">
              <a:hlinkClick r:id="" action="ppaction://hlinkshowjump?jump=previousslide"/>
            </p:cNvPr>
            <p:cNvSpPr/>
            <p:nvPr/>
          </p:nvSpPr>
          <p:spPr>
            <a:xfrm>
              <a:off x="7093080" y="630864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>
              <a:hlinkClick r:id="" action="ppaction://hlinkshowjump?jump=nextslide"/>
            </p:cNvPr>
            <p:cNvSpPr/>
            <p:nvPr/>
          </p:nvSpPr>
          <p:spPr>
            <a:xfrm>
              <a:off x="7786080" y="630864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971640" y="981000"/>
            <a:ext cx="79930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ка не встретился пробе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MID$(ST, I, 1) &lt;&gt; " " THEN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(K) = B(K) + MID$(ST, I, 1)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st[i]&lt;&gt;  ' ' then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[k]:=b[k]+st[i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SE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I &lt;&gt; LEN(ST) - 1 THE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i&lt;&gt;length(st)-1 th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 = K + 1: B(K) = “”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gin  k:=K+1;b[k]:='';en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 IF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X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;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 SUB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7093080" y="6308640"/>
            <a:ext cx="1222200" cy="287280"/>
            <a:chOff x="7093080" y="6308640"/>
            <a:chExt cx="1222200" cy="287280"/>
          </a:xfrm>
        </p:grpSpPr>
        <p:sp>
          <p:nvSpPr>
            <p:cNvPr id="478" name="">
              <a:hlinkClick r:id="" action="ppaction://hlinkshowjump?jump=previousslide"/>
            </p:cNvPr>
            <p:cNvSpPr/>
            <p:nvPr/>
          </p:nvSpPr>
          <p:spPr>
            <a:xfrm>
              <a:off x="7093080" y="630864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>
              <a:hlinkClick r:id="" action="ppaction://hlinkshowjump?jump=nextslide"/>
            </p:cNvPr>
            <p:cNvSpPr/>
            <p:nvPr/>
          </p:nvSpPr>
          <p:spPr>
            <a:xfrm>
              <a:off x="7786080" y="630864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826920" y="1598760"/>
            <a:ext cx="8066160" cy="34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prin (B() AS STRING,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cedure print (var b:mas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 AS INTEGER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r i:intege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g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INT 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I = 1 TO K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i:=1 to k d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INT B(I); " ";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rite (b[i],' '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 SUB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293640" y="595440"/>
            <a:ext cx="312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ahoma"/>
              </a:rPr>
              <a:t>Печатаем массив сл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порядочиваем массив слов по возрастанию их дл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upor (B() AS STRING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cedure upor (var b:mas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 AS INTEGER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EFINT I-J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r i,j:intege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:string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I = 1 TO K-1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i:=1 to k-1 d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J = I + 1 TO 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j:=i+1 to k d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LEN(B(I))&lt;=LEN(B(J))THEN SWAP B(I),B(J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length(b[i])&lt;=length(b[j]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gin z:=b[i];b[i]:=b[j];b[j]:=z;end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XT J,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 SUB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093080" y="6308640"/>
            <a:ext cx="1222200" cy="287280"/>
            <a:chOff x="7093080" y="6308640"/>
            <a:chExt cx="1222200" cy="287280"/>
          </a:xfrm>
        </p:grpSpPr>
        <p:sp>
          <p:nvSpPr>
            <p:cNvPr id="484" name="">
              <a:hlinkClick r:id="" action="ppaction://hlinkshowjump?jump=previousslide"/>
            </p:cNvPr>
            <p:cNvSpPr/>
            <p:nvPr/>
          </p:nvSpPr>
          <p:spPr>
            <a:xfrm>
              <a:off x="7093080" y="630864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>
              <a:hlinkClick r:id="" action="ppaction://hlinkshowjump?jump=nextslide"/>
            </p:cNvPr>
            <p:cNvSpPr/>
            <p:nvPr/>
          </p:nvSpPr>
          <p:spPr>
            <a:xfrm>
              <a:off x="7786080" y="630864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44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Проверяем слова, являются ли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они палиндромами.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23640" y="476280"/>
            <a:ext cx="8569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palindrom (B() AS STRING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cedure palindrom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 AS INTEGER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var b:mas;var k:integer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INT I-J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r i,j:integer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STR 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:string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bel 10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I = 1 TO 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i:=1 to k do begi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 = B(I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:=b[i]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J = 1 TO LEN(B(I)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j:=1 to length (b[i])  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MID$(Z, J, 1) &lt;&gt; MID$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z[j]&lt;&gt;z[length(b[i])-j+1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Z, LEN(B()) - J + 1, 1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N PRINT z; "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линдром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gin writeln(z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OTO 10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линдром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'); goto 10;end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X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INT Z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 " палиндром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riteln(z,'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линдром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'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0 NEX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0:   end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 SUB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rscr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INPUT "предложение"; st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rite('st=');readln(st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7740720" y="6308640"/>
            <a:ext cx="1222200" cy="287280"/>
            <a:chOff x="7740720" y="6308640"/>
            <a:chExt cx="1222200" cy="287280"/>
          </a:xfrm>
        </p:grpSpPr>
        <p:sp>
          <p:nvSpPr>
            <p:cNvPr id="489" name="">
              <a:hlinkClick r:id="" action="ppaction://hlinkshowjump?jump=previousslide"/>
            </p:cNvPr>
            <p:cNvSpPr/>
            <p:nvPr/>
          </p:nvSpPr>
          <p:spPr>
            <a:xfrm>
              <a:off x="7740720" y="630864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>
              <a:hlinkClick r:id="" action="ppaction://hlinkshowjump?jump=nextslide"/>
            </p:cNvPr>
            <p:cNvSpPr/>
            <p:nvPr/>
          </p:nvSpPr>
          <p:spPr>
            <a:xfrm>
              <a:off x="8433720" y="630864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"/>
          <p:cNvGrpSpPr/>
          <p:nvPr/>
        </p:nvGrpSpPr>
        <p:grpSpPr>
          <a:xfrm>
            <a:off x="1187280" y="6093000"/>
            <a:ext cx="1222200" cy="287280"/>
            <a:chOff x="1187280" y="6093000"/>
            <a:chExt cx="1222200" cy="287280"/>
          </a:xfrm>
        </p:grpSpPr>
        <p:sp>
          <p:nvSpPr>
            <p:cNvPr id="492" name="">
              <a:hlinkClick r:id="" action="ppaction://hlinkshowjump?jump=previousslide"/>
            </p:cNvPr>
            <p:cNvSpPr/>
            <p:nvPr/>
          </p:nvSpPr>
          <p:spPr>
            <a:xfrm>
              <a:off x="1187280" y="609300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>
              <a:hlinkClick r:id="" action="ppaction://hlinkshowjump?jump=nextslide"/>
            </p:cNvPr>
            <p:cNvSpPr/>
            <p:nvPr/>
          </p:nvSpPr>
          <p:spPr>
            <a:xfrm>
              <a:off x="1880280" y="609300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1042920" y="404640"/>
            <a:ext cx="7632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сновная программа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Добавляем пробел в конце предло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 = ST + " "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:=st+' '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 slowa(ST, B(), K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lowa(st,b,k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INT "slow="; 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riteln( '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ов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=' ,k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 print(B(), K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int(b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 upor(B(), K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por(b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IN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riteln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 print(B(), K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int(b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IN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riteln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 palindrom(B(), K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lindrom(b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adl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>
            <a:hlinkClick r:id="rId1"/>
          </p:cNvPr>
          <p:cNvSpPr/>
          <p:nvPr/>
        </p:nvSpPr>
        <p:spPr>
          <a:xfrm>
            <a:off x="7740720" y="6307200"/>
            <a:ext cx="576360" cy="33480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37168" h="21600">
                <a:moveTo>
                  <a:pt x="0" y="0"/>
                </a:moveTo>
                <a:lnTo>
                  <a:pt x="37168" y="0"/>
                </a:lnTo>
                <a:lnTo>
                  <a:pt x="37168" y="21600"/>
                </a:lnTo>
                <a:lnTo>
                  <a:pt x="0" y="21600"/>
                </a:lnTo>
                <a:close/>
              </a:path>
              <a:path fill="lightenLess" w="37168" h="21600">
                <a:moveTo>
                  <a:pt x="0" y="0"/>
                </a:moveTo>
                <a:lnTo>
                  <a:pt x="37168" y="0"/>
                </a:lnTo>
                <a:lnTo>
                  <a:pt x="35768" y="1400"/>
                </a:lnTo>
                <a:lnTo>
                  <a:pt x="1400" y="1400"/>
                </a:lnTo>
                <a:close/>
              </a:path>
              <a:path fill="darken" w="37168" h="21600">
                <a:moveTo>
                  <a:pt x="37168" y="0"/>
                </a:moveTo>
                <a:lnTo>
                  <a:pt x="37168" y="21600"/>
                </a:lnTo>
                <a:lnTo>
                  <a:pt x="35768" y="20200"/>
                </a:lnTo>
                <a:lnTo>
                  <a:pt x="35768" y="1400"/>
                </a:lnTo>
                <a:close/>
              </a:path>
              <a:path fill="darkenLess" w="37168" h="21600">
                <a:moveTo>
                  <a:pt x="371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68" y="20200"/>
                </a:lnTo>
                <a:close/>
              </a:path>
              <a:path fill="lighten" w="371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>
            <a:hlinkClick r:id="rId2"/>
          </p:cNvPr>
          <p:cNvSpPr/>
          <p:nvPr/>
        </p:nvSpPr>
        <p:spPr>
          <a:xfrm>
            <a:off x="8388360" y="6308640"/>
            <a:ext cx="576360" cy="33516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5160"/>
              <a:gd name="textAreaBottom" fmla="*/ 313560 h 335160"/>
            </a:gdLst>
            <a:ahLst/>
            <a:rect l="textAreaLeft" t="textAreaTop" r="textAreaRight" b="textAreaBottom"/>
            <a:pathLst>
              <a:path w="37128" h="21600">
                <a:moveTo>
                  <a:pt x="0" y="0"/>
                </a:moveTo>
                <a:lnTo>
                  <a:pt x="37128" y="0"/>
                </a:lnTo>
                <a:lnTo>
                  <a:pt x="37128" y="21600"/>
                </a:lnTo>
                <a:lnTo>
                  <a:pt x="0" y="21600"/>
                </a:lnTo>
                <a:close/>
              </a:path>
              <a:path fill="lightenLess" w="37128" h="21600">
                <a:moveTo>
                  <a:pt x="0" y="0"/>
                </a:moveTo>
                <a:lnTo>
                  <a:pt x="37128" y="0"/>
                </a:lnTo>
                <a:lnTo>
                  <a:pt x="35728" y="1400"/>
                </a:lnTo>
                <a:lnTo>
                  <a:pt x="1400" y="1400"/>
                </a:lnTo>
                <a:close/>
              </a:path>
              <a:path fill="darken" w="37128" h="21600">
                <a:moveTo>
                  <a:pt x="37128" y="0"/>
                </a:moveTo>
                <a:lnTo>
                  <a:pt x="37128" y="21600"/>
                </a:lnTo>
                <a:lnTo>
                  <a:pt x="35728" y="20200"/>
                </a:lnTo>
                <a:lnTo>
                  <a:pt x="35728" y="1400"/>
                </a:lnTo>
                <a:close/>
              </a:path>
              <a:path fill="darkenLess" w="37128" h="21600">
                <a:moveTo>
                  <a:pt x="37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28" y="20200"/>
                </a:lnTo>
                <a:close/>
              </a:path>
              <a:path fill="lighten" w="37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86920" y="549360"/>
            <a:ext cx="75106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ставить процедуру для заполнения двумерного массива целыми случайными числами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йти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вый отрицательный элемен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ксимальный элемент масси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инаковые элементы масси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менять местами первый отрицательный и максимальный элемен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решения этой задачи составим соответствующие процедур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7380360" y="6237360"/>
            <a:ext cx="1222200" cy="287280"/>
            <a:chOff x="7380360" y="6237360"/>
            <a:chExt cx="1222200" cy="287280"/>
          </a:xfrm>
        </p:grpSpPr>
        <p:sp>
          <p:nvSpPr>
            <p:cNvPr id="499" name="">
              <a:hlinkClick r:id="" action="ppaction://hlinkshowjump?jump=previousslide"/>
            </p:cNvPr>
            <p:cNvSpPr/>
            <p:nvPr/>
          </p:nvSpPr>
          <p:spPr>
            <a:xfrm>
              <a:off x="7380360" y="623736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>
              <a:hlinkClick r:id="" action="ppaction://hlinkshowjump?jump=nextslide"/>
            </p:cNvPr>
            <p:cNvSpPr/>
            <p:nvPr/>
          </p:nvSpPr>
          <p:spPr>
            <a:xfrm>
              <a:off x="8073360" y="623736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85760" y="344520"/>
            <a:ext cx="72820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Процедура заполнения массива целыми случайными числами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42920" y="1267920"/>
            <a:ext cx="7655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чало основной програм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uses cr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CONST C = 3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const c=3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DIM A(C, C) AS INTEGER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type mas=array[1..c,1..c]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of intege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var a:ma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DEFINT D, F, I-J, M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max,im,jm:intege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io,jo,f:intege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7164360" y="6165720"/>
            <a:ext cx="1222200" cy="287640"/>
            <a:chOff x="7164360" y="6165720"/>
            <a:chExt cx="1222200" cy="287640"/>
          </a:xfrm>
        </p:grpSpPr>
        <p:sp>
          <p:nvSpPr>
            <p:cNvPr id="504" name="">
              <a:hlinkClick r:id="" action="ppaction://hlinkshowjump?jump=previousslide"/>
            </p:cNvPr>
            <p:cNvSpPr/>
            <p:nvPr/>
          </p:nvSpPr>
          <p:spPr>
            <a:xfrm>
              <a:off x="7164360" y="6165720"/>
              <a:ext cx="652320" cy="28764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640"/>
                <a:gd name="textAreaBottom" fmla="*/ 269280 h 287640"/>
              </a:gdLst>
              <a:ahLst/>
              <a:rect l="textAreaLeft" t="textAreaTop" r="textAreaRight" b="textAreaBottom"/>
              <a:pathLst>
                <a:path w="48951" h="21600">
                  <a:moveTo>
                    <a:pt x="0" y="0"/>
                  </a:moveTo>
                  <a:lnTo>
                    <a:pt x="48951" y="0"/>
                  </a:lnTo>
                  <a:lnTo>
                    <a:pt x="48951" y="21600"/>
                  </a:lnTo>
                  <a:lnTo>
                    <a:pt x="0" y="21600"/>
                  </a:lnTo>
                  <a:close/>
                </a:path>
                <a:path fill="lightenLess" w="48951" h="21600">
                  <a:moveTo>
                    <a:pt x="0" y="0"/>
                  </a:moveTo>
                  <a:lnTo>
                    <a:pt x="48951" y="0"/>
                  </a:lnTo>
                  <a:lnTo>
                    <a:pt x="47551" y="1400"/>
                  </a:lnTo>
                  <a:lnTo>
                    <a:pt x="1400" y="1400"/>
                  </a:lnTo>
                  <a:close/>
                </a:path>
                <a:path fill="darken" w="48951" h="21600">
                  <a:moveTo>
                    <a:pt x="48951" y="0"/>
                  </a:moveTo>
                  <a:lnTo>
                    <a:pt x="48951" y="21600"/>
                  </a:lnTo>
                  <a:lnTo>
                    <a:pt x="47551" y="20200"/>
                  </a:lnTo>
                  <a:lnTo>
                    <a:pt x="47551" y="1400"/>
                  </a:lnTo>
                  <a:close/>
                </a:path>
                <a:path fill="darkenLess" w="48951" h="21600">
                  <a:moveTo>
                    <a:pt x="489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551" y="20200"/>
                  </a:lnTo>
                  <a:close/>
                </a:path>
                <a:path fill="lighten" w="489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8951" h="21600">
                  <a:moveTo>
                    <a:pt x="17469" y="10800"/>
                  </a:moveTo>
                  <a:lnTo>
                    <a:pt x="31482" y="3794"/>
                  </a:lnTo>
                  <a:lnTo>
                    <a:pt x="31482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>
              <a:hlinkClick r:id="" action="ppaction://hlinkshowjump?jump=nextslide"/>
            </p:cNvPr>
            <p:cNvSpPr/>
            <p:nvPr/>
          </p:nvSpPr>
          <p:spPr>
            <a:xfrm>
              <a:off x="7857360" y="6165720"/>
              <a:ext cx="529200" cy="28764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640"/>
                <a:gd name="textAreaBottom" fmla="*/ 269280 h 287640"/>
              </a:gdLst>
              <a:ahLst/>
              <a:rect l="textAreaLeft" t="textAreaTop" r="textAreaRight" b="textAreaBottom"/>
              <a:pathLst>
                <a:path w="39717" h="21600">
                  <a:moveTo>
                    <a:pt x="0" y="0"/>
                  </a:moveTo>
                  <a:lnTo>
                    <a:pt x="39717" y="0"/>
                  </a:lnTo>
                  <a:lnTo>
                    <a:pt x="39717" y="21600"/>
                  </a:lnTo>
                  <a:lnTo>
                    <a:pt x="0" y="21600"/>
                  </a:lnTo>
                  <a:close/>
                </a:path>
                <a:path fill="lightenLess" w="39717" h="21600">
                  <a:moveTo>
                    <a:pt x="0" y="0"/>
                  </a:moveTo>
                  <a:lnTo>
                    <a:pt x="39717" y="0"/>
                  </a:lnTo>
                  <a:lnTo>
                    <a:pt x="38317" y="1400"/>
                  </a:lnTo>
                  <a:lnTo>
                    <a:pt x="1400" y="1400"/>
                  </a:lnTo>
                  <a:close/>
                </a:path>
                <a:path fill="darken" w="39717" h="21600">
                  <a:moveTo>
                    <a:pt x="39717" y="0"/>
                  </a:moveTo>
                  <a:lnTo>
                    <a:pt x="39717" y="21600"/>
                  </a:lnTo>
                  <a:lnTo>
                    <a:pt x="38317" y="20200"/>
                  </a:lnTo>
                  <a:lnTo>
                    <a:pt x="38317" y="1400"/>
                  </a:lnTo>
                  <a:close/>
                </a:path>
                <a:path fill="darkenLess" w="39717" h="21600">
                  <a:moveTo>
                    <a:pt x="397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17" y="20200"/>
                  </a:lnTo>
                  <a:close/>
                </a:path>
                <a:path fill="lighten" w="397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17" h="21600">
                  <a:moveTo>
                    <a:pt x="12852" y="3794"/>
                  </a:moveTo>
                  <a:lnTo>
                    <a:pt x="26865" y="10800"/>
                  </a:lnTo>
                  <a:lnTo>
                    <a:pt x="12852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7164360" y="6165720"/>
            <a:ext cx="1222200" cy="287640"/>
            <a:chOff x="7164360" y="6165720"/>
            <a:chExt cx="1222200" cy="287640"/>
          </a:xfrm>
        </p:grpSpPr>
        <p:sp>
          <p:nvSpPr>
            <p:cNvPr id="507" name="">
              <a:hlinkClick r:id="" action="ppaction://hlinkshowjump?jump=previousslide"/>
            </p:cNvPr>
            <p:cNvSpPr/>
            <p:nvPr/>
          </p:nvSpPr>
          <p:spPr>
            <a:xfrm>
              <a:off x="7164360" y="6165720"/>
              <a:ext cx="652320" cy="28764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640"/>
                <a:gd name="textAreaBottom" fmla="*/ 269280 h 287640"/>
              </a:gdLst>
              <a:ahLst/>
              <a:rect l="textAreaLeft" t="textAreaTop" r="textAreaRight" b="textAreaBottom"/>
              <a:pathLst>
                <a:path w="48951" h="21600">
                  <a:moveTo>
                    <a:pt x="0" y="0"/>
                  </a:moveTo>
                  <a:lnTo>
                    <a:pt x="48951" y="0"/>
                  </a:lnTo>
                  <a:lnTo>
                    <a:pt x="48951" y="21600"/>
                  </a:lnTo>
                  <a:lnTo>
                    <a:pt x="0" y="21600"/>
                  </a:lnTo>
                  <a:close/>
                </a:path>
                <a:path fill="lightenLess" w="48951" h="21600">
                  <a:moveTo>
                    <a:pt x="0" y="0"/>
                  </a:moveTo>
                  <a:lnTo>
                    <a:pt x="48951" y="0"/>
                  </a:lnTo>
                  <a:lnTo>
                    <a:pt x="47551" y="1400"/>
                  </a:lnTo>
                  <a:lnTo>
                    <a:pt x="1400" y="1400"/>
                  </a:lnTo>
                  <a:close/>
                </a:path>
                <a:path fill="darken" w="48951" h="21600">
                  <a:moveTo>
                    <a:pt x="48951" y="0"/>
                  </a:moveTo>
                  <a:lnTo>
                    <a:pt x="48951" y="21600"/>
                  </a:lnTo>
                  <a:lnTo>
                    <a:pt x="47551" y="20200"/>
                  </a:lnTo>
                  <a:lnTo>
                    <a:pt x="47551" y="1400"/>
                  </a:lnTo>
                  <a:close/>
                </a:path>
                <a:path fill="darkenLess" w="48951" h="21600">
                  <a:moveTo>
                    <a:pt x="489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551" y="20200"/>
                  </a:lnTo>
                  <a:close/>
                </a:path>
                <a:path fill="lighten" w="489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8951" h="21600">
                  <a:moveTo>
                    <a:pt x="17469" y="10800"/>
                  </a:moveTo>
                  <a:lnTo>
                    <a:pt x="31482" y="3794"/>
                  </a:lnTo>
                  <a:lnTo>
                    <a:pt x="31482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>
              <a:hlinkClick r:id="" action="ppaction://hlinkshowjump?jump=nextslide"/>
            </p:cNvPr>
            <p:cNvSpPr/>
            <p:nvPr/>
          </p:nvSpPr>
          <p:spPr>
            <a:xfrm>
              <a:off x="7857360" y="6165720"/>
              <a:ext cx="529200" cy="28764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640"/>
                <a:gd name="textAreaBottom" fmla="*/ 269280 h 287640"/>
              </a:gdLst>
              <a:ahLst/>
              <a:rect l="textAreaLeft" t="textAreaTop" r="textAreaRight" b="textAreaBottom"/>
              <a:pathLst>
                <a:path w="39717" h="21600">
                  <a:moveTo>
                    <a:pt x="0" y="0"/>
                  </a:moveTo>
                  <a:lnTo>
                    <a:pt x="39717" y="0"/>
                  </a:lnTo>
                  <a:lnTo>
                    <a:pt x="39717" y="21600"/>
                  </a:lnTo>
                  <a:lnTo>
                    <a:pt x="0" y="21600"/>
                  </a:lnTo>
                  <a:close/>
                </a:path>
                <a:path fill="lightenLess" w="39717" h="21600">
                  <a:moveTo>
                    <a:pt x="0" y="0"/>
                  </a:moveTo>
                  <a:lnTo>
                    <a:pt x="39717" y="0"/>
                  </a:lnTo>
                  <a:lnTo>
                    <a:pt x="38317" y="1400"/>
                  </a:lnTo>
                  <a:lnTo>
                    <a:pt x="1400" y="1400"/>
                  </a:lnTo>
                  <a:close/>
                </a:path>
                <a:path fill="darken" w="39717" h="21600">
                  <a:moveTo>
                    <a:pt x="39717" y="0"/>
                  </a:moveTo>
                  <a:lnTo>
                    <a:pt x="39717" y="21600"/>
                  </a:lnTo>
                  <a:lnTo>
                    <a:pt x="38317" y="20200"/>
                  </a:lnTo>
                  <a:lnTo>
                    <a:pt x="38317" y="1400"/>
                  </a:lnTo>
                  <a:close/>
                </a:path>
                <a:path fill="darkenLess" w="39717" h="21600">
                  <a:moveTo>
                    <a:pt x="397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17" y="20200"/>
                  </a:lnTo>
                  <a:close/>
                </a:path>
                <a:path fill="lighten" w="397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17" h="21600">
                  <a:moveTo>
                    <a:pt x="12852" y="3794"/>
                  </a:moveTo>
                  <a:lnTo>
                    <a:pt x="26865" y="10800"/>
                  </a:lnTo>
                  <a:lnTo>
                    <a:pt x="12852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900000" y="549360"/>
            <a:ext cx="792000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Процедура заполнения  массива случайными числ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UB init (M() AS INTEGER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procedure init (var m:ma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DEFINT I-J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var  I,J:intege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RANDOMIZE TIMER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RANDOMIZ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OR I = 1 TO C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OR i:= 1 TO c 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OR J = 1 TO C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OR j:= 1 TO c 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M(I, J) = RND * 5 – 2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m[i, j]:=trunc(Rand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 5)) -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END SUB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5960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Процедура вывода массива на экран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13564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SUB PRIN (M() AS INTEGER)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procedure PRINT(m:mas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DEFINT I-J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var I,J:integer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FOR I = 1 TO C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FOR i:= 1 TO c do begi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FOR J = 1 TO C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FOR j:= 1 TO c   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PRINT M(I, J); " ";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write( m[i, j]:4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PRINT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writeln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NEXT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end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END SUB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end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1403280" y="5229360"/>
            <a:ext cx="2124000" cy="1398600"/>
          </a:xfrm>
          <a:prstGeom prst="rect">
            <a:avLst/>
          </a:prstGeom>
          <a:ln w="0">
            <a:noFill/>
          </a:ln>
        </p:spPr>
      </p:pic>
      <p:grpSp>
        <p:nvGrpSpPr>
          <p:cNvPr id="513" name=""/>
          <p:cNvGrpSpPr/>
          <p:nvPr/>
        </p:nvGrpSpPr>
        <p:grpSpPr>
          <a:xfrm>
            <a:off x="7164360" y="6165720"/>
            <a:ext cx="1222200" cy="287640"/>
            <a:chOff x="7164360" y="6165720"/>
            <a:chExt cx="1222200" cy="287640"/>
          </a:xfrm>
        </p:grpSpPr>
        <p:sp>
          <p:nvSpPr>
            <p:cNvPr id="514" name="">
              <a:hlinkClick r:id="" action="ppaction://hlinkshowjump?jump=previousslide"/>
            </p:cNvPr>
            <p:cNvSpPr/>
            <p:nvPr/>
          </p:nvSpPr>
          <p:spPr>
            <a:xfrm>
              <a:off x="7164360" y="6165720"/>
              <a:ext cx="652320" cy="28764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640"/>
                <a:gd name="textAreaBottom" fmla="*/ 269280 h 287640"/>
              </a:gdLst>
              <a:ahLst/>
              <a:rect l="textAreaLeft" t="textAreaTop" r="textAreaRight" b="textAreaBottom"/>
              <a:pathLst>
                <a:path w="48951" h="21600">
                  <a:moveTo>
                    <a:pt x="0" y="0"/>
                  </a:moveTo>
                  <a:lnTo>
                    <a:pt x="48951" y="0"/>
                  </a:lnTo>
                  <a:lnTo>
                    <a:pt x="48951" y="21600"/>
                  </a:lnTo>
                  <a:lnTo>
                    <a:pt x="0" y="21600"/>
                  </a:lnTo>
                  <a:close/>
                </a:path>
                <a:path fill="lightenLess" w="48951" h="21600">
                  <a:moveTo>
                    <a:pt x="0" y="0"/>
                  </a:moveTo>
                  <a:lnTo>
                    <a:pt x="48951" y="0"/>
                  </a:lnTo>
                  <a:lnTo>
                    <a:pt x="47551" y="1400"/>
                  </a:lnTo>
                  <a:lnTo>
                    <a:pt x="1400" y="1400"/>
                  </a:lnTo>
                  <a:close/>
                </a:path>
                <a:path fill="darken" w="48951" h="21600">
                  <a:moveTo>
                    <a:pt x="48951" y="0"/>
                  </a:moveTo>
                  <a:lnTo>
                    <a:pt x="48951" y="21600"/>
                  </a:lnTo>
                  <a:lnTo>
                    <a:pt x="47551" y="20200"/>
                  </a:lnTo>
                  <a:lnTo>
                    <a:pt x="47551" y="1400"/>
                  </a:lnTo>
                  <a:close/>
                </a:path>
                <a:path fill="darkenLess" w="48951" h="21600">
                  <a:moveTo>
                    <a:pt x="489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551" y="20200"/>
                  </a:lnTo>
                  <a:close/>
                </a:path>
                <a:path fill="lighten" w="489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8951" h="21600">
                  <a:moveTo>
                    <a:pt x="17469" y="10800"/>
                  </a:moveTo>
                  <a:lnTo>
                    <a:pt x="31482" y="3794"/>
                  </a:lnTo>
                  <a:lnTo>
                    <a:pt x="31482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>
              <a:hlinkClick r:id="" action="ppaction://hlinkshowjump?jump=nextslide"/>
            </p:cNvPr>
            <p:cNvSpPr/>
            <p:nvPr/>
          </p:nvSpPr>
          <p:spPr>
            <a:xfrm>
              <a:off x="7857360" y="6165720"/>
              <a:ext cx="529200" cy="28764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640"/>
                <a:gd name="textAreaBottom" fmla="*/ 269280 h 287640"/>
              </a:gdLst>
              <a:ahLst/>
              <a:rect l="textAreaLeft" t="textAreaTop" r="textAreaRight" b="textAreaBottom"/>
              <a:pathLst>
                <a:path w="39717" h="21600">
                  <a:moveTo>
                    <a:pt x="0" y="0"/>
                  </a:moveTo>
                  <a:lnTo>
                    <a:pt x="39717" y="0"/>
                  </a:lnTo>
                  <a:lnTo>
                    <a:pt x="39717" y="21600"/>
                  </a:lnTo>
                  <a:lnTo>
                    <a:pt x="0" y="21600"/>
                  </a:lnTo>
                  <a:close/>
                </a:path>
                <a:path fill="lightenLess" w="39717" h="21600">
                  <a:moveTo>
                    <a:pt x="0" y="0"/>
                  </a:moveTo>
                  <a:lnTo>
                    <a:pt x="39717" y="0"/>
                  </a:lnTo>
                  <a:lnTo>
                    <a:pt x="38317" y="1400"/>
                  </a:lnTo>
                  <a:lnTo>
                    <a:pt x="1400" y="1400"/>
                  </a:lnTo>
                  <a:close/>
                </a:path>
                <a:path fill="darken" w="39717" h="21600">
                  <a:moveTo>
                    <a:pt x="39717" y="0"/>
                  </a:moveTo>
                  <a:lnTo>
                    <a:pt x="39717" y="21600"/>
                  </a:lnTo>
                  <a:lnTo>
                    <a:pt x="38317" y="20200"/>
                  </a:lnTo>
                  <a:lnTo>
                    <a:pt x="38317" y="1400"/>
                  </a:lnTo>
                  <a:close/>
                </a:path>
                <a:path fill="darkenLess" w="39717" h="21600">
                  <a:moveTo>
                    <a:pt x="397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17" y="20200"/>
                  </a:lnTo>
                  <a:close/>
                </a:path>
                <a:path fill="lighten" w="397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17" h="21600">
                  <a:moveTo>
                    <a:pt x="12852" y="3794"/>
                  </a:moveTo>
                  <a:lnTo>
                    <a:pt x="26865" y="10800"/>
                  </a:lnTo>
                  <a:lnTo>
                    <a:pt x="12852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3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42920" y="981000"/>
            <a:ext cx="77770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  решении  задачи могут возникать слишком сложные  подзадачи. Целесообразней отладить  их отдельно в небольших программах. Добавление этих программ в основную задачу будет легким, если они оформлены как подпрограм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е, что вы сделали хорошо в одной программе, вам захочется перенести в новые программы. Для повторного использования частей кода лучше сразу выделять в программе полезные вам подзадачи в виде отдельных подпрограм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141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6881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Процедура нахождения одинаковых элементов  в массиве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325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UB odinak (M() AS INTEGER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cedure odinak (m :mas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DEFINT I-L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r I,j,k,l:intege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OR I = 1 TO C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i:= 1 TO c 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OR J = 1 TO c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j:= 1 TO c    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PRINT I; J; "=";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{PRINT i; j; "=";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OR K = 1 TO C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k:= 1 TO c   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OR L = 1 TO C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l:= 1 TO c 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IF ((I &lt;&gt; K) OR (J &lt;&gt; L)) AND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IF ((i &lt;&gt; k) OR (j &lt;&gt; l)) 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M(I, J) = M(K, L)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(m[i, j] = m[k, l]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THEN PRINT K; L;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THEN write (i,j,' ', k, l,'  '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NEXT L, 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NEXT J,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END SUB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164360" y="6165720"/>
            <a:ext cx="1222200" cy="287640"/>
            <a:chOff x="7164360" y="6165720"/>
            <a:chExt cx="1222200" cy="287640"/>
          </a:xfrm>
        </p:grpSpPr>
        <p:sp>
          <p:nvSpPr>
            <p:cNvPr id="519" name="">
              <a:hlinkClick r:id="" action="ppaction://hlinkshowjump?jump=previousslide"/>
            </p:cNvPr>
            <p:cNvSpPr/>
            <p:nvPr/>
          </p:nvSpPr>
          <p:spPr>
            <a:xfrm>
              <a:off x="7164360" y="6165720"/>
              <a:ext cx="652320" cy="28764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640"/>
                <a:gd name="textAreaBottom" fmla="*/ 269280 h 287640"/>
              </a:gdLst>
              <a:ahLst/>
              <a:rect l="textAreaLeft" t="textAreaTop" r="textAreaRight" b="textAreaBottom"/>
              <a:pathLst>
                <a:path w="48951" h="21600">
                  <a:moveTo>
                    <a:pt x="0" y="0"/>
                  </a:moveTo>
                  <a:lnTo>
                    <a:pt x="48951" y="0"/>
                  </a:lnTo>
                  <a:lnTo>
                    <a:pt x="48951" y="21600"/>
                  </a:lnTo>
                  <a:lnTo>
                    <a:pt x="0" y="21600"/>
                  </a:lnTo>
                  <a:close/>
                </a:path>
                <a:path fill="lightenLess" w="48951" h="21600">
                  <a:moveTo>
                    <a:pt x="0" y="0"/>
                  </a:moveTo>
                  <a:lnTo>
                    <a:pt x="48951" y="0"/>
                  </a:lnTo>
                  <a:lnTo>
                    <a:pt x="47551" y="1400"/>
                  </a:lnTo>
                  <a:lnTo>
                    <a:pt x="1400" y="1400"/>
                  </a:lnTo>
                  <a:close/>
                </a:path>
                <a:path fill="darken" w="48951" h="21600">
                  <a:moveTo>
                    <a:pt x="48951" y="0"/>
                  </a:moveTo>
                  <a:lnTo>
                    <a:pt x="48951" y="21600"/>
                  </a:lnTo>
                  <a:lnTo>
                    <a:pt x="47551" y="20200"/>
                  </a:lnTo>
                  <a:lnTo>
                    <a:pt x="47551" y="1400"/>
                  </a:lnTo>
                  <a:close/>
                </a:path>
                <a:path fill="darkenLess" w="48951" h="21600">
                  <a:moveTo>
                    <a:pt x="489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551" y="20200"/>
                  </a:lnTo>
                  <a:close/>
                </a:path>
                <a:path fill="lighten" w="489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8951" h="21600">
                  <a:moveTo>
                    <a:pt x="17469" y="10800"/>
                  </a:moveTo>
                  <a:lnTo>
                    <a:pt x="31482" y="3794"/>
                  </a:lnTo>
                  <a:lnTo>
                    <a:pt x="31482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>
              <a:hlinkClick r:id="" action="ppaction://hlinkshowjump?jump=nextslide"/>
            </p:cNvPr>
            <p:cNvSpPr/>
            <p:nvPr/>
          </p:nvSpPr>
          <p:spPr>
            <a:xfrm>
              <a:off x="7857360" y="6165720"/>
              <a:ext cx="529200" cy="28764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640"/>
                <a:gd name="textAreaBottom" fmla="*/ 269280 h 287640"/>
              </a:gdLst>
              <a:ahLst/>
              <a:rect l="textAreaLeft" t="textAreaTop" r="textAreaRight" b="textAreaBottom"/>
              <a:pathLst>
                <a:path w="39717" h="21600">
                  <a:moveTo>
                    <a:pt x="0" y="0"/>
                  </a:moveTo>
                  <a:lnTo>
                    <a:pt x="39717" y="0"/>
                  </a:lnTo>
                  <a:lnTo>
                    <a:pt x="39717" y="21600"/>
                  </a:lnTo>
                  <a:lnTo>
                    <a:pt x="0" y="21600"/>
                  </a:lnTo>
                  <a:close/>
                </a:path>
                <a:path fill="lightenLess" w="39717" h="21600">
                  <a:moveTo>
                    <a:pt x="0" y="0"/>
                  </a:moveTo>
                  <a:lnTo>
                    <a:pt x="39717" y="0"/>
                  </a:lnTo>
                  <a:lnTo>
                    <a:pt x="38317" y="1400"/>
                  </a:lnTo>
                  <a:lnTo>
                    <a:pt x="1400" y="1400"/>
                  </a:lnTo>
                  <a:close/>
                </a:path>
                <a:path fill="darken" w="39717" h="21600">
                  <a:moveTo>
                    <a:pt x="39717" y="0"/>
                  </a:moveTo>
                  <a:lnTo>
                    <a:pt x="39717" y="21600"/>
                  </a:lnTo>
                  <a:lnTo>
                    <a:pt x="38317" y="20200"/>
                  </a:lnTo>
                  <a:lnTo>
                    <a:pt x="38317" y="1400"/>
                  </a:lnTo>
                  <a:close/>
                </a:path>
                <a:path fill="darkenLess" w="39717" h="21600">
                  <a:moveTo>
                    <a:pt x="397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17" y="20200"/>
                  </a:lnTo>
                  <a:close/>
                </a:path>
                <a:path fill="lighten" w="397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17" h="21600">
                  <a:moveTo>
                    <a:pt x="12852" y="3794"/>
                  </a:moveTo>
                  <a:lnTo>
                    <a:pt x="26865" y="10800"/>
                  </a:lnTo>
                  <a:lnTo>
                    <a:pt x="12852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49120" y="344520"/>
            <a:ext cx="7281720" cy="10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Процедура нахождения первого отрицательного элемент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8066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B otr (M() AS INTEGER, IO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rocedure otr (var m:mas;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JO AS INTEGER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var io,jo:integer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EFINT I-J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var I,J:intege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FOR I = 1 TO 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FOR i:= 1 TO c do beg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FOR J = 1 TO 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FOR j:= 1 TO c 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F M(I, J) &lt; 0 THEN IO = I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F m[i, j] &lt; 0 THEN begin io:= i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JO = J: EXIT SUB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jo:= j; EXIT;end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EX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EX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D SUB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7164360" y="6165720"/>
            <a:ext cx="1222200" cy="287640"/>
            <a:chOff x="7164360" y="6165720"/>
            <a:chExt cx="1222200" cy="287640"/>
          </a:xfrm>
        </p:grpSpPr>
        <p:sp>
          <p:nvSpPr>
            <p:cNvPr id="524" name="">
              <a:hlinkClick r:id="" action="ppaction://hlinkshowjump?jump=previousslide"/>
            </p:cNvPr>
            <p:cNvSpPr/>
            <p:nvPr/>
          </p:nvSpPr>
          <p:spPr>
            <a:xfrm>
              <a:off x="7164360" y="6165720"/>
              <a:ext cx="652320" cy="28764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640"/>
                <a:gd name="textAreaBottom" fmla="*/ 269280 h 287640"/>
              </a:gdLst>
              <a:ahLst/>
              <a:rect l="textAreaLeft" t="textAreaTop" r="textAreaRight" b="textAreaBottom"/>
              <a:pathLst>
                <a:path w="48951" h="21600">
                  <a:moveTo>
                    <a:pt x="0" y="0"/>
                  </a:moveTo>
                  <a:lnTo>
                    <a:pt x="48951" y="0"/>
                  </a:lnTo>
                  <a:lnTo>
                    <a:pt x="48951" y="21600"/>
                  </a:lnTo>
                  <a:lnTo>
                    <a:pt x="0" y="21600"/>
                  </a:lnTo>
                  <a:close/>
                </a:path>
                <a:path fill="lightenLess" w="48951" h="21600">
                  <a:moveTo>
                    <a:pt x="0" y="0"/>
                  </a:moveTo>
                  <a:lnTo>
                    <a:pt x="48951" y="0"/>
                  </a:lnTo>
                  <a:lnTo>
                    <a:pt x="47551" y="1400"/>
                  </a:lnTo>
                  <a:lnTo>
                    <a:pt x="1400" y="1400"/>
                  </a:lnTo>
                  <a:close/>
                </a:path>
                <a:path fill="darken" w="48951" h="21600">
                  <a:moveTo>
                    <a:pt x="48951" y="0"/>
                  </a:moveTo>
                  <a:lnTo>
                    <a:pt x="48951" y="21600"/>
                  </a:lnTo>
                  <a:lnTo>
                    <a:pt x="47551" y="20200"/>
                  </a:lnTo>
                  <a:lnTo>
                    <a:pt x="47551" y="1400"/>
                  </a:lnTo>
                  <a:close/>
                </a:path>
                <a:path fill="darkenLess" w="48951" h="21600">
                  <a:moveTo>
                    <a:pt x="489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551" y="20200"/>
                  </a:lnTo>
                  <a:close/>
                </a:path>
                <a:path fill="lighten" w="489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8951" h="21600">
                  <a:moveTo>
                    <a:pt x="17469" y="10800"/>
                  </a:moveTo>
                  <a:lnTo>
                    <a:pt x="31482" y="3794"/>
                  </a:lnTo>
                  <a:lnTo>
                    <a:pt x="31482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>
              <a:hlinkClick r:id="" action="ppaction://hlinkshowjump?jump=nextslide"/>
            </p:cNvPr>
            <p:cNvSpPr/>
            <p:nvPr/>
          </p:nvSpPr>
          <p:spPr>
            <a:xfrm>
              <a:off x="7857360" y="6165720"/>
              <a:ext cx="529200" cy="28764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640"/>
                <a:gd name="textAreaBottom" fmla="*/ 269280 h 287640"/>
              </a:gdLst>
              <a:ahLst/>
              <a:rect l="textAreaLeft" t="textAreaTop" r="textAreaRight" b="textAreaBottom"/>
              <a:pathLst>
                <a:path w="39717" h="21600">
                  <a:moveTo>
                    <a:pt x="0" y="0"/>
                  </a:moveTo>
                  <a:lnTo>
                    <a:pt x="39717" y="0"/>
                  </a:lnTo>
                  <a:lnTo>
                    <a:pt x="39717" y="21600"/>
                  </a:lnTo>
                  <a:lnTo>
                    <a:pt x="0" y="21600"/>
                  </a:lnTo>
                  <a:close/>
                </a:path>
                <a:path fill="lightenLess" w="39717" h="21600">
                  <a:moveTo>
                    <a:pt x="0" y="0"/>
                  </a:moveTo>
                  <a:lnTo>
                    <a:pt x="39717" y="0"/>
                  </a:lnTo>
                  <a:lnTo>
                    <a:pt x="38317" y="1400"/>
                  </a:lnTo>
                  <a:lnTo>
                    <a:pt x="1400" y="1400"/>
                  </a:lnTo>
                  <a:close/>
                </a:path>
                <a:path fill="darken" w="39717" h="21600">
                  <a:moveTo>
                    <a:pt x="39717" y="0"/>
                  </a:moveTo>
                  <a:lnTo>
                    <a:pt x="39717" y="21600"/>
                  </a:lnTo>
                  <a:lnTo>
                    <a:pt x="38317" y="20200"/>
                  </a:lnTo>
                  <a:lnTo>
                    <a:pt x="38317" y="1400"/>
                  </a:lnTo>
                  <a:close/>
                </a:path>
                <a:path fill="darkenLess" w="39717" h="21600">
                  <a:moveTo>
                    <a:pt x="397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17" y="20200"/>
                  </a:lnTo>
                  <a:close/>
                </a:path>
                <a:path fill="lighten" w="397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17" h="21600">
                  <a:moveTo>
                    <a:pt x="12852" y="3794"/>
                  </a:moveTo>
                  <a:lnTo>
                    <a:pt x="26865" y="10800"/>
                  </a:lnTo>
                  <a:lnTo>
                    <a:pt x="12852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1356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Процедура нахождения максимального  элемента  массив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739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UB maxmin (M() AS INTEGER,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procedure maxmin (var m:ma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MAX, IM, JM AS INTEGER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var max,im,jm:integer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DEFINT I-J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var  I,J:intege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Max = N(1, 1): IM = 1: JM = 1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max:= m[1,1]; im:=1; jm:=1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OR I = 1 TO C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OR i:= 1 TO c do beg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OR J = 1 TO C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OR j:= 1 TO c 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IF max &lt;= M(I, J) THEN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IF max &lt;= m[i, j] THEN begi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max = M(I, J): IM = I: JM = J: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max:= m[i, j]; im:= i; jm:= j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'exit do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{exit;};end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NEXT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END SUB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7164360" y="6165720"/>
            <a:ext cx="1222200" cy="287640"/>
            <a:chOff x="7164360" y="6165720"/>
            <a:chExt cx="1222200" cy="287640"/>
          </a:xfrm>
        </p:grpSpPr>
        <p:sp>
          <p:nvSpPr>
            <p:cNvPr id="529" name="">
              <a:hlinkClick r:id="" action="ppaction://hlinkshowjump?jump=previousslide"/>
            </p:cNvPr>
            <p:cNvSpPr/>
            <p:nvPr/>
          </p:nvSpPr>
          <p:spPr>
            <a:xfrm>
              <a:off x="7164360" y="6165720"/>
              <a:ext cx="652320" cy="28764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640"/>
                <a:gd name="textAreaBottom" fmla="*/ 269280 h 287640"/>
              </a:gdLst>
              <a:ahLst/>
              <a:rect l="textAreaLeft" t="textAreaTop" r="textAreaRight" b="textAreaBottom"/>
              <a:pathLst>
                <a:path w="48951" h="21600">
                  <a:moveTo>
                    <a:pt x="0" y="0"/>
                  </a:moveTo>
                  <a:lnTo>
                    <a:pt x="48951" y="0"/>
                  </a:lnTo>
                  <a:lnTo>
                    <a:pt x="48951" y="21600"/>
                  </a:lnTo>
                  <a:lnTo>
                    <a:pt x="0" y="21600"/>
                  </a:lnTo>
                  <a:close/>
                </a:path>
                <a:path fill="lightenLess" w="48951" h="21600">
                  <a:moveTo>
                    <a:pt x="0" y="0"/>
                  </a:moveTo>
                  <a:lnTo>
                    <a:pt x="48951" y="0"/>
                  </a:lnTo>
                  <a:lnTo>
                    <a:pt x="47551" y="1400"/>
                  </a:lnTo>
                  <a:lnTo>
                    <a:pt x="1400" y="1400"/>
                  </a:lnTo>
                  <a:close/>
                </a:path>
                <a:path fill="darken" w="48951" h="21600">
                  <a:moveTo>
                    <a:pt x="48951" y="0"/>
                  </a:moveTo>
                  <a:lnTo>
                    <a:pt x="48951" y="21600"/>
                  </a:lnTo>
                  <a:lnTo>
                    <a:pt x="47551" y="20200"/>
                  </a:lnTo>
                  <a:lnTo>
                    <a:pt x="47551" y="1400"/>
                  </a:lnTo>
                  <a:close/>
                </a:path>
                <a:path fill="darkenLess" w="48951" h="21600">
                  <a:moveTo>
                    <a:pt x="489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551" y="20200"/>
                  </a:lnTo>
                  <a:close/>
                </a:path>
                <a:path fill="lighten" w="489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8951" h="21600">
                  <a:moveTo>
                    <a:pt x="17469" y="10800"/>
                  </a:moveTo>
                  <a:lnTo>
                    <a:pt x="31482" y="3794"/>
                  </a:lnTo>
                  <a:lnTo>
                    <a:pt x="31482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>
              <a:hlinkClick r:id="" action="ppaction://hlinkshowjump?jump=nextslide"/>
            </p:cNvPr>
            <p:cNvSpPr/>
            <p:nvPr/>
          </p:nvSpPr>
          <p:spPr>
            <a:xfrm>
              <a:off x="7857360" y="6165720"/>
              <a:ext cx="529200" cy="28764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640"/>
                <a:gd name="textAreaBottom" fmla="*/ 269280 h 287640"/>
              </a:gdLst>
              <a:ahLst/>
              <a:rect l="textAreaLeft" t="textAreaTop" r="textAreaRight" b="textAreaBottom"/>
              <a:pathLst>
                <a:path w="39717" h="21600">
                  <a:moveTo>
                    <a:pt x="0" y="0"/>
                  </a:moveTo>
                  <a:lnTo>
                    <a:pt x="39717" y="0"/>
                  </a:lnTo>
                  <a:lnTo>
                    <a:pt x="39717" y="21600"/>
                  </a:lnTo>
                  <a:lnTo>
                    <a:pt x="0" y="21600"/>
                  </a:lnTo>
                  <a:close/>
                </a:path>
                <a:path fill="lightenLess" w="39717" h="21600">
                  <a:moveTo>
                    <a:pt x="0" y="0"/>
                  </a:moveTo>
                  <a:lnTo>
                    <a:pt x="39717" y="0"/>
                  </a:lnTo>
                  <a:lnTo>
                    <a:pt x="38317" y="1400"/>
                  </a:lnTo>
                  <a:lnTo>
                    <a:pt x="1400" y="1400"/>
                  </a:lnTo>
                  <a:close/>
                </a:path>
                <a:path fill="darken" w="39717" h="21600">
                  <a:moveTo>
                    <a:pt x="39717" y="0"/>
                  </a:moveTo>
                  <a:lnTo>
                    <a:pt x="39717" y="21600"/>
                  </a:lnTo>
                  <a:lnTo>
                    <a:pt x="38317" y="20200"/>
                  </a:lnTo>
                  <a:lnTo>
                    <a:pt x="38317" y="1400"/>
                  </a:lnTo>
                  <a:close/>
                </a:path>
                <a:path fill="darkenLess" w="39717" h="21600">
                  <a:moveTo>
                    <a:pt x="397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17" y="20200"/>
                  </a:lnTo>
                  <a:close/>
                </a:path>
                <a:path fill="lighten" w="397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17" h="21600">
                  <a:moveTo>
                    <a:pt x="12852" y="3794"/>
                  </a:moveTo>
                  <a:lnTo>
                    <a:pt x="26865" y="10800"/>
                  </a:lnTo>
                  <a:lnTo>
                    <a:pt x="12852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ahoma"/>
              </a:rPr>
              <a:t>Основная программа имеет вид.</a:t>
            </a:r>
            <a:br>
              <a:rPr sz="2200"/>
            </a:br>
            <a:r>
              <a:rPr b="0" lang="en-US" sz="2200" spc="-1" strike="noStrike">
                <a:solidFill>
                  <a:srgbClr val="eaeaea"/>
                </a:solidFill>
                <a:latin typeface="Tahoma"/>
              </a:rPr>
              <a:t>Она становится компактной и легко читаемой</a:t>
            </a:r>
            <a:endParaRPr b="1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CL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clrsc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CALL init(A()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init(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CALL PRIN(A()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PRINT(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CALL odinak(A()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odinak(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PRINT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writeln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CALL otr(A(), IO, JO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otr(a, io, jo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PRINT "1-ый отр = "; A(IO, JO)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writeln('1-ый отр = ', a[io, jo]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IO; JO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io, jo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CALL maxmin(A(), max, IM, JM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maxmin(a, max, im, jm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PRINT "max="; max, im; jm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writeln('max=', max,'  ', im, jm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7451640" y="6021360"/>
            <a:ext cx="1222200" cy="287280"/>
            <a:chOff x="7451640" y="6021360"/>
            <a:chExt cx="1222200" cy="287280"/>
          </a:xfrm>
        </p:grpSpPr>
        <p:sp>
          <p:nvSpPr>
            <p:cNvPr id="534" name="">
              <a:hlinkClick r:id="" action="ppaction://hlinkshowjump?jump=previousslide"/>
            </p:cNvPr>
            <p:cNvSpPr/>
            <p:nvPr/>
          </p:nvSpPr>
          <p:spPr>
            <a:xfrm>
              <a:off x="7451640" y="602136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>
              <a:hlinkClick r:id="" action="ppaction://hlinkshowjump?jump=nextslide"/>
            </p:cNvPr>
            <p:cNvSpPr/>
            <p:nvPr/>
          </p:nvSpPr>
          <p:spPr>
            <a:xfrm>
              <a:off x="8144640" y="602136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826920" y="836640"/>
            <a:ext cx="8066160" cy="44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Меняем местами первый отрицательный и максимальный элемен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 = A(io, jo): A(io, jo) = A(im, jm)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:= a[io, jo]; a[io, jo]:=a[im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A(im, jm) = f jm];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a[im, jm]:= f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PRINT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writel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CALL PRIN(A()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PRINT(a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Readln;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END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e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1547640" y="6165720"/>
            <a:ext cx="1222200" cy="287640"/>
            <a:chOff x="1547640" y="6165720"/>
            <a:chExt cx="1222200" cy="287640"/>
          </a:xfrm>
        </p:grpSpPr>
        <p:sp>
          <p:nvSpPr>
            <p:cNvPr id="538" name="">
              <a:hlinkClick r:id="" action="ppaction://hlinkshowjump?jump=previousslide"/>
            </p:cNvPr>
            <p:cNvSpPr/>
            <p:nvPr/>
          </p:nvSpPr>
          <p:spPr>
            <a:xfrm>
              <a:off x="1547640" y="6165720"/>
              <a:ext cx="652320" cy="28764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640"/>
                <a:gd name="textAreaBottom" fmla="*/ 269280 h 287640"/>
              </a:gdLst>
              <a:ahLst/>
              <a:rect l="textAreaLeft" t="textAreaTop" r="textAreaRight" b="textAreaBottom"/>
              <a:pathLst>
                <a:path w="48951" h="21600">
                  <a:moveTo>
                    <a:pt x="0" y="0"/>
                  </a:moveTo>
                  <a:lnTo>
                    <a:pt x="48951" y="0"/>
                  </a:lnTo>
                  <a:lnTo>
                    <a:pt x="48951" y="21600"/>
                  </a:lnTo>
                  <a:lnTo>
                    <a:pt x="0" y="21600"/>
                  </a:lnTo>
                  <a:close/>
                </a:path>
                <a:path fill="lightenLess" w="48951" h="21600">
                  <a:moveTo>
                    <a:pt x="0" y="0"/>
                  </a:moveTo>
                  <a:lnTo>
                    <a:pt x="48951" y="0"/>
                  </a:lnTo>
                  <a:lnTo>
                    <a:pt x="47551" y="1400"/>
                  </a:lnTo>
                  <a:lnTo>
                    <a:pt x="1400" y="1400"/>
                  </a:lnTo>
                  <a:close/>
                </a:path>
                <a:path fill="darken" w="48951" h="21600">
                  <a:moveTo>
                    <a:pt x="48951" y="0"/>
                  </a:moveTo>
                  <a:lnTo>
                    <a:pt x="48951" y="21600"/>
                  </a:lnTo>
                  <a:lnTo>
                    <a:pt x="47551" y="20200"/>
                  </a:lnTo>
                  <a:lnTo>
                    <a:pt x="47551" y="1400"/>
                  </a:lnTo>
                  <a:close/>
                </a:path>
                <a:path fill="darkenLess" w="48951" h="21600">
                  <a:moveTo>
                    <a:pt x="489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551" y="20200"/>
                  </a:lnTo>
                  <a:close/>
                </a:path>
                <a:path fill="lighten" w="489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8951" h="21600">
                  <a:moveTo>
                    <a:pt x="17469" y="10800"/>
                  </a:moveTo>
                  <a:lnTo>
                    <a:pt x="31482" y="3794"/>
                  </a:lnTo>
                  <a:lnTo>
                    <a:pt x="31482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>
              <a:hlinkClick r:id="" action="ppaction://hlinkshowjump?jump=nextslide"/>
            </p:cNvPr>
            <p:cNvSpPr/>
            <p:nvPr/>
          </p:nvSpPr>
          <p:spPr>
            <a:xfrm>
              <a:off x="2240640" y="6165720"/>
              <a:ext cx="529200" cy="28764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640"/>
                <a:gd name="textAreaBottom" fmla="*/ 269280 h 287640"/>
              </a:gdLst>
              <a:ahLst/>
              <a:rect l="textAreaLeft" t="textAreaTop" r="textAreaRight" b="textAreaBottom"/>
              <a:pathLst>
                <a:path w="39717" h="21600">
                  <a:moveTo>
                    <a:pt x="0" y="0"/>
                  </a:moveTo>
                  <a:lnTo>
                    <a:pt x="39717" y="0"/>
                  </a:lnTo>
                  <a:lnTo>
                    <a:pt x="39717" y="21600"/>
                  </a:lnTo>
                  <a:lnTo>
                    <a:pt x="0" y="21600"/>
                  </a:lnTo>
                  <a:close/>
                </a:path>
                <a:path fill="lightenLess" w="39717" h="21600">
                  <a:moveTo>
                    <a:pt x="0" y="0"/>
                  </a:moveTo>
                  <a:lnTo>
                    <a:pt x="39717" y="0"/>
                  </a:lnTo>
                  <a:lnTo>
                    <a:pt x="38317" y="1400"/>
                  </a:lnTo>
                  <a:lnTo>
                    <a:pt x="1400" y="1400"/>
                  </a:lnTo>
                  <a:close/>
                </a:path>
                <a:path fill="darken" w="39717" h="21600">
                  <a:moveTo>
                    <a:pt x="39717" y="0"/>
                  </a:moveTo>
                  <a:lnTo>
                    <a:pt x="39717" y="21600"/>
                  </a:lnTo>
                  <a:lnTo>
                    <a:pt x="38317" y="20200"/>
                  </a:lnTo>
                  <a:lnTo>
                    <a:pt x="38317" y="1400"/>
                  </a:lnTo>
                  <a:close/>
                </a:path>
                <a:path fill="darkenLess" w="39717" h="21600">
                  <a:moveTo>
                    <a:pt x="397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17" y="20200"/>
                  </a:lnTo>
                  <a:close/>
                </a:path>
                <a:path fill="lighten" w="397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17" h="21600">
                  <a:moveTo>
                    <a:pt x="12852" y="3794"/>
                  </a:moveTo>
                  <a:lnTo>
                    <a:pt x="26865" y="10800"/>
                  </a:lnTo>
                  <a:lnTo>
                    <a:pt x="12852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0" name="">
            <a:hlinkClick r:id="rId1"/>
          </p:cNvPr>
          <p:cNvSpPr/>
          <p:nvPr/>
        </p:nvSpPr>
        <p:spPr>
          <a:xfrm>
            <a:off x="7524720" y="6093000"/>
            <a:ext cx="576360" cy="33480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37168" h="21600">
                <a:moveTo>
                  <a:pt x="0" y="0"/>
                </a:moveTo>
                <a:lnTo>
                  <a:pt x="37168" y="0"/>
                </a:lnTo>
                <a:lnTo>
                  <a:pt x="37168" y="21600"/>
                </a:lnTo>
                <a:lnTo>
                  <a:pt x="0" y="21600"/>
                </a:lnTo>
                <a:close/>
              </a:path>
              <a:path fill="lightenLess" w="37168" h="21600">
                <a:moveTo>
                  <a:pt x="0" y="0"/>
                </a:moveTo>
                <a:lnTo>
                  <a:pt x="37168" y="0"/>
                </a:lnTo>
                <a:lnTo>
                  <a:pt x="35768" y="1400"/>
                </a:lnTo>
                <a:lnTo>
                  <a:pt x="1400" y="1400"/>
                </a:lnTo>
                <a:close/>
              </a:path>
              <a:path fill="darken" w="37168" h="21600">
                <a:moveTo>
                  <a:pt x="37168" y="0"/>
                </a:moveTo>
                <a:lnTo>
                  <a:pt x="37168" y="21600"/>
                </a:lnTo>
                <a:lnTo>
                  <a:pt x="35768" y="20200"/>
                </a:lnTo>
                <a:lnTo>
                  <a:pt x="35768" y="1400"/>
                </a:lnTo>
                <a:close/>
              </a:path>
              <a:path fill="darkenLess" w="37168" h="21600">
                <a:moveTo>
                  <a:pt x="371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68" y="20200"/>
                </a:lnTo>
                <a:close/>
              </a:path>
              <a:path fill="lighten" w="371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>
            <a:hlinkClick r:id="rId2"/>
          </p:cNvPr>
          <p:cNvSpPr/>
          <p:nvPr/>
        </p:nvSpPr>
        <p:spPr>
          <a:xfrm>
            <a:off x="8207280" y="6093000"/>
            <a:ext cx="576360" cy="33480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37168" h="21600">
                <a:moveTo>
                  <a:pt x="0" y="0"/>
                </a:moveTo>
                <a:lnTo>
                  <a:pt x="37168" y="0"/>
                </a:lnTo>
                <a:lnTo>
                  <a:pt x="37168" y="21600"/>
                </a:lnTo>
                <a:lnTo>
                  <a:pt x="0" y="21600"/>
                </a:lnTo>
                <a:close/>
              </a:path>
              <a:path fill="lightenLess" w="37168" h="21600">
                <a:moveTo>
                  <a:pt x="0" y="0"/>
                </a:moveTo>
                <a:lnTo>
                  <a:pt x="37168" y="0"/>
                </a:lnTo>
                <a:lnTo>
                  <a:pt x="35768" y="1400"/>
                </a:lnTo>
                <a:lnTo>
                  <a:pt x="1400" y="1400"/>
                </a:lnTo>
                <a:close/>
              </a:path>
              <a:path fill="darken" w="37168" h="21600">
                <a:moveTo>
                  <a:pt x="37168" y="0"/>
                </a:moveTo>
                <a:lnTo>
                  <a:pt x="37168" y="21600"/>
                </a:lnTo>
                <a:lnTo>
                  <a:pt x="35768" y="20200"/>
                </a:lnTo>
                <a:lnTo>
                  <a:pt x="35768" y="1400"/>
                </a:lnTo>
                <a:close/>
              </a:path>
              <a:path fill="darkenLess" w="37168" h="21600">
                <a:moveTo>
                  <a:pt x="371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68" y="20200"/>
                </a:lnTo>
                <a:close/>
              </a:path>
              <a:path fill="lighten" w="371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Контрольная работ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11280" y="549000"/>
            <a:ext cx="813744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133720" indent="0" algn="ctr"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ариант 1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spcAft>
                <a:spcPts val="374"/>
              </a:spcAft>
              <a:buClr>
                <a:srgbClr val="99cc00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йти сумму цифр числ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spcAft>
                <a:spcPts val="374"/>
              </a:spcAft>
              <a:buClr>
                <a:srgbClr val="99cc00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и чисел из интервала от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до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йти все просты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spcAft>
                <a:spcPts val="374"/>
              </a:spcAft>
              <a:buClr>
                <a:srgbClr val="99cc00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ждый элемент одномерного массива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заполненного натуральными числами, замените наибольшим простым делителем этого элем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"/>
          <p:cNvSpPr/>
          <p:nvPr/>
        </p:nvSpPr>
        <p:spPr>
          <a:xfrm>
            <a:off x="468360" y="3213000"/>
            <a:ext cx="8280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171880" indent="-343080" algn="ctr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ариант 2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Clr>
                <a:srgbClr val="99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тавьте программу, проверяющую, является ли число палиндром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Clr>
                <a:srgbClr val="99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ить, является ли число совершенным, то есть равно ли оно сумме своих делителей, кроме самого себ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Clr>
                <a:srgbClr val="99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йдите наибольший простой делитель среди всех делителей каждого элемента данного натурального массив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7451640" y="6021360"/>
            <a:ext cx="1222200" cy="287280"/>
            <a:chOff x="7451640" y="6021360"/>
            <a:chExt cx="1222200" cy="287280"/>
          </a:xfrm>
        </p:grpSpPr>
        <p:sp>
          <p:nvSpPr>
            <p:cNvPr id="546" name="">
              <a:hlinkClick r:id="" action="ppaction://hlinkshowjump?jump=previousslide"/>
            </p:cNvPr>
            <p:cNvSpPr/>
            <p:nvPr/>
          </p:nvSpPr>
          <p:spPr>
            <a:xfrm>
              <a:off x="7451640" y="602136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>
              <a:hlinkClick r:id="" action="ppaction://hlinkshowjump?jump=nextslide"/>
            </p:cNvPr>
            <p:cNvSpPr/>
            <p:nvPr/>
          </p:nvSpPr>
          <p:spPr>
            <a:xfrm>
              <a:off x="8144640" y="602136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468360" y="333360"/>
            <a:ext cx="8424720" cy="61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ctr">
              <a:lnSpc>
                <a:spcPct val="100000"/>
              </a:lnSpc>
              <a:spcBef>
                <a:spcPts val="224"/>
              </a:spcBef>
              <a:spcAft>
                <a:spcPts val="113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ариант 3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Дано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чисел. Вывести на экран наибольшую из первых цифр заданных чисе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Составить программу разложения данного числа на простые множите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В массиве А(К), заполненным натуральными числами, определите количество элементов, являющихся простыми числами, индексы которых также простые числ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spcBef>
                <a:spcPts val="224"/>
              </a:spcBef>
              <a:spcAft>
                <a:spcPts val="113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ариант 4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меется трехзначное число, цифры которого различны. После зачеркивания в нем средней цифры остается  двузначное число, являющееся делителем данного. Найдите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первых таких трехзначных чисе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Даны координаты трех вершин треугольника. Найти длины всех его стор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В массиве А(К), заполненным натуральными числами, замените значения элементов, индексы у которых простые числа, на значения соответствующих индекс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7451640" y="6381720"/>
            <a:ext cx="1222200" cy="287280"/>
            <a:chOff x="7451640" y="6381720"/>
            <a:chExt cx="1222200" cy="287280"/>
          </a:xfrm>
        </p:grpSpPr>
        <p:sp>
          <p:nvSpPr>
            <p:cNvPr id="550" name="">
              <a:hlinkClick r:id="" action="ppaction://hlinkshowjump?jump=previousslide"/>
            </p:cNvPr>
            <p:cNvSpPr/>
            <p:nvPr/>
          </p:nvSpPr>
          <p:spPr>
            <a:xfrm>
              <a:off x="745164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>
              <a:hlinkClick r:id="" action="ppaction://hlinkshowjump?jump=nextslide"/>
            </p:cNvPr>
            <p:cNvSpPr/>
            <p:nvPr/>
          </p:nvSpPr>
          <p:spPr>
            <a:xfrm>
              <a:off x="814464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Ответы к контрольной работе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0920" y="691920"/>
            <a:ext cx="8218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ст: 12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вет 3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ст: 347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вет 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Тест: А=2  В=10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вет 3,5,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Тест: К=5        6, 7, 10, 32, 5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вет:  3, 7,  5,  2,  5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ариант 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1. Тес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12721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вет:  палиндро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ст: 127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вет:  не палиндр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Тест: 6, 28, 496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вет:  совершен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ст: 7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вет:  не совершен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Тест: К=5    34, 64, 295, 24, 100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вет:  19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ст: К=3    6, 7, 10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вет:  7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ариант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Тест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=3    25,  730, 1995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вет:  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Тест: 6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вет:  1 2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ст: 36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вет:  2 2 3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 Тест: К=7   5, 6, 7, 10, 1, 3, 2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вет:  3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ариант 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Тест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=3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вет:  105, 108, 11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Тест: (0, 0),  (0,4),  (3,0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вет:  3, 4, 5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Тест: К=7   5, 6, 7, 10, 1, 3, 2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вет:  1, 6, 3,10, 5, 3, 7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7813800" y="6453360"/>
            <a:ext cx="1222200" cy="287280"/>
            <a:chOff x="7813800" y="6453360"/>
            <a:chExt cx="1222200" cy="287280"/>
          </a:xfrm>
        </p:grpSpPr>
        <p:sp>
          <p:nvSpPr>
            <p:cNvPr id="555" name="">
              <a:hlinkClick r:id="" action="ppaction://hlinkshowjump?jump=previousslide"/>
            </p:cNvPr>
            <p:cNvSpPr/>
            <p:nvPr/>
          </p:nvSpPr>
          <p:spPr>
            <a:xfrm>
              <a:off x="7813800" y="645336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>
              <a:hlinkClick r:id="" action="ppaction://hlinkshowjump?jump=nextslide"/>
            </p:cNvPr>
            <p:cNvSpPr/>
            <p:nvPr/>
          </p:nvSpPr>
          <p:spPr>
            <a:xfrm>
              <a:off x="8506800" y="645336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Задачи для самостоятельного решения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71280" y="907920"/>
            <a:ext cx="77151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133720" indent="0" algn="ctr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ариант 1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уя процедуру, вычислить значение выражения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y=a1x4+a2x3+a3x2+a4x+a5, где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эффициенты a1, а2, а3, а4,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а5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х — это числа, вводимые с клавиатуры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ить, является ли число просты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ны действительные числа S и T. Получить   F(t,  -2*s,  1.17) + F(2.2,  t,  t-s),   гд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F(A,B,C) = (2*A – B - SIN(C))/ (5+ABS(C)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7451640" y="6021360"/>
            <a:ext cx="1222200" cy="287280"/>
            <a:chOff x="7451640" y="6021360"/>
            <a:chExt cx="1222200" cy="287280"/>
          </a:xfrm>
        </p:grpSpPr>
        <p:sp>
          <p:nvSpPr>
            <p:cNvPr id="560" name="">
              <a:hlinkClick r:id="" action="ppaction://hlinkshowjump?jump=previousslide"/>
            </p:cNvPr>
            <p:cNvSpPr/>
            <p:nvPr/>
          </p:nvSpPr>
          <p:spPr>
            <a:xfrm>
              <a:off x="7451640" y="602136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>
              <a:hlinkClick r:id="" action="ppaction://hlinkshowjump?jump=nextslide"/>
            </p:cNvPr>
            <p:cNvSpPr/>
            <p:nvPr/>
          </p:nvSpPr>
          <p:spPr>
            <a:xfrm>
              <a:off x="8144640" y="602136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971640" y="4221000"/>
            <a:ext cx="792144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ариант 2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йти сумму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ифр чис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и чисел из интервала от А до В найти все прост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ны действительные числа S и T. Получить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G(1.2, s)  +  G(t,  s)  +  G(2*s-1,  s*t), где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 G(A,B) = (A2 + b2)/(A2 + 2*A*b + B2 + 3*B2 +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7451640" y="6021360"/>
            <a:ext cx="1222200" cy="287280"/>
            <a:chOff x="7451640" y="6021360"/>
            <a:chExt cx="1222200" cy="287280"/>
          </a:xfrm>
        </p:grpSpPr>
        <p:sp>
          <p:nvSpPr>
            <p:cNvPr id="564" name="">
              <a:hlinkClick r:id="" action="ppaction://hlinkshowjump?jump=previousslide"/>
            </p:cNvPr>
            <p:cNvSpPr/>
            <p:nvPr/>
          </p:nvSpPr>
          <p:spPr>
            <a:xfrm>
              <a:off x="7451640" y="602136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>
              <a:hlinkClick r:id="" action="ppaction://hlinkshowjump?jump=nextslide"/>
            </p:cNvPr>
            <p:cNvSpPr/>
            <p:nvPr/>
          </p:nvSpPr>
          <p:spPr>
            <a:xfrm>
              <a:off x="8144640" y="602136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971640" y="549360"/>
            <a:ext cx="7921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ариант 3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Найти первую цифру чис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Составьте программу, проверяющую, является ли число палиндромом (например, число 12721 — палиндром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Каждый элемент одномерного массива, заполненного натуральными числами, замените наибольшим простым делителем этого элемен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ариант 4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ить, является ли число совершен­ным, то есть равно ли оно сумме своих делителей, кроме самого себя (используя преобразованную функцию из предыдущего пример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тавить программу разложения данного числа на простые множите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ны действительные числа А, В, С. Получить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max(a, a+b) + max(a, b+c)/ (1 + max(a + b*c, 1.1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00000" y="115560"/>
            <a:ext cx="794088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цедуры предназначены для выполнения некоторой последовательности действ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юбая процедура начинается с заголовка, обязательной частью, (в отличие от заголовка программы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головок состоит из служебного слова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Procedure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ub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языке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Basic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, за которым следует имя процедуры, а в круглых скобках — список формальных параметров. После заголовка могут идти те же разделы, что и в программе. Таким образом, общий вид будет следующим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SUB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&lt;имя&gt;[(формальные параметры)]    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Procedure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&lt;имя&gt;[(формальные   параметры)]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Список  формальных параметров  может отсутствова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ъявление переменных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описательная ча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ло процедуры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тело процеду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XIT SUB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досрочный выход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IT SUB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ND SUB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524720" y="6381720"/>
            <a:ext cx="1222200" cy="287280"/>
            <a:chOff x="7524720" y="6381720"/>
            <a:chExt cx="1222200" cy="287280"/>
          </a:xfrm>
        </p:grpSpPr>
        <p:sp>
          <p:nvSpPr>
            <p:cNvPr id="145" name="">
              <a:hlinkClick r:id="" action="ppaction://hlinkshowjump?jump=previousslide"/>
            </p:cNvPr>
            <p:cNvSpPr/>
            <p:nvPr/>
          </p:nvSpPr>
          <p:spPr>
            <a:xfrm>
              <a:off x="7524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>
              <a:hlinkClick r:id="" action="ppaction://hlinkshowjump?jump=nextslide"/>
            </p:cNvPr>
            <p:cNvSpPr/>
            <p:nvPr/>
          </p:nvSpPr>
          <p:spPr>
            <a:xfrm>
              <a:off x="8217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26560" y="260280"/>
            <a:ext cx="83170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4" marL="20160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ариант 5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тавить программу, вычисляющую наименьшее общее кратное четырех заданных с кла­виатуры чисе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ить, является ли число совершенным, то есть равно ли оно сумме своих делителей, кроме самого себ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ны действительные числа S,T.  Получить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(s,t) +  max(H(s-t, s*t)2,  H(s-t, s+t)4) + H(1,1),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H(A,B) = A/(1+A2) + B/(1+B2)-(A2-B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ариант 6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тавить программу нахождения наибольшего общего делителя нескольких чисел, используя функцию нахождения НОД двух чисе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олько натуральных чисел от 20 до 120 не взаимно простых с 30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ны натуральное число N.  Среди чисел 1,2, ..., N найти все, которые можно представить в виде суммы квадратов двух натуральных чисел.  (Определить процедуру, позволяющую распознавать полные квадраты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7740720" y="6453360"/>
            <a:ext cx="1222200" cy="287280"/>
            <a:chOff x="7740720" y="6453360"/>
            <a:chExt cx="1222200" cy="287280"/>
          </a:xfrm>
        </p:grpSpPr>
        <p:sp>
          <p:nvSpPr>
            <p:cNvPr id="570" name="">
              <a:hlinkClick r:id="" action="ppaction://hlinkshowjump?jump=previousslide"/>
            </p:cNvPr>
            <p:cNvSpPr/>
            <p:nvPr/>
          </p:nvSpPr>
          <p:spPr>
            <a:xfrm>
              <a:off x="7740720" y="645336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>
              <a:hlinkClick r:id="" action="ppaction://hlinkshowjump?jump=nextslide"/>
            </p:cNvPr>
            <p:cNvSpPr/>
            <p:nvPr/>
          </p:nvSpPr>
          <p:spPr>
            <a:xfrm>
              <a:off x="8433720" y="645336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"/>
          <p:cNvGrpSpPr/>
          <p:nvPr/>
        </p:nvGrpSpPr>
        <p:grpSpPr>
          <a:xfrm>
            <a:off x="7740720" y="6381720"/>
            <a:ext cx="1222200" cy="287280"/>
            <a:chOff x="7740720" y="6381720"/>
            <a:chExt cx="1222200" cy="287280"/>
          </a:xfrm>
        </p:grpSpPr>
        <p:sp>
          <p:nvSpPr>
            <p:cNvPr id="573" name="">
              <a:hlinkClick r:id="" action="ppaction://hlinkshowjump?jump=previousslide"/>
            </p:cNvPr>
            <p:cNvSpPr/>
            <p:nvPr/>
          </p:nvSpPr>
          <p:spPr>
            <a:xfrm>
              <a:off x="7740720" y="638172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>
              <a:hlinkClick r:id="" action="ppaction://hlinkshowjump?jump=nextslide"/>
            </p:cNvPr>
            <p:cNvSpPr/>
            <p:nvPr/>
          </p:nvSpPr>
          <p:spPr>
            <a:xfrm>
              <a:off x="8433720" y="638172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324000" y="260280"/>
            <a:ext cx="86407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1718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ариант 7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Составить программу, вычисляющую наи­меньшее общее кратное четырех заданных с клавиатуры чисе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Найти натуральное число, произведение всех делителей которого равно 583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 Даны действительные числа X(1),Y (1),  ..., X(10),Y(10). Найти периметр 10-угольника, вершины которого имеют соответствующие координаты. (Определить процедуру  нахождения расстояния между двумя точками, заданными своими координат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5280" y="3213000"/>
            <a:ext cx="8532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ариант 8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но четыре числа. Вывести на экран наибольшую из первых цифр заданных чисел. Напри­мер, если а=25, b=730, c=127, d=1995, то должна напечататься цифра 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рьте утверждение, что если  2(N-1)-1  число простое, то число вида  2N*{2(N+1)-1}  является совершенным. (т. Эйлер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ны натуральное  число  N,  действительные  числа  X(1),Y(1), ...,X(N),Y(N).  Найти площадь многоугольника, вершины которого при некотором обходе имеют координаты   X(1,)Y(1), ... ,X(N),Y(N). (Определить процедуру вычисления площади треугольника по координатам его вершин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ариант 9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Даны три натуральных числа. Найдите НОД наибольшего и наименьшего из этих чисе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Найти натуральные числа с 2 до 1000 такие, что числа М,М+10, М+14 все были просты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Дано четное число N.  Проверить для этого числа гипотезу Гольдбаха. Эта гипотеза (по сегодняшний день не опровергнутая и полностью недоказанная) заключается в том,  что каждое четное N&gt;=2, представляется в виде суммы двух простых чисел.  (Определить процедуру распознавания простых чисел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ариант 10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Имеется трехзначное число, цифры которого различны. После зачеркивания в нем средней цифры остается двузначное число, являющееся делителем данного. Найдите все такие трехзначные числ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Найти все простые натуральные числа от 2 до 1000, чтобы числа 2*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1 также были просты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Дано натуральное число N. Выяснить имеются ли среди чисел N, N+1, ...2*N близнецы, т.е. простые числа, разность между которыми равна двум. (Определить процедуру распознавания простых чисел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7451640" y="6094440"/>
            <a:ext cx="1222200" cy="287280"/>
            <a:chOff x="7451640" y="6094440"/>
            <a:chExt cx="1222200" cy="287280"/>
          </a:xfrm>
        </p:grpSpPr>
        <p:sp>
          <p:nvSpPr>
            <p:cNvPr id="579" name="">
              <a:hlinkClick r:id="" action="ppaction://hlinkshowjump?jump=previousslide"/>
            </p:cNvPr>
            <p:cNvSpPr/>
            <p:nvPr/>
          </p:nvSpPr>
          <p:spPr>
            <a:xfrm>
              <a:off x="7451640" y="609444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>
              <a:hlinkClick r:id="" action="ppaction://hlinkshowjump?jump=nextslide"/>
            </p:cNvPr>
            <p:cNvSpPr/>
            <p:nvPr/>
          </p:nvSpPr>
          <p:spPr>
            <a:xfrm>
              <a:off x="8144640" y="609444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ариант 11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йдите все трехзначные числа, кратные семи, у которых сумма цифр тоже кратна семи, Если найденное число оканчивается нечетной цифрой, то определите, будет ли оно простым числ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рьте утверждение: если числа Р и 8*Р</a:t>
            </a:r>
            <a:r>
              <a:rPr b="0" lang="ru-RU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+1 простые, то число 8*P</a:t>
            </a:r>
            <a:r>
              <a:rPr b="0" lang="ru-RU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+2*P+1 также простое. (2 &lt;= Р&lt;=100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данного простого числа Р найдите следующее простое число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7451640" y="6021360"/>
            <a:ext cx="1222200" cy="287280"/>
            <a:chOff x="7451640" y="6021360"/>
            <a:chExt cx="1222200" cy="287280"/>
          </a:xfrm>
        </p:grpSpPr>
        <p:sp>
          <p:nvSpPr>
            <p:cNvPr id="583" name="">
              <a:hlinkClick r:id="" action="ppaction://hlinkshowjump?jump=previousslide"/>
            </p:cNvPr>
            <p:cNvSpPr/>
            <p:nvPr/>
          </p:nvSpPr>
          <p:spPr>
            <a:xfrm>
              <a:off x="7451640" y="6021360"/>
              <a:ext cx="652320" cy="287280"/>
            </a:xfrm>
            <a:custGeom>
              <a:avLst/>
              <a:gdLst>
                <a:gd name="textAreaLeft" fmla="*/ 18360 w 652320"/>
                <a:gd name="textAreaRight" fmla="*/ 633960 w 65232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9012" h="21600">
                  <a:moveTo>
                    <a:pt x="0" y="0"/>
                  </a:moveTo>
                  <a:lnTo>
                    <a:pt x="49012" y="0"/>
                  </a:lnTo>
                  <a:lnTo>
                    <a:pt x="49012" y="21600"/>
                  </a:lnTo>
                  <a:lnTo>
                    <a:pt x="0" y="21600"/>
                  </a:lnTo>
                  <a:close/>
                </a:path>
                <a:path fill="lightenLess" w="49012" h="21600">
                  <a:moveTo>
                    <a:pt x="0" y="0"/>
                  </a:moveTo>
                  <a:lnTo>
                    <a:pt x="49012" y="0"/>
                  </a:lnTo>
                  <a:lnTo>
                    <a:pt x="47612" y="1400"/>
                  </a:lnTo>
                  <a:lnTo>
                    <a:pt x="1400" y="1400"/>
                  </a:lnTo>
                  <a:close/>
                </a:path>
                <a:path fill="darken" w="49012" h="21600">
                  <a:moveTo>
                    <a:pt x="49012" y="0"/>
                  </a:moveTo>
                  <a:lnTo>
                    <a:pt x="49012" y="21600"/>
                  </a:lnTo>
                  <a:lnTo>
                    <a:pt x="47612" y="20200"/>
                  </a:lnTo>
                  <a:lnTo>
                    <a:pt x="47612" y="1400"/>
                  </a:lnTo>
                  <a:close/>
                </a:path>
                <a:path fill="darkenLess" w="49012" h="21600">
                  <a:moveTo>
                    <a:pt x="490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612" y="20200"/>
                  </a:lnTo>
                  <a:close/>
                </a:path>
                <a:path fill="lighten" w="490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9012" h="21600">
                  <a:moveTo>
                    <a:pt x="17500" y="10800"/>
                  </a:moveTo>
                  <a:lnTo>
                    <a:pt x="31513" y="3794"/>
                  </a:lnTo>
                  <a:lnTo>
                    <a:pt x="31513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>
              <a:hlinkClick r:id="" action="ppaction://hlinkshowjump?jump=nextslide"/>
            </p:cNvPr>
            <p:cNvSpPr/>
            <p:nvPr/>
          </p:nvSpPr>
          <p:spPr>
            <a:xfrm>
              <a:off x="8144640" y="6021360"/>
              <a:ext cx="529200" cy="287280"/>
            </a:xfrm>
            <a:custGeom>
              <a:avLst/>
              <a:gdLst>
                <a:gd name="textAreaLeft" fmla="*/ 18360 w 529200"/>
                <a:gd name="textAreaRight" fmla="*/ 510840 w 529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9767" h="21600">
                  <a:moveTo>
                    <a:pt x="0" y="0"/>
                  </a:moveTo>
                  <a:lnTo>
                    <a:pt x="39767" y="0"/>
                  </a:lnTo>
                  <a:lnTo>
                    <a:pt x="39767" y="21600"/>
                  </a:lnTo>
                  <a:lnTo>
                    <a:pt x="0" y="21600"/>
                  </a:lnTo>
                  <a:close/>
                </a:path>
                <a:path fill="lightenLess" w="39767" h="21600">
                  <a:moveTo>
                    <a:pt x="0" y="0"/>
                  </a:moveTo>
                  <a:lnTo>
                    <a:pt x="39767" y="0"/>
                  </a:lnTo>
                  <a:lnTo>
                    <a:pt x="38367" y="1400"/>
                  </a:lnTo>
                  <a:lnTo>
                    <a:pt x="1400" y="1400"/>
                  </a:lnTo>
                  <a:close/>
                </a:path>
                <a:path fill="darken" w="39767" h="21600">
                  <a:moveTo>
                    <a:pt x="39767" y="0"/>
                  </a:moveTo>
                  <a:lnTo>
                    <a:pt x="39767" y="21600"/>
                  </a:lnTo>
                  <a:lnTo>
                    <a:pt x="38367" y="20200"/>
                  </a:lnTo>
                  <a:lnTo>
                    <a:pt x="38367" y="1400"/>
                  </a:lnTo>
                  <a:close/>
                </a:path>
                <a:path fill="darkenLess" w="39767" h="21600">
                  <a:moveTo>
                    <a:pt x="3976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367" y="20200"/>
                  </a:lnTo>
                  <a:close/>
                </a:path>
                <a:path fill="lighten" w="3976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767" h="21600">
                  <a:moveTo>
                    <a:pt x="12877" y="3794"/>
                  </a:moveTo>
                  <a:lnTo>
                    <a:pt x="26890" y="10800"/>
                  </a:lnTo>
                  <a:lnTo>
                    <a:pt x="12877" y="1780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755640" y="3645000"/>
            <a:ext cx="8137440" cy="29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ариант 12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ны координаты трех вершин треугольника. Найти длины всех его стор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йти число натуральных чисел меньших 100 и взаимно простых с 3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массиве А(К), заполненным натуральными числами, определите количество элементов, являющихся простыми числами, индексы которых также простые числ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611280" y="500040"/>
            <a:ext cx="7921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ариант 13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Составьте программу, проверяющую, является ли число палиндромом    (например,    число 12721 — палиндром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У числа 600 найдите сумму делителей и их чис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йдите наибольший простой делитель среди всех делителей каждого элемента данного натурального массива. (34, 64, 225, 24, 100 НД=19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ариант 14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олько натуральных чисел меньших 1000 не делится ни на 5, ни на 7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йти натуральное число, зная, что оно имеет два простых делителя, а всего 6 делителей, сумма которых равна 28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ждый элемент одномерного массива, заполненного натуральными числами, замените наибольшим простым делителем этого элемен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2T08:50:00Z</dcterms:created>
  <dc:creator>Чернов А.Ф.</dc:creator>
  <dc:description/>
  <dc:language>en-US</dc:language>
  <cp:lastModifiedBy>HOME</cp:lastModifiedBy>
  <dcterms:modified xsi:type="dcterms:W3CDTF">2006-09-28T06:53:26Z</dcterms:modified>
  <cp:revision>215</cp:revision>
  <dc:subject/>
  <dc:title>Процедуры и функции.</dc:title>
</cp:coreProperties>
</file>