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BAA5-2BA3-45E1-A65F-803F9C843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ECEF-8454-4D5D-90E4-0001D12DC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B370-EDD0-4EFD-ABC8-B187B9988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5C40-9E3C-4CA1-B355-6E733D61E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3EEC8-16DB-4957-AFC7-61CCE43DC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73E79-88E6-4768-9FEB-DAB3A1737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08B56-F22A-4483-A034-D2E6E4707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E784E-591D-4BBA-B534-285B3D328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FA521-365F-4069-8787-48BC6522B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9D5C3-66AC-4133-8928-A6CBC9433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C8E91-C70B-46F5-BB1E-8593F22E8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B7D6-93E2-476C-B12C-C1801A5B8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97EBD-0F30-4EAB-9DA3-BADD8964E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8AEF4-E985-4914-981D-2570809C0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DF0A4-DCF4-4247-A812-E6E42B0BC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A1697-EA31-4E10-BB13-C0DBFD2C2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1AB5F-49B1-4970-93A6-6366403BD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D78D-4E02-4050-81C6-17E0D4760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3257-4830-4922-B74C-188150AEF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9279-F13D-4280-BEA3-4C03EB76A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DDCD-8C9F-4294-8BDE-6113601F7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DDC5-59FA-4239-9B58-87534DCCA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6469-4669-4B83-AA3E-D628F12C7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C97C-7B9C-498A-9B75-07C3F134F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76993-FB19-4960-84BB-1B57D64E28D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46C06-C4D0-496E-85FF-D11560759C1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Сословие Воюющих</a:t>
            </a:r>
            <a:br>
              <a:rPr sz="3800"/>
            </a:b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(Феодалы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адники-рыца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9" descr=""/>
          <p:cNvPicPr/>
          <p:nvPr/>
        </p:nvPicPr>
        <p:blipFill>
          <a:blip r:embed="rId1"/>
          <a:stretch/>
        </p:blipFill>
        <p:spPr>
          <a:xfrm>
            <a:off x="1908000" y="2276640"/>
            <a:ext cx="5096160" cy="381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Рыцарское Воспитани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7 лет – паж во дворе знатного феод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15 лет – оруженосец рыцар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1 год – посвящение в рыца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4284720" y="2276640"/>
            <a:ext cx="936720" cy="93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5"/>
          <p:cNvSpPr/>
          <p:nvPr/>
        </p:nvSpPr>
        <p:spPr>
          <a:xfrm>
            <a:off x="4284720" y="4149720"/>
            <a:ext cx="934920" cy="1008000"/>
          </a:xfrm>
          <a:prstGeom prst="downArrow">
            <a:avLst>
              <a:gd name="adj1" fmla="val 50000"/>
              <a:gd name="adj2" fmla="val 26954"/>
            </a:avLst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Рыцарское Вооружени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Щи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Ме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Длинное копь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7"/>
          <p:cNvSpPr/>
          <p:nvPr/>
        </p:nvSpPr>
        <p:spPr>
          <a:xfrm>
            <a:off x="7740720" y="566100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5574" y="3794"/>
                </a:moveTo>
                <a:lnTo>
                  <a:pt x="19587" y="10800"/>
                </a:lnTo>
                <a:lnTo>
                  <a:pt x="557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Длинное Копьё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1258920" y="1557360"/>
            <a:ext cx="7058160" cy="446400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5"/>
          <p:cNvSpPr/>
          <p:nvPr/>
        </p:nvSpPr>
        <p:spPr>
          <a:xfrm>
            <a:off x="8101080" y="6165720"/>
            <a:ext cx="358560" cy="43200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432000"/>
              <a:gd name="textAreaBottom" fmla="*/ 408960 h 432000"/>
            </a:gdLst>
            <a:ahLst/>
            <a:rect l="textAreaLeft" t="textAreaTop" r="textAreaRight" b="textAreaBottom"/>
            <a:pathLst>
              <a:path w="21600" h="26020">
                <a:moveTo>
                  <a:pt x="0" y="0"/>
                </a:moveTo>
                <a:lnTo>
                  <a:pt x="21600" y="0"/>
                </a:lnTo>
                <a:lnTo>
                  <a:pt x="21600" y="26020"/>
                </a:lnTo>
                <a:lnTo>
                  <a:pt x="0" y="26020"/>
                </a:lnTo>
                <a:close/>
              </a:path>
              <a:path fill="lightenLess" w="21600" h="260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020">
                <a:moveTo>
                  <a:pt x="21600" y="0"/>
                </a:moveTo>
                <a:lnTo>
                  <a:pt x="21600" y="26020"/>
                </a:lnTo>
                <a:lnTo>
                  <a:pt x="20200" y="24620"/>
                </a:lnTo>
                <a:lnTo>
                  <a:pt x="20200" y="1400"/>
                </a:lnTo>
                <a:close/>
              </a:path>
              <a:path fill="darkenLess" w="21600" h="26020">
                <a:moveTo>
                  <a:pt x="21600" y="26020"/>
                </a:moveTo>
                <a:lnTo>
                  <a:pt x="0" y="26020"/>
                </a:lnTo>
                <a:lnTo>
                  <a:pt x="1400" y="24620"/>
                </a:lnTo>
                <a:lnTo>
                  <a:pt x="20200" y="24620"/>
                </a:lnTo>
                <a:close/>
              </a:path>
              <a:path fill="lighten" w="21600" h="26020">
                <a:moveTo>
                  <a:pt x="0" y="260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620"/>
                </a:lnTo>
                <a:close/>
              </a:path>
              <a:path fill="darken" w="21600" h="26020">
                <a:moveTo>
                  <a:pt x="3794" y="6003"/>
                </a:moveTo>
                <a:lnTo>
                  <a:pt x="17806" y="13010"/>
                </a:lnTo>
                <a:lnTo>
                  <a:pt x="3794" y="2001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Щит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1692360" y="1773360"/>
            <a:ext cx="5761080" cy="42861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6"/>
          <p:cNvSpPr/>
          <p:nvPr/>
        </p:nvSpPr>
        <p:spPr>
          <a:xfrm>
            <a:off x="8244000" y="5877000"/>
            <a:ext cx="360360" cy="43164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31640"/>
              <a:gd name="textAreaBottom" fmla="*/ 408600 h 431640"/>
            </a:gdLst>
            <a:ahLst/>
            <a:rect l="textAreaLeft" t="textAreaTop" r="textAreaRight" b="textAreaBottom"/>
            <a:pathLst>
              <a:path w="21600" h="25868">
                <a:moveTo>
                  <a:pt x="0" y="0"/>
                </a:moveTo>
                <a:lnTo>
                  <a:pt x="21600" y="0"/>
                </a:lnTo>
                <a:lnTo>
                  <a:pt x="21600" y="25868"/>
                </a:lnTo>
                <a:lnTo>
                  <a:pt x="0" y="25868"/>
                </a:lnTo>
                <a:close/>
              </a:path>
              <a:path fill="lightenLess" w="21600" h="2586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868">
                <a:moveTo>
                  <a:pt x="21600" y="0"/>
                </a:moveTo>
                <a:lnTo>
                  <a:pt x="21600" y="25868"/>
                </a:lnTo>
                <a:lnTo>
                  <a:pt x="20200" y="24468"/>
                </a:lnTo>
                <a:lnTo>
                  <a:pt x="20200" y="1400"/>
                </a:lnTo>
                <a:close/>
              </a:path>
              <a:path fill="darkenLess" w="21600" h="25868">
                <a:moveTo>
                  <a:pt x="21600" y="25868"/>
                </a:moveTo>
                <a:lnTo>
                  <a:pt x="0" y="25868"/>
                </a:lnTo>
                <a:lnTo>
                  <a:pt x="1400" y="24468"/>
                </a:lnTo>
                <a:lnTo>
                  <a:pt x="20200" y="24468"/>
                </a:lnTo>
                <a:close/>
              </a:path>
              <a:path fill="lighten" w="21600" h="25868">
                <a:moveTo>
                  <a:pt x="0" y="25868"/>
                </a:moveTo>
                <a:lnTo>
                  <a:pt x="0" y="0"/>
                </a:lnTo>
                <a:lnTo>
                  <a:pt x="1400" y="1400"/>
                </a:lnTo>
                <a:lnTo>
                  <a:pt x="1400" y="24468"/>
                </a:lnTo>
                <a:close/>
              </a:path>
              <a:path fill="darken" w="21600" h="25868">
                <a:moveTo>
                  <a:pt x="3794" y="5928"/>
                </a:moveTo>
                <a:lnTo>
                  <a:pt x="17806" y="12934"/>
                </a:lnTo>
                <a:lnTo>
                  <a:pt x="3794" y="19941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Меч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2987640" y="1628640"/>
            <a:ext cx="3889440" cy="489600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5"/>
          <p:cNvSpPr/>
          <p:nvPr/>
        </p:nvSpPr>
        <p:spPr>
          <a:xfrm>
            <a:off x="7956720" y="6165720"/>
            <a:ext cx="718920" cy="35892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43243" h="21600">
                <a:moveTo>
                  <a:pt x="0" y="0"/>
                </a:moveTo>
                <a:lnTo>
                  <a:pt x="43243" y="0"/>
                </a:lnTo>
                <a:lnTo>
                  <a:pt x="43243" y="21600"/>
                </a:lnTo>
                <a:lnTo>
                  <a:pt x="0" y="21600"/>
                </a:lnTo>
                <a:close/>
              </a:path>
              <a:path fill="lightenLess" w="43243" h="21600">
                <a:moveTo>
                  <a:pt x="0" y="0"/>
                </a:moveTo>
                <a:lnTo>
                  <a:pt x="43243" y="0"/>
                </a:lnTo>
                <a:lnTo>
                  <a:pt x="41843" y="1400"/>
                </a:lnTo>
                <a:lnTo>
                  <a:pt x="1400" y="1400"/>
                </a:lnTo>
                <a:close/>
              </a:path>
              <a:path fill="darken" w="43243" h="21600">
                <a:moveTo>
                  <a:pt x="43243" y="0"/>
                </a:moveTo>
                <a:lnTo>
                  <a:pt x="43243" y="21600"/>
                </a:lnTo>
                <a:lnTo>
                  <a:pt x="41843" y="20200"/>
                </a:lnTo>
                <a:lnTo>
                  <a:pt x="41843" y="1400"/>
                </a:lnTo>
                <a:close/>
              </a:path>
              <a:path fill="darkenLess" w="43243" h="21600">
                <a:moveTo>
                  <a:pt x="43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43" y="20200"/>
                </a:lnTo>
                <a:close/>
              </a:path>
              <a:path fill="lighten" w="43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43" h="21600">
                <a:moveTo>
                  <a:pt x="14615" y="3794"/>
                </a:moveTo>
                <a:lnTo>
                  <a:pt x="28628" y="10800"/>
                </a:lnTo>
                <a:lnTo>
                  <a:pt x="14615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Рыцарские Доспехи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льчу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л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бра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5292720" y="1557360"/>
            <a:ext cx="2876400" cy="4572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"/>
          <p:cNvPicPr/>
          <p:nvPr/>
        </p:nvPicPr>
        <p:blipFill>
          <a:blip r:embed="rId2"/>
          <a:stretch/>
        </p:blipFill>
        <p:spPr>
          <a:xfrm>
            <a:off x="3132000" y="1557360"/>
            <a:ext cx="2229120" cy="4572000"/>
          </a:xfrm>
          <a:prstGeom prst="rect">
            <a:avLst/>
          </a:prstGeom>
          <a:ln w="0">
            <a:noFill/>
          </a:ln>
        </p:spPr>
      </p:pic>
      <p:sp>
        <p:nvSpPr>
          <p:cNvPr id="120" name="Line 7"/>
          <p:cNvSpPr/>
          <p:nvPr/>
        </p:nvSpPr>
        <p:spPr>
          <a:xfrm flipH="1">
            <a:off x="7235640" y="1989000"/>
            <a:ext cx="1368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8585640" y="1792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9"/>
          <p:cNvSpPr/>
          <p:nvPr/>
        </p:nvSpPr>
        <p:spPr>
          <a:xfrm flipV="1">
            <a:off x="2124000" y="4149360"/>
            <a:ext cx="165600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1818000" y="4960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1"/>
          <p:cNvSpPr/>
          <p:nvPr/>
        </p:nvSpPr>
        <p:spPr>
          <a:xfrm flipH="1" flipV="1">
            <a:off x="7164000" y="3716280"/>
            <a:ext cx="165564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2"/>
          <p:cNvSpPr/>
          <p:nvPr/>
        </p:nvSpPr>
        <p:spPr>
          <a:xfrm>
            <a:off x="8874360" y="380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3"/>
          <p:cNvSpPr/>
          <p:nvPr/>
        </p:nvSpPr>
        <p:spPr>
          <a:xfrm flipH="1" flipV="1">
            <a:off x="7308720" y="2565360"/>
            <a:ext cx="1511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4"/>
          <p:cNvSpPr/>
          <p:nvPr/>
        </p:nvSpPr>
        <p:spPr>
          <a:xfrm>
            <a:off x="8803080" y="2584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Феодальная лестниц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3203640" y="2133720"/>
            <a:ext cx="2232000" cy="718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РО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2484360" y="2852640"/>
            <a:ext cx="3743280" cy="863640"/>
          </a:xfrm>
          <a:prstGeom prst="rect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ГЕРЦОГИ и ГРАФЫ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1979640" y="3716280"/>
            <a:ext cx="4896000" cy="934920"/>
          </a:xfrm>
          <a:prstGeom prst="rect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АРО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1476360" y="4653000"/>
            <a:ext cx="5977080" cy="9367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ЫЦАР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7T12:42:52Z</dcterms:created>
  <dc:creator>Installer</dc:creator>
  <dc:description/>
  <dc:language>en-US</dc:language>
  <cp:lastModifiedBy>Элла</cp:lastModifiedBy>
  <dcterms:modified xsi:type="dcterms:W3CDTF">2013-02-26T18:02:42Z</dcterms:modified>
  <cp:revision>9</cp:revision>
  <dc:subject/>
  <dc:title>Сословия Воюющих</dc:title>
</cp:coreProperties>
</file>