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DF1B-7B6D-4975-9319-A29125366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F7CF-938E-4474-973E-1578D95C8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E432-166D-4E8C-8CFF-0A77C1FA5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640C-E20B-4BCE-B9FE-3A6EE6802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88FE-70BE-4545-9593-41138BFAD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B66A-30B3-44EF-81B4-52C2F7984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7A46-805A-4F38-8B9A-4A1A85A01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290F-A8F4-41EF-AFFD-ED1471472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CA6D-0975-4DEF-84B0-EF5CC5610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A61C-24B1-4F01-8482-9C6FA212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3AD8-8EE2-4B12-8DCD-19AC1658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164F-4540-4BFF-92B4-3CB4C605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DEBDC-9581-47A1-A6B5-81A37CB63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980720" y="533520"/>
            <a:ext cx="6705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66"/>
                </a:solidFill>
                <a:latin typeface="Arial"/>
              </a:rPr>
              <a:t>       </a:t>
            </a:r>
            <a:r>
              <a:rPr b="0" lang="en-US" sz="2200" spc="-1" strike="noStrike">
                <a:solidFill>
                  <a:srgbClr val="660066"/>
                </a:solidFill>
                <a:latin typeface="Arial"/>
              </a:rPr>
              <a:t>Прохожий увидел юношу, который явно собирался броситься с моста в реку и так покончить с  собой. Прохожий задержал его крайне неуместным вопросом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0066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660066"/>
                </a:solidFill>
                <a:latin typeface="Arial"/>
              </a:rPr>
              <a:t>"Скажите, у Вас, может быть, есть с собою деньги?". Удивленный юноша ответил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660066"/>
                </a:solidFill>
                <a:latin typeface="Arial"/>
              </a:rPr>
              <a:t>- Да, есть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660066"/>
                </a:solidFill>
                <a:latin typeface="Arial"/>
              </a:rPr>
              <a:t>- Но, кажется, они Вам больше не пригодятся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660066"/>
                </a:solidFill>
                <a:latin typeface="Arial"/>
              </a:rPr>
              <a:t>- Пожалуй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660066"/>
                </a:solidFill>
                <a:latin typeface="Arial"/>
              </a:rPr>
              <a:t>- А раз так, то, может, Вы зайдете вот в тот бедный дом  и оставите беднякам уже ненужные Вам деньги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0066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660066"/>
                </a:solidFill>
                <a:latin typeface="Arial"/>
              </a:rPr>
              <a:t>Юноша согласился. Он ушел и на мост больше  не вернулся. В тот момент, когда он отдал свой кошелек, его сердце осветила радость большая, чем у тех, кто принял его дар. Он понял </a:t>
            </a:r>
            <a:r>
              <a:rPr b="0" i="1" lang="en-US" sz="2200" spc="-1" strike="noStrike">
                <a:solidFill>
                  <a:srgbClr val="660066"/>
                </a:solidFill>
                <a:latin typeface="Arial"/>
              </a:rPr>
              <a:t>смысл своей жизни.</a:t>
            </a:r>
            <a:r>
              <a:rPr b="0" lang="en-US" sz="22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904760" y="152280"/>
            <a:ext cx="7086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Вычеркните те утверждения, которые нельзя отнести к милосерд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Подать милостыню; прощать от сердца обиды; накормить голодного; </a:t>
            </a:r>
            <a:r>
              <a:rPr b="0" i="1" lang="en-US" sz="2800" spc="-1" strike="noStrike" u="sng">
                <a:solidFill>
                  <a:srgbClr val="660066"/>
                </a:solidFill>
                <a:uFillTx/>
                <a:latin typeface="Arial"/>
              </a:rPr>
              <a:t>дать из-за боязни показаться другим жадным</a:t>
            </a: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; предупредить об опасности; </a:t>
            </a:r>
            <a:r>
              <a:rPr b="0" i="1" lang="en-US" sz="2800" spc="-1" strike="noStrike" u="sng">
                <a:solidFill>
                  <a:srgbClr val="660066"/>
                </a:solidFill>
                <a:uFillTx/>
                <a:latin typeface="Arial"/>
              </a:rPr>
              <a:t>подарить то, что самому  негоже;</a:t>
            </a: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 утешить печального, плачущего; не мстить за зло; напоить жаждущего; </a:t>
            </a:r>
            <a:r>
              <a:rPr b="0" i="1" lang="en-US" sz="2800" spc="-1" strike="noStrike" u="sng">
                <a:solidFill>
                  <a:srgbClr val="660066"/>
                </a:solidFill>
                <a:uFillTx/>
                <a:latin typeface="Arial"/>
              </a:rPr>
              <a:t>дать в обмен на что-то</a:t>
            </a: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; одеть бедного; </a:t>
            </a:r>
            <a:r>
              <a:rPr b="0" i="1" lang="en-US" sz="2800" spc="-1" strike="noStrike" u="sng">
                <a:solidFill>
                  <a:srgbClr val="660066"/>
                </a:solidFill>
                <a:uFillTx/>
                <a:latin typeface="Arial"/>
              </a:rPr>
              <a:t>сделать доброе ради похвалы или благодарности</a:t>
            </a: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; помочь немощному  по хозяйству; </a:t>
            </a:r>
            <a:r>
              <a:rPr b="0" i="1" lang="en-US" sz="2800" spc="-1" strike="noStrike" u="sng">
                <a:solidFill>
                  <a:srgbClr val="660066"/>
                </a:solidFill>
                <a:uFillTx/>
                <a:latin typeface="Arial"/>
              </a:rPr>
              <a:t>отдать игрушку брата</a:t>
            </a: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; поделиться последним куском хлеба; творить добро не на показ; посетить больного; дать добрый сов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905120" y="533160"/>
            <a:ext cx="678168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1" i="1" lang="en-US" sz="4000" spc="-1" strike="noStrike">
                <a:solidFill>
                  <a:srgbClr val="660066"/>
                </a:solidFill>
                <a:latin typeface="Georgia"/>
              </a:rPr>
              <a:t>«Справедливость</a:t>
            </a:r>
            <a:r>
              <a:rPr b="0" lang="en-US" sz="4000" spc="-1" strike="noStrike">
                <a:solidFill>
                  <a:srgbClr val="660066"/>
                </a:solidFill>
                <a:latin typeface="Arial"/>
              </a:rPr>
              <a:t> — такой же необходимый для жизни продукт, как хлеб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0066"/>
                </a:solidFill>
                <a:latin typeface="Arial"/>
              </a:rPr>
              <a:t>Л. Берне</a:t>
            </a:r>
            <a:r>
              <a:rPr b="0" lang="en-US" sz="40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66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Georgia"/>
              </a:rPr>
              <a:t>Что тебе нужно было сделать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66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Georgia"/>
              </a:rPr>
              <a:t>Удалось ли тебе выполнить работ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66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Georgia"/>
              </a:rPr>
              <a:t>Ты выполнил всё правильно или были недочёты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66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Georgia"/>
              </a:rPr>
              <a:t>Ты сделал всё сам или с чьей-то помощью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Georgia"/>
              </a:rPr>
              <a:t>Алгоритм самооценк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9"/>
          <p:cNvSpPr/>
          <p:nvPr/>
        </p:nvSpPr>
        <p:spPr>
          <a:xfrm>
            <a:off x="914400" y="2133720"/>
            <a:ext cx="73436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Calibri"/>
              </a:rPr>
              <a:t>У милосердия порою много лиц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Calibri"/>
              </a:rPr>
              <a:t>И странно видеть в чём оно одето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Calibri"/>
              </a:rPr>
              <a:t>Но, главное ведь в нём не это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Calibri"/>
              </a:rPr>
              <a:t>А удивительно, что нет ему грани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8"/>
          <p:cNvSpPr/>
          <p:nvPr/>
        </p:nvSpPr>
        <p:spPr>
          <a:xfrm>
            <a:off x="256320" y="685800"/>
            <a:ext cx="866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Georgia"/>
              </a:rPr>
              <a:t>Спешите делать добро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133360" y="152280"/>
            <a:ext cx="655308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660066"/>
                </a:solidFill>
                <a:uFillTx/>
                <a:latin typeface="Arial"/>
              </a:rPr>
              <a:t>Анализ тек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Что чувствует человек, когда совершает что-либо доброе для ближнег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Что несчастному юноше помогло не совершить самоубийств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66"/>
                </a:solidFill>
                <a:latin typeface="Arial"/>
              </a:rPr>
              <a:t>Милосердная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 помощь другому спасает жизнь тебе самом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66"/>
                </a:solidFill>
                <a:latin typeface="Arial"/>
              </a:rPr>
              <a:t>Милосердие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 спасает всех: и тех, кому оказывается помощь, и тех, кто эту помощь оказывает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742840" y="533160"/>
            <a:ext cx="5181480" cy="55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66"/>
                </a:solidFill>
                <a:latin typeface="Arial"/>
              </a:rPr>
              <a:t>Игра «Твой номер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"/>
              </a:rPr>
              <a:t>1. Добр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"/>
              </a:rPr>
              <a:t>2. Зл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"/>
              </a:rPr>
              <a:t>3. Духовнос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"/>
              </a:rPr>
              <a:t>4. Бездуховнос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"/>
              </a:rPr>
              <a:t>5. Нравственнос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"/>
              </a:rPr>
              <a:t>6.Безнравственнос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2"/>
          <a:stretch/>
        </p:blipFill>
        <p:spPr>
          <a:xfrm>
            <a:off x="771480" y="476280"/>
            <a:ext cx="7602480" cy="1712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1371600" y="4191120"/>
            <a:ext cx="647712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раведливость</a:t>
            </a:r>
            <a:endParaRPr b="1" i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209680" y="456840"/>
            <a:ext cx="647712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Как человеку не запутаться в многочисленных правилах поведения, не ошибиться и случайно не совершить плохого поступка?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057040" y="456840"/>
            <a:ext cx="66294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«Золотое» правило нравственности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66"/>
                </a:solidFill>
                <a:latin typeface="Arial"/>
              </a:rPr>
              <a:t>Не делай другому того, чего не желаешь себе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66"/>
                </a:solidFill>
                <a:latin typeface="Arial"/>
              </a:rPr>
              <a:t>Конфуц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828800" y="762120"/>
            <a:ext cx="7086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660066"/>
                </a:solidFill>
                <a:latin typeface="Georgia"/>
              </a:rPr>
              <a:t>Справедливост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способность человека поступать правильно, честно и оценивать поступки другого человека, вне зависимости от того, нравится ему сам человек, совершивший поступок, или не нрав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057040" y="456840"/>
            <a:ext cx="66294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800" spc="-1" strike="noStrike" u="sng">
                <a:solidFill>
                  <a:srgbClr val="660066"/>
                </a:solidFill>
                <a:uFillTx/>
                <a:latin typeface="Arial"/>
              </a:rPr>
              <a:t>Найдите в тексте (с. 36-37) ответы на  вопросы, прочитайте и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«Чем вознаграждается полезность труда человека для других людей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«Чем уравновешиваются права человека в обществе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«Чем вознаграждаются добрые поступки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«Чем обязательно должен быть наказан человек за совершённое преступление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«Что же делает жизнь человека правильной и честной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Box 1"/>
          <p:cNvSpPr/>
          <p:nvPr/>
        </p:nvSpPr>
        <p:spPr>
          <a:xfrm>
            <a:off x="179280" y="171360"/>
            <a:ext cx="532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cc"/>
                </a:solidFill>
                <a:latin typeface="Calibri"/>
              </a:rPr>
              <a:t>МИЛ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lang="en-US" sz="6000" spc="-1" strike="noStrike">
                <a:solidFill>
                  <a:srgbClr val="c00000"/>
                </a:solidFill>
                <a:latin typeface="Calibri"/>
              </a:rPr>
              <a:t>СЕРД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106668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66"/>
                </a:solidFill>
                <a:latin typeface="Arial"/>
              </a:rPr>
              <a:t>   </a:t>
            </a:r>
            <a:r>
              <a:rPr b="0" i="1" lang="en-US" sz="3600" spc="-1" strike="noStrike">
                <a:solidFill>
                  <a:srgbClr val="660066"/>
                </a:solidFill>
                <a:latin typeface="Arial"/>
              </a:rPr>
              <a:t>Готовность помочь другому человеку, не ожидая награды, и готовность простить того, кто поступил с тобой плох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puter</cp:lastModifiedBy>
  <dcterms:modified xsi:type="dcterms:W3CDTF">2013-02-24T10:04:45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